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4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theme/theme72.xml" ContentType="application/vnd.openxmlformats-officedocument.theme+xml"/>
  <Override PartName="/ppt/theme/theme71.xml" ContentType="application/vnd.openxmlformats-officedocument.theme+xml"/>
  <Override PartName="/ppt/theme/theme29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70.xml" ContentType="application/vnd.openxmlformats-officedocument.theme+xml"/>
  <Override PartName="/ppt/theme/theme28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6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62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9.gif" ContentType="image/gif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25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</p:sldMasterIdLst>
  <p:sldIdLst>
    <p:sldId id="256" r:id="rId74"/>
    <p:sldId id="257" r:id="rId75"/>
    <p:sldId id="258" r:id="rId76"/>
    <p:sldId id="259" r:id="rId77"/>
    <p:sldId id="260" r:id="rId78"/>
    <p:sldId id="261" r:id="rId79"/>
    <p:sldId id="262" r:id="rId80"/>
    <p:sldId id="263" r:id="rId81"/>
    <p:sldId id="264" r:id="rId82"/>
    <p:sldId id="265" r:id="rId83"/>
    <p:sldId id="266" r:id="rId84"/>
    <p:sldId id="267" r:id="rId85"/>
    <p:sldId id="268" r:id="rId86"/>
    <p:sldId id="269" r:id="rId87"/>
    <p:sldId id="270" r:id="rId88"/>
    <p:sldId id="271" r:id="rId89"/>
    <p:sldId id="272" r:id="rId90"/>
    <p:sldId id="273" r:id="rId91"/>
    <p:sldId id="274" r:id="rId92"/>
    <p:sldId id="275" r:id="rId93"/>
    <p:sldId id="276" r:id="rId94"/>
    <p:sldId id="277" r:id="rId95"/>
    <p:sldId id="278" r:id="rId96"/>
    <p:sldId id="279" r:id="rId97"/>
    <p:sldId id="280" r:id="rId98"/>
    <p:sldId id="281" r:id="rId99"/>
    <p:sldId id="282" r:id="rId10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" Target="slides/slide1.xml"/><Relationship Id="rId75" Type="http://schemas.openxmlformats.org/officeDocument/2006/relationships/slide" Target="slides/slide2.xml"/><Relationship Id="rId76" Type="http://schemas.openxmlformats.org/officeDocument/2006/relationships/slide" Target="slides/slide3.xml"/><Relationship Id="rId77" Type="http://schemas.openxmlformats.org/officeDocument/2006/relationships/slide" Target="slides/slide4.xml"/><Relationship Id="rId78" Type="http://schemas.openxmlformats.org/officeDocument/2006/relationships/slide" Target="slides/slide5.xml"/><Relationship Id="rId79" Type="http://schemas.openxmlformats.org/officeDocument/2006/relationships/slide" Target="slides/slide6.xml"/><Relationship Id="rId80" Type="http://schemas.openxmlformats.org/officeDocument/2006/relationships/slide" Target="slides/slide7.xml"/><Relationship Id="rId81" Type="http://schemas.openxmlformats.org/officeDocument/2006/relationships/slide" Target="slides/slide8.xml"/><Relationship Id="rId82" Type="http://schemas.openxmlformats.org/officeDocument/2006/relationships/slide" Target="slides/slide9.xml"/><Relationship Id="rId83" Type="http://schemas.openxmlformats.org/officeDocument/2006/relationships/slide" Target="slides/slide10.xml"/><Relationship Id="rId84" Type="http://schemas.openxmlformats.org/officeDocument/2006/relationships/slide" Target="slides/slide11.xml"/><Relationship Id="rId85" Type="http://schemas.openxmlformats.org/officeDocument/2006/relationships/slide" Target="slides/slide12.xml"/><Relationship Id="rId86" Type="http://schemas.openxmlformats.org/officeDocument/2006/relationships/slide" Target="slides/slide13.xml"/><Relationship Id="rId87" Type="http://schemas.openxmlformats.org/officeDocument/2006/relationships/slide" Target="slides/slide14.xml"/><Relationship Id="rId88" Type="http://schemas.openxmlformats.org/officeDocument/2006/relationships/slide" Target="slides/slide15.xml"/><Relationship Id="rId89" Type="http://schemas.openxmlformats.org/officeDocument/2006/relationships/slide" Target="slides/slide16.xml"/><Relationship Id="rId90" Type="http://schemas.openxmlformats.org/officeDocument/2006/relationships/slide" Target="slides/slide17.xml"/><Relationship Id="rId91" Type="http://schemas.openxmlformats.org/officeDocument/2006/relationships/slide" Target="slides/slide18.xml"/><Relationship Id="rId92" Type="http://schemas.openxmlformats.org/officeDocument/2006/relationships/slide" Target="slides/slide19.xml"/><Relationship Id="rId93" Type="http://schemas.openxmlformats.org/officeDocument/2006/relationships/slide" Target="slides/slide20.xml"/><Relationship Id="rId94" Type="http://schemas.openxmlformats.org/officeDocument/2006/relationships/slide" Target="slides/slide21.xml"/><Relationship Id="rId95" Type="http://schemas.openxmlformats.org/officeDocument/2006/relationships/slide" Target="slides/slide22.xml"/><Relationship Id="rId96" Type="http://schemas.openxmlformats.org/officeDocument/2006/relationships/slide" Target="slides/slide23.xml"/><Relationship Id="rId97" Type="http://schemas.openxmlformats.org/officeDocument/2006/relationships/slide" Target="slides/slide24.xml"/><Relationship Id="rId98" Type="http://schemas.openxmlformats.org/officeDocument/2006/relationships/slide" Target="slides/slide25.xml"/><Relationship Id="rId99" Type="http://schemas.openxmlformats.org/officeDocument/2006/relationships/slide" Target="slides/slide26.xml"/><Relationship Id="rId100" Type="http://schemas.openxmlformats.org/officeDocument/2006/relationships/slide" Target="slides/slide27.xml"/><Relationship Id="rId10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3214-C4E1-45B8-8D10-F591CEFA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F125-8374-441F-8625-43464D2A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D1644-9CC0-48E6-8641-0AFCA758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FC110-5574-4596-97C6-7F70BF19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84852-E58B-4F97-BEE8-1B516038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FDA5D-30F2-43C8-B2FF-3871C868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A0663-B351-454B-BA8C-8BF0A130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55470-4911-4EA6-92D0-07B83C6E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9E1B9-BE68-416D-A417-2567CA37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6B635-7BAC-497C-9099-CEFC82C7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636A4-90A1-426E-9AA1-29DDB370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78BFA-2685-4481-999F-378F79C5E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A823-B085-4E47-BE32-EBA817E6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11C73-0BA8-40A0-B85E-021F7064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EEDE4-43F5-4D83-B693-BD04AA3C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F4635-F20A-4802-9B13-8428711E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06C96-9237-4117-86BC-A7B0E48A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A0A52-EF53-4DA5-B988-5E1A5492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BE104-4A21-495E-8F37-F25F6427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0EF0D-D005-49C2-B22E-35CAF898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1BD2F-D05E-40A7-B5EA-9E795FD2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14AA9-F6C6-4F67-BBB6-9DA90FE2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24A9D-5F43-4D0A-AC64-23B5891D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55CF-5666-4354-B544-E6A54A79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32A90-E165-41EA-8209-4F9F1AB3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69958-084D-47DC-B056-AB46D8FA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BFCD7-4C18-49DC-92B2-1EB16A9A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149CE-D6E0-4166-A849-7EBA35D4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4528D-7A29-4081-BB66-5541BAE4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8F26C-09F5-4299-AE82-090AD929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C5E48-9405-46A7-85CA-371EBF3A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59C32-EB0D-4B5C-98E4-E3EE13E3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6490D-2BF4-492E-9757-24E2D7C6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451C8-9F3C-43DE-A889-AE71F560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A85A-D378-4F8E-B3B2-BDE89266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84BF8-7C60-4D28-9E41-9EBF8C76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A753D-C945-4DF0-8BB1-5E25EAC6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2CCDC-CA43-4940-9BD3-FF0F24F6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CA047-1A53-47C7-95C3-D23E1D1C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6CD52-85C2-4E3A-8908-411E5F77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E8871-8913-4854-8B00-39B786B5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7748E-16FE-4C7C-A457-759467FA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E7D45-A38D-4E5D-87D3-12D87768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05A45-D2ED-40AF-A5E7-A52A5B56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A86E0-1D75-44A4-9ACE-A6C47490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1FD0-16F7-4377-A0F2-41FA3724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248D7-0000-4F74-BFF9-6B260D65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DFEED-724E-4053-864B-3426D2CE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73800-C056-4C61-9174-D0BAC345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8E66A-9C7F-4A48-8059-28BF1A5A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C65BC-81C8-4C5C-A7F9-5E6FFF69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CA8CC-2C60-4D88-977E-5F5D8AB4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23E5CC-0001-4709-BF9D-B683B406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5AA237-7BE9-4AA7-999E-30EBE347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710C82-5DD0-4170-8E11-737CCFAC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6D7BD1-6606-409A-A481-F048C74B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4A1B-EDB2-4243-9D22-BBDDDEDA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BD0701-2E71-4752-8731-21D814A4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995C99-A73A-4F7A-8FCA-935FE3F6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E29526-9519-421A-92E4-F8FCDC5A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46D9A9-65F5-4970-9FFF-ECFDB7E0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5A6CAC-B6B9-4241-8500-CA7E0DC1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2D9BA9-ECD5-47CC-8BFF-E99A2842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5DD5F8-9502-490D-814D-371BADA4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A1B368-0292-4224-A898-A6A9B2C7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169950-EB9B-4956-95D7-50FC9CE8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1FCA58-B483-4A8A-948D-E7FDDC85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5C65-A256-4450-974B-69F3C85B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EFB888-E6DD-430B-B4E4-1D037426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6FC04B-9982-46B7-83DF-824CDCC8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5854ED-1921-4008-90FB-9370902B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AB6D9B-F575-4FFE-85EE-1006954D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FCF6FB-9A55-4E4F-8EF9-95086E73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C5987A-0D4C-4788-8069-F1072C70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BE599B-9123-4C3A-B404-B69FCFCB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09C512-B0C0-49CD-95D4-049CD7D5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C5D564-FAE5-4600-9608-FA04802B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02D37E-DC59-45B1-93DE-62E89099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81F6-3129-40D2-891C-4A254F86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302BCA-8B98-43A5-B76B-83C7E175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C72D14-B173-4C0C-842F-F20EB2D8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9B7B92-5FE1-43FF-B141-9CDC230A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2D276C-7F02-494C-A402-2086139C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0944FF-698D-4CCB-AFCE-CC5C7CE8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FD785A-5F7F-4098-A1DE-B2BC3F5A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F2865B-DF3C-4305-96E9-149C406C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95CDCF-9C29-42C4-8247-D4019F40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63E4F3-C8F8-46A1-A880-C1408FEC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6AA972-3825-4398-BB39-CFF806C1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A638-EA02-4B70-B163-7C3B86A7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7CFB6E-78F0-458B-8AA4-C1A2B402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7A9E8B-E545-47C6-94FD-91721DB8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187ADA-F363-442A-9476-BB65E424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CFAB2C-8DA2-4C30-94B7-860B4586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1C968B-6856-4F77-9845-84F06332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ECC2F8-3EAE-4DE5-B3EB-14D3676F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8498B1-1543-4BF1-B963-EFFCC7FE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EEA104-4221-4432-AACD-F323C1A0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74F924-E487-4C00-81F8-18522014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52F072-EF79-4A29-8164-A8D6526C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8CB0-51AD-465C-8204-65010B2F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18B0BA-B7AA-406F-B0AD-4297EDEA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E038E0-ED6F-4223-8E2A-D9F2EF9E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DAA205-4A1B-4E66-AA7F-DC6BE736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E032A7-86D6-4FE4-B481-B29AC4B9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B446C9-0556-43A4-A0E4-4F28CD52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CA1709-D33E-494D-A7D0-B3706E14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0A6953-D76B-4BCB-AAAE-6D2EBC9A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F6DFA8-05DD-4BD3-9BCB-AB348D03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45BC81-2FE2-4125-9C22-57C0FD08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B675CB-9035-4519-889E-9E5A3E75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3D0A-5FDC-47EA-8AB4-2E6C426A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F37E-AD6B-4D19-98C5-690B7CD1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30AB04-8FA1-4478-898C-E16176F3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4E44D0-D9D4-40FC-B468-9597188E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6FAA0B-93C1-4B3E-9D29-617B0335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D028B7-E746-45F5-A8BC-F57C1AB2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4D5367-E99C-4C64-9937-06144D83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AB5F47-FFC5-4DC4-B4CF-C5C60D1A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60B00A-D67E-4E15-B501-1D46BA31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01914A-F1B5-44A4-B1BE-608115E9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14B3FD-8AE9-4A72-95A5-BF807EFE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34A654-AC8F-40D0-B23A-8FD63C88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F7C5-3D87-4E50-90C7-40E29C60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BB9826-B18D-4864-ABF9-D90719D0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EC161C-5771-497F-898F-056FFB6A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5A627F-DDBD-41D6-A2DA-32E51300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3CAF7F-7843-4E81-92C4-8754764B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7E206E-C417-4CA9-A487-4419C5A8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6D915F-C537-43C7-9E92-0C8F80D8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1BFE07-FCD2-48E8-A08F-3B47799B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338E6D-6F2B-4444-ABA5-311F263B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CA245B-BCDA-4460-B101-6B22BC2A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F73059-1F69-4BA8-A419-FF2A75E0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DAE3-7E14-46A9-AB4F-A775F787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60F0F6-82C8-4C66-BC2A-49004B90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D8C4F7-6392-4D6B-83C9-A3041E78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FAE133-6472-4757-B0E5-5EFCEC0B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14B243-3F4C-4506-8F6D-53834DBF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759F9D-C452-4D98-89F1-FA82FB6E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BF99BF-BF24-42C5-9537-25B28832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6AB97B-D7FE-4B12-A829-7613070A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5A0810-DDE6-4EA5-A1D2-3C2D308B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80E1D0-97D7-440A-BC16-A12A0FA3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4F55ED-F1E5-4648-8153-0CDC8C97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729C-7CD7-4B57-8270-DEF57437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3841D1-C968-47C2-9B63-6C4D45E6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F94B1A-9496-48FA-84BC-93CB887D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383341-41E8-42B5-80B9-C5404105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B24BA0-0607-469E-8E16-117A023B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29E27E-F0C2-46A3-8311-E80DBFEC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103DC5-CF32-4596-83A4-834D8D0D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6F7058-C173-474C-B645-45665A8E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4C7B25-4390-4371-B1C2-B61D378B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3218E2-B688-4EE6-9FA3-585EC47F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A7B7FF-A256-4FF8-8FB0-7F1781F1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B9CE-0E5B-4FE7-8FAA-5273AACB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57748A-00FB-4735-B004-1C604B2F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4C16F9-E132-4B99-A160-A2389DA6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89FC3D-1C90-409F-8FEE-8C8F7EEF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ECAF18-976F-41B9-9C9F-39D3C398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255512-DF80-40FB-B9B9-6BF01908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ED196C-1C07-4FFF-B346-287AF753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74F09B-7F10-4F93-95EF-0B80DCD4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9E1501-13AF-41B8-8212-EE9AF490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C8566F-1ADB-4B07-AEA8-8B5AE7F8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47A4CE-873D-45E6-B1CA-7011C9A2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548F8-F62B-441C-B894-D22C4B0E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2AC08E-CBE4-459F-8A9A-8898EB97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388B20-29B7-48B2-81AF-4C9BEF4D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63D2C0-64DD-451D-8A98-D33EEBC4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45E68C-37D3-4C73-A893-8CB04E8D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12955F-3882-4B0C-8A18-53B29BE1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0C123F-EF67-4C51-8FA0-AC80C079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EFCC85-61C4-4F5F-8B38-70BDA582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FEC1C2-3F2E-4E57-945E-727CAA45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ED28EA-7839-4C2E-9BF3-A11C18D3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879E7C-6598-4C2C-8586-AA0B9B59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B5C59-70BB-470D-9D05-3482EB10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72995F-7500-43DB-8718-D81EAE4E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C6CDBB-AE56-4C08-8B8E-1176CE80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1AA867-E961-484C-94A8-6871E990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E8A9BA-23AA-42FD-91BE-136A2B81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749639-B7DE-4F78-877B-BEB6F82C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4992B5-490E-4406-922C-E4380EC0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14D1BF-1943-4E4C-B52D-A51C5D76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E73111-1129-4C27-88A4-F2935114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3B014C-4363-46BF-97F7-69143BD6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519E05-3AE8-474D-A500-365EAA17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70EC1-62F4-4DAC-BB39-53316640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5E20E7-D3E5-4E3C-97D0-E885901B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6173CC-A8F4-4019-9531-07F4AEF8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6C2360-82A5-4D63-B1AD-6076F55B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122A90-4257-4EF5-A505-DD8B15A9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DFC88D-FF32-40D7-AA1C-FF3B9FD0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A73383-62F8-4B56-8DEF-8785E3AF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598543-5662-424C-8BBB-87F55056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373F3F-4EF8-4B56-AAE3-87B7D842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2FAB60-AF19-4D0E-BA1C-3FFE7D8D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40552A-2888-4DBF-B2AF-477E3D92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5D837-5999-41D2-8224-EDB3C8AB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B182B0-F88F-42A9-BBE8-F2084796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CEA767-1E20-44B3-99DB-2B6B759A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52DC6B-A250-4DA7-9F22-6D61A270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457428-F794-4092-BE96-C3B36452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DC6B65-C463-416D-A920-9041D857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506BAA-60B1-4903-BC4B-3340DCF3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9EEF54-551B-41D6-8BEA-5D919DE7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446B6A-407F-437A-9DAC-1DE306FD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D84681-3B01-49B1-959D-D043147A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F6AB8F-A990-43FC-97A1-6B94F065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51B66-A587-4E14-8C08-CE55BAD1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FD430D-F543-43E4-AA01-2FF8FC7E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9EC821-E609-4413-B296-769A3A37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7B48A7-A0E7-40F9-8566-61D31047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03F193-F1BE-4C4F-B82D-174E4315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4EA6AD-21FC-4283-9595-B167FC0D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CCE0E3-2773-439A-8AD8-02A20B8F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AF6EB3-F1D9-4ACA-92C6-4171F9ED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B7D9FB-3955-4DF2-AB7E-F04CD0D8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3A10D7-45B1-463E-BCE1-DDFB480C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BB6B2B-6334-4A40-BC7D-D6A6BD21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5815-F2F3-45B0-A0F0-F2BEC1D0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8D854-D0CF-4E1E-AF96-DA6D789D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E401D3-125A-43EA-B211-C9AB5234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4C52C2-FD64-47E4-9455-046E1048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298236-67E6-4692-BA58-225DA3F0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D49774-D433-4C0B-806E-16A07D29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35584E-2FA4-4D35-AD1D-D32467D0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50D9C0-AF4D-4FCC-A2F0-0C1D075C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87AB06-1DD7-43CC-B7F0-BB48FFA6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CBD60A-6B36-4B0B-92CE-81802F6A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E0EE45-055D-4E91-BA39-C2DC16D9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418C79-814D-404C-8B63-337051C3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9506A-CFBF-46FF-A085-6D16752F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DA9501-D6E3-4C76-B61D-4017A101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CCE1B9-B87B-44AA-933B-962DBEEA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EDC0C8-610C-4E77-A0C4-D99EEEDD8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ED8BE8-3224-48B3-A40D-BC3DEBBA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6D21C2-9A24-4A24-8DC2-D93207AA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9FF08C-4DFE-447F-BFDA-12A8118A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AC87E4-8C15-41A1-A8B8-BDBE98BF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69962F-B60A-4ECA-A256-CF9CCD4F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9865BD-3E53-477A-A1D0-DDAE0B2A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ED5C80-36FE-494A-8064-FD8B7210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BD38F-83AB-486D-AEE8-68C84851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4EE6FF-4368-4F6F-ABB4-9CE5A10E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1616AA-E7AC-4F80-9ECC-D8D2757F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6E9BD0-261C-44FE-A323-E32B5C85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68BB7C-E539-400B-94B5-1765DD21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25D96A-F0C1-4BDC-A8E5-2BC86121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36D195-7991-40A6-B182-A5168B64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5CF810-F9EB-406E-BFAF-271926F8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E30273-1F54-4894-B80B-83FBFC45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AA5A8F-9530-4EFF-B601-9927C199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93B378-A431-4A14-BEE0-4A44CCDA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8B253-043C-4064-B688-0AF87A2B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0FABD1-D2CC-42B4-AE3E-8E00D1A8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B3E277-6AC7-4CC2-8ABD-3BDD98E8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D3E115-5F28-4A04-8554-3DA45D35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531019-45C0-4A11-A3FD-B4D1CE28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9765D1-CFB5-43FF-848E-8CE7E449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8DB95C-81F9-4D98-A480-88B105D0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0D0C0E-31F9-4747-9422-EB0CBC4A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46E3C7-3A3E-4D6D-A9FD-467EF7B1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BDF1FCD-0879-48D9-9ECD-063E983D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18170D-AC38-4088-B93B-6D5C4540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5996A-82FB-463D-8865-60631F3A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D78C99-48C1-4BE9-A059-4A83DBA2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9291F2-2755-45CA-BC34-733FDD79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1DB51C-D04C-438A-A10F-5DF9F69F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62EB18-DCE2-4CC6-AB65-2570DBB4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389129-0B1E-41DD-82ED-7E6C29BA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C7BD9C-3D0F-4FDD-8325-D8D17524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52BF43-F5BB-4EA6-9DDA-CDBE56B3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64A5BC-27C7-4B62-870D-92E82DD7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C6561C-F0E1-4F96-A773-5953137C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79F613-CB6E-419F-90C5-CCCFE191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3DBA1-D6A0-4A20-A0F6-E9C030BF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9D43881-FEA3-41BF-9143-288BBADE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16609D-D57B-47F6-BFAF-4E509FF2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94A2E3-DCEB-409E-92C0-6480A767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CAC9E5-561B-4607-8B7C-D8B6E558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6E812A-46E7-48D6-9C28-B710E38F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560C61-E615-4443-8FC7-906BA0C4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BF77D30-68C4-4F45-90BF-9BD3DEFA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99511D-1F58-4D97-9F6C-BEC923F0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800251-8DF1-45EC-AEC9-C417472C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4E1416-49BE-4006-B35B-81CDF9A28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C8E26-2F85-41F6-9AB7-14A1FE2B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006BB0-6172-435B-BEE1-AEF931B5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B530B59-7093-48BB-A0E5-4BB79A06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673FFE-E34D-4100-82C5-0CF03C1A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B8286E-7FC4-4993-8FF5-13606325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8F4C35-8997-4933-8F4A-D6FDE147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C05394F-4F1F-470D-8405-C9864E66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3D2DA7-172F-4D62-A303-BB6ACF78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DE676D-0845-43E5-8C4B-2BABD558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180FDE4-66DA-485E-A3B7-5871DEB4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9C1ABA-08BC-4ED9-B826-D747F2FE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59CD0-C64B-40EC-89E2-8B66D1FA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1C782C6-33FA-4967-8E15-58D686FB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C1948B-24A3-4D20-89F7-58C8A915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2E63E7-9DB5-4346-9B4B-1ED321DC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7D9593-51C8-4D97-96A0-B4AA3CFB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2642F08-C8E2-4025-84FA-D6AB2F15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2705420-F5A9-4840-A32A-0D05ABCD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C4248F1-8B7D-4860-9CEA-CB01F735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2CD61C5-B110-4048-82E8-CA0620F4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396601A-726B-49D5-AB15-E5DB48EA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7639799-7BEE-485B-946A-C5E29B6B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DEE0D-89C0-4E9E-BEC3-6CB8A7A2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13516BD-770C-4953-B70B-5CE1C61D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A945260-EE09-4699-867D-9CC25DEB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FF5F880-7E6D-4D3E-939E-E5AF70F6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4AC0568-4AEC-48BF-8C37-6F035D10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4083B4D-521D-403E-8EDA-3AAC7921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172AD41-0137-4D1D-9E4E-4578EC03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B9DE058-AF39-4C29-BC4A-256F7DF0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CFEB20E-A668-489B-8224-DA4260EE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2FF473F-4804-4DE4-BDF7-E780EB7E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B136143-618B-4EB1-A464-D6CCE3C5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5D291-BC06-469A-A75F-63517FBF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37C7C54-AA13-41F2-BB98-C63BB791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38E9B79-9D34-4F13-8B53-E3D07EC6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BF7AA0A-0DC1-4831-B5FC-D38AF8C0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CBB7344-D8FF-4610-B7A8-79C5798C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27E5EE6-7E60-431C-9576-7AC6E3C1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C26AC8F-C711-4DD8-BBF7-A1C7EB0C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760931F-74A5-4AAC-B85F-1F0B9CA0C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F83C7D6-AFDD-4E5D-BB09-27A7DFB7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CF69AB6-8FA8-4616-A1CD-AF803C0B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3FB192C-98DB-460D-9495-88208C68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A9C7-AFF2-4FFE-9BFE-454E155E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61DBE-A7FF-420E-B2F8-E86DBBFF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0E4AFA5-6C3E-4A78-B9AD-07F80F10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1A6F0B-7EDF-4A30-AFF4-B30CDE9B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58B3FF8-746D-48E9-A64B-48E93149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D3981A-CA5E-4E97-9E43-2963A923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BDCADB0-52FC-4C4E-B9C4-12122E61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A59E535-D307-4F8C-9A79-D62A5F2A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4323C77-AC3D-42F9-8239-E8CCD263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5596F59-1580-474A-BE4B-87AF0D1C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DC019A-E9DC-4DF4-AD61-9AF388F0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CDD239D-B0C9-4F70-8D99-B1572ADF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EA879-3A58-408B-8DEA-6603310E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02ACC2A-424C-4925-8351-778AAE5F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29F9A21-7F25-4824-B092-ABF26D32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AA8A978-5DEF-4462-9B63-F4112A61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64BB79D-FDD9-42EA-BF69-7831CD15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4D85D54-D871-43C0-9141-587A8AD1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193D38D-2628-409E-925F-5DF257C9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E82C4DB-2E58-4CC5-900E-69823002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9F7BC04-BF19-43BE-9DB8-1020B6BB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2BE070E-F9C5-43A9-9C4F-8E46E80D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8739029-9DA4-4628-BD56-872EA54D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29F2B-7BF5-4ACA-A671-449805FE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59E9954-7CFB-4EDA-9EAC-E40A643B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135E0E4-DBCF-4EE9-B114-6B59909E6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74D22B7-9699-4983-8250-9B78B896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3823FC0-3E13-4C34-AC1A-8FC89E80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9B24772-02CF-4338-A009-78666365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74F1EBF-F97E-4F49-AE05-5DF90247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70052BD-AA5B-4C80-B56E-817EA955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7B9A676-29AF-467B-A6B6-F934D64E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DA8FAA3-1AE6-4D61-8679-D1EABD76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D1ECA84-6DFF-4386-9AE6-4ED931DF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9608B-C37F-48E6-A8E0-914032CC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EDE91A6-BE1C-4BBE-B87B-95A6852C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9C8FB6A-05AC-4C78-9A6B-568DE6A4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4FED8F5-4078-4B5C-AF6B-1750784FC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27242E9-88BA-4FF0-8299-C9900AF1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CAC7A30-CD45-453F-985F-6B6F3FF1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740E922-F087-468B-9436-389B092A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837F137-512C-47F1-846A-B3F41930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9C74718-D149-46B5-B944-BEE8787E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3584EA5-65D2-4320-94EA-A8B246AD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3798CBE-5B2B-40DA-999F-B3257CD4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2C36A-E55B-4B05-9154-E6D0F498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C778815-AE6C-4256-A40C-7EE45F20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D99E9E2-7310-462B-A1EA-BEB3D6EF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047AD8B-3ECF-4D13-BE1D-AC48C19D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E469033-94D6-4045-9597-7553BE90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039CDFC-77C5-46C0-BF4E-673C0CE4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2571C42-566C-4B58-B9A1-0FAC860E4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8E89D2E-E821-4341-AFDD-200BA305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08F6B4C-9463-4E8F-850D-BC8A1801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E8890D3-6FA3-4072-86F2-5E9EA716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F7FA034-964F-4816-8D4A-112952BE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8FDA9-27A2-470C-A07F-CF011BB1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B7F479B-8E3C-4AEF-9761-865AF039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C0CEC50-E58F-4CA1-B0CE-6422F1B6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636AD91-E1E5-4EC6-91E6-083CF582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321ED4F-CBB8-40C9-A63B-AD518042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63EF1D0-B941-4C9F-8F9F-B1CE4CB3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1586F6A-DEE9-482D-83D3-BD8BD700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97E1998-F65E-42AD-A530-033230E3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98DDA71-2910-4789-94CC-63A83411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2D210F2-EAF4-4D57-8C57-C7A40C25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9CACCAE-C0EA-48B0-B454-0DEDF9BC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5D777-BB5E-4948-AEF8-805C5F30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6BAF963-F43B-4E9A-B45C-92DEE521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F1FE983-0A2A-4FF6-AD09-8F9D1CCE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FD65994-DFB2-4218-AD4C-9687E00A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F45F1C3-F996-409C-8D21-C9058A95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2E5EEB2-B1AC-43F1-B391-B7DBF530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0EFDE19-0F4C-492C-A54F-46AABED4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8616260-D84D-4FA3-8329-1D975CEA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243A9C1-61BB-4346-BDA2-D05B84E4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1CEE401-9753-4C7D-BA1A-E27A7771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086CB59-F820-4A2C-89A4-07E153FE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DACE7-543F-45A6-A0B6-CBE080E7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282FB54-2D4F-4753-AA41-9B786D84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4F020CC-4966-45E5-B312-3CC7F37C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0B50352-1F75-405B-B03D-C27E81FF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D03009E-5980-49AD-ACC5-17C3A4FF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59683C4-5627-49A1-869D-E9F00BDB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E9B4B83-A72A-48A3-A66C-3D8030DA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DB27C0F-7E58-47C3-AD5A-25A93B66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72BADAD-7D4F-47EE-B594-FAAF01AF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C065CDB-9391-4C9E-8D18-D8DE6D11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6C3032A-93B1-4EA1-B315-50AF95A3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23FC5-967F-45BB-A079-EB8DD416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80E2920-4CE5-4F28-A669-F7F78BFE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6153DBE-85F1-42B6-9ADF-C662D999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9D9DE4C-6C8D-4096-908F-D902FBDE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72BDA9D-5998-4EF6-ADEA-4412B22F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BFCA75F-284C-4043-927F-7C87EC5D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2A978A7-7060-4125-B715-08FFF30E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1ABF5FC-1633-482D-9584-3CE3AF8F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4CAF80E-C4D3-43DB-AC60-C337F39F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136FDB5-B842-4D39-96FA-C1044693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5D15C98-8FF3-4962-8F6D-B7A2560C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AF95C-012B-48C3-A343-B4B3EC5F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AAEF329-8B69-497F-B5C7-02ABE4A0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C22D85A-5F9D-4EC0-AC24-2D170404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6819DF3-DC92-466C-A65E-BDA8BCDA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8F255D0-9868-4CF7-A4FA-48516DAA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74DAED0-BF88-4272-937A-6CB55D2A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61F8D69-584B-4361-8E42-673FD1D1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8D0BB64-8ECC-4927-BFC8-A0A7924F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70FA5FF-3C75-42CB-A593-9788A37F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BEAFCD7-7A20-40E9-9AAF-AA87EEC7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3B1E112-98C6-4B6A-A4EB-2FF7AB65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CF2-C802-4193-A268-31C54597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54DE3-743B-4EDC-B764-73CCABF8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1F69DEE-A3B8-49A7-BBB9-C8F5D928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9D5770D-D1FE-42CF-812F-9EF2BA6F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73CCECE-3990-460B-9881-CDCD8E5C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C34ADDC-A682-493E-8BBB-B2852AC6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241D591-208B-4FC0-A752-69F9F704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BB214ED-47CF-4F58-8CD2-11E723B8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00B6B66-AB3F-4563-ABC5-F6BB996C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0021D3C-2DC1-48D9-B7EF-0DBB8356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977C991-D6A6-4AA1-BFB5-11F9D8DC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40E859B-3113-4917-AB94-F482B443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8293E-FFCA-4431-AE6A-7E88399A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4E5B10E-404D-4FB8-A6DE-56316350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A33EB4B-5B53-4694-B6B3-A1AEACA6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25808E0-9444-4361-9302-79CE05A6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B873F53-FBEB-4BA0-AFAA-F472D1A0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AA7E9B3-B7B2-4064-AE6E-A7991954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02E89B5-3A64-4E01-B299-12515F16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67EF209-619A-4E93-82FD-6BA595BF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A6E3235-5BDA-46C5-BCD5-25DC74DA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5EEE075-06B1-4E34-A1FB-EE71A208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3E60FEB-C98D-42E0-9F1F-7910C07F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9F45E-056C-4EBB-B761-E5A3CB56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654F0ED-FEAB-4026-BEFF-88018597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43BC247-297D-47F4-845A-A419D2CE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60537AA-3DBF-48FA-9211-D8BA1254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082D826-9300-4B10-9DD2-44431876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D21C337-61FD-434A-8368-0E762752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81766BC-2D79-4BA8-A004-FCD71159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318E974-91FE-41CE-B005-01AD85B1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0F8006D-7E4C-4167-A5AB-73B31A74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FFA3F07-1E04-4A6B-ADFB-0FAB2602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08477D0-329F-4AE2-A59D-CB8A494E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24024-8181-46C9-8DB5-C2D9D269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0B00781-639E-42D6-8061-7A89E218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4A3AE63-4B5A-486B-B618-22DF8231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C9EFA1A-44B6-446B-8858-DE2C867A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6642F84-3379-47E5-B786-EC177174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C9E2C8C-858C-4C05-B762-6D106A54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E69D4E6-55C3-41D9-839A-BFC8AB91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697070C-3896-4218-BD76-96D8C823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9BC8A26-7BC1-4D7C-A116-B8AA1F2C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FBB5143-DE24-48AF-A09D-FCE412CE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8F8B2F6-717B-4095-AF16-41AB255E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8EA3F-DBE0-4121-868D-95C30B51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C184D66-895B-4667-9DA5-07F09FDF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963C22E-4B11-40BD-BD28-92CC3D07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78D57A7-3791-44D4-A24E-BD370462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1CE6202-0554-4566-A036-A0AD0072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0FCE42B-6922-4D68-9252-FBAEA4C7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C020C89-DC85-44BF-9992-2E041FC7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0C59AF4-BC71-404C-B9F8-C33DB7F1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CE039E8-DAFC-4B01-BE3F-FFF3182C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19050A0-CABA-4C34-8EE0-72452F17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CD42FF0-97AC-4313-842A-2A63FACA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72325-03A0-4AF7-B5B0-C6D242B2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7095A79-1DFB-4E94-ADF8-1CCBFC92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099A2CA-B624-4889-AA21-2030BAA1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FBEF692-0C54-4A19-B41E-4DA0878F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79B6726-BD6E-4E1F-9657-75DC2DA5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90AB811-CEC5-4A04-BAFF-50E59202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0F5DCA8-C968-48B8-AA44-43396DF3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58B4D3A-22A5-4729-B971-C326F0AC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E7862DA-DF21-497A-83E4-61A77A6B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9DA6840-8203-44E5-A646-4E25309F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5BF3E87-A28A-41A7-B32D-AC881D3A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2C206-741A-44AD-A7F4-1FCE3093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244AE24-550A-4AE2-B262-B41B94E0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EFC2CD2-35CA-4B70-9F0C-66377C6D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AD17B18-2F00-4B66-8B1C-ECBEA6C5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ACA4A24-D9D9-4C9F-88FF-1C03124E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E70ACE5-EAA1-428E-93D0-4FB1F79E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B2DBFC5-101C-42E4-8849-FAC42970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7E0D1F8-6F4B-436A-930F-6A85296E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89CA3F6-1C50-4B26-BB1A-278B5A4C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C797708-C017-429D-8830-E94863A0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C6972F5-C4BE-4C5B-BE69-C608E771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BA5CA-D7F2-47D6-93FB-80E9BFEE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863282F-AC6D-49BD-957D-E0F2E2B5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239FB1A-C3D6-4485-9A82-8EAA5082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EAC1E01-C8D8-45B8-9C35-8A8325EE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0F73F73-D690-4B6E-AF38-2422F598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17C02A6-5F2F-4B9D-B8F9-309B3B03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1718B69-9301-481F-881D-9654CC2B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7F9BC4B-1E2F-437D-BA14-12674AAAD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848F755-1D7B-4A0C-9B10-8D2B5132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A126C22-0975-4018-9E9A-3B10BB47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82EF49F-B554-4C5B-A577-CD0011AA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BF970-DC0D-4A21-98DD-ACBC4095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BF19F7B-9BA7-49C1-9E3D-07623736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D3BB766-9686-434F-89EA-BAD493B7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19047A6-B793-4EE5-942A-BAAB6DF1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4B01DAE-BEC5-454D-9C9D-A2A32C4B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6694EDD-0C30-4812-8E44-98D1530D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B234305-9CED-447B-924D-91D77F56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E6B6F52-2E55-48E6-8A6F-DB448099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CCF722C-59AD-4C13-8328-3C041371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4F54548-78AC-4433-9CA9-0DFEF0E8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EE9BB42-390F-4D44-8C44-57FBB1D2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E13CD-4489-4588-AB36-76D42C2F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C0BA742-EFC9-450C-B2F2-E81B5F8B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B76055A-5868-486E-A6E9-3F275F3E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3F3B899-3717-4522-9C69-E52B9315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658A234-6157-4B5A-9DCD-26B7ADE6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55EC2E6-0B87-4742-8098-7FC93C03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A4BB337-7759-4C46-8A89-B9C00287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D355253-C252-4D13-A5A6-655F8E77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CC324DB-9E8D-4C13-AD42-37984632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272E5D1-A632-4281-B7AA-8C398BEC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1F8D5DF-8EC1-46E9-A6AD-A3104796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B6C6-6E69-4D85-A7CE-9751127B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4667B-712A-4104-83FA-34D88CBC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84796B6-6F20-49DF-9AA6-C7F1B4A7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DF056AC-4B2D-4DA0-8267-B320FCFA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718EEA0-2F5D-435A-861D-1371E45E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2787912-6816-47CB-A362-5B9ED950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D84B733-4FB3-46E7-B157-6919DABF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715594D-5C9B-4379-8B99-39CB8A4B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3300A56-263E-49A2-A2B8-E97FD45E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5CD4994-ED56-4BD1-8B25-773DBF0B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4528FCF-7EB8-481A-B570-BB08A9E1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DFBA567-DFC0-4903-ADD3-AE164AEF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F2902-79B7-4BB9-B1D0-1229FABF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0E0A9EB-1CEA-4C03-86C6-31CAAE83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6F935BA-D5A6-40F1-AC65-1BF001C1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584E45B-9495-4A77-9910-1BC8FB4F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CD8E922-7765-4B21-A47A-F56CBEE3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652BA83-53E2-4971-8734-08BFF1F7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FE73697-72E9-4B22-B9E4-D19BF206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14349BC-634B-4492-973A-D66F5FD2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3167E8F-A02A-41FE-AD70-E6CD1848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AC6B304-F0EF-460F-986C-1C6AC8FD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2A46076-A9D5-49F9-BB63-7DB9A80F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FCFDA-3540-4C24-A16F-882EA12A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E7B1D8D-4DC7-4164-B3BB-FA1360AC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F2B1B3D-7F02-41F1-8E3E-23B8EE66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D4131B4-8DBB-42F7-992A-F137EF2B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44E449E-3419-441A-BFCD-A6AF7CDC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BB85B14-952C-4B23-935D-59792ECE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C58D80B-5E53-421C-94BE-CB33318D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A2D6A92-2678-464E-969D-03DA27F3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A65E635-F79C-47B3-A273-647A00FD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0D09300-DCC9-40F6-9367-1E167071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DEEB446-66FE-4BC5-8CB1-BE13EA3E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85C9E-BFDE-441A-A3F8-17DC7E33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0EB6A75-1105-44E4-98BF-A9FE1F9B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93D7B34-DF7F-4881-A578-C8088921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1AE55E3-6E76-46A5-A98B-61E13EDD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88783B1-8F26-4293-BED7-FCD73EB0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210E67F-A7EC-4C8E-894A-41098B8A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01C77BB-0A14-418C-AD85-2B884C7C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60F31BF-7778-4B62-A729-60951FA3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88A097F-8226-404E-86BD-1D952018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CFF2BD8-399C-4B27-9A8F-7F1AEEEE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149607A-6468-4D57-BD84-EC868456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28D17-3F91-4EB3-B4AD-9552466E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DF9D1F4-CF14-4414-9D3B-F36BB7A5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B232A58-EA76-4938-AEF9-25C44342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07F23FD-DAB2-411A-8F29-A7254DD6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D0D6264-98E0-4C13-9A80-A82BF77F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86E7E1C-BD19-4579-B22E-8EFA9F97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1BAF5E8-87B7-4922-B8BB-D61D8340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A940910-0313-4413-8C1E-F5BF643E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EB3F952-1F1B-4E77-BC6D-30EE7AAE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807DDE5-E7D4-4A97-A0CC-388CD820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FACA141-4BB5-402F-9FD0-B992F56D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D365C-4F0D-4ACC-8FC1-E74E2211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3EA9CDD-A6DE-4E66-A6C8-179EDADA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F4B7970-C9F5-4FF8-B599-F4374EC4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18355C5-DA0C-499B-B377-E8E06198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D8996D0-6068-459A-B1E0-F5A6C771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ED6B826-AC1F-4F26-8306-0F80CB35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AC426D6-8A85-403A-A88D-8237A906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3F741E9-A6C4-45A6-86D9-79F643A0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E6FBA88-BEC6-4492-8923-7B9C27BB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FA864F6-02B6-494E-8B61-13EEB934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7A3A7E9-23B4-4A3A-876C-EB0D458C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500EA-B3EB-4118-A757-0171D1D5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A80AF6E-C4A4-4FD9-8CD2-088C4262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42824EC-945E-408E-807E-A2886FF9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5C48413-36A8-435B-B284-FD52FB9B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2E22079-5A61-4C4B-BEB5-2A351FD2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110183A-424E-403A-8375-CAAB48A1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0602593-F1E5-457C-B8E8-5179446F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A4AE0ED-40D8-4172-814B-DDBC6322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5FCC8D4-4023-40B0-A09B-B8E5F003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089221D-5131-4E1C-8162-D5F08F6A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6709D15-6FE0-4F12-90AD-9353729F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89339-DCC2-43C1-9DFC-11020FE8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8E6505F-7006-47F2-A690-C1128C35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D14166F-1FC4-4735-B85E-CC0A79BE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3083B36-736A-4B2A-8CEA-556ADE80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B1B038A-F36E-464A-B676-C0C54620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B7672BF-19A9-4594-B12B-3441EBA5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1330575-7C28-4699-98C6-ECF786C7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C533B39-4F11-4DFC-883E-1AADC258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3235AB6-8276-4088-83BF-194011C8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11B0078-68D1-4F1A-959E-D6E6DBBA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2E5E671-461C-473C-B807-6A3755B2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3884C-A4E4-4647-B770-D16A2B7D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3344FAC-0DF0-41A1-8AA0-478384BB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C8839BA-2BA4-4E54-AFD1-84545E08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4D22CDF-046F-4953-8FDE-8E35CAC0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4CACD19-C214-48BC-A204-0C632FA0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57C70F5-3C72-4A65-A79E-4A3A72F3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C98EFF3-4ADB-4355-BEF1-92543D29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B721147-8BFF-4FC8-BC8B-FEC0EBA4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762E1E4-2F7A-449C-A956-C976AF1A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C8CEB1B-4991-4CFE-A1B0-81DC0650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422342B-3B5D-4728-983B-4591F6E4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86CF3-6D6B-4638-A05A-DE304A16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A05A406-C11C-4635-99B6-3A2ADE97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B6A7D18-FFE9-453E-B144-7C14E4EE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C43485D-2A64-431A-91C3-6EAF7AFF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8C96677-4EDE-40F3-8BD7-241479D3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10FE636-52AB-41E8-9DA7-27A02EF6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6BDBD81-CC9B-48CD-B763-0672AB1D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CCC0D96-C392-49A5-9143-4FCAD186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26AF065-999B-4EB3-96C0-6487DEC9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470C7BE-A3C3-4B12-9641-F0690C86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0130058-F975-4B19-BFCB-05C42882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A7AE-9B7E-4774-8B0D-54416207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B55C4-A0D5-43A2-8B3F-769C8A58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E210F4F-F3A3-43DB-BC5A-97A5514B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796C29A-8BFE-441A-93A2-3CFCBD8E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64F7E06-0A52-44B8-B5E6-0E116405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EF22158-58C2-4821-B6E6-A2DD4CE4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8A9924F-CB10-4CE8-BDA3-37877A0F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A74BC54-6F4F-4CAF-BA27-C188C7B9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E0200DC-9003-44A4-8D62-6F920176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DA425C4-7869-48DD-A61F-7764B44C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D4C5E90-5DB8-45DB-9CF5-6A8B7E0D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A08A900-7865-4989-9E12-5E7FB895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977BC-372E-4270-87C5-953B4E8F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420F3B9-1947-4E34-82DB-A6723DB8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2E37C17-8D22-4D9C-9382-C4A715A7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B1B217C-2233-42B7-9377-F00E7160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3D90A72-BB16-4B03-8CCA-D9F14813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B635131-5ADC-48F8-8F23-8F5F374E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4756838-671C-4FEF-9960-98871964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2D68194-144D-457A-B763-F95A2876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4424A23-F020-4208-9290-0C0ED5DA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AE4F0A6-2B45-4498-91D4-FBA8EE41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80597F4-36A5-4C3D-B297-D892D05A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4DA23-B506-4EBF-B0F4-28982310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9B97351-09E8-42E5-AE61-17E6534B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758FF76-1808-475E-BE9E-9B5AE64D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6CD2F62-14A9-4B1E-B963-F528BF00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58BADB8-9097-497A-AE50-727AD555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C116822-9482-4AC7-954A-C360B206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06FC04A-5299-4977-AD88-A37BA0AE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854BA6A-877C-4792-BF09-A8BE67D0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5140C7A-24FD-4A81-B772-E783A00A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15C0132-F371-46CA-9C32-096C98DB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814D7BA-791E-4EAE-99CD-BEE1B950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F7C9C-BAA3-4F25-8348-6B30FB1F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AA8022E-B898-401F-9F47-4E5C2CCE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0654CB9-A841-41E7-9562-0C3BF760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D4D6D85-883F-4C53-BEB6-AC248F8E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B68EEF6-0678-4602-A0E3-6C4A848F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B4AFCA9-0D34-45AF-B32E-CCAAFBF8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AEE860E-D693-4900-BC0D-4C5A0557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1B50BEA-AABE-4AEC-878B-79CB8B55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37CEB7C-9B29-4F05-BC58-2D312091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1DBCF52-979B-48EB-B068-989DB3DB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30890C5-CEA3-4DCB-8CB6-04D27589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8C534-C8FE-4533-BDD3-7AE97305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97E1859-E40C-43DC-9BD8-B74414D9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0DD4E5C-5DCF-42C0-904F-E5AF45CB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3BF5FF5-2108-4782-970A-46EC9F6D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ED0DD1F-9750-4BA5-9306-90BF92EB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B5470F7-73E5-47C5-9FAD-10081ACE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6E10D93-6E80-4DB9-8A2D-05A14699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A6D4453-0662-44DA-A33E-FA807AAD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1BAF411-CBD2-449D-A895-2429F429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4313C73-E7B7-478C-97C3-9C1E2618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D50B298-C69E-411D-9F47-9891AD56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9276F-9214-4024-BDEA-5C214718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29B09A3-A0BE-45F7-9D14-E06E15F0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8DD6669-7408-4F5C-A4D1-B766E5CF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B0964A5-B0FB-4E54-B79A-EE2C74A5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D8450D7-7D9F-436B-8274-EB5CDA7B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929CF98-8297-498D-89C5-E976FA4F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CCBC22C-E3D9-4F65-A740-E2795D1A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E38564C-7FA2-487B-9612-C793C766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3732E3B-1E36-4599-9C2B-AEC0D446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207E711-C639-4D80-8468-376CC5BA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C1704CF-D944-4733-A2B2-49F9F257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A4E9E-839B-4144-AD41-908B856A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3C43A20-D50D-45B9-A42D-243AC8EE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AED6758-D4BA-49F0-B9EA-6CFEFEB3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FCC3E1D-17FD-4D0C-8D62-DFF403D9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5803B75-63AA-4438-BE1C-2B3CD119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ABBA4D9-7E2F-4B87-86C5-284A5552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1206816-5787-49C3-8E05-7330FF86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B00E320-61DE-4799-A909-300F8713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1A65DFE-4EC5-41C6-A546-DBDCDD50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211F2D3-7E5A-486B-87B1-B7D41E7C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FF3DB97-A77A-4984-948D-425B516D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449DF-8BAA-4BFD-912F-CE524BEE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353807B-4301-48D9-B2C1-88A02358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905C848-00FD-4C09-9FF1-60AA210D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2BC9B9D-C9A6-4E24-9F28-FD967237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39A4627-F9BF-4524-B417-72E351EB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684D058-4F8F-4040-B792-B5F6D510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C8B2B4B-FA87-4032-85A1-E864B67A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C4AE7F9-FD40-4636-BA9D-BBC641CE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BE02BF9-A36F-4DF7-B778-08E41C6B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499A6D6-87F1-4D6C-A988-CC6500FF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4A16D02-0519-4DC6-A228-4D40A08A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2626C-2690-4699-8CD0-7A49C405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F9B1F41-117B-4AE7-BD95-3B4B981C9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6113207-DFE4-4EAD-94B0-F9859D3C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74FB8CC-4360-4C35-B937-C952BD2A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536EFD3-E648-49FE-8782-AF0DEE08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BEEC197-4906-442B-B717-4F48CABA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7485EC8-9B99-4ED0-AFE9-6F824596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2087B2F-0FAB-4CCB-B20E-87DC97E9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9F5E9F8-4ECD-415F-A2C0-F0D6EF6F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5874311-21FA-4125-AA00-7496D0ED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82F9A11-E613-4AFF-9ED3-A7824642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73420-42F0-4CF5-86C0-DFA22594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6EE5435-C8A4-4641-BF57-3E249F93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E83AA9B-CD0A-4970-BB59-B1AD00F8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E509C67-6F5B-43A4-8E24-AD39F317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51CB113-CB66-4D35-AE2A-DAAAC148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AC9F370-46D1-4A3E-B525-8BF5F570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AFF5F34-463A-4907-B37C-2E492A24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9B9E4A5-390D-439C-8EF8-3FEFD4BD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EBF8CF8-BBD7-432B-BFFA-C23ACD93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03C0B88-4FC3-47F6-BFFC-87059A80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5F06FD9-FDD9-49DC-9872-1E7F3A6A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C889-391B-45D0-8570-A40EF410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A1486-C49F-4404-A698-23E62A80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7310859-24D7-45A5-A7E8-1CE3DC00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D1946E0-C23D-41FC-A4FF-681B3DB7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46C0991-AFA6-4A03-959E-E0736FEC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ABA5278-42A2-4BDE-AED8-8CFE65DBA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6A553B0-644F-4E0A-A6AE-75C9A480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5585F43-BE01-4446-A216-43BA76D2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0C5A91B-8391-462B-AF8C-621C3787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26F43ED-25FA-4326-8A54-7F7E840D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FC56BA1-62A5-49EA-A6D2-802AA41E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0B3D2F7-440A-4C3C-937A-6B44DCFA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B2AC7-5305-4E44-8151-31448B83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1900CD5-4859-4DEB-978A-5B405E26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6FE66AD-BCFA-4464-886C-160EC713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52A8FCB-A8B6-4CEE-9582-F15F18C2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7C2D398-2F12-4893-98A8-E6CB785D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2081F5D-AB8F-4455-B93D-6C723C5F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A58BEF8-F333-43C2-AA2D-3072E123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5EE855D-D8B8-42A7-9941-8474F454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2F03104-DC4F-41AB-BA02-CB4E550D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BB5EAAB-6230-4B8F-9A72-43872749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E5AF154-5270-455F-B400-48D268F1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974B8-7036-4C41-813C-C14206A7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0A5E498-7F31-42E0-96F9-EE6A2D9E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1B748B0-8B4B-4938-B47D-D1B7969F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5789B45-30F9-4C8F-BD27-E6969BE6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47FA776-65BB-4253-A9D4-113E9862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A103508-E94A-4A65-8739-ECF7F141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EC84C11-99A7-40CF-B9CD-1474587F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0225A0D-B593-49BE-BD5E-A20E6EA7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60B74B0-2062-4F52-A44E-B5049593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8D88A79-D00E-449F-8561-AD23E8FC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8BF97A8-C313-4391-A08F-086B4F3D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4F992-FCF3-4ECF-8377-170AEC0D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9D4FBA1-2FCC-4DA9-BF67-C4AC0585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9363E20-301F-4A6F-941D-E49B5972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019A823-CE88-4110-8B92-948E7027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9EF9A64-FFD0-490B-8E52-6ED61A46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CEC571A-3D32-4682-9748-55F7EA69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CC7B0AC-15FE-4A05-9904-5D4AFA1D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947E730-6231-40EC-98C2-7D8484D5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0B849A9-F41A-4C33-92D2-AE4D6D57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1C31705-7C3E-47C3-874F-DE4248EE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40F0A67-E4E3-4CA3-8B61-3CE61C9B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BF7AF-F692-4F65-9550-EE0FED85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18F4505-9575-4F84-BE31-1C4E7890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953EDC6-0FD6-4A58-B94E-7D69FB3B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213242C-D98C-49B5-AC1E-41FBC7A0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FD8C84E-563C-45A9-B20E-10078E1B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3F7F425-F3C8-48E2-B847-3FBEE7A8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C902A68-523F-4C6F-A884-9F1EDDED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6C1A5FF-4199-4B47-83B6-7FA57702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104B7B5-4567-4043-9C57-6EAA6D41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7D45568-960D-4A3B-AB28-5661172F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5CA0706-6237-4A70-89B1-75132FBA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9473E-5091-45F7-BA64-356F8596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355D292-8B3E-406D-A020-5AB10888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E233944-A12C-4838-B93C-5F7CD274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1932D6D-9B84-435D-B095-8CE2CEE7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D23C08D-ECB0-4B84-B7F9-F0DC82F7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819FF5D-0AA0-423B-A44B-704E104C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604A395-BFB8-483D-8C64-AF7DAB37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72B631E-5093-42E8-A658-820FE716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9464D7B-AA5D-4737-8762-63716317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EADFE85-FB99-4236-8F47-DAC8D7F4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BC88009-1015-4F21-BEE5-7E063960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DD4E8-DEE3-43BB-A98C-9832C908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DDAD39C-1B02-4BB8-A294-2B111670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6B28281-BC0A-4832-938F-DD947DDF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DABD533-C529-4F0C-801A-9D50CD0C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35D6982-FD8E-49CE-B12A-A2AA4DE0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4418230-208B-4398-9310-D18C223C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E3012-6AF5-4CF9-BB46-451E7732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21E9A-FD99-449E-A164-F541D94D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59122-B41C-446F-953E-467590D6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86B6-F265-4FF2-82C6-F7142D35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3247D-7CD9-442D-A58D-2ED0A879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938FB-DF76-4D50-A39A-58278C02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E400A-97AD-4C57-B775-03C59BA7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281EE-4919-43EF-8015-0740681F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C5F35-95F9-48A1-87AF-0068BCC7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E7649-B05B-4E09-86FB-C909A16B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6831D-15A2-407C-A1A3-C5814EE4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4AC99-CC0C-4CB0-9C00-AA882B73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70580-3F7C-4E92-8D80-850C1A8F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A96AE-DFAA-49C4-9C28-C528EBB5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20BD-BD3A-48C1-B987-F2CED0F36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E790-81D6-492A-B91D-C1D8EF4DE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94AF-E1C5-4AD3-A0D2-BF0FC6609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B9E5-7BA4-4E9D-B9AC-82A73F52C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95B6-68C8-4023-A091-42A25282E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F16B-AD6F-4E1A-884B-42CEBAD4D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C5C4-C1FB-4159-8D3D-7996029CA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19F9-6747-466D-81EA-1C5D52E1C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97BF-EBE1-47F5-8784-8ECA7830D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5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9B79-6E22-4F22-A00E-14EE2348B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dt" idx="5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5BE6-7629-4F66-A30E-AEA477A66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6107-EE46-4A7D-A71B-D20A221F0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8EF1-4B2E-4834-AEA9-9FAF0073A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6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511E-803F-46F6-B2F4-8BA455E88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dt" idx="6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0093-B2D7-4D34-A2BE-D82F41D98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dt" idx="6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47F1-53BC-4B81-B98D-FA343FEBE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7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C8EA-78CA-4EC1-A9BF-508A4C46E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 type="dt" idx="7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0158-B958-4F4C-935B-EF0DC8D3A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 type="dt" idx="7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0CAC-A185-4E6F-8367-E283B91D0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7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59DC-30C3-4E39-8090-D3E3786CA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dt" idx="8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E1E1-AECF-4EF1-BAA3-FDE2078FD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 type="dt" idx="85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 type="ftr" idx="86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 type="sldNum" idx="87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929F-B2F1-40BB-8AE0-24E193BA4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A9A3-4404-4C02-AE47-E4496D390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8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5CBD-C207-4F53-BF97-EBDAAC796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 type="dt" idx="9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AE34-90EC-4B3E-B016-614B2DA2F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 type="dt" idx="9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60E1-F4BE-49A1-BB6E-6166E5B32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 type="dt" idx="9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DE1A-4AAB-4962-AE19-E1F8C231B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 type="dt" idx="10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E1A1-2001-4D87-BA59-2CA9976AF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 type="dt" idx="10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1495-9B90-4AAB-9F17-DABBA636D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dt" idx="10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8499-F6D3-4A45-A9E0-766680DDC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 type="dt" idx="10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9FA9-D69F-4E22-8897-A4D9946A7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 type="dt" idx="11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CA7A-4E92-4412-8B2D-A1AA2284E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11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34C9-EED9-4AD8-A368-EB9095E54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F8D8-2C3C-4A5F-9469-63405A5B0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 type="dt" idx="11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 type="ftr" idx="1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5099-5025-49DF-B8A6-36B5DCFFB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 type="dt" idx="12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 type="ftr" idx="1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2429-4134-488F-9E6E-5FEB9DBD8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 type="dt" idx="12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 type="ftr" idx="1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01B2-0049-4CCC-A87F-5B3A8BB5A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 type="dt" idx="12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 type="ftr" idx="1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42E7-902F-4D85-B2C4-5878FBC04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 type="dt" idx="13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 type="ftr" idx="1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2D09-1555-4F5F-A65A-5B047F6BA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 type="dt" idx="13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 type="ftr" idx="1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18D4-0FCC-4152-A41E-635ADD195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 type="dt" idx="13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4F6E-50B9-4D48-9C3C-EE702B3FF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 type="dt" idx="13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 type="ftr" idx="1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87D9-2C4C-4E65-9A09-9AFC530C7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 type="dt" idx="14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 type="ftr" idx="1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CB01-334F-48BE-A700-A54C1393C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 type="dt" idx="14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 type="ftr" idx="1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9637-D2AA-4963-A53F-05A405ACA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65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2E93-6B8E-48AB-B672-7C875801254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 type="dt" idx="14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 type="ftr" idx="1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8D85-3142-46CE-9500-9A39347DA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5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086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 type="dt" idx="15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 type="ftr" idx="15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DD1D-5B15-4307-BC1C-E204F139C3D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 type="dt" idx="15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 type="ftr" idx="15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58C7-2323-4203-8575-649D3C7B28A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 type="dt" idx="15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 type="ftr" idx="15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8A8A-E346-4F2F-ABBD-93BDBA0DCE5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 type="dt" idx="16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 type="ftr" idx="16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8E81-7A23-4B69-A0F1-19744FEB595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 type="dt" idx="16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 type="ftr" idx="16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5B9F-C9DD-4656-B313-0CB8A09E843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 type="dt" idx="16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 type="ftr" idx="16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 type="sldNum" idx="16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8A7C-7A61-493B-B9F2-E356E20437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 type="dt" idx="16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 type="ftr" idx="17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26E5-295D-4D10-9C94-EE28DDE4B18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 type="dt" idx="17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 type="ftr" idx="17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 type="sldNum" idx="17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CD9D-93BD-41AF-A949-947F8F2B2F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 type="dt" idx="17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 type="ftr" idx="17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 type="sldNum" idx="17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2D42-E011-461D-B4E6-EAB591866E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02B8-4FBA-4666-8430-D133A9173F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 type="dt" idx="178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 type="ftr" idx="179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 type="sldNum" idx="180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6D35-199B-4851-894C-7B0D666912E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 type="dt" idx="18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 type="ftr" idx="18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PlaceHolder 5"/>
          <p:cNvSpPr>
            <a:spLocks noGrp="1"/>
          </p:cNvSpPr>
          <p:nvPr>
            <p:ph type="sldNum" idx="18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FAAA-B135-4813-8CD1-3B87AF1FB2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 type="dt" idx="1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 type="ftr" idx="1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 type="sldNum" idx="1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7677-18AE-4E34-B561-A501C005ADD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 type="dt" idx="1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 type="ftr" idx="1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 type="sldNum" idx="1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0E11-D6F6-4180-9A97-0FE80125FF6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 type="dt" idx="1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PlaceHolder 4"/>
          <p:cNvSpPr>
            <a:spLocks noGrp="1"/>
          </p:cNvSpPr>
          <p:nvPr>
            <p:ph type="ftr" idx="1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PlaceHolder 5"/>
          <p:cNvSpPr>
            <a:spLocks noGrp="1"/>
          </p:cNvSpPr>
          <p:nvPr>
            <p:ph type="sldNum" idx="1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019B-556E-45C6-8DC0-4A35EBA96CF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B600-ECA0-4A0F-A395-8860999B453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84DE-FE59-4EF8-87CB-7080468DC1F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6C65-DC63-4E96-A770-A570BADDCE4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8633-C935-4A16-A83D-DAF3B6B53A6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AC87-D590-46F5-BE4F-560D71A586B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09EE-6582-4B59-A26E-03F9E285F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F312-11DB-470C-8A40-AAB904D3FE8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0583-5BFD-4B72-93AA-C549AFE3649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0E35-6483-4700-83E1-D5F8F39D7F2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D7E7-F242-40DD-A9C3-3D5ED4748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EB5A-D865-4DDC-A044-ABD902D73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54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7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Text Box 5"/>
          <p:cNvSpPr/>
          <p:nvPr/>
        </p:nvSpPr>
        <p:spPr>
          <a:xfrm>
            <a:off x="3348000" y="429264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方志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WordArt 6"/>
          <p:cNvSpPr txBox="1"/>
          <p:nvPr/>
        </p:nvSpPr>
        <p:spPr>
          <a:xfrm>
            <a:off x="2124000" y="2276640"/>
            <a:ext cx="44071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可爱的中国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024" name="Text Box 7"/>
          <p:cNvSpPr/>
          <p:nvPr/>
        </p:nvSpPr>
        <p:spPr>
          <a:xfrm>
            <a:off x="1187280" y="83808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北师大版 六年级  语文 下册 第三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3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Rectangle 5"/>
          <p:cNvSpPr/>
          <p:nvPr/>
        </p:nvSpPr>
        <p:spPr>
          <a:xfrm>
            <a:off x="0" y="1484280"/>
            <a:ext cx="912168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934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月初，方志敏奉命率红军北上抗日先遣队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上，任红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军团军政委员会主席。至皖南遭国民党军重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围追堵截，艰苦奋战两月余，被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倍于己的敌军围困。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带领先头部队奋战脱险，但为接应后续部队，复入重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终因寡不敌众，于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935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7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日在江西玉山陇首村被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被捕那天，两个国民党士兵搜遍方志敏全身，除了一块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表和一支钢笔，没有一文钱。诚如方志敏所说：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清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洁白朴素的生活，正是我们革命者能够战胜许多困难的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方！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在狱中，面对敌人的严刑和诱降，他正气凛然，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贞不屈。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935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日在江西南昌下沙窝英勇就义，时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6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岁。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Text Box 6"/>
          <p:cNvSpPr/>
          <p:nvPr/>
        </p:nvSpPr>
        <p:spPr>
          <a:xfrm>
            <a:off x="3348000" y="765000"/>
            <a:ext cx="25192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背景资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/>
          </p:nvPr>
        </p:nvSpPr>
        <p:spPr>
          <a:xfrm>
            <a:off x="323640" y="233208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宜用激昂、深情的语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领会作者情感，读出感情来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随手勾画出疑难字词，关键语句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043" name="Group 6"/>
          <p:cNvGrpSpPr/>
          <p:nvPr/>
        </p:nvGrpSpPr>
        <p:grpSpPr>
          <a:xfrm>
            <a:off x="324000" y="333360"/>
            <a:ext cx="2663640" cy="1749600"/>
            <a:chOff x="324000" y="333360"/>
            <a:chExt cx="2663640" cy="1749600"/>
          </a:xfrm>
        </p:grpSpPr>
        <p:pic>
          <p:nvPicPr>
            <p:cNvPr id="3044" name="Picture 4" descr="搬木块"/>
            <p:cNvPicPr/>
            <p:nvPr/>
          </p:nvPicPr>
          <p:blipFill>
            <a:blip r:embed="rId1"/>
            <a:stretch/>
          </p:blipFill>
          <p:spPr>
            <a:xfrm>
              <a:off x="324000" y="333360"/>
              <a:ext cx="2090520" cy="17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5" name="Text Box 5"/>
            <p:cNvSpPr/>
            <p:nvPr/>
          </p:nvSpPr>
          <p:spPr>
            <a:xfrm>
              <a:off x="539640" y="620640"/>
              <a:ext cx="24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朗读指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7" name="Text Box 6"/>
          <p:cNvSpPr/>
          <p:nvPr/>
        </p:nvSpPr>
        <p:spPr>
          <a:xfrm>
            <a:off x="250920" y="234936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读过课文后，你的内心有怎样的感受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你能体会出作者写此文是怀着一种怎样的感情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请你列出课文的结构提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8" name="Picture 7" descr="整体感知"/>
          <p:cNvPicPr/>
          <p:nvPr/>
        </p:nvPicPr>
        <p:blipFill>
          <a:blip r:embed="rId1"/>
          <a:stretch/>
        </p:blipFill>
        <p:spPr>
          <a:xfrm>
            <a:off x="395280" y="1197000"/>
            <a:ext cx="201780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3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3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9" name="Text Box 4"/>
          <p:cNvSpPr/>
          <p:nvPr/>
        </p:nvSpPr>
        <p:spPr>
          <a:xfrm>
            <a:off x="179280" y="54936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检查阅读效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Text Box 5"/>
          <p:cNvSpPr/>
          <p:nvPr/>
        </p:nvSpPr>
        <p:spPr>
          <a:xfrm>
            <a:off x="395280" y="1413000"/>
            <a:ext cx="8748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指出第一段各句的句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第二段主要写什么内容？你能结合本段谈谈当时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国的状况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怎样理解三段的两个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唯一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第四段中作者为我们描绘了中国怎样的光明美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第四段采用了哪些写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最后一段应该用怎样的语气来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3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3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Text Box 5"/>
          <p:cNvSpPr/>
          <p:nvPr/>
        </p:nvSpPr>
        <p:spPr>
          <a:xfrm>
            <a:off x="539640" y="2421000"/>
            <a:ext cx="9217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结合上下文理解下列词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蹂躏     刻不容缓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辽远     日新月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熟读你喜欢的句、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2" name="Picture 6" descr="练习或作业"/>
          <p:cNvPicPr/>
          <p:nvPr/>
        </p:nvPicPr>
        <p:blipFill>
          <a:blip r:embed="rId1"/>
          <a:stretch/>
        </p:blipFill>
        <p:spPr>
          <a:xfrm>
            <a:off x="395280" y="1197000"/>
            <a:ext cx="1000080" cy="762120"/>
          </a:xfrm>
          <a:prstGeom prst="rect">
            <a:avLst/>
          </a:prstGeom>
          <a:ln w="0">
            <a:noFill/>
          </a:ln>
        </p:spPr>
      </p:pic>
      <p:sp>
        <p:nvSpPr>
          <p:cNvPr id="3053" name="Text Box 7"/>
          <p:cNvSpPr/>
          <p:nvPr/>
        </p:nvSpPr>
        <p:spPr>
          <a:xfrm>
            <a:off x="1332000" y="12682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3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3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可爱的中国（散文诗）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5219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在他写这篇文章的时候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铁窗外密布着沉重的阴云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掀开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935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年最后的日子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他在镣铐声中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看到了稻谷飘香的中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美丽的春天的中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使他热泪盈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56" name="Rectangle 7"/>
          <p:cNvSpPr/>
          <p:nvPr/>
        </p:nvSpPr>
        <p:spPr>
          <a:xfrm>
            <a:off x="576360" y="4222800"/>
            <a:ext cx="45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他的手沾满阳光的汁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于是，流出的每个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都飘着芬芳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Rectangle 8"/>
          <p:cNvSpPr/>
          <p:nvPr/>
        </p:nvSpPr>
        <p:spPr>
          <a:xfrm>
            <a:off x="5040360" y="1341360"/>
            <a:ext cx="46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飘满天空和大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他放下笔，紧握双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手上的镣铐，叮当有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Rectangle 9"/>
          <p:cNvSpPr/>
          <p:nvPr/>
        </p:nvSpPr>
        <p:spPr>
          <a:xfrm>
            <a:off x="576360" y="558972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他渴望这芬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Rectangle 10"/>
          <p:cNvSpPr/>
          <p:nvPr/>
        </p:nvSpPr>
        <p:spPr>
          <a:xfrm>
            <a:off x="5040360" y="2278080"/>
            <a:ext cx="471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他出没在一片草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他的身后，跟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一群黑洞洞的枪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许多年过去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当人们躺在芬芳的草地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诵读这篇千秋文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总能听到一种金属的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在明亮的阳光下振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0" name="Picture 4" descr="未命名"/>
          <p:cNvPicPr/>
          <p:nvPr/>
        </p:nvPicPr>
        <p:blipFill>
          <a:blip r:embed="rId1"/>
          <a:stretch/>
        </p:blipFill>
        <p:spPr>
          <a:xfrm>
            <a:off x="5580000" y="1484280"/>
            <a:ext cx="2124000" cy="1593720"/>
          </a:xfrm>
          <a:prstGeom prst="rect">
            <a:avLst/>
          </a:prstGeom>
          <a:ln w="0">
            <a:noFill/>
          </a:ln>
        </p:spPr>
      </p:pic>
      <p:pic>
        <p:nvPicPr>
          <p:cNvPr id="3061" name="Picture 5" descr="ssa"/>
          <p:cNvPicPr/>
          <p:nvPr/>
        </p:nvPicPr>
        <p:blipFill>
          <a:blip r:embed="rId2"/>
          <a:stretch/>
        </p:blipFill>
        <p:spPr>
          <a:xfrm>
            <a:off x="5796000" y="4437000"/>
            <a:ext cx="1979640" cy="1392480"/>
          </a:xfrm>
          <a:prstGeom prst="rect">
            <a:avLst/>
          </a:prstGeom>
          <a:ln w="0">
            <a:noFill/>
          </a:ln>
        </p:spPr>
      </p:pic>
      <p:pic>
        <p:nvPicPr>
          <p:cNvPr id="3062" name="Picture 6" descr="红军走过的草地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1763640" y="3789360"/>
            <a:ext cx="2003400" cy="1652760"/>
          </a:xfrm>
          <a:prstGeom prst="rect">
            <a:avLst/>
          </a:prstGeom>
          <a:ln w="0">
            <a:noFill/>
          </a:ln>
        </p:spPr>
      </p:pic>
      <p:sp>
        <p:nvSpPr>
          <p:cNvPr id="3063" name="Rectangle 7"/>
          <p:cNvSpPr/>
          <p:nvPr/>
        </p:nvSpPr>
        <p:spPr>
          <a:xfrm>
            <a:off x="971640" y="1341360"/>
            <a:ext cx="43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北大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十年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3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4" name="Picture 4" descr="1_jpg"/>
          <p:cNvPicPr/>
          <p:nvPr/>
        </p:nvPicPr>
        <p:blipFill>
          <a:blip r:embed="rId1"/>
          <a:stretch/>
        </p:blipFill>
        <p:spPr>
          <a:xfrm>
            <a:off x="5003640" y="1197000"/>
            <a:ext cx="3059280" cy="2406600"/>
          </a:xfrm>
          <a:prstGeom prst="rect">
            <a:avLst/>
          </a:prstGeom>
          <a:ln w="0">
            <a:noFill/>
          </a:ln>
        </p:spPr>
      </p:pic>
      <p:pic>
        <p:nvPicPr>
          <p:cNvPr id="3065" name="Picture 5" descr="lt12"/>
          <p:cNvPicPr/>
          <p:nvPr/>
        </p:nvPicPr>
        <p:blipFill>
          <a:blip r:embed="rId2"/>
          <a:stretch/>
        </p:blipFill>
        <p:spPr>
          <a:xfrm>
            <a:off x="5076720" y="4365720"/>
            <a:ext cx="2340000" cy="1622160"/>
          </a:xfrm>
          <a:prstGeom prst="rect">
            <a:avLst/>
          </a:prstGeom>
          <a:ln w="0">
            <a:noFill/>
          </a:ln>
        </p:spPr>
      </p:pic>
      <p:pic>
        <p:nvPicPr>
          <p:cNvPr id="3066" name="Picture 6" descr="3_jpg"/>
          <p:cNvPicPr/>
          <p:nvPr/>
        </p:nvPicPr>
        <p:blipFill>
          <a:blip r:embed="rId3"/>
          <a:stretch/>
        </p:blipFill>
        <p:spPr>
          <a:xfrm>
            <a:off x="1332000" y="3284640"/>
            <a:ext cx="2516040" cy="2422440"/>
          </a:xfrm>
          <a:prstGeom prst="rect">
            <a:avLst/>
          </a:prstGeom>
          <a:ln w="0">
            <a:noFill/>
          </a:ln>
        </p:spPr>
      </p:pic>
      <p:sp>
        <p:nvSpPr>
          <p:cNvPr id="3067" name="Rectangle 7"/>
          <p:cNvSpPr/>
          <p:nvPr/>
        </p:nvSpPr>
        <p:spPr>
          <a:xfrm>
            <a:off x="539640" y="907920"/>
            <a:ext cx="44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北大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五十年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Rectangle 5"/>
          <p:cNvSpPr/>
          <p:nvPr/>
        </p:nvSpPr>
        <p:spPr>
          <a:xfrm>
            <a:off x="2556000" y="907920"/>
            <a:ext cx="68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今日中国 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(1997.7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9" name="Picture 6" descr="W020070611609519317066"/>
          <p:cNvPicPr/>
          <p:nvPr/>
        </p:nvPicPr>
        <p:blipFill>
          <a:blip r:embed="rId1"/>
          <a:stretch/>
        </p:blipFill>
        <p:spPr>
          <a:xfrm>
            <a:off x="2124000" y="1989000"/>
            <a:ext cx="521172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3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0" name="Picture 4" descr="澳门"/>
          <p:cNvPicPr/>
          <p:nvPr/>
        </p:nvPicPr>
        <p:blipFill>
          <a:blip r:embed="rId1"/>
          <a:stretch/>
        </p:blipFill>
        <p:spPr>
          <a:xfrm>
            <a:off x="1187280" y="2781360"/>
            <a:ext cx="3095640" cy="2160360"/>
          </a:xfrm>
          <a:prstGeom prst="rect">
            <a:avLst/>
          </a:prstGeom>
          <a:ln w="0">
            <a:noFill/>
          </a:ln>
        </p:spPr>
      </p:pic>
      <p:sp>
        <p:nvSpPr>
          <p:cNvPr id="3071" name="Rectangle 5"/>
          <p:cNvSpPr/>
          <p:nvPr/>
        </p:nvSpPr>
        <p:spPr>
          <a:xfrm>
            <a:off x="0" y="112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今日中国   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(1999.12.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2" name="Picture 6" descr="20080226185057991463-1447080"/>
          <p:cNvPicPr/>
          <p:nvPr/>
        </p:nvPicPr>
        <p:blipFill>
          <a:blip r:embed="rId2"/>
          <a:stretch/>
        </p:blipFill>
        <p:spPr>
          <a:xfrm>
            <a:off x="5076720" y="2781360"/>
            <a:ext cx="284184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Text Box 6"/>
          <p:cNvSpPr/>
          <p:nvPr/>
        </p:nvSpPr>
        <p:spPr>
          <a:xfrm>
            <a:off x="611280" y="1052640"/>
            <a:ext cx="7775640" cy="40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敌人只能砍下我们的头颅，决不能动摇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的信仰！因为我们信仰的主义，乃是宇宙的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理！为着共产主义牺牲，为着苏维埃流血，那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们十分情愿的啊！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Text Box 7"/>
          <p:cNvSpPr/>
          <p:nvPr/>
        </p:nvSpPr>
        <p:spPr>
          <a:xfrm>
            <a:off x="2700360" y="494172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伟大的共产主义战士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方志敏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3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3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3" name="Picture 4" descr="世贸"/>
          <p:cNvPicPr/>
          <p:nvPr/>
        </p:nvPicPr>
        <p:blipFill>
          <a:blip r:embed="rId1"/>
          <a:stretch/>
        </p:blipFill>
        <p:spPr>
          <a:xfrm>
            <a:off x="2411280" y="2421000"/>
            <a:ext cx="4286520" cy="2687400"/>
          </a:xfrm>
          <a:prstGeom prst="rect">
            <a:avLst/>
          </a:prstGeom>
          <a:ln w="0">
            <a:noFill/>
          </a:ln>
        </p:spPr>
      </p:pic>
      <p:sp>
        <p:nvSpPr>
          <p:cNvPr id="3074" name="Rectangle 5"/>
          <p:cNvSpPr/>
          <p:nvPr/>
        </p:nvSpPr>
        <p:spPr>
          <a:xfrm>
            <a:off x="539640" y="1052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今日中国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(200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日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3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5" name="Picture 4" descr="申奥"/>
          <p:cNvPicPr/>
          <p:nvPr/>
        </p:nvPicPr>
        <p:blipFill>
          <a:blip r:embed="rId1"/>
          <a:stretch/>
        </p:blipFill>
        <p:spPr>
          <a:xfrm>
            <a:off x="2050920" y="2421000"/>
            <a:ext cx="4859640" cy="2835360"/>
          </a:xfrm>
          <a:prstGeom prst="rect">
            <a:avLst/>
          </a:prstGeom>
          <a:ln w="0">
            <a:noFill/>
          </a:ln>
        </p:spPr>
      </p:pic>
      <p:sp>
        <p:nvSpPr>
          <p:cNvPr id="3076" name="Rectangle 5"/>
          <p:cNvSpPr/>
          <p:nvPr/>
        </p:nvSpPr>
        <p:spPr>
          <a:xfrm>
            <a:off x="611280" y="112536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今日中国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(200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日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3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Rectangle 5"/>
          <p:cNvSpPr/>
          <p:nvPr/>
        </p:nvSpPr>
        <p:spPr>
          <a:xfrm>
            <a:off x="1332000" y="98100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今日中国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(200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日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8" name="Picture 6" descr="10053008_864373"/>
          <p:cNvPicPr/>
          <p:nvPr/>
        </p:nvPicPr>
        <p:blipFill>
          <a:blip r:embed="rId1"/>
          <a:stretch/>
        </p:blipFill>
        <p:spPr>
          <a:xfrm>
            <a:off x="2771640" y="1989000"/>
            <a:ext cx="33814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3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3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9" name="Group 11"/>
          <p:cNvGrpSpPr/>
          <p:nvPr/>
        </p:nvGrpSpPr>
        <p:grpSpPr>
          <a:xfrm>
            <a:off x="1619280" y="1628640"/>
            <a:ext cx="5689440" cy="4608720"/>
            <a:chOff x="1619280" y="1628640"/>
            <a:chExt cx="5689440" cy="4608720"/>
          </a:xfrm>
        </p:grpSpPr>
        <p:pic>
          <p:nvPicPr>
            <p:cNvPr id="3080" name="Picture 4" descr="051011114417t2"/>
            <p:cNvPicPr/>
            <p:nvPr/>
          </p:nvPicPr>
          <p:blipFill>
            <a:blip r:embed="rId1"/>
            <a:stretch/>
          </p:blipFill>
          <p:spPr>
            <a:xfrm>
              <a:off x="1619280" y="1628640"/>
              <a:ext cx="5689440" cy="17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1" name="Picture 5" descr="051017091335ls05101717"/>
            <p:cNvPicPr/>
            <p:nvPr/>
          </p:nvPicPr>
          <p:blipFill>
            <a:blip r:embed="rId2"/>
            <a:srcRect l="0" t="0" r="638" b="14014"/>
            <a:stretch/>
          </p:blipFill>
          <p:spPr>
            <a:xfrm>
              <a:off x="1619280" y="3429000"/>
              <a:ext cx="5688000" cy="280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2" name="Text Box 10"/>
          <p:cNvSpPr/>
          <p:nvPr/>
        </p:nvSpPr>
        <p:spPr>
          <a:xfrm>
            <a:off x="2700360" y="62064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005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3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3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Rectangle 6"/>
          <p:cNvSpPr/>
          <p:nvPr/>
        </p:nvSpPr>
        <p:spPr>
          <a:xfrm>
            <a:off x="468360" y="3055680"/>
            <a:ext cx="7993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方志敏，一个响彻华夏的名字，他的一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清贫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激发出多少共产党人的奉献精神，他的一声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可爱的中国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打动了一代又一代中华儿女的赤子之心。我们敬仰他，怀念他，学习他。当我们昂首阔步走向世界的时候，当中华民族历经奋斗，崛起在世界东方的今天，这位革命先辈，以铿锵的足音又一次走进我们的心灵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Text Box 7"/>
          <p:cNvSpPr/>
          <p:nvPr/>
        </p:nvSpPr>
        <p:spPr>
          <a:xfrm>
            <a:off x="2411280" y="76500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心灵的震撼</a:t>
            </a: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隶书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3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3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Rectangle 4"/>
          <p:cNvSpPr/>
          <p:nvPr/>
        </p:nvSpPr>
        <p:spPr>
          <a:xfrm>
            <a:off x="179280" y="1052640"/>
            <a:ext cx="8964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寄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今天的中国更可爱，当香港、澳门回归祖国的时候，当我们的神舟七号成功返航的时候；当我们加入世贸组织、成功举办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08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奥运会的时候；我们便可以告慰九泉之下的英灵们：这么光荣的一天已经来了，不是在遥远的将来，也不是在很近的将来，而是现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学们，让我们携起手来共同珍惜今天的幸福生活吧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3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WordArt 4"/>
          <p:cNvSpPr txBox="1"/>
          <p:nvPr/>
        </p:nvSpPr>
        <p:spPr>
          <a:xfrm>
            <a:off x="2987640" y="2349360"/>
            <a:ext cx="3220920" cy="209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再见！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矩形 4"/>
          <p:cNvSpPr/>
          <p:nvPr/>
        </p:nvSpPr>
        <p:spPr>
          <a:xfrm>
            <a:off x="1573200" y="4329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moban/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hangye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jieri/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beijing/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tubiao/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xiazai/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powerpoint/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word/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excel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ziliao/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kejian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fanwen/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shiti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jiaoan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Rectangle 17"/>
          <p:cNvSpPr/>
          <p:nvPr/>
        </p:nvSpPr>
        <p:spPr>
          <a:xfrm>
            <a:off x="0" y="270972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0" name="图片 9" descr=""/>
          <p:cNvPicPr/>
          <p:nvPr/>
        </p:nvPicPr>
        <p:blipFill>
          <a:blip r:embed="rId1"/>
          <a:stretch/>
        </p:blipFill>
        <p:spPr>
          <a:xfrm>
            <a:off x="1652760" y="349200"/>
            <a:ext cx="5581440" cy="1943280"/>
          </a:xfrm>
          <a:prstGeom prst="rect">
            <a:avLst/>
          </a:prstGeom>
          <a:ln w="0">
            <a:noFill/>
          </a:ln>
        </p:spPr>
      </p:pic>
      <p:sp>
        <p:nvSpPr>
          <p:cNvPr id="3091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3" name="Picture 10" descr="png-0644"/>
          <p:cNvPicPr/>
          <p:nvPr/>
        </p:nvPicPr>
        <p:blipFill>
          <a:blip r:embed="rId2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3094" name="Picture 11" descr="png-0652"/>
          <p:cNvPicPr/>
          <p:nvPr/>
        </p:nvPicPr>
        <p:blipFill>
          <a:blip r:embed="rId3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Text Box 4"/>
          <p:cNvSpPr/>
          <p:nvPr/>
        </p:nvSpPr>
        <p:spPr>
          <a:xfrm>
            <a:off x="468360" y="765000"/>
            <a:ext cx="820908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方志敏，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899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年生，江西省弋阳县人。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92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月加入中国社会主义青年团。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924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月转入中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共产党。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928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月，参与领导弋横起义，创建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东北苏区，领导组建中国工农红军第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军。先后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赣东北省、闽浙赣省苏维埃政府主席，红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军、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军政治委员，中共闽浙赣省委书记。他把马克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主义普遍真理与赣东北实际相结合，创造了一整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建党、建军和建立红色政权的经验，毛泽东称之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方志敏式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的根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据地。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3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8" name="Picture 5" descr="W020050805663136468690"/>
          <p:cNvPicPr/>
          <p:nvPr/>
        </p:nvPicPr>
        <p:blipFill>
          <a:blip r:embed="rId1"/>
          <a:stretch/>
        </p:blipFill>
        <p:spPr>
          <a:xfrm>
            <a:off x="2700360" y="1197000"/>
            <a:ext cx="2957400" cy="4221000"/>
          </a:xfrm>
          <a:prstGeom prst="rect">
            <a:avLst/>
          </a:prstGeom>
          <a:ln w="0">
            <a:noFill/>
          </a:ln>
        </p:spPr>
      </p:pic>
      <p:sp>
        <p:nvSpPr>
          <p:cNvPr id="3029" name="Text Box 6"/>
          <p:cNvSpPr/>
          <p:nvPr/>
        </p:nvSpPr>
        <p:spPr>
          <a:xfrm>
            <a:off x="5560920" y="1700280"/>
            <a:ext cx="15210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方志敏遗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3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0" name="Picture 6" descr="W020050805680711672558"/>
          <p:cNvPicPr/>
          <p:nvPr/>
        </p:nvPicPr>
        <p:blipFill>
          <a:blip r:embed="rId1"/>
          <a:stretch/>
        </p:blipFill>
        <p:spPr>
          <a:xfrm>
            <a:off x="3780000" y="1341360"/>
            <a:ext cx="2603160" cy="3905280"/>
          </a:xfrm>
          <a:prstGeom prst="rect">
            <a:avLst/>
          </a:prstGeom>
          <a:ln w="0">
            <a:noFill/>
          </a:ln>
        </p:spPr>
      </p:pic>
      <p:sp>
        <p:nvSpPr>
          <p:cNvPr id="3031" name="Text Box 7"/>
          <p:cNvSpPr/>
          <p:nvPr/>
        </p:nvSpPr>
        <p:spPr>
          <a:xfrm>
            <a:off x="1088280" y="1628640"/>
            <a:ext cx="1826280" cy="37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方志敏手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3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3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2" name="Picture 4" descr="W020050805664218066743"/>
          <p:cNvPicPr/>
          <p:nvPr/>
        </p:nvPicPr>
        <p:blipFill>
          <a:blip r:embed="rId1"/>
          <a:stretch/>
        </p:blipFill>
        <p:spPr>
          <a:xfrm>
            <a:off x="2627280" y="2133720"/>
            <a:ext cx="3348000" cy="2511360"/>
          </a:xfrm>
          <a:prstGeom prst="rect">
            <a:avLst/>
          </a:prstGeom>
          <a:ln w="0">
            <a:noFill/>
          </a:ln>
        </p:spPr>
      </p:pic>
      <p:sp>
        <p:nvSpPr>
          <p:cNvPr id="3033" name="Text Box 5"/>
          <p:cNvSpPr/>
          <p:nvPr/>
        </p:nvSpPr>
        <p:spPr>
          <a:xfrm>
            <a:off x="6497640" y="1125360"/>
            <a:ext cx="1521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方志敏和他的战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3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3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4" name="Picture 4" descr="newstamp-10-1"/>
          <p:cNvPicPr/>
          <p:nvPr/>
        </p:nvPicPr>
        <p:blipFill>
          <a:blip r:embed="rId1"/>
          <a:stretch/>
        </p:blipFill>
        <p:spPr>
          <a:xfrm>
            <a:off x="2050920" y="1052640"/>
            <a:ext cx="4716720" cy="3537000"/>
          </a:xfrm>
          <a:prstGeom prst="rect">
            <a:avLst/>
          </a:prstGeom>
          <a:ln w="0">
            <a:noFill/>
          </a:ln>
        </p:spPr>
      </p:pic>
      <p:sp>
        <p:nvSpPr>
          <p:cNvPr id="3035" name="Text Box 5"/>
          <p:cNvSpPr/>
          <p:nvPr/>
        </p:nvSpPr>
        <p:spPr>
          <a:xfrm>
            <a:off x="1547640" y="501336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为纪念方志敏同志而发行的邮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3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3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/>
          </p:nvPr>
        </p:nvSpPr>
        <p:spPr>
          <a:xfrm>
            <a:off x="3635280" y="404640"/>
            <a:ext cx="5221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方志敏烈士墓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位于西郊梅岭山麓。陵园背依青山，面向东方。建于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959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月，占地十余亩。墓前有台阶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层，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70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余级，两边青松翠柏环抱，庄严肃穆。墓为汉白玉砌成，大理石碑下面刻有方志敏简历。墓碑正中镌刻毛泽东题词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方志敏烈士之墓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墓前附设休息室，陈列方志敏烈士生平事迹和珍贵文物。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7" name="Picture 5" descr="18943"/>
          <p:cNvPicPr/>
          <p:nvPr/>
        </p:nvPicPr>
        <p:blipFill>
          <a:blip r:embed="rId1"/>
          <a:stretch/>
        </p:blipFill>
        <p:spPr>
          <a:xfrm>
            <a:off x="826920" y="1484280"/>
            <a:ext cx="2928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8" name=""/>
          <p:cNvGraphicFramePr/>
          <p:nvPr/>
        </p:nvGraphicFramePr>
        <p:xfrm>
          <a:off x="2251080" y="2576520"/>
          <a:ext cx="4643280" cy="1706400"/>
        </p:xfrm>
        <a:graphic>
          <a:graphicData uri="http://schemas.openxmlformats.org/drawingml/2006/table">
            <a:tbl>
              <a:tblPr/>
              <a:tblGrid>
                <a:gridCol w="46432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39" name=""/>
          <p:cNvGraphicFramePr/>
          <p:nvPr/>
        </p:nvGraphicFramePr>
        <p:xfrm>
          <a:off x="900000" y="907920"/>
          <a:ext cx="9144000" cy="46641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665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6000" spc="-1" strike="noStrike">
                          <a:solidFill>
                            <a:srgbClr val="ffff66"/>
                          </a:solidFill>
                          <a:latin typeface="隶书"/>
                          <a:ea typeface="隶书"/>
                        </a:rPr>
                        <a:t>　　 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6000" spc="-1" strike="noStrike">
                          <a:solidFill>
                            <a:srgbClr val="ffff66"/>
                          </a:solidFill>
                          <a:latin typeface="隶书"/>
                          <a:ea typeface="隶书"/>
                        </a:rPr>
                        <a:t>   </a:t>
                      </a:r>
                      <a:r>
                        <a:rPr b="1" lang="zh-CN" sz="3600" spc="-1" strike="noStrike">
                          <a:solidFill>
                            <a:srgbClr val="008000"/>
                          </a:solidFill>
                          <a:latin typeface="楷体_GB2312"/>
                          <a:ea typeface="楷体_GB2312"/>
                        </a:rPr>
                        <a:t>血染东南半壁红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8000"/>
                          </a:solidFill>
                          <a:latin typeface="楷体_GB2312"/>
                          <a:ea typeface="楷体_GB2312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08000"/>
                          </a:solidFill>
                          <a:latin typeface="楷体_GB2312"/>
                          <a:ea typeface="楷体_GB2312"/>
                        </a:rPr>
                        <a:t>忍将奇迹作奇功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8000"/>
                          </a:solidFill>
                          <a:latin typeface="楷体_GB2312"/>
                          <a:ea typeface="楷体_GB2312"/>
                        </a:rPr>
                        <a:t>　　 文山去后南朝月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8000"/>
                          </a:solidFill>
                          <a:latin typeface="楷体_GB2312"/>
                          <a:ea typeface="楷体_GB2312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08000"/>
                          </a:solidFill>
                          <a:latin typeface="楷体_GB2312"/>
                          <a:ea typeface="楷体_GB2312"/>
                        </a:rPr>
                        <a:t>又照秦淮一叶枫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8000"/>
                          </a:solidFill>
                          <a:latin typeface="楷体_GB2312"/>
                          <a:ea typeface="楷体_GB2312"/>
                        </a:rPr>
                        <a:t>          </a:t>
                      </a:r>
                      <a:r>
                        <a:rPr b="1" lang="en-US" sz="3600" spc="-1" strike="noStrike">
                          <a:solidFill>
                            <a:srgbClr val="008000"/>
                          </a:solidFill>
                          <a:latin typeface="Arial"/>
                          <a:ea typeface="楷体_GB2312"/>
                        </a:rPr>
                        <a:t>——</a:t>
                      </a:r>
                      <a:r>
                        <a:rPr b="1" lang="zh-CN" sz="3600" spc="-1" strike="noStrike">
                          <a:solidFill>
                            <a:srgbClr val="008000"/>
                          </a:solidFill>
                          <a:latin typeface="楷体_GB2312"/>
                          <a:ea typeface="楷体_GB2312"/>
                        </a:rPr>
                        <a:t>叶剑英为方志敏题照</a:t>
                      </a:r>
                      <a:r>
                        <a:rPr b="1" lang="zh-CN" sz="3600" spc="-1" strike="noStrike">
                          <a:solidFill>
                            <a:srgbClr val="008000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00:43:06Z</dcterms:created>
  <dc:creator>第一PPT模板网-WWW.1PPT.COM</dc:creator>
  <dc:description>当易网PPT; www.downyi.com;</dc:description>
  <cp:keywords>当易网 http:/www.downyi.com</cp:keywords>
  <dc:language>en-US</dc:language>
  <cp:lastModifiedBy>Administrator</cp:lastModifiedBy>
  <dcterms:modified xsi:type="dcterms:W3CDTF">2016-07-08T08:42:47Z</dcterms:modified>
  <cp:revision>25</cp:revision>
  <dc:subject>当易网 http://www.downyi.com</dc:subject>
  <dc:title>当易网 http://www.downyi.com</dc:title>
</cp:coreProperties>
</file>