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  <p:custShowLst>
    <p:custShow name="自定义放映 1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E60-F040-41E6-BDF5-DE3B8808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4D7-E2D4-4876-B88D-99992C5D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2456-106F-49C7-B31A-1D6E6231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BFE-24B1-48B0-B769-4A0DD1C9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3219-9C02-4991-85BA-3D1F8F5A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8E64-4840-4D94-B8F4-32AE8599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B277-E871-4EAC-A497-C8F17264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B400-F936-432B-9765-47549AFA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77C5-E6BD-43DA-81E5-84D1A1F1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E239-4C94-421C-A787-6EFB59F6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D297-3FCD-4D3F-B801-D31A8AB1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BD9-8F98-405D-A887-9D36C01B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036A-4C18-4752-AE37-37E228D8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B4F6-23FB-4D97-9FDC-7993FAE2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F8D7-9BBD-4560-B26C-60F617D2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6E74-8D5A-4A26-8E41-E87A3CC0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38BC-8489-4054-870D-97EFDBF8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2A0-F574-4D09-9182-45F76526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C8D-6ECC-44C9-B016-E94A4CE2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449-0187-4A35-B713-200A6DEE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363-708B-42E9-A1C2-416F2F8B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2D3-5543-4705-8E37-7E01C4D5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3DC-372F-4549-85EC-11061577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3B6-50E4-49F8-995A-955F9A3B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31DA-515A-4DB4-B916-CB7267C3C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DA89-343D-45EA-ACBD-9E2106709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129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ff66"/>
                </a:solidFill>
                <a:latin typeface="Arial"/>
                <a:ea typeface="黑体"/>
              </a:rPr>
              <a:t>开学典礼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11000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66"/>
                </a:solidFill>
                <a:latin typeface="Arial"/>
              </a:rPr>
              <a:t>预祝同学们</a:t>
            </a:r>
            <a:br>
              <a:rPr sz="8000"/>
            </a:br>
            <a:r>
              <a:rPr b="1" lang="zh-CN" sz="8000" spc="-1" strike="noStrike">
                <a:solidFill>
                  <a:srgbClr val="ffff66"/>
                </a:solidFill>
                <a:latin typeface="Arial"/>
              </a:rPr>
              <a:t>       顺利毕业！</a:t>
            </a: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med" advTm="9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2:50:08Z</dcterms:created>
  <dc:creator>1kejian.com</dc:creator>
  <dc:description/>
  <dc:language>en-US</dc:language>
  <cp:lastModifiedBy>User</cp:lastModifiedBy>
  <dcterms:modified xsi:type="dcterms:W3CDTF">2012-08-28T04:19:23Z</dcterms:modified>
  <cp:revision>29</cp:revision>
  <dc:subject>第一课件网ppt模版</dc:subject>
  <dc:title>幻灯片 1</dc:title>
</cp:coreProperties>
</file>