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2CF0-F8D6-49D8-AFA5-305923F8F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5CB5-B223-4584-996E-088642297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DAD6-E303-4E45-A137-4D7CC1B55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70C6-0C2C-41D7-8343-001E9A0AB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5DB7-AC6C-4A03-8EFE-78FB02AE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BDCA-8C00-42E0-80FA-3E8BA990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779A-B170-4625-A9D2-C7F1A792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1921-2BC9-40D3-BCC6-0E1B39AC0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8A2F-4958-4E57-B17E-C3B4150B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0EFC-C76B-4652-92D9-826B5C510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A64A-22B0-4C0E-B42A-6851A492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AB53-938F-4F39-92E4-2BD264D8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B486-3617-4AB2-A43E-6FD5123CB2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HTV SERVE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default pa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user1:     admin  ad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user2           ptz   pt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user3       mobile  mo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界面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5987880"/>
            <a:ext cx="1217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12169800" cy="85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aramter1.inf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4920" y="981000"/>
            <a:ext cx="8572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TZ SE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25440" y="1600200"/>
            <a:ext cx="8280360" cy="55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motion se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TZ settings. This set PTZ protocol. Note that you can first test is available. And then OK. Head only with a Po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8640" y="1558800"/>
            <a:ext cx="771696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Record S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1042920" y="1270080"/>
            <a:ext cx="13606560" cy="72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RECORD PATH S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43120" y="1600200"/>
            <a:ext cx="56563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Network settings. (HTV ip and port set up a network application note. UPNP por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41440" y="1600200"/>
            <a:ext cx="799308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1:31:46Z</dcterms:created>
  <dc:creator>2</dc:creator>
  <dc:description/>
  <dc:language>en-US</dc:language>
  <cp:lastModifiedBy/>
  <cp:lastPrinted>1899-12-30T00:00:00Z</cp:lastPrinted>
  <dcterms:modified xsi:type="dcterms:W3CDTF">1899-12-30T00:00:00Z</dcterms:modified>
  <cp:revision>0</cp:revision>
  <dc:subject/>
  <dc:title/>
</cp:coreProperties>
</file>