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04FB-AD0F-405F-AACC-A811C72F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A30-D271-4242-AF82-FE5569C5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C12-726D-43B6-810C-66F9257A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60D-2E43-4AC7-A9F7-44617BC4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D53-90DA-4859-970F-8B186F8B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18E-73CC-4DFB-9F63-C581FA64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671-F6C4-459E-9BAF-BD528A36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6F3A-019B-4BA3-8AF6-DAF7F882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D40-0ECC-49D0-872C-8C9360C3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9D0-9871-42D7-A870-5A86EAF5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B90-3627-443B-8603-F121FC7D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7645-E362-4D17-8067-6AF6B224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5982-7F89-4E70-AFDB-4ED23D84D0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7560" y="347760"/>
            <a:ext cx="466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软件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6237360"/>
            <a:ext cx="4316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907920"/>
            <a:ext cx="770400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嘉嘉幼儿园收费易软件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效率高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印代替手写，省时、省力、规范清晰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对打印机和纸张无特殊要求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适用所有打印机，纸张采用最常见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印纸，一页打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份收据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界面简洁，操作容易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仿照收据界面，直观明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支持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excel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导入导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导入学生数据，生成的收费资料导出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进行汇总统计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数据生成速度快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根据上一个月数据自动生成本月数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42920" y="3716280"/>
            <a:ext cx="6858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632720" cy="551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1280" y="260280"/>
            <a:ext cx="2305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备份数据方法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5157720"/>
            <a:ext cx="1512720" cy="720720"/>
          </a:xfrm>
          <a:prstGeom prst="wedgeRoundRectCallout">
            <a:avLst>
              <a:gd name="adj1" fmla="val -3199"/>
              <a:gd name="adj2" fmla="val -98018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 备份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6356520"/>
            <a:ext cx="57636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024360" y="2857680"/>
            <a:ext cx="3095280" cy="1143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0" y="4005360"/>
            <a:ext cx="3095640" cy="1224000"/>
          </a:xfrm>
          <a:prstGeom prst="wedgeRoundRectCallout">
            <a:avLst>
              <a:gd name="adj1" fmla="val -44972"/>
              <a:gd name="adj2" fmla="val -71143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 确定。备份文件放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a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夹中，备份软件调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inr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压缩软件，必须安装此软件才能备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254160"/>
            <a:ext cx="2305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备份数据方法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8000" y="6356520"/>
            <a:ext cx="57636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5086440" cy="3857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71640" y="4581360"/>
            <a:ext cx="1512720" cy="720720"/>
          </a:xfrm>
          <a:prstGeom prst="wedgeRoundRectCallout">
            <a:avLst>
              <a:gd name="adj1" fmla="val 31324"/>
              <a:gd name="adj2" fmla="val -136564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双击导入恢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211640" y="981000"/>
            <a:ext cx="4476600" cy="3343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16360" y="4076640"/>
            <a:ext cx="3095640" cy="1224000"/>
          </a:xfrm>
          <a:prstGeom prst="wedgeRoundRectCallout">
            <a:avLst>
              <a:gd name="adj1" fmla="val 11180"/>
              <a:gd name="adj2" fmla="val -123152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 备份。备份文件放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a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夹中，备份软件调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inr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压缩软件，必须安装此软件才能备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254160"/>
            <a:ext cx="2305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恢复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356520"/>
            <a:ext cx="57636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5086440" cy="3857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71640" y="4581360"/>
            <a:ext cx="1512720" cy="720720"/>
          </a:xfrm>
          <a:prstGeom prst="wedgeRoundRectCallout">
            <a:avLst>
              <a:gd name="adj1" fmla="val 31324"/>
              <a:gd name="adj2" fmla="val -136564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双击导入恢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211640" y="981000"/>
            <a:ext cx="4476600" cy="3343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700360" y="836640"/>
            <a:ext cx="2879640" cy="720720"/>
          </a:xfrm>
          <a:prstGeom prst="wedgeRoundRectCallout">
            <a:avLst>
              <a:gd name="adj1" fmla="val 36328"/>
              <a:gd name="adj2" fmla="val 185680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在备份文件列表中选择要恢复的文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2276640"/>
            <a:ext cx="2016000" cy="431640"/>
          </a:xfrm>
          <a:prstGeom prst="wedgeRoundRectCallout">
            <a:avLst>
              <a:gd name="adj1" fmla="val 13384"/>
              <a:gd name="adj2" fmla="val 103310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 恢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059280" y="2924280"/>
            <a:ext cx="3219120" cy="277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443640" y="4365720"/>
            <a:ext cx="2257560" cy="1114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00000" y="5589720"/>
            <a:ext cx="2376720" cy="431640"/>
          </a:xfrm>
          <a:prstGeom prst="wedgeRoundRectCallout">
            <a:avLst>
              <a:gd name="adj1" fmla="val 58819"/>
              <a:gd name="adj2" fmla="val -126101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 是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88000" y="5516640"/>
            <a:ext cx="2556000" cy="431640"/>
          </a:xfrm>
          <a:prstGeom prst="wedgeRoundRectCallout">
            <a:avLst>
              <a:gd name="adj1" fmla="val -23416"/>
              <a:gd name="adj2" fmla="val -106615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 是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32720" y="3789360"/>
            <a:ext cx="2160360" cy="431640"/>
          </a:xfrm>
          <a:prstGeom prst="wedgeRoundRectCallout">
            <a:avLst>
              <a:gd name="adj1" fmla="val -1430"/>
              <a:gd name="adj2" fmla="val -118384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 关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427640" y="5757840"/>
            <a:ext cx="2448000" cy="984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24000" y="6237360"/>
            <a:ext cx="2124000" cy="431640"/>
          </a:xfrm>
          <a:prstGeom prst="wedgeRoundRectCallout">
            <a:avLst>
              <a:gd name="adj1" fmla="val 101268"/>
              <a:gd name="adj2" fmla="val 2939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 确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5086080" cy="3857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1280" y="404640"/>
            <a:ext cx="2305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数据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5734080"/>
            <a:ext cx="1512720" cy="720720"/>
          </a:xfrm>
          <a:prstGeom prst="wedgeRoundRectCallout">
            <a:avLst>
              <a:gd name="adj1" fmla="val -12328"/>
              <a:gd name="adj2" fmla="val -74226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双击 学生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4000" y="785880"/>
            <a:ext cx="3259080" cy="393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03280" y="3500280"/>
            <a:ext cx="2087640" cy="649440"/>
          </a:xfrm>
          <a:prstGeom prst="wedgeRoundRectCallout">
            <a:avLst>
              <a:gd name="adj1" fmla="val -68250"/>
              <a:gd name="adj2" fmla="val 17972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修改幼儿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生资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132000" y="333360"/>
            <a:ext cx="2952720" cy="1793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156360" y="333360"/>
            <a:ext cx="2627280" cy="801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187280" y="1916280"/>
            <a:ext cx="2160720" cy="502920"/>
          </a:xfrm>
          <a:prstGeom prst="wedgeRoundRectCallout">
            <a:avLst>
              <a:gd name="adj1" fmla="val -28398"/>
              <a:gd name="adj2" fmla="val -177444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 另存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1052640"/>
            <a:ext cx="2158920" cy="358560"/>
          </a:xfrm>
          <a:prstGeom prst="wedgeRoundRectCallout">
            <a:avLst>
              <a:gd name="adj1" fmla="val 39851"/>
              <a:gd name="adj2" fmla="val 175662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 确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56360" y="1268280"/>
            <a:ext cx="2521080" cy="405000"/>
          </a:xfrm>
          <a:prstGeom prst="wedgeRoundRectCallout">
            <a:avLst>
              <a:gd name="adj1" fmla="val -9824"/>
              <a:gd name="adj2" fmla="val -99805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 是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5300640"/>
            <a:ext cx="2160720" cy="936720"/>
          </a:xfrm>
          <a:prstGeom prst="wedgeRoundRectCallout">
            <a:avLst>
              <a:gd name="adj1" fmla="val -39273"/>
              <a:gd name="adj2" fmla="val -72375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双击 导入。运行导出恢复的工具软件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8000" y="6356520"/>
            <a:ext cx="57636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5435640" y="2060640"/>
            <a:ext cx="3384360" cy="2547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4211640" y="4581360"/>
            <a:ext cx="4060800" cy="1009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4500720" y="5621400"/>
            <a:ext cx="2520720" cy="1047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516720" y="4149720"/>
            <a:ext cx="2556000" cy="431640"/>
          </a:xfrm>
          <a:prstGeom prst="wedgeRoundRectCallout">
            <a:avLst>
              <a:gd name="adj1" fmla="val -14097"/>
              <a:gd name="adj2" fmla="val -82722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 导入数据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5516640"/>
            <a:ext cx="2089080" cy="431640"/>
          </a:xfrm>
          <a:prstGeom prst="wedgeRoundRectCallout">
            <a:avLst>
              <a:gd name="adj1" fmla="val -76976"/>
              <a:gd name="adj2" fmla="val -62134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 确定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267640" y="6381720"/>
            <a:ext cx="2303640" cy="333360"/>
          </a:xfrm>
          <a:prstGeom prst="wedgeRoundRectCallout">
            <a:avLst>
              <a:gd name="adj1" fmla="val -86527"/>
              <a:gd name="adj2" fmla="val -36666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 确定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632720" cy="5511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9640" y="419040"/>
            <a:ext cx="2276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批量复制方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2781360"/>
            <a:ext cx="2303640" cy="1584360"/>
          </a:xfrm>
          <a:prstGeom prst="wedgeRoundRectCallout">
            <a:avLst>
              <a:gd name="adj1" fmla="val 4925"/>
              <a:gd name="adj2" fmla="val -63828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选定学生。单击其中一行，选定学生。并且在收据上进行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5013360"/>
            <a:ext cx="4464000" cy="1008000"/>
          </a:xfrm>
          <a:prstGeom prst="wedgeRoundRectCallout">
            <a:avLst>
              <a:gd name="adj1" fmla="val -27810"/>
              <a:gd name="adj2" fmla="val -97717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班级复制。单击班级复制按钮，把该学生的收费数据复制到所在班级的其他学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2248200" cy="1162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635280" y="1700280"/>
            <a:ext cx="1981440" cy="1123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26920" y="3141720"/>
            <a:ext cx="2808360" cy="431640"/>
          </a:xfrm>
          <a:prstGeom prst="wedgeRoundRectCallout">
            <a:avLst>
              <a:gd name="adj1" fmla="val -12634"/>
              <a:gd name="adj2" fmla="val -172060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按钮是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3213000"/>
            <a:ext cx="1943280" cy="358920"/>
          </a:xfrm>
          <a:prstGeom prst="wedgeRoundRectCallout">
            <a:avLst>
              <a:gd name="adj1" fmla="val -14541"/>
              <a:gd name="adj2" fmla="val -196902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确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6237360"/>
            <a:ext cx="57600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098720" y="2637000"/>
            <a:ext cx="6858000" cy="2438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404640"/>
            <a:ext cx="2724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免费版和正式版区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3640" y="1341360"/>
            <a:ext cx="4032360" cy="936720"/>
          </a:xfrm>
          <a:prstGeom prst="wedgeRoundRectCallout">
            <a:avLst>
              <a:gd name="adj1" fmla="val -11222"/>
              <a:gd name="adj2" fmla="val 95930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免费版和正式版区别是在收据写上购买的幼儿园名称和电话号码。或者根据要求进行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3141720"/>
            <a:ext cx="1224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2000" y="5013360"/>
            <a:ext cx="1224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6237360"/>
            <a:ext cx="57600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43560" y="5583240"/>
            <a:ext cx="50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者：江润照    手机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929961148     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68383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62280" y="1125360"/>
            <a:ext cx="5086080" cy="3857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32360" y="5489640"/>
            <a:ext cx="2735280" cy="676080"/>
          </a:xfrm>
          <a:prstGeom prst="wedgeRoundRectCallout">
            <a:avLst>
              <a:gd name="adj1" fmla="val -50231"/>
              <a:gd name="adj2" fmla="val -173472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双击 嘉嘉幼儿园收费易 运行软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6237360"/>
            <a:ext cx="4316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17560" y="347760"/>
            <a:ext cx="466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运行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6327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33200" y="419040"/>
            <a:ext cx="466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浏览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260280"/>
            <a:ext cx="2952720" cy="1584360"/>
          </a:xfrm>
          <a:prstGeom prst="wedgeRoundRectCallout">
            <a:avLst>
              <a:gd name="adj1" fmla="val -14569"/>
              <a:gd name="adj2" fmla="val 94490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学生资料列表。单击其中一行，就显示当前行的学生详细收据资料。列表内容按日期、班级、学号从大到小排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1484280"/>
            <a:ext cx="2016360" cy="433440"/>
          </a:xfrm>
          <a:prstGeom prst="wedgeRoundRectCallout">
            <a:avLst>
              <a:gd name="adj1" fmla="val 56694"/>
              <a:gd name="adj2" fmla="val 138277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收据界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5157720"/>
            <a:ext cx="1944720" cy="432000"/>
          </a:xfrm>
          <a:prstGeom prst="wedgeRoundRectCallout">
            <a:avLst>
              <a:gd name="adj1" fmla="val 15060"/>
              <a:gd name="adj2" fmla="val -143384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功能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1916280"/>
            <a:ext cx="2664000" cy="33130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2205000"/>
            <a:ext cx="4392720" cy="20876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4365720"/>
            <a:ext cx="4392720" cy="6476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237360"/>
            <a:ext cx="4316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7632720" cy="5511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33200" y="419040"/>
            <a:ext cx="466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修改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2781360"/>
            <a:ext cx="2303640" cy="1584360"/>
          </a:xfrm>
          <a:prstGeom prst="wedgeRoundRectCallout">
            <a:avLst>
              <a:gd name="adj1" fmla="val 4925"/>
              <a:gd name="adj2" fmla="val -63828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修改学生资料列表。单击其中一行直接修改。修改完毕后自动重新排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1341360"/>
            <a:ext cx="4968720" cy="936720"/>
          </a:xfrm>
          <a:prstGeom prst="wedgeRoundRectCallout">
            <a:avLst>
              <a:gd name="adj1" fmla="val 33546"/>
              <a:gd name="adj2" fmla="val 109324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修改一个数据完毕后，按回车键进行下一个数据修改。在金额栏按回车键后，自动计算总金额和总金额大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6237360"/>
            <a:ext cx="4316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632720" cy="551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2700360" y="3500280"/>
          <a:ext cx="5508720" cy="22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500280"/>
                    <a:ext cx="550872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95280" y="333360"/>
            <a:ext cx="4572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按日期打印当前月份全园学生收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692280"/>
            <a:ext cx="4032360" cy="1225440"/>
          </a:xfrm>
          <a:prstGeom prst="wedgeRoundRectCallout">
            <a:avLst>
              <a:gd name="adj1" fmla="val -3148"/>
              <a:gd name="adj2" fmla="val 103365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学生资料列表，选定打印日期。例如要打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3.12.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天的数据，就单击日期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3.12.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其中一行数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3716280"/>
            <a:ext cx="2952720" cy="433440"/>
          </a:xfrm>
          <a:prstGeom prst="wedgeRoundRectCallout">
            <a:avLst>
              <a:gd name="adj1" fmla="val -9569"/>
              <a:gd name="adj2" fmla="val 186263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 班级打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67280" y="2708280"/>
            <a:ext cx="2879640" cy="936720"/>
          </a:xfrm>
          <a:prstGeom prst="wedgeRoundRectCallout">
            <a:avLst>
              <a:gd name="adj1" fmla="val 88092"/>
              <a:gd name="adj2" fmla="val 78305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打印。在打印预览窗口中，单击打印机图标，进行打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5877000"/>
            <a:ext cx="4464000" cy="718920"/>
          </a:xfrm>
          <a:prstGeom prst="wedgeRoundRectCallout">
            <a:avLst>
              <a:gd name="adj1" fmla="val -13976"/>
              <a:gd name="adj2" fmla="val -154856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切割装订收据。一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纸打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张收据，根据提示点进行切割装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237360"/>
            <a:ext cx="4316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1280" y="1012680"/>
            <a:ext cx="7632720" cy="551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0" y="1125360"/>
          <a:ext cx="5508720" cy="22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50872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395280" y="333360"/>
            <a:ext cx="504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按日期打印当前月份一个班级学生收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88000" y="404640"/>
            <a:ext cx="3456000" cy="1540080"/>
          </a:xfrm>
          <a:prstGeom prst="wedgeRoundRectCallout">
            <a:avLst>
              <a:gd name="adj1" fmla="val -11875"/>
              <a:gd name="adj2" fmla="val 75050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学生资料列表，选定打印日期。例如要打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3.12.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天的数据，就单击日期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3.12.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其中一行数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5157720"/>
            <a:ext cx="5184720" cy="1224000"/>
          </a:xfrm>
          <a:prstGeom prst="wedgeRoundRectCallout">
            <a:avLst>
              <a:gd name="adj1" fmla="val -25782"/>
              <a:gd name="adj2" fmla="val -78273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 查找。在学生资料列表显示符合要求的记录。</a:t>
            </a:r>
            <a:br>
              <a:rPr sz="1800"/>
            </a:b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重要提示：不输入查找内容，直接单击 查找按钮，是显示所有学生资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1989000"/>
            <a:ext cx="3384720" cy="935280"/>
          </a:xfrm>
          <a:prstGeom prst="wedgeRoundRectCallout">
            <a:avLst>
              <a:gd name="adj1" fmla="val 45495"/>
              <a:gd name="adj2" fmla="val -88708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打印。在打印预览窗口中，单击打印机图标，进行打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95640" y="3284640"/>
            <a:ext cx="2952720" cy="792000"/>
          </a:xfrm>
          <a:prstGeom prst="wedgeRoundRectCallout">
            <a:avLst>
              <a:gd name="adj1" fmla="val -16666"/>
              <a:gd name="adj2" fmla="val 76652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输入要打印的班级。例如 中一班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157720"/>
            <a:ext cx="2448000" cy="432000"/>
          </a:xfrm>
          <a:prstGeom prst="wedgeRoundRectCallout">
            <a:avLst>
              <a:gd name="adj1" fmla="val 13814"/>
              <a:gd name="adj2" fmla="val -122060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 班级打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6237360"/>
            <a:ext cx="4316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7632720" cy="551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2987640" y="4149720"/>
          <a:ext cx="5508720" cy="22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4149720"/>
                    <a:ext cx="550872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5111640" y="692280"/>
            <a:ext cx="4032360" cy="1225440"/>
          </a:xfrm>
          <a:prstGeom prst="wedgeRoundRectCallout">
            <a:avLst>
              <a:gd name="adj1" fmla="val -3148"/>
              <a:gd name="adj2" fmla="val 103365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学生资料列表，选定打印日期。例如要打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3.12.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天的数据，就单击日期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3.12.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其中一行数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3787920"/>
            <a:ext cx="2953080" cy="433080"/>
          </a:xfrm>
          <a:prstGeom prst="wedgeRoundRectCallout">
            <a:avLst>
              <a:gd name="adj1" fmla="val -22847"/>
              <a:gd name="adj2" fmla="val 158425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 单张打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80000" y="2924280"/>
            <a:ext cx="2879640" cy="936360"/>
          </a:xfrm>
          <a:prstGeom prst="wedgeRoundRectCallout">
            <a:avLst>
              <a:gd name="adj1" fmla="val 44268"/>
              <a:gd name="adj2" fmla="val 119490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张打印。在打印预览窗口中，单击打印机图标，进行打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04840" y="476280"/>
            <a:ext cx="466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单张打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6237360"/>
            <a:ext cx="4316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632720" cy="5511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280" y="333360"/>
            <a:ext cx="1873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导出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5229360"/>
            <a:ext cx="2952720" cy="433080"/>
          </a:xfrm>
          <a:prstGeom prst="wedgeRoundRectCallout">
            <a:avLst>
              <a:gd name="adj1" fmla="val 17203"/>
              <a:gd name="adj2" fmla="val -119231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 导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987640" y="1557360"/>
          <a:ext cx="5479920" cy="29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1557360"/>
                    <a:ext cx="547992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5003640" y="4581360"/>
            <a:ext cx="3672000" cy="1511640"/>
          </a:xfrm>
          <a:prstGeom prst="wedgeRoundRectCallout">
            <a:avLst>
              <a:gd name="adj1" fmla="val 27819"/>
              <a:gd name="adj2" fmla="val -84768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检查。建议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进行统计汇总，检查无错漏才进行打印，另存为一份存档备查。有错误的必须返回嘉嘉幼儿园收费易进行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6237360"/>
            <a:ext cx="4316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632720" cy="5511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280" y="333360"/>
            <a:ext cx="165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删除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11640" y="1197000"/>
            <a:ext cx="2700360" cy="720720"/>
          </a:xfrm>
          <a:prstGeom prst="wedgeRoundRectCallout">
            <a:avLst>
              <a:gd name="adj1" fmla="val 19958"/>
              <a:gd name="adj2" fmla="val 140750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学生资料列表，选定记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5229360"/>
            <a:ext cx="2340000" cy="360360"/>
          </a:xfrm>
          <a:prstGeom prst="wedgeRoundRectCallout">
            <a:avLst>
              <a:gd name="adj1" fmla="val 13773"/>
              <a:gd name="adj2" fmla="val -227972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删除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643200" y="2543040"/>
            <a:ext cx="1857600" cy="1771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80000" y="4508640"/>
            <a:ext cx="2519280" cy="718920"/>
          </a:xfrm>
          <a:prstGeom prst="wedgeRoundRectCallout">
            <a:avLst>
              <a:gd name="adj1" fmla="val -29648"/>
              <a:gd name="adj2" fmla="val -107175"/>
              <a:gd name="adj3" fmla="val 16667"/>
            </a:avLst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单击是或者否，确定是否删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237360"/>
            <a:ext cx="4316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14:05:35Z</dcterms:created>
  <dc:creator>Sky123.Org</dc:creator>
  <dc:description/>
  <dc:language>en-US</dc:language>
  <cp:lastModifiedBy>下朗小学</cp:lastModifiedBy>
  <dcterms:modified xsi:type="dcterms:W3CDTF">2014-05-11T01:33:43Z</dcterms:modified>
  <cp:revision>26</cp:revision>
  <dc:subject/>
  <dc:title>幻灯片 1</dc:title>
</cp:coreProperties>
</file>