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whoosh.wav" ContentType="audio/x-wav"/>
  <Override PartName="/ppt/media/image13.jpeg" ContentType="image/jpeg"/>
  <Override PartName="/ppt/media/image9.png" ContentType="image/png"/>
  <Override PartName="/ppt/media/image27.jpeg" ContentType="image/jpeg"/>
  <Override PartName="/ppt/media/image29.jpeg" ContentType="image/jpeg"/>
  <Override PartName="/ppt/media/image33.wmf" ContentType="image/x-wmf"/>
  <Override PartName="/ppt/media/image34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CHIMES.WAV" ContentType="audio/x-wav"/>
  <Override PartName="/ppt/media/image36.png" ContentType="image/png"/>
  <Override PartName="/ppt/media/image1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  <p:custShowLst>
    <p:custShow name="自定义放映 1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D71-59CC-4D00-A999-2880574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9D2-4063-4B2A-8F95-9C309DA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7D7-40BF-4782-9EA0-1C4E1461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E54-FEF5-4CDC-96C8-12D23F2D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6AC3-AD75-48CB-A4F2-824BF585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FD6-83C1-4953-AF69-4521609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BE64-EB38-427B-B109-E3E2D2A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FA9D-987B-48D7-9A3B-909BC46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7AD2-279D-46ED-9919-0573541A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73B9-0C2D-4A22-B709-05A01971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899-BB44-43ED-BD0A-4DF9FE8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974-B9A6-4973-953C-90451B9F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83F-56DD-494C-8C3A-5029E1B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920-7006-402D-A117-4C29ACC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3B0-FF31-4105-B2CD-BA0A516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89F-F4B5-4FF4-9984-6DF4F169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192-C08B-4812-9C1F-27E51113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C70-25CA-4B93-A577-FCC0629B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971-510D-43AF-A070-E2A756BE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0EC-2941-4C69-972C-6E8971F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BC0-45C9-4175-B256-62BFD1C1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FB1-11DB-43DA-998D-4D34D17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54D-B7E5-4407-933A-DAC5726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7D2-95D8-4FA9-B8BD-DB3430A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693-1C96-4FA4-8D2F-D4ED3001C0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3EE-5A3B-4704-B34F-85B7A3EC57B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use.focus.cn/msgview/242/62197729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27.jpeg"/><Relationship Id="rId4" Type="http://schemas.openxmlformats.org/officeDocument/2006/relationships/slide" Target="slide14.xml"/><Relationship Id="rId5" Type="http://schemas.openxmlformats.org/officeDocument/2006/relationships/image" Target="../media/image28.jpeg"/><Relationship Id="rId6" Type="http://schemas.openxmlformats.org/officeDocument/2006/relationships/slide" Target="slide14.xml"/><Relationship Id="rId7" Type="http://schemas.openxmlformats.org/officeDocument/2006/relationships/image" Target="../media/image29.jpeg"/><Relationship Id="rId8" Type="http://schemas.openxmlformats.org/officeDocument/2006/relationships/slide" Target="slide14.xml"/><Relationship Id="rId9" Type="http://schemas.openxmlformats.org/officeDocument/2006/relationships/image" Target="../media/image30.jpeg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love.com/album.do?userid=41578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&#1267;&#637;%BA%EC&amp;in=15680&amp;cl=2&amp;cm=1&amp;sc=0&amp;lm=-1&amp;pn=79&amp;rn=1&amp;di=2296648648&amp;ln=2000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52gushi.com/html/16/2516-type-blog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u=136449711,1593354757&amp;fm=0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85800" y="6858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记金华的双龙洞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944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叶圣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油桐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835280" y="1401840"/>
            <a:ext cx="5689440" cy="439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新绿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773360"/>
            <a:ext cx="6121440" cy="4589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244600"/>
            <a:ext cx="175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着溪流。随着山势，溪流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时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宽，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时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窄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时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缓，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时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急，溪声也时时变换调子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洞 口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59280" y="5444640"/>
            <a:ext cx="6084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zh-CN" sz="4800" spc="-1" strike="noStrike">
                <a:solidFill>
                  <a:srgbClr val="ff3399"/>
                </a:solidFill>
                <a:latin typeface="Arial"/>
                <a:ea typeface="黑体"/>
              </a:rPr>
              <a:t>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16440"/>
            <a:ext cx="853272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宽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7280" y="5734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540720" cy="7421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                    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外洞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203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外洞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点击在新窗口中查看该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外洞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1280" y="9079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在洞口抬头望，山相当高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突兀森郁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，很有气势。洞口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桥洞似的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，很宽。走进去，仿佛到了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大会堂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，周围是石壁，头上是高高的石顶，在那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聚集一千或是八百人开个会，一定不觉得拥挤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。泉水靠着洞口的右边往外流，这是外洞。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0" y="304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260280"/>
            <a:ext cx="91440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孔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、容得下一只小船进出。怎样小的小船呢？两个人并排仰卧，刚合适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没法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容第三个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自以为从后脑到肩背，到臀部，到脚跟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没有一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贴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船底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眼前昏暗了，可是还能感觉左右和上方的山石似乎都在朝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挤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过来。我又感觉要是把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稍微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抬起一点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准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撞破额角，擦伤鼻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84582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8960" y="380880"/>
            <a:ext cx="4363920" cy="601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10080" y="22557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原名叶绍钧，现代著名作家、教育家。本文节选自《小记十篇》中的《游了三个洞》</a:t>
            </a:r>
            <a:r>
              <a:rPr b="0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1113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叶圣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Cloud">
            <a:hlinkClick r:id="rId3" action="ppaction://hlinksldjump"/>
          </p:cNvPr>
          <p:cNvSpPr/>
          <p:nvPr/>
        </p:nvSpPr>
        <p:spPr>
          <a:xfrm>
            <a:off x="7848720" y="5991120"/>
            <a:ext cx="1066680" cy="71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3636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1300000014021118785108239396"/>
          <p:cNvPicPr/>
          <p:nvPr/>
        </p:nvPicPr>
        <p:blipFill>
          <a:blip r:embed="rId2"/>
          <a:srcRect l="0" t="0" r="0" b="89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0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孔隙”的特点是什么？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窄、矮、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孔隙”的特点是“窄、矮、险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。从以下几方面可以看出来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　　（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）船大小的描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　　（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）对进洞方式的描写　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）对自己感受的描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838080"/>
            <a:ext cx="8610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Arial"/>
                <a:ea typeface="黑体"/>
              </a:rPr>
              <a:t>孔隙一段的写作特点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通过描写船小及作者的感受写出孔隙的特点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（借其他事物描写本事物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4640" y="3246480"/>
            <a:ext cx="88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xj5u.com/xj_admin/xj_bianjiqi/Edit/uploadfile/2010062339276877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743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WindowsMediaPlayer1"/>
          <p:cNvGraphicFramePr/>
          <p:nvPr/>
        </p:nvGraphicFramePr>
        <p:xfrm>
          <a:off x="2843280" y="3433680"/>
          <a:ext cx="77760" cy="6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3433680"/>
                    <a:ext cx="77760" cy="63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46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3341" b="3338"/>
          <a:stretch/>
        </p:blipFill>
        <p:spPr>
          <a:xfrm>
            <a:off x="3995640" y="2492280"/>
            <a:ext cx="5148360" cy="4365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16720" y="404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隶书"/>
              </a:rPr>
              <a:t>黄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508000" y="549360"/>
            <a:ext cx="863640" cy="503280"/>
          </a:xfrm>
          <a:custGeom>
            <a:avLst/>
            <a:gdLst>
              <a:gd name="textAreaLeft" fmla="*/ 134640 w 863640"/>
              <a:gd name="textAreaRight" fmla="*/ 743760 w 863640"/>
              <a:gd name="textAreaTop" fmla="*/ 112680 h 503280"/>
              <a:gd name="textAreaBottom" fmla="*/ 39060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4838"/>
                </a:moveTo>
                <a:lnTo>
                  <a:pt x="16185" y="4838"/>
                </a:lnTo>
                <a:lnTo>
                  <a:pt x="16185" y="0"/>
                </a:lnTo>
                <a:lnTo>
                  <a:pt x="21600" y="10800"/>
                </a:lnTo>
                <a:lnTo>
                  <a:pt x="16185" y="21600"/>
                </a:lnTo>
                <a:lnTo>
                  <a:pt x="16185" y="16762"/>
                </a:lnTo>
                <a:lnTo>
                  <a:pt x="3375" y="16762"/>
                </a:lnTo>
                <a:close/>
              </a:path>
              <a:path w="21600" h="21600">
                <a:moveTo>
                  <a:pt x="0" y="4838"/>
                </a:moveTo>
                <a:lnTo>
                  <a:pt x="675" y="4838"/>
                </a:lnTo>
                <a:lnTo>
                  <a:pt x="675" y="16762"/>
                </a:lnTo>
                <a:lnTo>
                  <a:pt x="0" y="16762"/>
                </a:lnTo>
                <a:close/>
              </a:path>
              <a:path w="21600" h="21600">
                <a:moveTo>
                  <a:pt x="1350" y="4838"/>
                </a:moveTo>
                <a:lnTo>
                  <a:pt x="2700" y="4838"/>
                </a:lnTo>
                <a:lnTo>
                  <a:pt x="2700" y="16762"/>
                </a:lnTo>
                <a:lnTo>
                  <a:pt x="1350" y="16762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661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隶书"/>
              </a:rPr>
              <a:t>青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950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667520"/>
            <a:ext cx="93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些石钟乳和石笋，形状变化多端，再加上颜色各异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即使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不比做什么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也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很值得观赏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85760"/>
            <a:ext cx="10987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自读提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自读课文画出生字新词，借助拼音读准字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联系上下文或查字典理解不明白的词语的意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边读课文边画出表示作者游览路线的词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给文章划分一下段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666880" y="76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避水金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24280" y="90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寿星捧仙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0532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黄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rcRect l="0" t="0" r="3341" b="3338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24280" y="3581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青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6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71600" y="27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龟探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>
            <a:hlinkClick r:id="rId4" action="ppaction://hlinksldjump"/>
          </p:cNvPr>
          <p:cNvPicPr/>
          <p:nvPr/>
        </p:nvPicPr>
        <p:blipFill>
          <a:blip r:embed="rId5"/>
          <a:srcRect l="4767" t="6502" r="0" b="0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77120" y="27576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五彩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>
            <a:hlinkClick r:id="rId6" action="ppaction://hlinksldjump"/>
          </p:cNvPr>
          <p:cNvPicPr/>
          <p:nvPr/>
        </p:nvPicPr>
        <p:blipFill>
          <a:blip r:embed="rId7"/>
          <a:srcRect l="5009" t="0" r="5009" b="0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6248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擎天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8" action="ppaction://hlinksldjump"/>
          </p:cNvPr>
          <p:cNvPicPr/>
          <p:nvPr/>
        </p:nvPicPr>
        <p:blipFill>
          <a:blip r:embed="rId9"/>
          <a:srcRect l="5009" t="6667" r="5009" b="0"/>
          <a:stretch/>
        </p:blipFill>
        <p:spPr>
          <a:xfrm>
            <a:off x="4572000" y="34290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24480" y="6248520"/>
            <a:ext cx="16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  <a:ea typeface="隶书"/>
              </a:rPr>
              <a:t>小桥流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J101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0" y="1197000"/>
            <a:ext cx="784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洞内钟乳石、石笋形态变化多端，有（ 　　　　）、（　　　　）、（　　　　      ）、（　    　　　）、      （　　　　　    ）、  （ 　　　　　）等景观，使人目不暇接，宛若置身水晶龙宫。　　　　　　　　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　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                         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细黑"/>
              </a:rPr>
              <a:t>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请你发挥想象，内洞中还会有什么形态的钟乳石、石笋，仿照上面的句式说一说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9640" y="1700280"/>
            <a:ext cx="640872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黄龙吐水　　　彩云遮月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海龟探海　　      哪吒闹海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青蛙盗仙草            寿星与仙桃          　      　　　　　　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　　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图片9.png"/>
          <p:cNvPicPr/>
          <p:nvPr/>
        </p:nvPicPr>
        <p:blipFill>
          <a:blip r:embed="rId2"/>
          <a:stretch/>
        </p:blipFill>
        <p:spPr>
          <a:xfrm>
            <a:off x="-355680" y="0"/>
            <a:ext cx="9713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198900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　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我排队等候，又仰卧在小船里，出了洞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《记金华的双龙洞》这篇游记记叙了作者游览</a:t>
            </a:r>
            <a:br>
              <a:rPr sz="3200"/>
            </a:b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经过。课文按照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，依次写了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去   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游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由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进入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所见所闻所感以及乘船出洞的情况。写了路上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景色、欢唱的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，外洞的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，内外洞连接处孔隙的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内洞的“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”。课文以游览的顺序和泉水流经的路线为线索，观察仔细，描写形象生动，景物特点鲜明；突出了双龙洞的特色，表达了作者对祖国秀丽山河的热爱。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金华双龙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游览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双龙洞的路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外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523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外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198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内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游内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明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溪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宽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窄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3500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93080" y="3500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</a:rPr>
              <a:t>过渡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出金华城大约五公里到罗店，过了罗店就渐渐入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入山大约五公里就来到双龙洞口，那溪流就是从洞里出来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泉水靠着洞口的右边往外流。这是外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在外洞找泉水的来路，原来从靠左边的石壁下方的孔隙流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大约行了二三丈的水程吧，就登陆了，这就到了内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620640"/>
            <a:ext cx="11260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浙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è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油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óu tóng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一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í cù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   或浓或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óng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臀部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ún b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 上源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uá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稍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ā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ēi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           额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o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擦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蜿蜒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wān yán  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石钟乳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shí zhōng rǔ 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依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(yī jù   )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éng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粉红色              盘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qū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而上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qī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黑                           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ì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绳子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仿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ú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214776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这些过渡句是靠什么线索串连在一起的。（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溪水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304920"/>
            <a:ext cx="82296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写好游记应做到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1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、按游览顺序记叙，适当运用过渡句，使文章条理清楚，结构严谨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2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、抓住景物特点进行具体细致的描写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3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、在对景物的描写中，表达自己的真实感受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" y="3808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66"/>
                </a:solidFill>
                <a:uFillTx/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124000" y="242100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71640" y="213372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你曾经到哪里旅游过？选一处仿照本文的写作方法，按照游览的顺序写一写。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197000"/>
            <a:ext cx="784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洞内钟乳石、石笋形态变化多端，有（ 　　　　）、（　　　　）、（　　　　      ）、（　    　　　）、      （　　　　　    ）、  （ 　　　　　）等景观，使人目不暇接，宛若置身水晶龙宫。　　　　　　　　</a:t>
            </a: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　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                          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细黑"/>
              </a:rPr>
              <a:t>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请你发挥想象，内洞中还会有什么形态的钟乳石、石笋，仿照上面的句式说一说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700280"/>
            <a:ext cx="640872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黄龙吐水　　　彩云遮月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海龟探海　　      哪吒闹海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  <a:ea typeface="华文中宋"/>
              </a:rPr>
              <a:t>青蛙盗仙草            寿星与仙桃          　      　　　　　　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　　　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7167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26920" y="7650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9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拓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260280"/>
            <a:ext cx="54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阳光旅行社招聘双龙洞景区的小导游条件：熟悉各处景点，普通话标准，举止文明，待人热情大方。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42900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首先以小组为单位作准备，每人介绍一处景点，介绍时可以把课前收集的资料充实进来。各小组要选出最优秀的一名同学参加竞聘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476360" y="256536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987640" y="2349360"/>
            <a:ext cx="13716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809880" y="3048120"/>
            <a:ext cx="205740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914400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思考：作者是按照怎样的顺序游览双龙洞的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理清线索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路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--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洞口→外洞→孔隙→内洞→出洞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全文分为几段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3360" y="1341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一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门见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接点明游览的时间和地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二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2-3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者在去双龙洞的路上所见的景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三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4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外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四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5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孔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五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6-7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描写内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第六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(8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出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开头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242100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四月十四日，我在浙江金华，游北山的双龙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)          (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人物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（地点）（事件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）叶圣陶爷爷在去双龙洞的路上看见了 什么景色？（请用：“﹏ ” 画出来）。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）“明艳”是什么意思？为什么作者会感 到“眼前一片明艳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04440" y="58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映山红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131840"/>
            <a:ext cx="3240000" cy="218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1863720"/>
            <a:ext cx="3024360" cy="228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03640" y="3906720"/>
            <a:ext cx="3529080" cy="235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1:47:41Z</dcterms:created>
  <dc:creator>微软中国</dc:creator>
  <dc:description/>
  <dc:language>en-US</dc:language>
  <cp:lastModifiedBy>番茄花园</cp:lastModifiedBy>
  <dcterms:modified xsi:type="dcterms:W3CDTF">2013-03-07T14:12:17Z</dcterms:modified>
  <cp:revision>35</cp:revision>
  <dc:subject/>
  <dc:title>3记金华的双龙洞</dc:title>
</cp:coreProperties>
</file>