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E00-BC73-4A0F-9940-C1C6C046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A5E-E566-4B1C-AF89-8276AA4B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0BCB-8E74-4140-B0C5-3439FDD3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416-1FEA-4ADC-99B8-FA9FBA84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DC64-0C7E-4B81-B6B2-A54BDDE1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D12D-956A-4E4F-A3B0-73165E3E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8C0D-84B1-4785-9D37-B1D4ECF2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97F0-BAE9-409E-8CD7-5248CEC1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BC4E-65C4-4EA4-8A1F-03C106BF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7D3D-0D8B-440E-BC74-3532F7C1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1FBC-2F02-4BA8-9C78-2CB0B5BD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2977-2084-4ADC-A18C-22612F05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F33D-95C0-46C8-8C06-2A72F6E9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04A4-45F5-44B2-BE6A-50DE455F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C3C3-7E6A-42A6-9211-ED3FF96B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2FF1-7A54-46D3-AC82-5745C788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529D-8AE7-410B-80DA-DDE65A1B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04C1B-E66C-40B0-AB0A-895FD3E8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A01D3-3A21-455A-B2C8-6954D1E2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42544-0A8C-41D8-8777-498EB1C6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688EA-33F2-4236-9FEB-30DF7728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91B9D-A387-415B-959A-9EC821F0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756-9388-4088-BDCD-EE4FFBD6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CBC1-AC6A-4236-8665-294333AE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8484F-4AE7-4E79-B12D-8E0BA736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AC027-3AB3-4B0D-9761-4153E49D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79FD3-8E7F-4AB5-AEAD-5258E8EC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A2FFF-133F-4683-816F-DF14AFC9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448A7-D834-466E-A8E3-17937F07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69156-F9AE-4305-BFFB-4C8F3B01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5973-0FF6-472A-8A88-0123DC1F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4EB-BB54-4A36-BAC8-E3D0DE1B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34D1-4F6E-4478-9FE2-C58BE0C3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789-16AE-4E88-B4E7-2E73F198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CB6-5B45-48AF-8AA0-26C2CB7C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5738-0C1A-4397-83F2-94EFCEDA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94B1-EFDA-40AB-B034-061CDDB22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5F42-603D-4067-9182-847DD75E7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C57C-C861-4D26-8296-227F6176CC89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60/" TargetMode="External"/><Relationship Id="rId7" Type="http://schemas.openxmlformats.org/officeDocument/2006/relationships/hyperlink" Target="http://www.1ppt.com/kejian/yuwen/161/" TargetMode="External"/><Relationship Id="rId8" Type="http://schemas.openxmlformats.org/officeDocument/2006/relationships/hyperlink" Target="http://www.1ppt.com/kejian/yuwen/162/" TargetMode="External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Xc828004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124" name="WordArt 5"/>
          <p:cNvSpPr txBox="1"/>
          <p:nvPr/>
        </p:nvSpPr>
        <p:spPr>
          <a:xfrm>
            <a:off x="1476360" y="5373720"/>
            <a:ext cx="6264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九   色   鹿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400536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山林之中，春光明媚。九色鹿在开满鲜花的草地上睡得正香。突然，乌鸦高声叫喊道：“九色鹿，九色鹿，快醒一醒吧，国王的军队捉你来了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Xc828010"/>
          <p:cNvPicPr/>
          <p:nvPr/>
        </p:nvPicPr>
        <p:blipFill>
          <a:blip r:embed="rId1"/>
          <a:stretch/>
        </p:blipFill>
        <p:spPr>
          <a:xfrm>
            <a:off x="250920" y="189000"/>
            <a:ext cx="867564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5280" y="4338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陛下，您知道吗？正是这个人，在快要淹死时，我救了他。他发誓永不暴露我的住地，谁知他竟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见利忘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！您与这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灵魂肮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小人一起来残害无辜，难道不怕天下人笑话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Xc828012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4436640"/>
            <a:ext cx="9144000" cy="24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国王非常惭愧。他斥责调达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背信弃义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恩将仇报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，并重重惩罚了他，还下令全国臣民永远不许伤害九色鹿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3" name="Picture 4" descr="Xc828013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作业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5406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九色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个故事讲给家长听，准备下次课复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搜集诚实守信的故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象九色鹿今后的生活，续写一段话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6" name="Picture 5" descr="1010370040[1]"/>
          <p:cNvPicPr/>
          <p:nvPr/>
        </p:nvPicPr>
        <p:blipFill>
          <a:blip r:embed="rId1"/>
          <a:stretch/>
        </p:blipFill>
        <p:spPr>
          <a:xfrm>
            <a:off x="179280" y="5950080"/>
            <a:ext cx="5067360" cy="333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1010370040[1]"/>
          <p:cNvPicPr/>
          <p:nvPr/>
        </p:nvPicPr>
        <p:blipFill>
          <a:blip r:embed="rId2"/>
          <a:stretch/>
        </p:blipFill>
        <p:spPr>
          <a:xfrm>
            <a:off x="4076640" y="5950080"/>
            <a:ext cx="5067360" cy="333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1010370040[1]"/>
          <p:cNvPicPr/>
          <p:nvPr/>
        </p:nvPicPr>
        <p:blipFill>
          <a:blip r:embed="rId3"/>
          <a:stretch/>
        </p:blipFill>
        <p:spPr>
          <a:xfrm>
            <a:off x="0" y="476280"/>
            <a:ext cx="5067360" cy="333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1010370040[1]"/>
          <p:cNvPicPr/>
          <p:nvPr/>
        </p:nvPicPr>
        <p:blipFill>
          <a:blip r:embed="rId4"/>
          <a:stretch/>
        </p:blipFill>
        <p:spPr>
          <a:xfrm>
            <a:off x="4076640" y="476280"/>
            <a:ext cx="5067360" cy="333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谢谢指导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fl179"/>
          <p:cNvPicPr/>
          <p:nvPr/>
        </p:nvPicPr>
        <p:blipFill>
          <a:blip r:embed="rId1"/>
          <a:stretch/>
        </p:blipFill>
        <p:spPr>
          <a:xfrm>
            <a:off x="0" y="0"/>
            <a:ext cx="2411280" cy="1903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fl178"/>
          <p:cNvPicPr/>
          <p:nvPr/>
        </p:nvPicPr>
        <p:blipFill>
          <a:blip r:embed="rId2"/>
          <a:stretch/>
        </p:blipFill>
        <p:spPr>
          <a:xfrm>
            <a:off x="3780000" y="4780080"/>
            <a:ext cx="5364000" cy="207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奴仆             发誓                  灵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皇榜             斥责                   惭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见 利 忘 义                  背 信 弃 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恩 将 仇 报                  知  恩 图 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1010370040[1]"/>
          <p:cNvPicPr/>
          <p:nvPr/>
        </p:nvPicPr>
        <p:blipFill>
          <a:blip r:embed="rId1"/>
          <a:stretch/>
        </p:blipFill>
        <p:spPr>
          <a:xfrm>
            <a:off x="0" y="476280"/>
            <a:ext cx="5067360" cy="333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1010370040[1]"/>
          <p:cNvPicPr/>
          <p:nvPr/>
        </p:nvPicPr>
        <p:blipFill>
          <a:blip r:embed="rId2"/>
          <a:stretch/>
        </p:blipFill>
        <p:spPr>
          <a:xfrm>
            <a:off x="4076640" y="476280"/>
            <a:ext cx="5067360" cy="333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1010370040[1]"/>
          <p:cNvPicPr/>
          <p:nvPr/>
        </p:nvPicPr>
        <p:blipFill>
          <a:blip r:embed="rId3"/>
          <a:stretch/>
        </p:blipFill>
        <p:spPr>
          <a:xfrm>
            <a:off x="0" y="5877000"/>
            <a:ext cx="5067360" cy="333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1010370040[1]"/>
          <p:cNvPicPr/>
          <p:nvPr/>
        </p:nvPicPr>
        <p:blipFill>
          <a:blip r:embed="rId4"/>
          <a:stretch/>
        </p:blipFill>
        <p:spPr>
          <a:xfrm>
            <a:off x="4087800" y="5880240"/>
            <a:ext cx="5067360" cy="333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5"/>
          <p:cNvSpPr/>
          <p:nvPr/>
        </p:nvSpPr>
        <p:spPr>
          <a:xfrm>
            <a:off x="1692360" y="20606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kejian/yuwen/138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kejian/yuwen/160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kejian/yuwen/161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    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kejian/yuwen/162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五年级语文上册：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www.1ppt.com/kejian/yuwen/163/        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六年级语文上册：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www.1ppt.com/kejian/yuwen/164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七年级语文上册：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www.1ppt.com/kejian/yuwen/165/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八年级语文上册：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www.1ppt.com/kejian/yuwen/166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九年级语文上册：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www.1ppt.com/kejian/yuwen/167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640" y="4653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它双角洁白如雪，身上有九种鲜艳的毛色，漂亮极了，人们都称它九色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Xc828004"/>
          <p:cNvPicPr/>
          <p:nvPr/>
        </p:nvPicPr>
        <p:blipFill>
          <a:blip r:embed="rId9"/>
          <a:stretch/>
        </p:blipFill>
        <p:spPr>
          <a:xfrm>
            <a:off x="324000" y="260280"/>
            <a:ext cx="842472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11280" y="3645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这天，九色鹿在河边散步。突然，耳边传来“救命啊，救命！”的呼喊，只见一个人在汹涌的波涛中奋力挣扎。九色鹿立即纵身跳进河中，将落水人救上岸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Xc828005"/>
          <p:cNvPicPr/>
          <p:nvPr/>
        </p:nvPicPr>
        <p:blipFill>
          <a:blip r:embed="rId1"/>
          <a:stretch/>
        </p:blipFill>
        <p:spPr>
          <a:xfrm>
            <a:off x="971640" y="189000"/>
            <a:ext cx="7488000" cy="338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39640" y="407664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99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落水人名叫调达，得救后连连向九色鹿叩头，感激地说：“谢谢你的救命之恩。我愿意永远做你的奴仆，终身受你的驱使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……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9" name="Picture 6" descr="Xc828006"/>
          <p:cNvPicPr/>
          <p:nvPr/>
        </p:nvPicPr>
        <p:blipFill>
          <a:blip r:embed="rId1"/>
          <a:stretch/>
        </p:blipFill>
        <p:spPr>
          <a:xfrm>
            <a:off x="611280" y="260280"/>
            <a:ext cx="7921440" cy="374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50920" y="1890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仿宋_GB2312"/>
              </a:rPr>
              <a:t>  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九色鹿打断了调达的话说：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救你并不是要你做我的奴仆。快回家吧。只要你不向任何人泄露我的住处 ，就算是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知恩图报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了。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2" name="Picture 5" descr="Xc828006"/>
          <p:cNvPicPr/>
          <p:nvPr/>
        </p:nvPicPr>
        <p:blipFill>
          <a:blip r:embed="rId1"/>
          <a:stretch/>
        </p:blipFill>
        <p:spPr>
          <a:xfrm>
            <a:off x="395280" y="2781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95280" y="692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调达郑重起誓，决不说出九色鹿的住处，然后千恩万谢地走了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5" name="Picture 6" descr="Xc828006"/>
          <p:cNvPicPr/>
          <p:nvPr/>
        </p:nvPicPr>
        <p:blipFill>
          <a:blip r:embed="rId1"/>
          <a:stretch/>
        </p:blipFill>
        <p:spPr>
          <a:xfrm>
            <a:off x="179280" y="2421000"/>
            <a:ext cx="864252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5373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国王无奈，只好张贴皇榜，重金悬赏捕捉九色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Xc828008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11280" y="49417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调达看了皇榜，心想发财的机会来啦，就进宫告密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3851280" y="2492280"/>
            <a:ext cx="6095880" cy="3276360"/>
            <a:chOff x="3851280" y="2492280"/>
            <a:chExt cx="6095880" cy="3276360"/>
          </a:xfrm>
        </p:grpSpPr>
        <p:sp>
          <p:nvSpPr>
            <p:cNvPr id="152" name="AutoShape 5"/>
            <p:cNvSpPr/>
            <p:nvPr/>
          </p:nvSpPr>
          <p:spPr>
            <a:xfrm>
              <a:off x="3851280" y="2492280"/>
              <a:ext cx="6095880" cy="3276360"/>
            </a:xfrm>
            <a:prstGeom prst="irregularSeal2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" name="Text Box 6"/>
            <p:cNvSpPr/>
            <p:nvPr/>
          </p:nvSpPr>
          <p:spPr>
            <a:xfrm>
              <a:off x="5146560" y="3681360"/>
              <a:ext cx="4267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调达看到皇榜，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一心想到的是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——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，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他完全忘记了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———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。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154" name="Picture 8" descr="Xc828009"/>
          <p:cNvPicPr/>
          <p:nvPr/>
        </p:nvPicPr>
        <p:blipFill>
          <a:blip r:embed="rId1"/>
          <a:stretch/>
        </p:blipFill>
        <p:spPr>
          <a:xfrm>
            <a:off x="179280" y="189000"/>
            <a:ext cx="6264360" cy="352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06:58:30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6-05-28T14:24:01Z</dcterms:modified>
  <cp:revision>165</cp:revision>
  <dc:subject>第一PPT模板网-WWW.1PPT.COM</dc:subject>
  <dc:title>第一PPT模板网-WWW.1PPT.COM</dc:title>
</cp:coreProperties>
</file>