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4CC7-D588-4258-BB9A-56A7BBD7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0DEA-434E-493E-B342-2F62E5DF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1FB4-E1A2-4468-8A85-FDB15648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9D8F-D691-4B9E-B8F0-DB2C7FCF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E4B1-609D-4FB6-A404-8F77E0D3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B2FF-B161-4616-A402-AB6626BA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5C6A-482E-4990-9D4E-91FE4B9C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9F62-9ACE-4121-A061-FA2D0209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1F3A-46D0-4E87-A018-E2B73AC4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8FEE-BF68-4CEC-882C-834142EF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B7E5-A294-4B69-AB8C-EF478DF2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AA5E-5886-4377-A1EB-0788F925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D955-5984-4E7B-A7B8-D42054CEE7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038480" y="541008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多少楼台烟雨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0" t="0" r="0" b="1954"/>
          <a:stretch/>
        </p:blipFill>
        <p:spPr>
          <a:xfrm>
            <a:off x="3352680" y="1143000"/>
            <a:ext cx="5029200" cy="4038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380880" y="1752480"/>
            <a:ext cx="22860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有多少佛寺楼台已经隐没在苍茫的烟雨之中啊！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295280" y="11430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《江南春》写出了江南春天的哪些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89548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到处是黄莺婉转啼鸣，到处是绿叶红花相互映衬。依山临水的城乡，迎风招展的酒旗。</a:t>
            </a:r>
            <a:r>
              <a:rPr b="0" lang="zh-CN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80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考考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429000" y="762120"/>
            <a:ext cx="4876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千里莺啼绿映红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水村山郭酒旗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2666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中宋"/>
              </a:rPr>
              <a:t>这一句诗抓住春天哪些景物来写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41148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这句诗抓住了黄莺、红花、绿叶、水乡、山城、酒旗、春风等七种景物来描写，共同构成了一幅春天江南的画面。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066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读读并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29000" y="1143000"/>
            <a:ext cx="4876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朝四百八十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少楼台烟雨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297180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读一读，体会一下诗人抒发了怎样的思想感情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457200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Arial"/>
                <a:ea typeface="华文中宋"/>
              </a:rPr>
              <a:t>抒发了诗人忧国忧民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读读并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3520" y="129528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南朝统治者迷信佛教，广建佛寺，企图依靠神灵的庇护，永保江山稳固。可是时移世易，当年的四百八十寺，有多少楼台掩映在茫茫烟雨中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    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作者在描绘千里江南明媚可爱的春光的同时，也慨叹南朝的覆灭，流露出兴亡之感，寄托了讽喻之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876920" y="114300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Arial"/>
                <a:ea typeface="黑体"/>
              </a:rPr>
              <a:t>江南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510552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黑体"/>
                <a:ea typeface="黑体"/>
              </a:rPr>
              <a:t>多少 楼台 烟雨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419112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黑体"/>
                <a:ea typeface="黑体"/>
              </a:rPr>
              <a:t>南朝 四百 八十寺</a:t>
            </a:r>
            <a:r>
              <a:rPr b="0" lang="en-US" sz="4400" spc="-1" strike="noStrike">
                <a:solidFill>
                  <a:srgbClr val="003300"/>
                </a:solidFill>
                <a:latin typeface="黑体"/>
                <a:ea typeface="黑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05320" y="228600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黑体"/>
                <a:ea typeface="黑体"/>
              </a:rPr>
              <a:t>千里 莺啼 绿映红</a:t>
            </a:r>
            <a:r>
              <a:rPr b="0" lang="en-US" sz="4400" spc="-1" strike="noStrike">
                <a:solidFill>
                  <a:srgbClr val="003300"/>
                </a:solidFill>
                <a:latin typeface="黑体"/>
                <a:ea typeface="黑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320040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黑体"/>
                <a:ea typeface="黑体"/>
              </a:rPr>
              <a:t>水村 山郭 酒旗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438280"/>
            <a:ext cx="2438280" cy="1524240"/>
          </a:xfrm>
          <a:prstGeom prst="cloudCallout">
            <a:avLst>
              <a:gd name="adj1" fmla="val -32097"/>
              <a:gd name="adj2" fmla="val 11687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朗读背诵全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723920" y="4267080"/>
            <a:ext cx="381240" cy="6098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723920" y="2438280"/>
            <a:ext cx="381240" cy="6098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095520" y="2362320"/>
            <a:ext cx="381240" cy="60948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648320" y="3276720"/>
            <a:ext cx="380880" cy="60948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095520" y="3276720"/>
            <a:ext cx="381240" cy="60948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172200" y="4267080"/>
            <a:ext cx="380880" cy="6098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723920" y="5181480"/>
            <a:ext cx="381240" cy="6098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172200" y="5257800"/>
            <a:ext cx="380880" cy="60948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762120"/>
            <a:ext cx="6705720" cy="69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江南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             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唐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(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杜牧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千里莺啼绿映红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水村山郭酒旗风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南朝四百八十寺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多少楼台烟雨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71600" y="1066680"/>
            <a:ext cx="441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24280" y="1892160"/>
            <a:ext cx="42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杜牧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公元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803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－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853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年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，字牧之，京兆万年（今陕西西安）人，晚唐著名的诗人和古文家。他精于诗、赋及古文，尤以诗的成就最高。他和同时代的另一位杰出的诗人李商隐齐名，世称“小李杜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914400"/>
            <a:ext cx="2519280" cy="576360"/>
          </a:xfrm>
          <a:prstGeom prst="wedgeRoundRectCallout">
            <a:avLst>
              <a:gd name="adj1" fmla="val -124037"/>
              <a:gd name="adj2" fmla="val -13815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江南的春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48320" y="114300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Arial"/>
                <a:ea typeface="黑体"/>
              </a:rPr>
              <a:t>江南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510552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黑体"/>
                <a:ea typeface="黑体"/>
              </a:rPr>
              <a:t>多少楼台烟雨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419112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黑体"/>
                <a:ea typeface="黑体"/>
              </a:rPr>
              <a:t>南朝四百八十寺</a:t>
            </a:r>
            <a:r>
              <a:rPr b="0" lang="en-US" sz="4400" spc="-1" strike="noStrike">
                <a:solidFill>
                  <a:srgbClr val="003300"/>
                </a:solidFill>
                <a:latin typeface="黑体"/>
                <a:ea typeface="黑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05320" y="320040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黑体"/>
                <a:ea typeface="黑体"/>
              </a:rPr>
              <a:t>水村山郭酒旗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28600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黑体"/>
                <a:ea typeface="黑体"/>
              </a:rPr>
              <a:t>千里莺啼绿映红</a:t>
            </a:r>
            <a:r>
              <a:rPr b="0" lang="en-US" sz="4400" spc="-1" strike="noStrike">
                <a:solidFill>
                  <a:srgbClr val="003300"/>
                </a:solidFill>
                <a:latin typeface="黑体"/>
                <a:ea typeface="黑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133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请同学们画出本诗的节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914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指导朗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76920" y="114300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Arial"/>
                <a:ea typeface="黑体"/>
              </a:rPr>
              <a:t>江南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510552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黑体"/>
                <a:ea typeface="黑体"/>
              </a:rPr>
              <a:t>多少 楼台 烟雨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419112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黑体"/>
                <a:ea typeface="黑体"/>
              </a:rPr>
              <a:t>南朝 四百 八十寺</a:t>
            </a:r>
            <a:r>
              <a:rPr b="0" lang="en-US" sz="4400" spc="-1" strike="noStrike">
                <a:solidFill>
                  <a:srgbClr val="003300"/>
                </a:solidFill>
                <a:latin typeface="黑体"/>
                <a:ea typeface="黑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228600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黑体"/>
                <a:ea typeface="黑体"/>
              </a:rPr>
              <a:t>千里 莺啼 绿映红</a:t>
            </a:r>
            <a:r>
              <a:rPr b="0" lang="en-US" sz="4400" spc="-1" strike="noStrike">
                <a:solidFill>
                  <a:srgbClr val="003300"/>
                </a:solidFill>
                <a:latin typeface="黑体"/>
                <a:ea typeface="黑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320040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黑体"/>
                <a:ea typeface="黑体"/>
              </a:rPr>
              <a:t>水村 山郭 酒旗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3962520"/>
            <a:ext cx="1981080" cy="685800"/>
          </a:xfrm>
          <a:prstGeom prst="cloudCallout">
            <a:avLst>
              <a:gd name="adj1" fmla="val -31810"/>
              <a:gd name="adj2" fmla="val 9861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723920" y="4267080"/>
            <a:ext cx="381240" cy="6098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723920" y="2438280"/>
            <a:ext cx="381240" cy="6098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095520" y="2362320"/>
            <a:ext cx="381240" cy="60948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648320" y="3276720"/>
            <a:ext cx="380880" cy="60948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095520" y="3276720"/>
            <a:ext cx="381240" cy="60948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172200" y="4267080"/>
            <a:ext cx="380880" cy="6098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723920" y="5181480"/>
            <a:ext cx="381240" cy="6098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172200" y="5257800"/>
            <a:ext cx="380880" cy="60948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295280" y="3808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你能理解下列词语的意思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4716360" cy="5732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65760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莺：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啼：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绿映红：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水村山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酒旗：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楼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烟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52880" y="16002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楷体"/>
              </a:rPr>
              <a:t>黄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2133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楷体"/>
              </a:rPr>
              <a:t>啼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666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楷体"/>
              </a:rPr>
              <a:t>绿树掩映着红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9920" y="3200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楷体"/>
              </a:rPr>
              <a:t>水边的村子，靠山的城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4343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楷体"/>
              </a:rPr>
              <a:t>酒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4876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楷体"/>
              </a:rPr>
              <a:t>佛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5410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楷体"/>
              </a:rPr>
              <a:t>烟雾般的蒙蒙细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581280" y="1066680"/>
            <a:ext cx="4876920" cy="4267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4114800" y="54864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千里莺啼绿映红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3716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千里江南，到处是莺歌燕舞，到处是绿草红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286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我真棒，我能说出诗句的意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rcRect l="0" t="0" r="0" b="1885"/>
          <a:stretch/>
        </p:blipFill>
        <p:spPr>
          <a:xfrm>
            <a:off x="3581280" y="1066680"/>
            <a:ext cx="4876920" cy="426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4114800" y="54864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水村山郭酒旗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6765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水边的村落，靠山的城墙，到处是酒旗招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0" t="0" r="0" b="4046"/>
          <a:stretch/>
        </p:blipFill>
        <p:spPr>
          <a:xfrm>
            <a:off x="3429000" y="1143000"/>
            <a:ext cx="4952880" cy="4038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4038480" y="541008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南朝四百八十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752480"/>
            <a:ext cx="259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南朝建造的四百八十座寺庙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6:36:04Z</dcterms:created>
  <dc:creator>Administrator</dc:creator>
  <dc:description/>
  <dc:language>en-US</dc:language>
  <cp:lastModifiedBy>微软用户</cp:lastModifiedBy>
  <dcterms:modified xsi:type="dcterms:W3CDTF">2014-02-10T07:04:5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