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3EEA-D7F7-48A6-B7C0-EC0C0AF13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3475-5554-4F1F-BE93-9AA0FCD73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9DC5-F225-4336-9CB8-9CA4C3470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228D-DA0A-4B26-822B-94E3B040E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DF20-1A50-4F1C-A092-97CF08631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CBE3-E845-4F3A-A263-1B278B790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B780-A10A-4335-880A-C9B150E86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6515-1A58-4C01-8D38-E0D8A431D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91CF-D921-46B9-B4C1-2BA2F5155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F76A-9F44-4B23-8B78-CBF9767F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5BAF-8F26-4D8F-9174-FABC8254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3B28-C85E-43B6-A57D-C13ED46D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B790F-A16F-41EF-B851-75331E33FD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5T02:55:50Z</dcterms:created>
  <dc:creator>server2</dc:creator>
  <dc:description/>
  <dc:language>en-US</dc:language>
  <cp:lastModifiedBy>wangxuejun</cp:lastModifiedBy>
  <dcterms:modified xsi:type="dcterms:W3CDTF">2008-07-13T16:24:55Z</dcterms:modified>
  <cp:revision>2</cp:revision>
  <dc:subject/>
  <dc:title>幻灯片 1</dc:title>
</cp:coreProperties>
</file>