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png" ContentType="image/png"/>
  <Override PartName="/ppt/media/image5.wmf" ContentType="image/x-wmf"/>
  <Override PartName="/ppt/media/image6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5E2-0148-4419-AB5B-1076255B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AAE-1E93-40E9-990B-000CB37A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10A-783B-4DE5-9DA1-DAB2030E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4F8-9435-43B3-B298-C1B4DC8A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A0D9-2AA4-4743-9E4E-D3A7611D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1A23-1BAF-4976-AEF9-198F44C8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56E9-F767-4BAB-9625-80B28191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43B8-040F-47CA-86A6-CDA78431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3B5A-F0D3-4A9D-A299-79B07CB2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EC1D-FE28-48C0-A2E0-6FFF1C3B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A559-061F-431B-9109-4936DF4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E38-14EC-48D1-86B7-203E0E07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3572-2E64-469A-AFC0-CFA981E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0F01-C406-4F4B-B0A6-D7AE9692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4C87-8A32-419A-8B24-E6699359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5CBB-9B5A-4C43-8805-DB6E9521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B375-F127-4F0E-BB74-ABD05FEE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DF4-8236-497D-9CAF-1B157D72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52F-B851-4527-A9A1-2CAD6BC7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141-6D32-4F79-8727-E94FA598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4E1-3749-424F-8739-54E6FF92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E98-C7FF-45EB-8B46-3ED6AFAA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FCF-8E7D-424A-9A0D-B4BC20F0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623-B1CF-4EFD-893C-C241637E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66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E848-6F9F-4DCB-A8CC-A7C14537C8F9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6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770A-DEC0-45D1-9DBA-0C36921DC2D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3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9001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：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00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质量管理体系导入培训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华文中宋"/>
              </a:rPr>
              <a:t>编制：赵伟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原则之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47242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4648320"/>
            <a:ext cx="3733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828800"/>
            <a:ext cx="6992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以顾客为关注焦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276720"/>
            <a:ext cx="1447920" cy="641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市场经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419720"/>
            <a:ext cx="838080" cy="641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货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267080"/>
            <a:ext cx="838080" cy="641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商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4419720"/>
            <a:ext cx="838080" cy="641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货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4114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增值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顾客满意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7242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增值（顾客不满意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143000" y="6172200"/>
            <a:ext cx="8001000" cy="34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54936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原则之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100" spc="-1" strike="noStrike">
                <a:solidFill>
                  <a:srgbClr val="ffffff"/>
                </a:solidFill>
                <a:latin typeface="Arial"/>
              </a:rPr>
              <a:t>领导作用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100" spc="-1" strike="noStrike">
                <a:solidFill>
                  <a:srgbClr val="ffffff"/>
                </a:solidFill>
                <a:latin typeface="Arial"/>
              </a:rPr>
              <a:t>请思考竹桶原理？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143000" y="6172200"/>
            <a:ext cx="8001000" cy="343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52280" y="5257800"/>
            <a:ext cx="1089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1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54936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ISO9001:20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标准对领导的要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Arial"/>
              </a:rPr>
              <a:t>制定质量方针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Arial"/>
              </a:rPr>
              <a:t>制定质量目标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Arial"/>
              </a:rPr>
              <a:t>提供资源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Arial"/>
              </a:rPr>
              <a:t>进行管理评审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Arial"/>
              </a:rPr>
              <a:t>传达相关适用法律法规和顾客要求的重要性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Arial"/>
              </a:rPr>
              <a:t>任命管理者代表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Arial"/>
              </a:rPr>
              <a:t>建立沟通渠道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Arial"/>
              </a:rPr>
              <a:t>持续改进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43000" y="6172200"/>
            <a:ext cx="8001000" cy="34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原则之三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77336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全员参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2133720"/>
            <a:ext cx="79250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黑体"/>
              </a:rPr>
              <a:t>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请继续思考竹桶原理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假如缺少一块竹片可以盛水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竹桶的盛水量取决于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525780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143000" y="6172200"/>
            <a:ext cx="8001000" cy="34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原则之四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828800"/>
            <a:ext cx="835164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0" y="22860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过程方法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5257800"/>
            <a:ext cx="914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5334120"/>
            <a:ext cx="914400" cy="533160"/>
          </a:xfrm>
          <a:prstGeom prst="rect">
            <a:avLst/>
          </a:prstGeom>
          <a:solidFill>
            <a:srgbClr val="000066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输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5257800"/>
            <a:ext cx="914400" cy="609480"/>
          </a:xfrm>
          <a:prstGeom prst="rect">
            <a:avLst/>
          </a:prstGeom>
          <a:solidFill>
            <a:srgbClr val="000066"/>
          </a:solidFill>
          <a:ln w="414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输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914400" cy="304560"/>
          </a:xfrm>
          <a:prstGeom prst="rect">
            <a:avLst/>
          </a:prstGeom>
          <a:solidFill>
            <a:srgbClr val="000066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4648320"/>
            <a:ext cx="914400" cy="457200"/>
          </a:xfrm>
          <a:prstGeom prst="rect">
            <a:avLst/>
          </a:prstGeom>
          <a:solidFill>
            <a:srgbClr val="000066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资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09880"/>
            <a:ext cx="914400" cy="304920"/>
          </a:xfrm>
          <a:prstGeom prst="rect">
            <a:avLst/>
          </a:prstGeom>
          <a:solidFill>
            <a:srgbClr val="000066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3809880"/>
            <a:ext cx="914400" cy="304920"/>
          </a:xfrm>
          <a:prstGeom prst="rect">
            <a:avLst/>
          </a:prstGeom>
          <a:solidFill>
            <a:srgbClr val="000066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3809880"/>
            <a:ext cx="914400" cy="304920"/>
          </a:xfrm>
          <a:prstGeom prst="rect">
            <a:avLst/>
          </a:prstGeom>
          <a:solidFill>
            <a:srgbClr val="000066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809880"/>
            <a:ext cx="914400" cy="304920"/>
          </a:xfrm>
          <a:prstGeom prst="rect">
            <a:avLst/>
          </a:prstGeom>
          <a:solidFill>
            <a:srgbClr val="000066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495680" y="1066680"/>
            <a:ext cx="228600" cy="6781680"/>
          </a:xfrm>
          <a:custGeom>
            <a:avLst/>
            <a:gdLst>
              <a:gd name="textAreaLeft" fmla="*/ 0 w 228600"/>
              <a:gd name="textAreaRight" fmla="*/ 82440 w 228600"/>
              <a:gd name="textAreaTop" fmla="*/ 176760 h 6781680"/>
              <a:gd name="textAreaBottom" fmla="*/ 6604920 h 678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6019920"/>
            <a:ext cx="914400" cy="457200"/>
          </a:xfrm>
          <a:prstGeom prst="rect">
            <a:avLst/>
          </a:prstGeom>
          <a:solidFill>
            <a:srgbClr val="000066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控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原则之五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819520"/>
            <a:ext cx="7772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相互关联或相互作用的一组要素－－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905120" y="1828800"/>
            <a:ext cx="518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管理的系统化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1981080"/>
            <a:ext cx="87138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733920"/>
            <a:ext cx="762120" cy="76176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输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809880"/>
            <a:ext cx="762120" cy="53352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733920"/>
            <a:ext cx="762120" cy="76176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输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（入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3886200"/>
            <a:ext cx="685800" cy="53352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3733920"/>
            <a:ext cx="685800" cy="76176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输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（入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3809880"/>
            <a:ext cx="762120" cy="53352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038480"/>
            <a:ext cx="1371600" cy="0"/>
          </a:xfrm>
          <a:prstGeom prst="line">
            <a:avLst/>
          </a:prstGeom>
          <a:ln w="316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3581280"/>
            <a:ext cx="685800" cy="83844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输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733920"/>
            <a:ext cx="685800" cy="76176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输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（入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4114440" y="2514240"/>
            <a:ext cx="304920" cy="6095880"/>
          </a:xfrm>
          <a:custGeom>
            <a:avLst/>
            <a:gdLst>
              <a:gd name="textAreaLeft" fmla="*/ 0 w 304920"/>
              <a:gd name="textAreaRight" fmla="*/ 110160 w 304920"/>
              <a:gd name="textAreaTop" fmla="*/ 158760 h 6095880"/>
              <a:gd name="textAreaBottom" fmla="*/ 5937120 h 609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952200" y="3619440"/>
            <a:ext cx="304920" cy="220968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3238200" y="3619440"/>
            <a:ext cx="304920" cy="220968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7353000" y="3619440"/>
            <a:ext cx="304920" cy="220968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952880"/>
            <a:ext cx="990720" cy="38124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029200"/>
            <a:ext cx="990720" cy="38088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5029200"/>
            <a:ext cx="990720" cy="38088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5791320"/>
            <a:ext cx="990720" cy="38088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思考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华文中宋"/>
              </a:rPr>
              <a:t>请大家思考链条效应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36600" y="3365640"/>
            <a:ext cx="5600880" cy="125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525780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-5349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9001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00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标准各相互过程关系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560" y="1600200"/>
            <a:ext cx="2743200" cy="609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与顾客有关的过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5880" y="2590920"/>
            <a:ext cx="2743200" cy="609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设计和开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5880" y="3581280"/>
            <a:ext cx="2743200" cy="609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原材料采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49960" y="1600200"/>
            <a:ext cx="2286000" cy="609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供方选择评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6280" y="2590920"/>
            <a:ext cx="2209680" cy="609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合格供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1840" y="4572000"/>
            <a:ext cx="2743200" cy="609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产品验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1840" y="5562720"/>
            <a:ext cx="2743200" cy="609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组织生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78560" y="4572000"/>
            <a:ext cx="2057400" cy="609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交付顾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600200"/>
            <a:ext cx="2209680" cy="609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监视和测量装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2590920"/>
            <a:ext cx="2209680" cy="609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校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4960" y="3581280"/>
            <a:ext cx="2209680" cy="609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标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1640" y="2209680"/>
            <a:ext cx="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1640" y="3200400"/>
            <a:ext cx="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44840" y="2209680"/>
            <a:ext cx="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44840" y="3200400"/>
            <a:ext cx="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69280" y="2209680"/>
            <a:ext cx="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92960" y="320040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868720" y="3886200"/>
            <a:ext cx="1523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4840" y="4191120"/>
            <a:ext cx="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01640" y="419112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01640" y="4876920"/>
            <a:ext cx="1600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1160" y="5181480"/>
            <a:ext cx="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335560" y="5181120"/>
            <a:ext cx="0" cy="3812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4960" y="5638680"/>
            <a:ext cx="2209680" cy="609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不合格品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5040" y="4876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601280" y="5105520"/>
            <a:ext cx="1600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1640" y="5105520"/>
            <a:ext cx="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2680" y="6324480"/>
            <a:ext cx="0" cy="228600"/>
          </a:xfrm>
          <a:prstGeom prst="line">
            <a:avLst/>
          </a:prstGeom>
          <a:ln cap="sq" w="442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2680" y="6553080"/>
            <a:ext cx="8153280" cy="0"/>
          </a:xfrm>
          <a:prstGeom prst="line">
            <a:avLst/>
          </a:prstGeom>
          <a:ln cap="sq" w="414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35960" y="6324480"/>
            <a:ext cx="0" cy="228600"/>
          </a:xfrm>
          <a:prstGeom prst="line">
            <a:avLst/>
          </a:prstGeom>
          <a:ln cap="sq" w="4140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560" y="655308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8055000" y="525780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-6080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9001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00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标准各相互过程关系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9320" y="2057400"/>
            <a:ext cx="2514600" cy="5335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过程的监视和测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8840" y="2057400"/>
            <a:ext cx="2514600" cy="5335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顾客满意测量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65720" y="2057400"/>
            <a:ext cx="2514600" cy="5335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内部审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75160" y="3276720"/>
            <a:ext cx="2514600" cy="5331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数据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75160" y="4191120"/>
            <a:ext cx="2514600" cy="5331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管理评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75160" y="5105520"/>
            <a:ext cx="2514600" cy="5331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改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0040" y="1752480"/>
            <a:ext cx="5715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0040" y="175248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65520" y="175248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85040" y="175248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0040" y="2895480"/>
            <a:ext cx="5715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70040" y="2590920"/>
            <a:ext cx="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65520" y="2590920"/>
            <a:ext cx="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85040" y="2590920"/>
            <a:ext cx="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65520" y="2895480"/>
            <a:ext cx="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65520" y="3809880"/>
            <a:ext cx="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1840" y="4724280"/>
            <a:ext cx="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-4636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原则之六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2000" y="1773360"/>
            <a:ext cx="62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持续改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304920"/>
            <a:ext cx="7924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59436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971800" y="48765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4800600"/>
            <a:ext cx="1066680" cy="1066680"/>
          </a:xfrm>
          <a:prstGeom prst="ellipse">
            <a:avLst/>
          </a:prstGeom>
          <a:solidFill>
            <a:srgbClr val="0000ff"/>
          </a:solidFill>
          <a:ln w="41400">
            <a:solidFill>
              <a:srgbClr val="ffffff"/>
            </a:solidFill>
            <a:miter/>
          </a:ln>
          <a:effectLst>
            <a:outerShdw dist="107932" dir="135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48769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343400" y="3809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809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715000" y="2666520"/>
            <a:ext cx="0" cy="11430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12960" y="6095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6172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36440" y="5888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维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19120" y="5257800"/>
            <a:ext cx="1643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改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3809880"/>
            <a:ext cx="1067040" cy="1067040"/>
          </a:xfrm>
          <a:prstGeom prst="ellipse">
            <a:avLst/>
          </a:prstGeom>
          <a:solidFill>
            <a:srgbClr val="0000ff"/>
          </a:solidFill>
          <a:ln w="41400">
            <a:solidFill>
              <a:srgbClr val="ffffff"/>
            </a:solidFill>
            <a:miter/>
          </a:ln>
          <a:effectLst>
            <a:outerShdw dist="107932" dir="135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2666880"/>
            <a:ext cx="1066680" cy="1067040"/>
          </a:xfrm>
          <a:prstGeom prst="ellipse">
            <a:avLst/>
          </a:prstGeom>
          <a:solidFill>
            <a:srgbClr val="0000ff"/>
          </a:solidFill>
          <a:ln w="41400">
            <a:solidFill>
              <a:srgbClr val="ffffff"/>
            </a:solidFill>
            <a:miter/>
          </a:ln>
          <a:effectLst>
            <a:outerShdw dist="107932" dir="135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047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维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7636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维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90720" y="4267080"/>
            <a:ext cx="1643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改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62320" y="2971800"/>
            <a:ext cx="1643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改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1480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目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53341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4800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495288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541008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541008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495288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3809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43434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2666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3200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396252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441972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441972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3962520"/>
            <a:ext cx="1526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89548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327672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327672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76920" y="289548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371600" y="2438280"/>
            <a:ext cx="3886200" cy="281952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28195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629400" y="5486400"/>
            <a:ext cx="1523880" cy="380880"/>
          </a:xfrm>
          <a:prstGeom prst="rect">
            <a:avLst/>
          </a:prstGeom>
          <a:solidFill>
            <a:srgbClr val="99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坚持不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861320" y="311652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目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79280" y="450864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目录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一章：什么是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二章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适用范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三章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QMS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标准的理论基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四章：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1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版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QMS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的管理范围及推行的必要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五章：建立高效质量管理体系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QMS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的流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六章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版质量管理体系要求的精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七章：建立高效质量管理体系的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八章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质量管理体系的认证流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九章：各部门在质量管理体系中的职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原则之七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75248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676520" y="1905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基于事实的决策方法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4114800"/>
            <a:ext cx="182880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生产过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4800600"/>
            <a:ext cx="182880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产品质量测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5410080"/>
            <a:ext cx="190476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质量目标测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6019920"/>
            <a:ext cx="190476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市场调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6553080"/>
            <a:ext cx="0" cy="304920"/>
          </a:xfrm>
          <a:prstGeom prst="line">
            <a:avLst/>
          </a:prstGeom>
          <a:ln w="349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4191120"/>
            <a:ext cx="152640" cy="2438280"/>
          </a:xfrm>
          <a:custGeom>
            <a:avLst/>
            <a:gdLst>
              <a:gd name="textAreaLeft" fmla="*/ 0 w 152640"/>
              <a:gd name="textAreaRight" fmla="*/ 55080 w 1526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5181480"/>
            <a:ext cx="15238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数据收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48320" y="5181480"/>
            <a:ext cx="15238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数据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77120" y="5181480"/>
            <a:ext cx="15238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数据利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05920" y="3886200"/>
            <a:ext cx="83808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公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发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壮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6172200"/>
            <a:ext cx="15238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英明决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24280" y="6095880"/>
            <a:ext cx="152424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发现事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6095880"/>
            <a:ext cx="15238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寻找事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5410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72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5638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10080" y="5638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38880" y="5638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77320" y="541008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原则之八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209680" y="4572000"/>
            <a:ext cx="4583160" cy="20131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990720" y="3733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供 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96252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3657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29400" y="3581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顾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00600" y="39625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</a:rPr>
              <a:t>互利的供方关系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5257800"/>
            <a:ext cx="1089000" cy="16002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四章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要求的管理范围及推行的必要性</a:t>
            </a:r>
            <a:br>
              <a:rPr sz="3300"/>
            </a:b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QMS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的管理范围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的质量方针和质量目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的职责划分和内部沟通过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资源的管理（人力资源、基础设施、工作环境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产品实现和服务提供过程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自我测量分析和改进的过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文件和记录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的持续改进与发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备注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QMS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管理范围不包括组织的财务资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四章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要求的管理范围及推行的必要性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推行的必要性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市场的需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内部管理规范和进一步提升的需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内部经营流程优化与工作效率提升的需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进一步提高顾客满意度的需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可以提高组织在市场上的知名度和战斗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进一步增强市场效益和经济效益的需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进一步降低管理成本的需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资源进一步优化组合和再分配的需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四章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要求的管理范围及推行的必要性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1:2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质量管理体系内容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为八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一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范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二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引用范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三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术语和定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四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质量管理体系要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五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管理职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六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资源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七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产品实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八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测量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\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析和改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五章建立高效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流程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1280" y="177336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组织领导决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270828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筛选咨询公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371628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确定咨询公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4653000"/>
            <a:ext cx="309564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双方进一步联络沟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5516640"/>
            <a:ext cx="309564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双方签署咨询服务合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0920" y="2276640"/>
            <a:ext cx="0" cy="43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50920" y="515772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321300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0920" y="422100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24360" y="1844640"/>
            <a:ext cx="4824360" cy="576360"/>
          </a:xfrm>
          <a:prstGeom prst="flowChartMultidocument">
            <a:avLst/>
          </a:prstGeom>
          <a:solidFill>
            <a:srgbClr val="000066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推行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9001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与否完全由企业决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1280" y="5516640"/>
            <a:ext cx="4824360" cy="576360"/>
          </a:xfrm>
          <a:prstGeom prst="flowChartMultidocument">
            <a:avLst/>
          </a:prstGeom>
          <a:solidFill>
            <a:srgbClr val="000066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确定价格、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覆盖范围、咨询周期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五章建立高效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流程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184464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咨询师进驻企业评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2781360"/>
            <a:ext cx="331164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双方针对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QM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进行策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8360" y="3645000"/>
            <a:ext cx="331164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咨询师进行标准知识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8360" y="4581360"/>
            <a:ext cx="331164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咨询师文件编写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8360" y="5445000"/>
            <a:ext cx="331164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体系建立（文件编写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79640" y="234936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3284640"/>
            <a:ext cx="0" cy="43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4149720"/>
            <a:ext cx="0" cy="43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79640" y="508464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五章建立高效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流程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77336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文件审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2708280"/>
            <a:ext cx="302436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文件讨论会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371628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文件定稿发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4724280"/>
            <a:ext cx="302400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QM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开始运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558972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文件培训学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79640" y="2276640"/>
            <a:ext cx="0" cy="43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79640" y="321300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79640" y="422100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79640" y="515772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五章建立高效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流程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177336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内审员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1280" y="270828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QM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运行指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364500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进行内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4581360"/>
            <a:ext cx="302400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内审后改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5445000"/>
            <a:ext cx="302400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管理评审前指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0920" y="2276640"/>
            <a:ext cx="0" cy="43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0920" y="321300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4149720"/>
            <a:ext cx="0" cy="43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08464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五章建立高效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流程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177336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管理评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2708280"/>
            <a:ext cx="302436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管理评审后改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3573360"/>
            <a:ext cx="302436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认证公司筛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1280" y="450864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确定认证公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1280" y="537372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企业提出申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2276640"/>
            <a:ext cx="0" cy="43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50920" y="321300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50920" y="4076640"/>
            <a:ext cx="0" cy="4320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5013360"/>
            <a:ext cx="0" cy="43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一章：什么是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9000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华文中宋"/>
                <a:ea typeface="华文中宋"/>
              </a:rPr>
              <a:t>1.ISO9000</a:t>
            </a:r>
            <a:r>
              <a:rPr b="1" lang="zh-CN" sz="2400" spc="-1" strike="noStrike">
                <a:solidFill>
                  <a:srgbClr val="00ff00"/>
                </a:solidFill>
                <a:latin typeface="华文中宋"/>
                <a:ea typeface="华文中宋"/>
              </a:rPr>
              <a:t>族标准的制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族标准是由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国际标准化组织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/TC176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委员会在总结世界各发达国家先进的企业管理经验，并得到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所有成员国的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75%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以上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举手表决同意后方可在国际上发布，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国是其中的成员国之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五章建立高效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流程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1280" y="177336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与认证机构签署合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2637000"/>
            <a:ext cx="302400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QM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认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3500280"/>
            <a:ext cx="302400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获取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QM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证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4365720"/>
            <a:ext cx="302436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企业保持和改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Q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2276640"/>
            <a:ext cx="0" cy="36036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50920" y="3141720"/>
            <a:ext cx="0" cy="36036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50920" y="4005360"/>
            <a:ext cx="0" cy="36036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六章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精神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4978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写你所说（文件的编写过程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做你所写（文件的贯彻与实施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记你所做 （证据的保留：记录的填写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说、做、记保持一致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QM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体系的有效性与符合性的判断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持续改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提高顾客满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七章建立高效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方法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第一：组织领导必须重视，给予支持与协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第二：组织内部要加强宣传与贯彻力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第三：全员要积极参与，切忌变成几个人的事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第四：深入分析企业的管理现状，挖掘不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第五：敢于发现问题，能够正视问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第六：要具备善于发现问题和解决问题的意识—忧患意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第七：要结合企业的实际情况建立体系，切忌东抄西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第八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QM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运行要贯彻落到实处，切忌走马逛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第九：内审要深入，切忌相互包庇，隐瞒问题，弄虚作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第十：要重视管理评审，切忌变成茶话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11280" y="62064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八章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认证审核流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4960" y="2009880"/>
            <a:ext cx="79581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08160" y="223344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企业选择确定认证公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08160" y="330048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双方联络沟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284120" y="436716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企业提出申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08160" y="543384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填写申请表、签署合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08360" y="2690640"/>
            <a:ext cx="0" cy="6098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08360" y="3833640"/>
            <a:ext cx="0" cy="6098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808360" y="4824360"/>
            <a:ext cx="0" cy="6094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08360" y="5891040"/>
            <a:ext cx="0" cy="7621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002200" y="223344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调查认证公司的资质如营业执照、备案证明、批准的业务范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002200" y="390996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调查认证公司在行业中的知名度和信誉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02200" y="520524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调查认证公司在行业中的审核服务质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89440" y="2462040"/>
            <a:ext cx="152280" cy="304812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27320" y="2690640"/>
            <a:ext cx="609840" cy="12193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第八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认证审核流程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50240" y="23446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提交文件（质量手册、程序文件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84920" y="335268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认证公司审查文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文件审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28960" y="52261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进驻接受审核的组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83080" y="2801880"/>
            <a:ext cx="0" cy="6094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00760" y="3568680"/>
            <a:ext cx="11304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980400" y="2572920"/>
            <a:ext cx="31680" cy="995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868720" y="2573280"/>
            <a:ext cx="11430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95680" y="3784680"/>
            <a:ext cx="0" cy="6094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35720" y="40212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89840" y="3065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83080" y="2039760"/>
            <a:ext cx="0" cy="3812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55680" y="436104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双方确认审核计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95680" y="4721400"/>
            <a:ext cx="0" cy="6094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13480" y="4865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965840" y="4073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21120" y="4576680"/>
            <a:ext cx="13669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88040" y="42894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认证机构调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524400" y="5657400"/>
            <a:ext cx="31680" cy="995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第八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认证审核流程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28240" y="5516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提交审核报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19640" y="4653000"/>
            <a:ext cx="0" cy="7920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93480" y="3357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现场审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421080" y="3716280"/>
            <a:ext cx="0" cy="6094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419640" y="5947920"/>
            <a:ext cx="0" cy="5763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54440" y="4221000"/>
            <a:ext cx="33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召开末次会议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宣布不合格和审核结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49480" y="3357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推荐注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625800" y="4272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推迟注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11040" y="518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不推荐注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249228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召开首次会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92360" y="2852640"/>
            <a:ext cx="0" cy="6098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92360" y="1989000"/>
            <a:ext cx="0" cy="6098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73640" y="3511440"/>
            <a:ext cx="144720" cy="1943280"/>
          </a:xfrm>
          <a:custGeom>
            <a:avLst/>
            <a:gdLst>
              <a:gd name="textAreaLeft" fmla="*/ 92520 w 144720"/>
              <a:gd name="textAreaRight" fmla="*/ 145080 w 1447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00000" y="2421000"/>
            <a:ext cx="144720" cy="1942920"/>
          </a:xfrm>
          <a:custGeom>
            <a:avLst/>
            <a:gdLst>
              <a:gd name="textAreaLeft" fmla="*/ 92520 w 144720"/>
              <a:gd name="textAreaRight" fmla="*/ 145080 w 14472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8520" y="215100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认证审核实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第八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认证审核流程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0720" y="2000160"/>
            <a:ext cx="5970600" cy="46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10600" y="250344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轻微不合格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推迟推荐注册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22120" y="25034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严重不合格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不推荐注册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50520" y="3376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企业整改（一般限期一个月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34160" y="4367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企业提交整改材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56000" y="53020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认证公司审查验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符合跟踪验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30040" y="34527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宣布不通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一般至少半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重新申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24240" y="2004840"/>
            <a:ext cx="0" cy="5335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91320" y="2004840"/>
            <a:ext cx="0" cy="5335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424240" y="2843280"/>
            <a:ext cx="0" cy="5331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76520" y="3833640"/>
            <a:ext cx="0" cy="5335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76520" y="4748040"/>
            <a:ext cx="0" cy="6858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76520" y="5738760"/>
            <a:ext cx="0" cy="5335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67640" y="2919240"/>
            <a:ext cx="0" cy="6858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57600" y="1776240"/>
            <a:ext cx="0" cy="228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57760" y="58356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204560" y="5510160"/>
            <a:ext cx="60948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204920" y="3757680"/>
            <a:ext cx="0" cy="17524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04920" y="3681360"/>
            <a:ext cx="53352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4600" y="4443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4960" y="2576520"/>
            <a:ext cx="12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符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推荐注册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0720" y="2071800"/>
            <a:ext cx="0" cy="5331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34160" y="6195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颁发证书与组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第八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认证审核流程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4040" y="3124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监督审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44404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换发证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625480" y="49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复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243120" y="2362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半年或一年进行一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01040" y="49528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证书三年有效期到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39120" y="2895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体系的有效保持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77200" y="3886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标志的使用情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77200" y="3352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体系的持续改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14800" y="251460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81440" y="3733920"/>
            <a:ext cx="0" cy="12189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67240" y="5181480"/>
            <a:ext cx="16002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43200" y="3352680"/>
            <a:ext cx="129564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57400" y="5334120"/>
            <a:ext cx="0" cy="12189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24520" y="43434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上次审核结果下次的输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81440" y="2133720"/>
            <a:ext cx="0" cy="99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九章各部门在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的职责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政部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受控文件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记录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人力资源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办公设施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数据分析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内审工作的开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纠正预防措施的实施情况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九章各部门在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的职责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华文中宋"/>
              </a:rPr>
              <a:t>市场部：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内订单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合同的管理包括评审记录的保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内招标书的保存与组织评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协助售后服务中心处理顾客的反馈信息包括顾客投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供应商的选择、评价与再评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物料的采购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供应商的合作业绩统计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采购异常情况的处理与跟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一章：什么是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9000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060640"/>
            <a:ext cx="649440" cy="503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2060640"/>
            <a:ext cx="649440" cy="503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2060640"/>
            <a:ext cx="649440" cy="503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060640"/>
            <a:ext cx="1224000" cy="574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9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637000"/>
            <a:ext cx="0" cy="187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508640"/>
            <a:ext cx="1150920" cy="5760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国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2637000"/>
            <a:ext cx="0" cy="187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2637000"/>
            <a:ext cx="0" cy="187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637000"/>
            <a:ext cx="0" cy="1871640"/>
          </a:xfrm>
          <a:prstGeom prst="line">
            <a:avLst/>
          </a:prstGeom>
          <a:ln w="4752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4508640"/>
            <a:ext cx="1150920" cy="5760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标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437000"/>
            <a:ext cx="1150920" cy="5763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4508640"/>
            <a:ext cx="1728720" cy="5760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标准序列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76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2276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2276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九章各部门在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的职责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客户部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内订单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合同的管理包括评审记录的保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内招标书的保存与组织评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协助售后服务中心处理顾客的反馈信息包括顾客投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政府采购业务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九章各部门在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的职责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系统集成部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系统集成的设计与开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司内部网络系统的管理与维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系统集成工程的安装与施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系统集成工程施工现场管理与监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系统集成工程的验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不合格分布分项工程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系统集成的售后维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程施工用工器具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元器件验收所用监视和测量装置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九章各部门在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的职责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软件开发部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软件的设计与开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软件的测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软件的维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软件的防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测试软件以及测试环境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不合格软件类产品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九章各部门在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的职责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售后服务中心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顾客反馈信息的处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顾客满意度的调查与统计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顾客投诉的处理与结果反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九章各部门在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中的职责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储运部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外购产品的验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仓库的管理包括产品的堆放和环境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仓库帐务的管理，确保帐、物、卡一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仓库产品的定期盘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仓库仓储不合格品的处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发送货的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一章：什么是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9000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0:2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版族标准国际发布实施时间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9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版族标准作废时间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中国等同采用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版族标准时间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8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发布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实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标准编号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GB/T19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一章：什么是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9000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ff00"/>
                </a:solidFill>
                <a:latin typeface="华文中宋"/>
                <a:ea typeface="华文中宋"/>
              </a:rPr>
              <a:t>2.ISO9000</a:t>
            </a:r>
            <a:r>
              <a:rPr b="1" lang="zh-CN" sz="3100" spc="-1" strike="noStrike">
                <a:solidFill>
                  <a:srgbClr val="00ff00"/>
                </a:solidFill>
                <a:latin typeface="华文中宋"/>
                <a:ea typeface="华文中宋"/>
              </a:rPr>
              <a:t>族标准的发展历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87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版——————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9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版————————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0200" y="3068640"/>
            <a:ext cx="217440" cy="2808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068640"/>
            <a:ext cx="2592360" cy="504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932280"/>
            <a:ext cx="2592360" cy="504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795920"/>
            <a:ext cx="2592360" cy="504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6560" y="5516640"/>
            <a:ext cx="2592360" cy="504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3141720"/>
            <a:ext cx="217440" cy="2808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997360"/>
            <a:ext cx="2592360" cy="504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3716280"/>
            <a:ext cx="2592360" cy="5047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38920" y="4724280"/>
            <a:ext cx="2592360" cy="505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0200" y="5445000"/>
            <a:ext cx="2592360" cy="505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1901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8920" y="3139920"/>
            <a:ext cx="73080" cy="1584360"/>
          </a:xfrm>
          <a:custGeom>
            <a:avLst/>
            <a:gdLst>
              <a:gd name="textAreaLeft" fmla="*/ 0 w 73080"/>
              <a:gd name="textAreaRight" fmla="*/ 26280 w 73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3933720"/>
            <a:ext cx="1152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321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被代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一章：什么是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9000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3.ISO9000:2000</a:t>
            </a:r>
            <a:r>
              <a:rPr b="1" lang="zh-CN" sz="3200" spc="-1" strike="noStrike">
                <a:solidFill>
                  <a:srgbClr val="00ff00"/>
                </a:solidFill>
                <a:latin typeface="华文中宋"/>
                <a:ea typeface="华文中宋"/>
              </a:rPr>
              <a:t>版族标准组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0:2000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基础术语和定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00ff00"/>
                </a:solidFill>
                <a:latin typeface="华文中宋"/>
                <a:ea typeface="华文中宋"/>
              </a:rPr>
              <a:t>ISO9001:2000   </a:t>
            </a:r>
            <a:r>
              <a:rPr b="1" lang="zh-CN" sz="2400" spc="-1" strike="noStrike">
                <a:solidFill>
                  <a:srgbClr val="00ff00"/>
                </a:solidFill>
                <a:latin typeface="华文中宋"/>
                <a:ea typeface="华文中宋"/>
              </a:rPr>
              <a:t>质量管理体系   要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9004:2000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质量管理体系业绩改进指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ISO19011:2002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质量环境审核指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二章：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9000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适用范围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华文中宋"/>
              </a:rPr>
              <a:t>—</a:t>
            </a: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华文中宋"/>
              </a:rPr>
              <a:t>适用于任何行业和任何组织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华文中宋"/>
              </a:rPr>
              <a:t>—</a:t>
            </a: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华文中宋"/>
              </a:rPr>
              <a:t>不论组织提供何类产品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华文中宋"/>
              </a:rPr>
              <a:t>—</a:t>
            </a: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华文中宋"/>
              </a:rPr>
              <a:t>不论组织规模大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三章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ISO9000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00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版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QMS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理论基础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即所谓的八大原则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原则一：以顾客为关注焦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原则二：领导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原则三：全员参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原则四：过程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原则五：管理的系统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原则六：持续改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原则七：基于事实的决策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原则八：互利的供方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7:03:38Z</dcterms:created>
  <dc:creator>waleyzhao</dc:creator>
  <dc:description/>
  <dc:language>en-US</dc:language>
  <cp:lastModifiedBy>liu</cp:lastModifiedBy>
  <dcterms:modified xsi:type="dcterms:W3CDTF">2004-11-18T06:52:09Z</dcterms:modified>
  <cp:revision>5</cp:revision>
  <dc:subject/>
  <dc:title>幻灯片 1</dc:title>
</cp:coreProperties>
</file>