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F7-D2F8-4631-85FF-7EBBE8AF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3009-45FB-4DB2-B91F-C2B2746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B59-E2EC-4CDE-839F-6C9FC106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7494-865B-482D-91C9-B9F5F69B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AE4-03D8-4402-83D5-93F3FDBA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7D4-FDFB-4781-AB04-929D720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C09-51B7-416E-BA2F-C9BE005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012-07EE-41CA-A231-D2C4C198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B83-C6CF-4A47-9C54-CA1642C0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655-2FAB-4028-A525-E2C4434C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8BB-BBCE-43AD-9E35-FBBE546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3C21-F3EA-4F83-A9B0-7770862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70E-A1CF-423C-B47D-6CDAB30B72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32917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35788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45249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41316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25125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259787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31225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bs.eduol.cn/UploadFile/2007-10/200710212321982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bbs.eduol.cn/UploadFile/2007-10/2007102121419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bbs.eduol.cn/UploadFile/2007-10/2007102123291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bbs.eduol.cn/UploadFile/2007-10/2007102123578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bs.eduol.cn/UploadFile/2007-10/2007102124524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bbs.eduol.cn/UploadFile/2007-10/20071021241316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bbs.eduol.cn/UploadFile/2007-10/2007102124201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bbs.eduol.cn/UploadFile/2007-10/2007102124276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bbs.eduol.cn/UploadFile/2007-10/2007102124476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bbs.eduol.cn/UploadFile/2007-10/2007102124558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bbs.eduol.cn/UploadFile/2007-10/200710212523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bbs.eduol.cn/UploadFile/2007-10/2007102125107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bbs.eduol.cn/UploadFile/2007-10/2007102121498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bbs.eduol.cn/UploadFile/2007-10/20071021251778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bbs.eduol.cn/UploadFile/2007-10/2007102125379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bbs.eduol.cn/UploadFile/2007-10/2007102125446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bbs.eduol.cn/UploadFile/2007-10/20071021255315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bbs.eduol.cn/UploadFile/2007-10/200710212613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bbs.eduol.cn/UploadFile/2007-10/200710212683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bbs.eduol.cn/UploadFile/2007-10/200710212631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bbs.eduol.cn/UploadFile/2007-10/200710212639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bbs.eduol.cn/UploadFile/2007-10/2007102126472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bbs.eduol.cn/UploadFile/2007-10/200710213195813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bbs.eduol.cn/UploadFile/2007-10/2007102121576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bbs.eduol.cn/UploadFile/2007-10/2007102122767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bbs.eduol.cn/UploadFile/2007-10/2007102122155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bbs.eduol.cn/UploadFile/2007-10/20071021225125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bbs.eduol.cn/UploadFile/2007-10/20071021225978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bbs.eduol.cn/UploadFile/2007-10/20071021231225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bbs.eduol.cn/UploadFile/2007-10/2007102123219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3:11:46Z</dcterms:created>
  <dc:creator>Administrator</dc:creator>
  <dc:description/>
  <dc:language>en-US</dc:language>
  <cp:lastModifiedBy>admin</cp:lastModifiedBy>
  <dcterms:modified xsi:type="dcterms:W3CDTF">2015-01-19T06:13:33Z</dcterms:modified>
  <cp:revision>5</cp:revision>
  <dc:subject/>
  <dc:title>幻灯片 1</dc:title>
</cp:coreProperties>
</file>