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6E30-7E62-4D0B-8C30-D4A80A75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6F4C-EB2C-4AF4-B83E-653117CC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18B2-D6E8-479D-9224-8880B143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8C5-295D-425C-9836-33F1963C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66F-DA1E-4244-8BD5-98A4F2E5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DA7-9FF0-4A36-9369-1EB9F78B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5EA-2BFF-440F-A2C1-30A42199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EE8-6EC4-40D0-93A3-BC09D4C6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CA04-3BC0-4057-B849-035FDF82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18B-345C-46B8-966C-EFFAB819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F216-0D18-4FCC-8AD4-33CDB16D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E56-2446-4762-92F9-6BA77FE1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09BF-123F-4538-B9E0-D89B01342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rd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D:\网站更新\新图素\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</p:spTree>
  </p:cSld>
  <p:transition>
    <p:cover dir="rd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网站更新\新图素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d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rd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rd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"/>
          <p:cNvSpPr/>
          <p:nvPr/>
        </p:nvSpPr>
        <p:spPr>
          <a:xfrm>
            <a:off x="684360" y="1844640"/>
            <a:ext cx="6335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隶书"/>
                <a:ea typeface="华文隶书"/>
              </a:rPr>
              <a:t>红酒</a:t>
            </a:r>
            <a:r>
              <a:rPr b="0" lang="en-US" sz="4400" spc="-1" strike="noStrike">
                <a:solidFill>
                  <a:srgbClr val="ffffff"/>
                </a:solidFill>
                <a:latin typeface="华文隶书"/>
                <a:ea typeface="华文隶书"/>
              </a:rPr>
              <a:t>PowerPoint</a:t>
            </a:r>
            <a:r>
              <a:rPr b="0" lang="zh-CN" sz="4400" spc="-1" strike="noStrike">
                <a:solidFill>
                  <a:srgbClr val="ffffff"/>
                </a:solidFill>
                <a:latin typeface="华文隶书"/>
                <a:ea typeface="华文隶书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13"/>
          <p:cNvSpPr/>
          <p:nvPr/>
        </p:nvSpPr>
        <p:spPr>
          <a:xfrm>
            <a:off x="709560" y="2924280"/>
            <a:ext cx="6337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rd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02:33:12Z</dcterms:created>
  <dc:creator>yinxiang</dc:creator>
  <dc:description/>
  <dc:language>en-US</dc:language>
  <cp:lastModifiedBy>admin</cp:lastModifiedBy>
  <dcterms:modified xsi:type="dcterms:W3CDTF">2017-10-24T01:40:57Z</dcterms:modified>
  <cp:revision>12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