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1.jpeg" ContentType="image/jpeg"/>
  <Override PartName="/ppt/media/image7.png" ContentType="image/png"/>
  <Override PartName="/ppt/media/image32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3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6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BB3-0624-447C-BD64-94D412F0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23B-0F43-4182-B740-A289FFC8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84A-D977-4893-AE19-3E36E9FF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ED1-51DB-4591-9A4D-019C72E4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8DD2-C797-4D93-904A-8C58E57C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B5F8-0E20-40CF-84BC-F18A7230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AE25-9E68-48B1-B977-459B4D3E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C102-EEB0-4107-8426-BFEE3E01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34A5-D7E9-4872-8F0C-CEB4E324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AFAC-5B01-427C-8E4C-04B7C8D2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46E4-4D02-4C17-8C39-3B803C72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827-FC37-48AC-AD60-FA835E8C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E503-0243-46D5-B383-E397CF3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B667-3471-40B3-B80E-3CE39F9F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8915-ED15-45E0-832E-A04E9DAB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C6EF-617C-42D0-9967-60BD513A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0BA3-E4E9-499A-8710-4E6E9AD2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EA476-C8AB-461B-A268-2BD97CA1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F4FE-4061-4345-89F1-5CC897ED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947C-1135-4C2B-B04F-C0F0CA8A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AFD4-06C2-4D9E-8788-1FC1E263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292B-39A4-453A-AD0E-2ED4224C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337-CC5C-447C-8BF1-0DA16F78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05BA-FCBE-4B44-8290-D872CD5E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7AF2-6CEB-4B3F-A2B1-0DEBE97F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013C-BED0-4E09-B1CB-B15B482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306C-DDD6-4AF0-98A2-D38DE964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6D6D-FAAA-457F-8BAE-FAA65819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5466-D01E-4099-8E87-72335DFD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AA8A-C53D-4C00-86D5-59B99720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2AD-59C6-4368-9741-59ADF17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A7B-0BC3-4A99-A20C-B8DF7B4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5BA-90A3-4B5B-A0CB-58E15160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79C-E43F-4875-8530-FBA43024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133-2E93-49EF-ADEE-B9B8EF6C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D8F-A270-431B-B48E-A4549475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17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1CB6-D9E7-40E6-967E-56E4EF4C4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3544-1589-46BE-83D8-42FCA8487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0B70-2963-470A-AE80-4250957EC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" Target="slide6.xm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26" descr="荷花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27" descr="351_1024x768"/>
          <p:cNvPicPr/>
          <p:nvPr/>
        </p:nvPicPr>
        <p:blipFill>
          <a:blip r:embed="rId2"/>
          <a:stretch/>
        </p:blipFill>
        <p:spPr>
          <a:xfrm>
            <a:off x="0" y="0"/>
            <a:ext cx="9601200" cy="7024680"/>
          </a:xfrm>
          <a:prstGeom prst="rect">
            <a:avLst/>
          </a:prstGeom>
          <a:ln w="0">
            <a:noFill/>
          </a:ln>
        </p:spPr>
      </p:pic>
      <p:pic>
        <p:nvPicPr>
          <p:cNvPr id="125" name="beijingmp3.mp3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未命名8"/>
          <p:cNvPicPr/>
          <p:nvPr/>
        </p:nvPicPr>
        <p:blipFill>
          <a:blip r:embed="rId1"/>
          <a:srcRect l="0" t="11159" r="0" b="0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7"/>
          <p:cNvGrpSpPr/>
          <p:nvPr/>
        </p:nvGrpSpPr>
        <p:grpSpPr>
          <a:xfrm>
            <a:off x="6732720" y="5805360"/>
            <a:ext cx="1295280" cy="871560"/>
            <a:chOff x="6732720" y="5805360"/>
            <a:chExt cx="1295280" cy="871560"/>
          </a:xfrm>
        </p:grpSpPr>
        <p:pic>
          <p:nvPicPr>
            <p:cNvPr id="150" name="langdu.wav" descr=""/>
            <p:cNvPicPr/>
            <p:nvPr/>
          </p:nvPicPr>
          <p:blipFill>
            <a:blip r:embed="rId3"/>
            <a:stretch/>
          </p:blipFill>
          <p:spPr>
            <a:xfrm>
              <a:off x="7093080" y="5805360"/>
              <a:ext cx="73656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6"/>
            <p:cNvSpPr/>
            <p:nvPr/>
          </p:nvSpPr>
          <p:spPr>
            <a:xfrm>
              <a:off x="6732720" y="63086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课文朗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3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Line 14"/>
          <p:cNvSpPr/>
          <p:nvPr/>
        </p:nvSpPr>
        <p:spPr>
          <a:xfrm flipH="1">
            <a:off x="1403280" y="2421000"/>
            <a:ext cx="2232000" cy="22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1332000" y="2349360"/>
            <a:ext cx="1008000" cy="201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2556000" y="2205000"/>
            <a:ext cx="1224000" cy="23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5435640" y="2349360"/>
            <a:ext cx="1224000" cy="22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5580000" y="2349360"/>
            <a:ext cx="1079640" cy="22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8317080" y="2205000"/>
            <a:ext cx="0" cy="22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ShockwaveFlash1"/>
          <p:cNvGraphicFramePr/>
          <p:nvPr/>
        </p:nvGraphicFramePr>
        <p:xfrm>
          <a:off x="250920" y="476280"/>
          <a:ext cx="86421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864216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6" descr="图片1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1979640" y="1989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4572000" y="1989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6443640" y="2028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187280" y="4149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4572000" y="418932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7164360" y="414972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图片1111111111"/>
          <p:cNvPicPr/>
          <p:nvPr/>
        </p:nvPicPr>
        <p:blipFill>
          <a:blip r:embed="rId1"/>
          <a:srcRect l="0" t="16198" r="0" b="4947"/>
          <a:stretch/>
        </p:blipFill>
        <p:spPr>
          <a:xfrm>
            <a:off x="-36360" y="0"/>
            <a:ext cx="925164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900000" y="692280"/>
            <a:ext cx="7620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荷叶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引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来了哪些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小客人</a:t>
            </a:r>
            <a:r>
              <a:rPr b="1" lang="en-US" sz="4400" spc="-1" strike="noStrike">
                <a:solidFill>
                  <a:srgbClr val="660033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436720" y="176040"/>
            <a:ext cx="985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kè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963080" y="93600"/>
            <a:ext cx="114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yǐn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68360" y="3757680"/>
            <a:ext cx="251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8000"/>
                </a:solidFill>
                <a:latin typeface="Arial"/>
                <a:ea typeface="黑体"/>
              </a:rPr>
              <a:t>小水珠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413080" y="3763800"/>
            <a:ext cx="25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8000"/>
                </a:solidFill>
                <a:latin typeface="Arial"/>
                <a:ea typeface="黑体"/>
              </a:rPr>
              <a:t>小蜻蜓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766400" y="3749760"/>
            <a:ext cx="131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8000"/>
                </a:solidFill>
                <a:latin typeface="黑体"/>
                <a:ea typeface="黑体"/>
              </a:rPr>
              <a:t>小青蛙</a:t>
            </a:r>
            <a:r>
              <a:rPr b="1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7173000" y="3757680"/>
            <a:ext cx="1695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8000"/>
                </a:solidFill>
                <a:latin typeface="黑体"/>
                <a:ea typeface="黑体"/>
              </a:rPr>
              <a:t>小鱼儿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"/>
          <p:cNvGrpSpPr/>
          <p:nvPr/>
        </p:nvGrpSpPr>
        <p:grpSpPr>
          <a:xfrm>
            <a:off x="611280" y="1916280"/>
            <a:ext cx="8062920" cy="1800000"/>
            <a:chOff x="611280" y="1916280"/>
            <a:chExt cx="8062920" cy="1800000"/>
          </a:xfrm>
        </p:grpSpPr>
        <p:pic>
          <p:nvPicPr>
            <p:cNvPr id="177" name="Picture 8" descr="qing ting"/>
            <p:cNvPicPr/>
            <p:nvPr/>
          </p:nvPicPr>
          <p:blipFill>
            <a:blip r:embed="rId2"/>
            <a:srcRect l="3420" t="0" r="3420" b="0"/>
            <a:stretch/>
          </p:blipFill>
          <p:spPr>
            <a:xfrm>
              <a:off x="2124360" y="2401920"/>
              <a:ext cx="223200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0" descr="qingwa"/>
            <p:cNvPicPr/>
            <p:nvPr/>
          </p:nvPicPr>
          <p:blipFill>
            <a:blip r:embed="rId3"/>
            <a:stretch/>
          </p:blipFill>
          <p:spPr>
            <a:xfrm>
              <a:off x="4283280" y="2112840"/>
              <a:ext cx="2089080" cy="15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4" descr="7f03c207afd693510208811f"/>
            <p:cNvPicPr/>
            <p:nvPr/>
          </p:nvPicPr>
          <p:blipFill>
            <a:blip r:embed="rId4"/>
            <a:srcRect l="42446" t="0" r="21273" b="60110"/>
            <a:stretch/>
          </p:blipFill>
          <p:spPr>
            <a:xfrm>
              <a:off x="611280" y="2401920"/>
              <a:ext cx="129708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6" descr="fish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442200" y="1916280"/>
              <a:ext cx="223200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图片1111111111"/>
          <p:cNvPicPr/>
          <p:nvPr/>
        </p:nvPicPr>
        <p:blipFill>
          <a:blip r:embed="rId1"/>
          <a:srcRect l="0" t="16198" r="0" b="0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971640" y="692280"/>
            <a:ext cx="856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荷叶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引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来了很多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小客人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有</a:t>
            </a:r>
            <a:r>
              <a:rPr b="1" lang="en-US" sz="4400" spc="-1" strike="noStrike">
                <a:solidFill>
                  <a:srgbClr val="660033"/>
                </a:solidFill>
                <a:latin typeface="黑体"/>
                <a:ea typeface="黑体"/>
              </a:rPr>
              <a:t>(       ),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有</a:t>
            </a:r>
            <a:r>
              <a:rPr b="1" lang="en-US" sz="4400" spc="-1" strike="noStrike">
                <a:solidFill>
                  <a:srgbClr val="660033"/>
                </a:solidFill>
                <a:latin typeface="黑体"/>
                <a:ea typeface="黑体"/>
              </a:rPr>
              <a:t>(        )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有</a:t>
            </a:r>
            <a:r>
              <a:rPr b="1" lang="en-US" sz="4400" spc="-1" strike="noStrike">
                <a:solidFill>
                  <a:srgbClr val="660033"/>
                </a:solidFill>
                <a:latin typeface="黑体"/>
                <a:ea typeface="黑体"/>
              </a:rPr>
              <a:t>(       ),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还有</a:t>
            </a:r>
            <a:r>
              <a:rPr b="1" lang="en-US" sz="4400" spc="-1" strike="noStrike">
                <a:solidFill>
                  <a:srgbClr val="660033"/>
                </a:solidFill>
                <a:latin typeface="黑体"/>
                <a:ea typeface="黑体"/>
              </a:rPr>
              <a:t>(       )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。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041800" y="1628640"/>
            <a:ext cx="38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6600"/>
                </a:solidFill>
                <a:latin typeface="黑体"/>
                <a:ea typeface="黑体"/>
              </a:rPr>
              <a:t>小蜻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908000" y="162864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黑体"/>
                <a:ea typeface="黑体"/>
              </a:rPr>
              <a:t>小水珠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908000" y="26370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黑体"/>
                <a:ea typeface="黑体"/>
              </a:rPr>
              <a:t>小青蛙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867280" y="2637000"/>
            <a:ext cx="315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黑体"/>
                <a:ea typeface="黑体"/>
              </a:rPr>
              <a:t>小鱼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qing ting"/>
          <p:cNvPicPr/>
          <p:nvPr/>
        </p:nvPicPr>
        <p:blipFill>
          <a:blip r:embed="rId2"/>
          <a:srcRect l="3420" t="0" r="3420" b="0"/>
          <a:stretch/>
        </p:blipFill>
        <p:spPr>
          <a:xfrm>
            <a:off x="2771640" y="4365720"/>
            <a:ext cx="1944720" cy="939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qingwa"/>
          <p:cNvPicPr/>
          <p:nvPr/>
        </p:nvPicPr>
        <p:blipFill>
          <a:blip r:embed="rId3"/>
          <a:stretch/>
        </p:blipFill>
        <p:spPr>
          <a:xfrm>
            <a:off x="4572000" y="4076640"/>
            <a:ext cx="1873080" cy="1360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2074320" y="165240"/>
            <a:ext cx="114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yǐn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5436720" y="260280"/>
            <a:ext cx="985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kè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7f03c207afd693510208811f"/>
          <p:cNvPicPr/>
          <p:nvPr/>
        </p:nvPicPr>
        <p:blipFill>
          <a:blip r:embed="rId4"/>
          <a:srcRect l="42446" t="0" r="21273" b="60110"/>
          <a:stretch/>
        </p:blipFill>
        <p:spPr>
          <a:xfrm>
            <a:off x="1332000" y="4292640"/>
            <a:ext cx="1297080" cy="1069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fishG"/>
          <p:cNvPicPr/>
          <p:nvPr/>
        </p:nvPicPr>
        <p:blipFill>
          <a:blip r:embed="rId5"/>
          <a:stretch/>
        </p:blipFill>
        <p:spPr>
          <a:xfrm>
            <a:off x="6516720" y="4005360"/>
            <a:ext cx="2376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12"/>
          <p:cNvPicPr/>
          <p:nvPr/>
        </p:nvPicPr>
        <p:blipFill>
          <a:blip r:embed="rId1"/>
          <a:stretch/>
        </p:blipFill>
        <p:spPr>
          <a:xfrm>
            <a:off x="0" y="4046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13"/>
          <p:cNvPicPr/>
          <p:nvPr/>
        </p:nvPicPr>
        <p:blipFill>
          <a:blip r:embed="rId2"/>
          <a:stretch/>
        </p:blipFill>
        <p:spPr>
          <a:xfrm>
            <a:off x="0" y="1844640"/>
            <a:ext cx="6588000" cy="3211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14"/>
          <p:cNvPicPr/>
          <p:nvPr/>
        </p:nvPicPr>
        <p:blipFill>
          <a:blip r:embed="rId3"/>
          <a:stretch/>
        </p:blipFill>
        <p:spPr>
          <a:xfrm>
            <a:off x="0" y="3573360"/>
            <a:ext cx="4788000" cy="2857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15"/>
          <p:cNvPicPr/>
          <p:nvPr/>
        </p:nvPicPr>
        <p:blipFill>
          <a:blip r:embed="rId4"/>
          <a:stretch/>
        </p:blipFill>
        <p:spPr>
          <a:xfrm>
            <a:off x="0" y="5084640"/>
            <a:ext cx="4643280" cy="2943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2556000" y="6922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荷叶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摇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2556000" y="234936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556000" y="220500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荷叶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停机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2556000" y="37893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荷叶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歌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627280" y="5300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荷叶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凉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2"/>
          <p:cNvPicPr/>
          <p:nvPr/>
        </p:nvPicPr>
        <p:blipFill>
          <a:blip r:embed="rId1"/>
          <a:stretch/>
        </p:blipFill>
        <p:spPr>
          <a:xfrm>
            <a:off x="0" y="4046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13"/>
          <p:cNvPicPr/>
          <p:nvPr/>
        </p:nvPicPr>
        <p:blipFill>
          <a:blip r:embed="rId2"/>
          <a:stretch/>
        </p:blipFill>
        <p:spPr>
          <a:xfrm>
            <a:off x="0" y="1844640"/>
            <a:ext cx="6588000" cy="3211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14"/>
          <p:cNvPicPr/>
          <p:nvPr/>
        </p:nvPicPr>
        <p:blipFill>
          <a:blip r:embed="rId3"/>
          <a:stretch/>
        </p:blipFill>
        <p:spPr>
          <a:xfrm>
            <a:off x="0" y="3573360"/>
            <a:ext cx="4788000" cy="2857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15"/>
          <p:cNvPicPr/>
          <p:nvPr/>
        </p:nvPicPr>
        <p:blipFill>
          <a:blip r:embed="rId4"/>
          <a:stretch/>
        </p:blipFill>
        <p:spPr>
          <a:xfrm>
            <a:off x="0" y="4941720"/>
            <a:ext cx="4643280" cy="1916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2556000" y="69228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荷叶               摇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556000" y="234936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556000" y="2205000"/>
            <a:ext cx="51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荷叶               停机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556000" y="378936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荷叶                歌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2627280" y="530064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荷叶              凉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80000" y="1052640"/>
            <a:ext cx="1942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3708360" y="2565360"/>
            <a:ext cx="194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>
            <a:off x="3708360" y="4076640"/>
            <a:ext cx="194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3708360" y="5589720"/>
            <a:ext cx="194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4211640" y="1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4284720" y="198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4284720" y="3500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蹲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4356000" y="501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边1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611280" y="620640"/>
            <a:ext cx="784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想一想，荷叶还会给谁带来了快乐？请大家说说荷叶是谁的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“荷叶是我的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firstslide"/>
          </p:cNvPr>
          <p:cNvSpPr/>
          <p:nvPr/>
        </p:nvSpPr>
        <p:spPr>
          <a:xfrm>
            <a:off x="6443640" y="54450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未标题-6"/>
          <p:cNvPicPr/>
          <p:nvPr/>
        </p:nvPicPr>
        <p:blipFill>
          <a:blip r:embed="rId2"/>
          <a:stretch/>
        </p:blipFill>
        <p:spPr>
          <a:xfrm>
            <a:off x="3348000" y="3429000"/>
            <a:ext cx="35496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netease-boboo36-autm"/>
          <p:cNvPicPr/>
          <p:nvPr/>
        </p:nvPicPr>
        <p:blipFill>
          <a:blip r:embed="rId1"/>
          <a:srcRect l="0" t="0" r="2645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看图，把句子说完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）蘑菇是小白兔的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是小蚂蚁的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489880" y="5178600"/>
            <a:ext cx="831960" cy="468000"/>
          </a:xfrm>
          <a:custGeom>
            <a:avLst/>
            <a:gdLst>
              <a:gd name="textAreaLeft" fmla="*/ 145440 w 831960"/>
              <a:gd name="textAreaRight" fmla="*/ 603360 w 831960"/>
              <a:gd name="textAreaTop" fmla="*/ 62640 h 468000"/>
              <a:gd name="textAreaBottom" fmla="*/ 405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2005-11-8 12-47-04_0002"/>
          <p:cNvPicPr/>
          <p:nvPr/>
        </p:nvPicPr>
        <p:blipFill>
          <a:blip r:embed="rId2"/>
          <a:srcRect l="24255" t="11248" r="20191" b="28207"/>
          <a:stretch/>
        </p:blipFill>
        <p:spPr>
          <a:xfrm>
            <a:off x="6732720" y="4076640"/>
            <a:ext cx="1584360" cy="17287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4211640" y="112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篮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971640" y="2492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067280" y="249228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348000" y="3933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小熊的帽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2005-11-8 12-46-22_0000"/>
          <p:cNvPicPr/>
          <p:nvPr/>
        </p:nvPicPr>
        <p:blipFill>
          <a:blip r:embed="rId3"/>
          <a:srcRect l="32274" t="20019" r="15801" b="7809"/>
          <a:stretch/>
        </p:blipFill>
        <p:spPr>
          <a:xfrm>
            <a:off x="6732720" y="33336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2005-11-8 12-46-47_0001"/>
          <p:cNvPicPr/>
          <p:nvPr/>
        </p:nvPicPr>
        <p:blipFill>
          <a:blip r:embed="rId4"/>
          <a:srcRect l="26804" t="29508" r="13088" b="12629"/>
          <a:stretch/>
        </p:blipFill>
        <p:spPr>
          <a:xfrm>
            <a:off x="6732720" y="2276640"/>
            <a:ext cx="1584360" cy="16556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3"/>
          <p:cNvSpPr/>
          <p:nvPr/>
        </p:nvSpPr>
        <p:spPr>
          <a:xfrm>
            <a:off x="1332000" y="378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西瓜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497720" y="1268280"/>
            <a:ext cx="459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987640" y="1197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Picture 6" descr="0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7"/>
            <p:cNvSpPr/>
            <p:nvPr/>
          </p:nvSpPr>
          <p:spPr>
            <a:xfrm>
              <a:off x="5966640" y="476280"/>
              <a:ext cx="1826280" cy="59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ff66"/>
                  </a:solidFill>
                  <a:latin typeface="Arial"/>
                  <a:ea typeface="隶书"/>
                </a:rPr>
                <a:t>天连</a:t>
              </a:r>
              <a:r>
                <a:rPr b="1" lang="zh-CN" sz="5400" spc="-1" strike="noStrike">
                  <a:solidFill>
                    <a:srgbClr val="ccff66"/>
                  </a:solidFill>
                  <a:latin typeface="隶书"/>
                  <a:ea typeface="隶书"/>
                </a:rPr>
                <a:t> </a:t>
              </a:r>
              <a:r>
                <a:rPr b="1" lang="zh-CN" sz="5400" spc="-1" strike="noStrike">
                  <a:solidFill>
                    <a:srgbClr val="ccff66"/>
                  </a:solidFill>
                  <a:latin typeface="Arial"/>
                  <a:ea typeface="隶书"/>
                </a:rPr>
                <a:t>碧叶  舞红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6877080" y="1628640"/>
              <a:ext cx="115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ff66"/>
                  </a:solidFill>
                  <a:latin typeface="隶书"/>
                  <a:ea typeface="隶书"/>
                </a:rPr>
                <a:t>b</a:t>
              </a:r>
              <a:r>
                <a:rPr b="1" lang="en-US" sz="4400" spc="-1" strike="noStrike">
                  <a:solidFill>
                    <a:srgbClr val="ccff66"/>
                  </a:solidFill>
                  <a:latin typeface="宋体"/>
                  <a:ea typeface="隶书"/>
                </a:rPr>
                <a:t>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6877080" y="3284640"/>
              <a:ext cx="10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ff66"/>
                  </a:solidFill>
                  <a:latin typeface="隶书"/>
                  <a:ea typeface="隶书"/>
                </a:rPr>
                <a:t>w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xiaoxiang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1619280" y="1125360"/>
            <a:ext cx="648180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象你与荷叶在一起的欢乐情景，然后把它画下来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4"/>
          <p:cNvSpPr txBox="1"/>
          <p:nvPr/>
        </p:nvSpPr>
        <p:spPr>
          <a:xfrm>
            <a:off x="1763640" y="1484280"/>
            <a:ext cx="439272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宋体"/>
              </a:rPr>
              <a:t>作业设计：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花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0" name="WordArt 6"/>
          <p:cNvSpPr txBox="1"/>
          <p:nvPr/>
        </p:nvSpPr>
        <p:spPr>
          <a:xfrm>
            <a:off x="2124000" y="1197000"/>
            <a:ext cx="4753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小朋友们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1" name="WordArt 7"/>
          <p:cNvSpPr txBox="1"/>
          <p:nvPr/>
        </p:nvSpPr>
        <p:spPr>
          <a:xfrm rot="5635800">
            <a:off x="3842640" y="3652920"/>
            <a:ext cx="2390760" cy="194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再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img_b15s"/>
          <p:cNvPicPr/>
          <p:nvPr/>
        </p:nvPicPr>
        <p:blipFill>
          <a:blip r:embed="rId1"/>
          <a:stretch/>
        </p:blipFill>
        <p:spPr>
          <a:xfrm>
            <a:off x="0" y="0"/>
            <a:ext cx="10363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528200" y="-203040"/>
            <a:ext cx="139932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</a:rPr>
              <a:t>亭亭玉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ey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7620120" y="5867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img_b10s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899800" y="101520"/>
            <a:ext cx="139932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</a:rPr>
              <a:t>含苞欲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荷花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ha jing-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971640" y="5373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荷叶</a:t>
            </a: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楷体_GB2312"/>
              </a:rPr>
              <a:t>圆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，</a:t>
            </a: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楷体_GB2312"/>
              </a:rPr>
              <a:t>绿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ha jing-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2381760" y="765000"/>
            <a:ext cx="694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黑体"/>
                <a:ea typeface="黑体"/>
              </a:rPr>
              <a:t>14.</a:t>
            </a:r>
            <a:r>
              <a:rPr b="1" lang="zh-CN" sz="6600" spc="-1" strike="noStrike">
                <a:solidFill>
                  <a:srgbClr val="006600"/>
                </a:solidFill>
                <a:latin typeface="黑体"/>
                <a:ea typeface="黑体"/>
              </a:rPr>
              <a:t>荷叶圆圆　　　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8:26:08Z</dcterms:created>
  <dc:creator>n</dc:creator>
  <dc:description/>
  <dc:language>en-US</dc:language>
  <cp:lastModifiedBy>Administrator</cp:lastModifiedBy>
  <dcterms:modified xsi:type="dcterms:W3CDTF">2015-01-28T09:28:29Z</dcterms:modified>
  <cp:revision>109</cp:revision>
  <dc:subject/>
  <dc:title>幻灯片 1</dc:title>
</cp:coreProperties>
</file>