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gif" ContentType="image/gif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chimes.wav" ContentType="audio/x-wav"/>
  <Override PartName="/ppt/media/image16.jpeg" ContentType="image/jpeg"/>
  <Override PartName="/ppt/media/image2.jpeg" ContentType="image/jpeg"/>
  <Override PartName="/ppt/media/image20.png" ContentType="image/png"/>
  <Override PartName="/ppt/media/image15.gif" ContentType="image/gif"/>
  <Override PartName="/ppt/media/image1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EA19-621B-4BD4-B6C8-85533F92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08E-C08D-4D48-9989-011E69EB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242-8494-4F1E-893B-9594A0EC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489-3B5B-48A4-BFCE-BB08EBDB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BD1-4AFE-481E-8FC7-3997B2D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EB6-1E55-4064-9B3D-7495EDEC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F9F-E259-418D-B8B7-FE86395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FFA-61B3-4711-B485-7277DE23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2DB-2896-4940-9CB4-4DBDD6D4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4A8-D79F-4ADC-9334-A9D285F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1A9-4559-48AA-BD48-2ED678C0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094-7518-4A1F-9513-9F4C1B3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8F5-2913-4B34-B34F-9A9718A50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hyperlink" Target="http://www.sucai123.com/img2008/03/021/gifbj058.gif" TargetMode="External"/><Relationship Id="rId4" Type="http://schemas.openxmlformats.org/officeDocument/2006/relationships/image" Target="../media/image22.gif"/><Relationship Id="rId5" Type="http://schemas.openxmlformats.org/officeDocument/2006/relationships/hyperlink" Target="http://www.sucai123.com/img2008/03/021/gifbj058.gif" TargetMode="External"/><Relationship Id="rId6" Type="http://schemas.openxmlformats.org/officeDocument/2006/relationships/image" Target="../media/image22.gif"/><Relationship Id="rId7" Type="http://schemas.openxmlformats.org/officeDocument/2006/relationships/hyperlink" Target="http://www.sucaiw.com/images.asp?url=http://py.sucaiw.com/%B6%AF%BB%AD%C0%E0/&#1211;%B0&#15791;%BB%AD/%B1%E4%BB%C3/&#1330;%D0%CE&#619;%B2&#689;%E4%BB%C3//&amp;pic=gif&amp;num=001&amp;ext=.gif&amp;picall=10" TargetMode="External"/><Relationship Id="rId8" Type="http://schemas.openxmlformats.org/officeDocument/2006/relationships/image" Target="../media/image23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602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皇帝的新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安徒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8" descr="08.gif (37158 bytes)"/>
          <p:cNvPicPr/>
          <p:nvPr/>
        </p:nvPicPr>
        <p:blipFill>
          <a:blip r:embed="rId1"/>
          <a:stretch/>
        </p:blipFill>
        <p:spPr>
          <a:xfrm>
            <a:off x="755640" y="836640"/>
            <a:ext cx="7920000" cy="40323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95280" y="4940280"/>
            <a:ext cx="87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5600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0">
                                  <p:stCondLst>
                                    <p:cond delay="1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9" descr="09.gif (41271 bytes)"/>
          <p:cNvPicPr/>
          <p:nvPr/>
        </p:nvPicPr>
        <p:blipFill>
          <a:blip r:embed="rId1"/>
          <a:stretch/>
        </p:blipFill>
        <p:spPr>
          <a:xfrm>
            <a:off x="1116000" y="981000"/>
            <a:ext cx="7416720" cy="453564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187280" y="5805360"/>
            <a:ext cx="74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3068640"/>
            <a:ext cx="63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5600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181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0" descr="10.gif (37939 bytes)"/>
          <p:cNvPicPr/>
          <p:nvPr/>
        </p:nvPicPr>
        <p:blipFill>
          <a:blip r:embed="rId1"/>
          <a:stretch/>
        </p:blipFill>
        <p:spPr>
          <a:xfrm>
            <a:off x="755640" y="981000"/>
            <a:ext cx="7201080" cy="41785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10" name=""/>
          <p:cNvSpPr txBox="1"/>
          <p:nvPr/>
        </p:nvSpPr>
        <p:spPr>
          <a:xfrm>
            <a:off x="255600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1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1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434988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990720" y="5486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5600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12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913800" cy="40449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914400" y="5029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2728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0">
                                  <p:stCondLst>
                                    <p:cond delay="1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0280" y="54864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13" descr="13.gif (42243 bytes)"/>
          <p:cNvPicPr/>
          <p:nvPr/>
        </p:nvPicPr>
        <p:blipFill>
          <a:blip r:embed="rId1"/>
          <a:stretch/>
        </p:blipFill>
        <p:spPr>
          <a:xfrm>
            <a:off x="971640" y="981000"/>
            <a:ext cx="7200720" cy="442908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270036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1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5373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14" descr="14.gif (39228 bytes)"/>
          <p:cNvPicPr/>
          <p:nvPr/>
        </p:nvPicPr>
        <p:blipFill>
          <a:blip r:embed="rId1"/>
          <a:stretch/>
        </p:blipFill>
        <p:spPr>
          <a:xfrm>
            <a:off x="826920" y="907920"/>
            <a:ext cx="7417080" cy="43927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>
            <a:off x="291636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0">
                                  <p:stCondLst>
                                    <p:cond delay="1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35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26920" y="148428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议议，说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49228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回顾故事，分析一下，在“这是一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皇帝”句式中填入恰当的词语，并说出你的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65760" y="2421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展开想象，续写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716280"/>
            <a:ext cx="77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游行大典完毕，皇帝回宫后，事情将会怎样呢？大家展开想像，用夸张的手法，替安徒生续写一篇《皇帝的新装》后记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476280"/>
            <a:ext cx="3816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课后延伸</a:t>
            </a:r>
            <a:endParaRPr b="1" lang="en-US" sz="9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e" descr=""/>
          <p:cNvPicPr/>
          <p:nvPr/>
        </p:nvPicPr>
        <p:blipFill>
          <a:blip r:embed="rId1"/>
          <a:stretch/>
        </p:blipFill>
        <p:spPr>
          <a:xfrm>
            <a:off x="3809880" y="76212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62520" y="214776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皇 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21520" y="335268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  <a:ea typeface="楷体_GB2312"/>
              </a:rPr>
              <a:t>骗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840" y="3200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76920" y="4038120"/>
            <a:ext cx="1295280" cy="12956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29000" y="39621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2004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26080" y="5105520"/>
            <a:ext cx="10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  <a:ea typeface="楷体_GB2312"/>
              </a:rPr>
              <a:t>小 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4191120"/>
            <a:ext cx="761760" cy="76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86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文中各种人物是怎样围绕“骗”字进行活动的？（用一个字加以概括故事情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ZW_02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310440"/>
            <a:ext cx="611280" cy="54756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828800" y="1676520"/>
            <a:ext cx="1174680" cy="2107800"/>
            <a:chOff x="1828800" y="1676520"/>
            <a:chExt cx="1174680" cy="2107800"/>
          </a:xfrm>
        </p:grpSpPr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1828800" y="1676520"/>
              <a:ext cx="117468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172960" y="3385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大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828800" y="4114800"/>
            <a:ext cx="1599840" cy="2065320"/>
            <a:chOff x="1828800" y="4114800"/>
            <a:chExt cx="1599840" cy="2065320"/>
          </a:xfrm>
        </p:grpSpPr>
        <p:graphicFrame>
          <p:nvGraphicFramePr>
            <p:cNvPr id="158" name=""/>
            <p:cNvGraphicFramePr/>
            <p:nvPr/>
          </p:nvGraphicFramePr>
          <p:xfrm>
            <a:off x="1828800" y="4114800"/>
            <a:ext cx="1421640" cy="145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4114800"/>
                      <a:ext cx="142164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2205000" y="578124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b" descr=""/>
          <p:cNvPicPr/>
          <p:nvPr/>
        </p:nvPicPr>
        <p:blipFill>
          <a:blip r:embed="rId7"/>
          <a:srcRect l="3296" t="35337" r="24227" b="0"/>
          <a:stretch/>
        </p:blipFill>
        <p:spPr>
          <a:xfrm>
            <a:off x="6400800" y="426708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162" name="d" descr=""/>
          <p:cNvPicPr/>
          <p:nvPr/>
        </p:nvPicPr>
        <p:blipFill>
          <a:blip r:embed="rId8"/>
          <a:stretch/>
        </p:blipFill>
        <p:spPr>
          <a:xfrm>
            <a:off x="6248520" y="10666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4191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733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0464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48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童话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儿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学的一种。这种作品通过丰富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、大胆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夸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来塑造形象，反映生活，对儿童进行思想教育。语言通俗、生动，故事情节往往离奇曲折 ，引人入胜。童话又往往采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拟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的方法，凡举鸟兽虫鱼，花草树木，整个大自然以及家具、玩具都可赋予生命，注入思想感情，使它们人格化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2520" y="2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关于童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2349360"/>
            <a:ext cx="80769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皇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臣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骗子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孩子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234936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昏庸无能、爱慕虚荣、虚伪愚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3213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虚伪愚昧、阿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ē)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谀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yú)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奉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77520" y="4005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狡猾贪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4869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纯洁天真、无私无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0464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9900"/>
                </a:solidFill>
                <a:latin typeface="宋体"/>
              </a:rPr>
              <a:t>概括出皇帝、大臣及官员、小孩的性格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文中如何运用夸张与想象手法的？并说说它们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4221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用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无情地鞭挞了至高无上的皇帝和道貌岸然的大臣，辛辣地嘲笑了他们的愚蠢虚伪卑鄙自私，曲折地反映了现实生活，反映了封建专制制度的腐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34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夸张与想象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本文写出骗子用根本不存在的布料、衣服向皇帝行骗，写出皇帝和大臣们都甘愿受骗、并且骗人，最后写出皇帝赤裸全身在大街上游行，构成了丰富的想象和大胆的夸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76320"/>
            <a:ext cx="914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拓展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1219320"/>
            <a:ext cx="678168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我对勇气的新认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宋体"/>
              </a:rPr>
              <a:t>从前，我认为—————的行为是勇敢；今天，我认识到——————的行为是勇敢；在今天—————的环境下，——————————————的行为更是勇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28195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b" descr=""/>
          <p:cNvPicPr/>
          <p:nvPr/>
        </p:nvPicPr>
        <p:blipFill>
          <a:blip r:embed="rId3"/>
          <a:srcRect l="0" t="29630" r="20931" b="0"/>
          <a:stretch/>
        </p:blipFill>
        <p:spPr>
          <a:xfrm>
            <a:off x="7543800" y="4038480"/>
            <a:ext cx="160020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777240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下自主编排课本剧，表演课本剧。下节课交流。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777240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556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拓展延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0" name="gifbj058" descr="文件:gifbj058.gif  &lt;br&gt;  尺寸:100 × 120  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4005360"/>
            <a:ext cx="302580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gifbj058" descr="文件:gifbj058.gif  &lt;br&gt;  尺寸:100 × 120  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039760" cy="1758960"/>
          </a:xfrm>
          <a:prstGeom prst="rect">
            <a:avLst/>
          </a:prstGeom>
          <a:ln w="0">
            <a:noFill/>
          </a:ln>
        </p:spPr>
      </p:pic>
      <p:pic>
        <p:nvPicPr>
          <p:cNvPr id="182" name="gif001" descr="点击放大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508464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9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</a:rPr>
              <a:t>课本剧剧本示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点：织布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：骗子、大臣、皇帝、官员、内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老大臣自右侧上场。骗子甲、乙赶紧配合着装模作样的工作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骗子甲</a:t>
            </a:r>
            <a:r>
              <a:rPr b="1" lang="zh-CN" sz="2800" spc="-1" strike="noStrike">
                <a:solidFill>
                  <a:srgbClr val="fa4068"/>
                </a:solidFill>
                <a:latin typeface="Arial"/>
              </a:rPr>
              <a:t>（开门，恭敬地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好！尊敬的大臣，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问，你有何吩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大臣</a:t>
            </a:r>
            <a:r>
              <a:rPr b="1" lang="zh-CN" sz="2800" spc="-1" strike="noStrike">
                <a:solidFill>
                  <a:srgbClr val="fa4068"/>
                </a:solidFill>
                <a:latin typeface="Arial"/>
              </a:rPr>
              <a:t>（和蔼地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皇帝陛下让我看看布织得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骗子乙</a:t>
            </a:r>
            <a:r>
              <a:rPr b="1" lang="zh-CN" sz="2800" spc="-1" strike="noStrike">
                <a:solidFill>
                  <a:srgbClr val="fa4068"/>
                </a:solidFill>
                <a:latin typeface="Arial"/>
              </a:rPr>
              <a:t>（指向“布料”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请看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89000"/>
            <a:ext cx="9144000" cy="68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大臣</a:t>
            </a:r>
            <a:r>
              <a:rPr b="1" lang="zh-CN" sz="2800" spc="-1" strike="noStrike">
                <a:solidFill>
                  <a:srgbClr val="fa4068"/>
                </a:solidFill>
                <a:latin typeface="宋体"/>
              </a:rPr>
              <a:t>（揉揉眼睛，仔细地看，低声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难道我是愚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吗？难道我是不称职的吗？不成！我决不能让人知道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看不见布料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。（</a:t>
            </a:r>
            <a:r>
              <a:rPr b="1" lang="zh-CN" sz="2800" spc="-1" strike="noStrike">
                <a:solidFill>
                  <a:srgbClr val="fa4068"/>
                </a:solidFill>
                <a:latin typeface="宋体"/>
              </a:rPr>
              <a:t>坚定地）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不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骗子乙</a:t>
            </a:r>
            <a:r>
              <a:rPr b="1" lang="zh-CN" sz="2800" spc="-1" strike="noStrike">
                <a:solidFill>
                  <a:srgbClr val="fa4068"/>
                </a:solidFill>
                <a:latin typeface="宋体"/>
              </a:rPr>
              <a:t>（骄傲地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大人，你看，这布料是不是很美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颜色是不是很漂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大臣</a:t>
            </a:r>
            <a:r>
              <a:rPr b="1" lang="zh-CN" sz="2800" spc="-1" strike="noStrike">
                <a:solidFill>
                  <a:srgbClr val="fa4068"/>
                </a:solidFill>
                <a:latin typeface="宋体"/>
              </a:rPr>
              <a:t>（故作镇定，夸张地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哎呀，美极了！真是美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骗子乙</a:t>
            </a:r>
            <a:r>
              <a:rPr b="1" lang="zh-CN" sz="2800" spc="-1" strike="noStrike">
                <a:solidFill>
                  <a:srgbClr val="fa4068"/>
                </a:solidFill>
                <a:latin typeface="宋体"/>
              </a:rPr>
              <a:t>（谦虚地，俯身说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你一点意见也没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1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995640" cy="51469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495680" y="260280"/>
            <a:ext cx="4648320" cy="2226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安徒生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805~1875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全名是：汉斯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克利斯坦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安徒生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,19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世纪丹麦文学巨匠，世界著名的童话作家。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他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余篇童话在近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年中被翻译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40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835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年开始写童话，著名的童话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丑小鸭》、《海的女儿》、《卖火柴的小女孩》、《夜莺》、《皇帝的新装》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安徒生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为下一代创作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用我的一切感情和思想来写童话，但是同时我也没有忘记成年人，当我在为孩子们写一篇故事的时候，我永远记住他们的父亲和母亲也会在旁边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曼妙的童话都是从真实的生活中产生出来的，否则我的美丽的接骨木树就不会从茶壶里冒出来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838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生字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981080"/>
            <a:ext cx="7315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炫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滑稽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陛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)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称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自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御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赏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205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xu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057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j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971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048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114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029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743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7432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36576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6576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7242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791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58672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57913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286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2286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286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词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骇人听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hài )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人听了非常吃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指社会上发生的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声附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fÙ hè )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说什么，自己也说什么。形容没有主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称职：思想水平和工作能力都能担任的职务。称，适合、相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滑稽：（语言、动作）引人发笑。文中是荒唐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精致：精巧细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呈报：报告（上级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炫耀：夸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hddxz-01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05800" cy="389592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1752480" y="5257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5600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hddxz-02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201080" cy="434988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255600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437000"/>
            <a:ext cx="87631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05" descr="05.gif (35162 bytes)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351180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2627280" y="0"/>
            <a:ext cx="3390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复述故事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0">
                                  <p:stCondLst>
                                    <p:cond delay="1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2-11-13T07:12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