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738600"/>
            <a:ext cx="264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3860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8600"/>
            <a:ext cx="82296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浩 顺 商 用 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软 件</a:t>
            </a:r>
            <a:br>
              <a:rPr sz="5400"/>
            </a:br>
            <a:r>
              <a:rPr b="1" lang="zh-CN" sz="4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2720" y="-194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系统已预置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83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万条商品信息，常用商品的名称、单位等信息自动填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260360" y="2925720"/>
            <a:ext cx="691524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1080" y="-19440"/>
            <a:ext cx="7056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75280" cy="4459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12720" y="1052640"/>
            <a:ext cx="63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置界面直观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小票打印可以选择使用驱动打印，与小票机型号无关，支持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机上安装的任意打印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打印机"/>
          <p:cNvPicPr/>
          <p:nvPr/>
        </p:nvPicPr>
        <p:blipFill>
          <a:blip r:embed="rId1"/>
          <a:stretch/>
        </p:blipFill>
        <p:spPr>
          <a:xfrm>
            <a:off x="1547640" y="2060640"/>
            <a:ext cx="5761080" cy="42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码打印采用驱动打印的方式，与打印机型号无关，适用于电脑上安装的任意条码打印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条码打印机"/>
          <p:cNvPicPr/>
          <p:nvPr/>
        </p:nvPicPr>
        <p:blipFill>
          <a:blip r:embed="rId1"/>
          <a:stretch/>
        </p:blipFill>
        <p:spPr>
          <a:xfrm>
            <a:off x="4357800" y="2278080"/>
            <a:ext cx="47527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34920" y="2276640"/>
            <a:ext cx="4281480" cy="310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-194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052280"/>
            <a:ext cx="7848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浩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智能版软件销售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新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针对客户的实际使用情况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，软件功能完全满足客户需求的同时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操作和安装非常简单易懂，对电脑操作不是很熟练的客户也能一看就懂，真正的实现了免安装免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新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当客户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生意扩张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需要增值服务时，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浩顺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智能软件（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HS8.51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）可以轻松升级到浩顺商用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增强软件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HS8.52)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、浩顺商用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连锁软件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HS8.53)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版本，不同版本软件数据可以共享，只需一键点击，就可以把基本信息（商品信息、库存信息、会员信息等）数据发送到浩顺商用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增强软件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HS8.52)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，浩顺商用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连锁软件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(HS8.53)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使用的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erver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数据库中，减少了客户因升级带来的不必要的麻烦和数据丢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8720" y="1197000"/>
            <a:ext cx="7486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浩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智能版软件销售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软件采用了全新的开发平台和数据库技术，可以支持高达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2T  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的海量数据，几乎可以不考虑存储上限，而收银速度则比普通采用 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erver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的软件快约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20%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，也比同行业的其它品牌软件更稳定，为以后增值客户打下了品质性能稳定、操作简单易懂的好口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-90720"/>
            <a:ext cx="814536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5451374_150009581149_2"/>
          <p:cNvPicPr/>
          <p:nvPr/>
        </p:nvPicPr>
        <p:blipFill>
          <a:blip r:embed="rId1"/>
          <a:stretch/>
        </p:blipFill>
        <p:spPr>
          <a:xfrm>
            <a:off x="324000" y="105408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2916360" y="256536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新宋体"/>
                <a:ea typeface="楷体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新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068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125000"/>
            <a:ext cx="7632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浩顺</a:t>
            </a: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智能版软件客户定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浩顺智能版软件适用于使用单台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机的零售店客户，例：小饰品店、冷饮店、便民超市、干果店、各种行业的小专卖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可与浩顺品牌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机捆绑销售，更加突出浩顺品牌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机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软件的高性价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此软件突出的友好界面和易用性，消减客户对一般软件的心理障碍，大大提高了使用软件的客户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2360" y="44280"/>
            <a:ext cx="6838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7080" y="141408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软件快捷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浩顺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智能版软件安装快捷，使用简单易操作，对系统的要求低，只要预装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系统（包括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windows 2000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windows XP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window 2003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window 7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等）就可以安装运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软件不需要其他插件（例如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.net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组件等），不需要  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server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新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单一安装文件（压缩后仅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余兆），便于复制和网上传输，便于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17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7080" y="141408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软件功能强大，一键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1.  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软件支持会员管理、库存管理、各种销售报表，支持各型条码电子秤、各型条码打印机，连接硬件时方便快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安装过程简单，只需一键点击“安装”，数秒内</a:t>
            </a: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即可完成，即使操作人员没有使用软件的基础，也能够按照界面图标、按钮的说明正确使用。界面采用导航图标</a:t>
            </a:r>
            <a:r>
              <a:rPr b="0" lang="en-US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、大按钮、注释等，操作人员根据注释，可以较快上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12720" y="13748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浩顺商用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POS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软件智能版安装界面一目了然</a:t>
            </a:r>
            <a:endParaRPr b="0" lang="en-US" sz="2400" spc="-1" strike="noStrike">
              <a:solidFill>
                <a:srgbClr val="000000"/>
              </a:solidFill>
              <a:latin typeface="新宋体"/>
            </a:endParaRPr>
          </a:p>
        </p:txBody>
      </p:sp>
      <p:pic>
        <p:nvPicPr>
          <p:cNvPr id="237" name="Picture 4" descr="安装"/>
          <p:cNvPicPr/>
          <p:nvPr/>
        </p:nvPicPr>
        <p:blipFill>
          <a:blip r:embed="rId1"/>
          <a:stretch/>
        </p:blipFill>
        <p:spPr>
          <a:xfrm>
            <a:off x="1763640" y="2349360"/>
            <a:ext cx="5581800" cy="319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194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9440" y="1341360"/>
            <a:ext cx="8218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使用者管理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081760" cy="33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1440" y="-163800"/>
            <a:ext cx="81468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1574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导航界面友好，清晰直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186600" cy="43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-194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销售界面常用功能采用大按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，客户使用更直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597280" cy="419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-194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浩顺商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POS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软件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智能版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HS8.5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商品快捷录入，超级智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即使基本信息里面没有商品基本信息，也可以在销售界面直接快捷录入商品。销售时系统自动判断商品信息是否存在，如不存在会直接弹出商品快捷录入界面，智能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94160" cy="23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4:17:16Z</dcterms:created>
  <dc:creator>gjtech</dc:creator>
  <dc:description/>
  <cp:keywords/>
  <dc:language>en-US</dc:language>
  <cp:lastModifiedBy>Administrator</cp:lastModifiedBy>
  <dcterms:modified xsi:type="dcterms:W3CDTF">2014-03-24T07:17:17Z</dcterms:modified>
  <cp:revision>23</cp:revision>
  <dc:subject/>
  <dc:title>浩顺商用POS智能软件(HS8.5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