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5648-D087-4A11-BC5F-A3B0E209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A39-EE91-4C34-A7A3-12264580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EAB59-CA73-4C8A-80E7-808053F8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A6307-9751-4C52-9961-FB18D236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CBD11-90EA-4726-A1CF-B9E94F6A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73EEA-A1F4-4947-99BD-996DD0F7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A901E-A1C5-4E32-8109-45D2187F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F3A29-418B-4DFB-832E-2D73D5B2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B382E-841B-4F2B-BD3F-D3A848DE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C8CF2-C772-49A0-9B54-97568FE3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43259-93D6-47D4-BACA-CD93C447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08300-DCF9-492E-99BE-C1284D4B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0AF-4002-492B-A490-FD0E3A8F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BDEE6-A8DD-4B72-8C0B-74BBE520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8F294-7B94-489C-9081-EB23BF9F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64E6E-7763-4002-9A8E-FA3DC0CE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F8263-394D-4E0F-AE1B-CA8059F0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6FFF1-5180-4A1D-A4FD-5FBE9379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EED09-6527-4166-84E6-D158F236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FA887-87C2-4A19-8CDC-F7D9605D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8713E-77FC-4E62-93B7-531FCD17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5E00F-4505-4FB3-B4AE-E80D8AD1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92296-BF08-47B9-A7C1-589E58A7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D7F-8E74-4EEE-8481-964DC114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CEF04-8801-4CCC-9433-493ED355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130D1-702D-4E4F-8A9E-FBE68E0F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BFD82-54DD-4456-960C-C930D808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395F3-FE44-4A4D-AA4F-7ADB2F35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66731-333B-49C1-83E4-7DFA00B7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04F20-8E2D-4599-A795-57190DD4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C7B8A-4CD4-46E3-B568-3399CE40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D5807-937F-4990-A3FD-8A300964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FE283-F256-4DAA-B41A-5B448E9A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8B834-A26A-4F67-9031-754D4788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B734-7520-4F6C-9D2A-D7ED9BF6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469B9-5AD5-4C7D-AC73-8A120900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61F0A-E9BD-4381-8B76-0DCB0F6F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F72B6-CAFB-4D45-933D-D9E1E2BA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7DA6B-C88F-4253-80A1-4C7EC699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E2497-EA9F-42E9-984F-463A614F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BDD42-D26F-4551-9A70-E446EB3F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7B6A1-371D-49B1-9C31-0F6BE850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50F1D-76E1-483A-A211-DB10D59D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F039C-674F-4BAF-A258-0412B0B8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6E400-81A6-4D1A-BAF2-EA4F00DE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BBB8-CD1A-4FAC-8E0B-075383F0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61607-DCEE-4E88-BECF-4E83EB9E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779B7-F33F-411C-B788-77A8D6F3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AD9D9-7A89-4369-A466-234BE915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122E3-99A6-4AD3-B83D-4D951B41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7B2C6-8D0B-40BA-847D-72DE04C1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0FF2-685C-4392-AF16-42152748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DA7E-E798-4895-B90A-503B887E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A576-D2CA-4E4C-912F-D4C70738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ACF8-0FF5-4FA9-9E1B-129FE721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4840-B123-4C26-83ED-7E222AA2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65D-062C-4E71-ABAF-6DAC5D29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E38E-BA54-4DAE-A73C-730CC978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87BF-7F2D-489A-8FAB-0C96A79F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B2D7-BF72-4340-88FC-8D9F0AD3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73E7-7B83-43BC-B102-A877E7F7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33DD-6766-47E8-B39A-61C29F54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B65A6-ECD9-42DA-84E6-8DB773CC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455D9-06B3-425B-A7EF-519C8689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FC607-6F15-4AE6-AE1B-18B3D964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0DDF6-F108-4599-B598-D299932B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3A65-17C7-4964-831E-9AC38165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484-A381-4B3E-99AE-3398E704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1A40F-5E00-424C-9C07-7B403521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B472-625A-4793-BA1C-EE10ADE7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B39D9-7507-4B29-962D-376BDD42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09B7D-D6D4-48E3-A40A-6D1BFC8C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02EC-DA8D-416A-B89B-1E0E5189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4F8B0-9A53-494C-8C4A-A7EB274A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5BBF-4888-4780-8998-F69A7875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94879-CBA2-4279-98DD-6C5BE243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AE0C5-D743-4E48-B410-67EE66E9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DF623-2435-4E35-ABBB-E74DF0A7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3A5-9D7B-4FE7-92E8-05FF5954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9AEF5-8616-4993-ADF9-71F30970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57974-80E5-4EC6-A6F3-77CC68FE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96C64-1805-44CF-B4E5-55B2940F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111E9-9E91-45DF-95E0-FEDAD266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F55D4-7287-4184-98FB-C5309B5F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DA6E1-61AE-4315-944B-2285C9C9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309BC-19FE-42B6-A872-0F462F7C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93672-5E9C-440F-BD4D-316F27EF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F78E4-43BD-4730-8BE1-E80F76CF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22834-43A1-4722-8F75-D3FA02B4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B03-C464-4A43-BF5B-CD3D2989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6BDA6-2009-4D8C-B047-DA91B544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032ED-FDB1-4C19-9FDF-BF69C91C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1639F-F801-4433-A22A-30A3F3DE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96613-51B5-4310-B998-03654C2B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93186-FAAC-42C9-A8FF-9B0D1CD0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19288-437D-4D04-98F0-4FBE1DEB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FA4E0-29AD-442C-9E0F-52FC681C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4DE3B-FEEE-415D-9E01-0A45A040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A8368-A625-495E-899F-9ACEAF8A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A9D01-B41F-41B2-8DF4-B4A3D3F0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775-18AC-46C6-9CD5-DC47D74A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9B91C-5F64-48EA-AA2F-EC06373D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32CD3-236D-4AA3-BDBC-1DFBBF76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14FD2-C78A-4325-9DF3-881255BB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6C979-9581-4932-94BA-50A43592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25263-51DE-4155-B223-465EB51E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02D17-E863-4441-8B7B-32B8953A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24280-ACA3-4E65-9FB7-0BADCFCF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A82C1-3A61-487A-BFA6-A554EB64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08288-3653-48F7-AB72-940A7D64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AB59C-D316-47D3-A101-C8C51D71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CE8-E36D-4407-A872-C2AC0E96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D1E1B-34D1-406F-9E40-F0BA23BC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F2D5D-37ED-4ACD-910F-9F55FF67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3DE22-F852-45FA-884E-F5EA3F98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7D729-094E-4A67-A00A-C32A0B97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320C8-6C91-433B-BCDB-F98ABA85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0FDD9-A5F0-4571-8FE3-D07D21CD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65DB1-E09B-4B5B-8AC9-47EDF576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90299-8757-49FA-8992-4D89D21C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72DA4-0DE2-4BD0-A066-197E8F79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8CEEF-1975-4FEA-8229-E38B7620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A0A-8DEC-43C4-8127-2A947067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C76AE-E284-4275-97AD-79AB7DEA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857AF-E171-454A-AB5D-CEC66363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6CF36-0B6D-44E2-BD6E-16A73201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F8C9A-E05D-4B09-B208-627ED8E8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60A20-D6BD-4DF1-8229-8573DF57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06432-502D-4EF5-A41E-0863DB54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AF9B1-D59B-401B-A189-A48B8544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F6FA3-EAA8-4DA9-A7D9-784C668A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6910A-0276-4BC6-9D11-7C696EFE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299FE-C125-4475-81D7-76E47EF8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3F2-A32F-4914-8F4A-448E0A7B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4759C-076F-4F3F-84E1-D44153AF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90B4F-18B8-4969-AE9A-720BFE0B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A7673-D1D5-41D9-A682-AC6C1506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B59EE-5DB8-46C7-BC01-A9F89340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1FC88-CC94-4C93-9568-13BF0598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8011B-27DA-4DF5-AD25-909971FC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B7A28-F5E3-4286-979A-EE5CFC69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05988-0960-444E-826D-28B631E1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7EA86-30A4-40EF-9805-40D6DE37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2832C-D30B-4BCD-AA6B-1809F35E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12A8-10C9-4EDC-8A4A-D3B1AD3C1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2297-786E-427A-9BB3-A8D174440F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675A-4436-4A71-A331-FF37DA8863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1276-CC1D-4BBC-A68E-80BACFD433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735A-A193-457C-805C-AFB37DDC15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5596-B675-4A62-A0A4-0EE6E559D1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BEBC-1DB1-4C3B-9EAD-8C65BBD317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8548-6CE1-4811-A745-064D605410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AAB1-A5D6-4833-9495-34885F8170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26D1-1A99-4C97-8C8F-3BC651CD9B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752F-C5F5-4FA4-9991-817117AF82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D88C-723A-48B3-A7ED-A8AC30ACCC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胡萝卜种子00封面"/>
          <p:cNvPicPr/>
          <p:nvPr/>
        </p:nvPicPr>
        <p:blipFill>
          <a:blip r:embed="rId1"/>
          <a:stretch/>
        </p:blipFill>
        <p:spPr>
          <a:xfrm>
            <a:off x="2195640" y="15840"/>
            <a:ext cx="514512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6" descr="胡萝卜种子02"/>
          <p:cNvPicPr/>
          <p:nvPr/>
        </p:nvPicPr>
        <p:blipFill>
          <a:blip r:embed="rId1"/>
          <a:srcRect l="49523" t="0" r="0" b="1880"/>
          <a:stretch/>
        </p:blipFill>
        <p:spPr>
          <a:xfrm>
            <a:off x="4699080" y="808200"/>
            <a:ext cx="4444920" cy="60498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8" descr="胡萝卜种子01"/>
          <p:cNvPicPr/>
          <p:nvPr/>
        </p:nvPicPr>
        <p:blipFill>
          <a:blip r:embed="rId2"/>
          <a:srcRect l="50976" t="0" r="0" b="0"/>
          <a:stretch/>
        </p:blipFill>
        <p:spPr>
          <a:xfrm>
            <a:off x="0" y="658800"/>
            <a:ext cx="4317840" cy="61992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0" descr="胡萝卜种子01"/>
          <p:cNvPicPr/>
          <p:nvPr/>
        </p:nvPicPr>
        <p:blipFill>
          <a:blip r:embed="rId3"/>
          <a:srcRect l="50976" t="0" r="0" b="0"/>
          <a:stretch/>
        </p:blipFill>
        <p:spPr>
          <a:xfrm>
            <a:off x="0" y="476280"/>
            <a:ext cx="4317840" cy="61992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2"/>
          <p:cNvSpPr/>
          <p:nvPr/>
        </p:nvSpPr>
        <p:spPr>
          <a:xfrm>
            <a:off x="0" y="0"/>
            <a:ext cx="4284720" cy="10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个小男孩种下一颗胡萝卜种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3"/>
          <p:cNvSpPr/>
          <p:nvPr/>
        </p:nvSpPr>
        <p:spPr>
          <a:xfrm>
            <a:off x="4716360" y="0"/>
            <a:ext cx="4427640" cy="10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他的妈妈说：“这颗种子恐怕不会发芽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9" descr="胡萝卜种子04"/>
          <p:cNvPicPr/>
          <p:nvPr/>
        </p:nvPicPr>
        <p:blipFill>
          <a:blip r:embed="rId1"/>
          <a:srcRect l="50848" t="0" r="0" b="0"/>
          <a:stretch/>
        </p:blipFill>
        <p:spPr>
          <a:xfrm>
            <a:off x="4643280" y="719280"/>
            <a:ext cx="4502160" cy="6165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8" descr="胡萝卜种子03"/>
          <p:cNvPicPr/>
          <p:nvPr/>
        </p:nvPicPr>
        <p:blipFill>
          <a:blip r:embed="rId2"/>
          <a:srcRect l="50278" t="0" r="0" b="0"/>
          <a:stretch/>
        </p:blipFill>
        <p:spPr>
          <a:xfrm>
            <a:off x="0" y="765000"/>
            <a:ext cx="4429080" cy="60930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0"/>
          <p:cNvSpPr/>
          <p:nvPr/>
        </p:nvSpPr>
        <p:spPr>
          <a:xfrm>
            <a:off x="0" y="0"/>
            <a:ext cx="442764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的爸爸也说：“它恐怕不会发芽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643280" y="0"/>
            <a:ext cx="450072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的哥哥也说：“它恐怕不会发芽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10"/>
          <p:cNvSpPr/>
          <p:nvPr/>
        </p:nvSpPr>
        <p:spPr>
          <a:xfrm>
            <a:off x="539640" y="2276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4" descr="胡萝卜种子05"/>
          <p:cNvPicPr/>
          <p:nvPr/>
        </p:nvPicPr>
        <p:blipFill>
          <a:blip r:embed="rId1"/>
          <a:srcRect l="50018" t="0" r="0" b="0"/>
          <a:stretch/>
        </p:blipFill>
        <p:spPr>
          <a:xfrm>
            <a:off x="0" y="647640"/>
            <a:ext cx="4568760" cy="62103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胡萝卜种子05"/>
          <p:cNvPicPr/>
          <p:nvPr/>
        </p:nvPicPr>
        <p:blipFill>
          <a:blip r:embed="rId2"/>
          <a:srcRect l="7340" t="22751" r="59430" b="59844"/>
          <a:stretch/>
        </p:blipFill>
        <p:spPr>
          <a:xfrm>
            <a:off x="0" y="0"/>
            <a:ext cx="4572000" cy="13334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胡萝卜种子06"/>
          <p:cNvPicPr/>
          <p:nvPr/>
        </p:nvPicPr>
        <p:blipFill>
          <a:blip r:embed="rId3"/>
          <a:srcRect l="50798" t="0" r="0" b="0"/>
          <a:stretch/>
        </p:blipFill>
        <p:spPr>
          <a:xfrm>
            <a:off x="4646520" y="590400"/>
            <a:ext cx="4497480" cy="62676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胡萝卜种子06"/>
          <p:cNvPicPr/>
          <p:nvPr/>
        </p:nvPicPr>
        <p:blipFill>
          <a:blip r:embed="rId4"/>
          <a:srcRect l="4324" t="20011" r="64954" b="65046"/>
          <a:stretch/>
        </p:blipFill>
        <p:spPr>
          <a:xfrm>
            <a:off x="4643280" y="0"/>
            <a:ext cx="4500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" descr="胡萝卜种子09"/>
          <p:cNvPicPr/>
          <p:nvPr/>
        </p:nvPicPr>
        <p:blipFill>
          <a:blip r:embed="rId1"/>
          <a:srcRect l="49983" t="0" r="0" b="0"/>
          <a:stretch/>
        </p:blipFill>
        <p:spPr>
          <a:xfrm>
            <a:off x="0" y="703440"/>
            <a:ext cx="4500720" cy="61545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胡萝卜种子09"/>
          <p:cNvPicPr/>
          <p:nvPr/>
        </p:nvPicPr>
        <p:blipFill>
          <a:blip r:embed="rId2"/>
          <a:srcRect l="7198" t="21046" r="55982" b="60229"/>
          <a:stretch/>
        </p:blipFill>
        <p:spPr>
          <a:xfrm>
            <a:off x="0" y="0"/>
            <a:ext cx="4500720" cy="15667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6" descr="胡萝卜种子10"/>
          <p:cNvPicPr/>
          <p:nvPr/>
        </p:nvPicPr>
        <p:blipFill>
          <a:blip r:embed="rId3"/>
          <a:srcRect l="50794" t="0" r="0" b="0"/>
          <a:stretch/>
        </p:blipFill>
        <p:spPr>
          <a:xfrm>
            <a:off x="4716360" y="650880"/>
            <a:ext cx="4427640" cy="6207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胡萝卜种子10"/>
          <p:cNvPicPr/>
          <p:nvPr/>
        </p:nvPicPr>
        <p:blipFill>
          <a:blip r:embed="rId4"/>
          <a:srcRect l="6404" t="22046" r="69584" b="67522"/>
          <a:stretch/>
        </p:blipFill>
        <p:spPr>
          <a:xfrm>
            <a:off x="4716360" y="0"/>
            <a:ext cx="442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胡萝卜种子07"/>
          <p:cNvPicPr/>
          <p:nvPr/>
        </p:nvPicPr>
        <p:blipFill>
          <a:blip r:embed="rId1"/>
          <a:srcRect l="50020" t="0" r="0" b="0"/>
          <a:stretch/>
        </p:blipFill>
        <p:spPr>
          <a:xfrm>
            <a:off x="0" y="701640"/>
            <a:ext cx="4497480" cy="61563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胡萝卜种子07"/>
          <p:cNvPicPr/>
          <p:nvPr/>
        </p:nvPicPr>
        <p:blipFill>
          <a:blip r:embed="rId2"/>
          <a:srcRect l="6794" t="20138" r="59600" b="70503"/>
          <a:stretch/>
        </p:blipFill>
        <p:spPr>
          <a:xfrm>
            <a:off x="0" y="0"/>
            <a:ext cx="4500720" cy="1052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胡萝卜种子08"/>
          <p:cNvPicPr/>
          <p:nvPr/>
        </p:nvPicPr>
        <p:blipFill>
          <a:blip r:embed="rId3"/>
          <a:srcRect l="49189" t="0" r="0" b="0"/>
          <a:stretch/>
        </p:blipFill>
        <p:spPr>
          <a:xfrm>
            <a:off x="4572000" y="671400"/>
            <a:ext cx="4572000" cy="61866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胡萝卜种子08"/>
          <p:cNvPicPr/>
          <p:nvPr/>
        </p:nvPicPr>
        <p:blipFill>
          <a:blip r:embed="rId4"/>
          <a:srcRect l="5982" t="23634" r="61223" b="65899"/>
          <a:stretch/>
        </p:blipFill>
        <p:spPr>
          <a:xfrm>
            <a:off x="4572000" y="0"/>
            <a:ext cx="457200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胡萝卜种子11"/>
          <p:cNvPicPr/>
          <p:nvPr/>
        </p:nvPicPr>
        <p:blipFill>
          <a:blip r:embed="rId1"/>
          <a:srcRect l="49983" t="0" r="0" b="0"/>
          <a:stretch/>
        </p:blipFill>
        <p:spPr>
          <a:xfrm>
            <a:off x="0" y="609480"/>
            <a:ext cx="4500720" cy="62485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胡萝卜种子11"/>
          <p:cNvPicPr/>
          <p:nvPr/>
        </p:nvPicPr>
        <p:blipFill>
          <a:blip r:embed="rId2"/>
          <a:srcRect l="6776" t="23222" r="62017" b="68702"/>
          <a:stretch/>
        </p:blipFill>
        <p:spPr>
          <a:xfrm>
            <a:off x="0" y="0"/>
            <a:ext cx="4500720" cy="809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胡萝卜种子12"/>
          <p:cNvPicPr/>
          <p:nvPr/>
        </p:nvPicPr>
        <p:blipFill>
          <a:blip r:embed="rId3"/>
          <a:srcRect l="50794" t="0" r="0" b="0"/>
          <a:stretch/>
        </p:blipFill>
        <p:spPr>
          <a:xfrm>
            <a:off x="4716360" y="650880"/>
            <a:ext cx="4427640" cy="62071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胡萝卜种子12"/>
          <p:cNvPicPr/>
          <p:nvPr/>
        </p:nvPicPr>
        <p:blipFill>
          <a:blip r:embed="rId4"/>
          <a:srcRect l="5982" t="20410" r="66021" b="64529"/>
          <a:stretch/>
        </p:blipFill>
        <p:spPr>
          <a:xfrm>
            <a:off x="4716360" y="0"/>
            <a:ext cx="44276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1:03:48Z</dcterms:created>
  <dc:creator>maling</dc:creator>
  <dc:description/>
  <dc:language>en-US</dc:language>
  <cp:lastModifiedBy>admin</cp:lastModifiedBy>
  <dcterms:modified xsi:type="dcterms:W3CDTF">2015-01-31T03:48:06Z</dcterms:modified>
  <cp:revision>8</cp:revision>
  <dc:subject/>
  <dc:title>幻灯片 1</dc:title>
</cp:coreProperties>
</file>