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camera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12.jpeg" ContentType="image/jpeg"/>
  <Override PartName="/ppt/media/cashreg.wav" ContentType="audio/x-wav"/>
  <Override PartName="/ppt/media/image4.png" ContentType="image/png"/>
  <Override PartName="/ppt/media/laser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10F-8C2A-45EB-8933-06233E0F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5C0-C274-43C8-A80C-115D6133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FA5-FD74-4093-8231-28F7A9F2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409-F97A-46C9-BBF7-DA631CFE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1CA-8835-4A41-9F1A-C1ACCF68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190-B094-41DD-AEE4-0A78D16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6C4-FB57-42CD-AED1-D70B40D0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0A7-E605-41FF-8CC0-2DE1CE9C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E2C-BAC3-487A-86D8-9724ADA5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75-AFA3-4E6E-92E2-407393FF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63A-752E-41F9-B45D-81D1C68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630-1154-4397-A92C-28C41AD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9D23-5B48-49DF-9283-D112CC48A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04760"/>
            <a:ext cx="91440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9600" spc="-1" strike="noStrike">
              <a:solidFill>
                <a:srgbClr val="000000"/>
              </a:solidFill>
              <a:latin typeface="Times New Roman"/>
              <a:ea typeface="隶书"/>
            </a:endParaRPr>
          </a:p>
        </p:txBody>
      </p:sp>
      <p:pic>
        <p:nvPicPr>
          <p:cNvPr id="42" name="Picture 4" descr="NA01441_"/>
          <p:cNvPicPr/>
          <p:nvPr/>
        </p:nvPicPr>
        <p:blipFill>
          <a:blip r:embed="rId1"/>
          <a:stretch/>
        </p:blipFill>
        <p:spPr>
          <a:xfrm>
            <a:off x="7650000" y="5172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Documents and Settings\DBF\My Documents\My Pictures\桂林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1030320" y="1052640"/>
            <a:ext cx="4621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观刈麦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372360" y="4869000"/>
            <a:ext cx="2133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白居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DBF\My Documents\My Pictures\017B94F9.jf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304920" y="30492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今我何功德，曾不事农桑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609480" y="175248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吏禄三百石，岁晏有余粮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914400" y="3124080"/>
            <a:ext cx="6400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念此私自愧，尽日不能忘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04920" y="4572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第四层六句，写诗人面对丰收下出现如此悲惨景象的自疚自愧。事：从事。岁晏：年底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DBF\My Documents\My Pictures\d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0"/>
            <a:ext cx="9144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作品的题目叫《观刈麦》，而画面上实际出现的，除了刈麦者之外，却还有一个拾麦者，而且作者的关心也恰恰是更偏重在后者身上。他们二者目前的贫富苦乐程度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不同的，但是他们的命运却有着紧密的联系。今日凄凉可怜的拾麦穗者是昨日辛劳忙碌的刈麦者；又安知今日辛劳忙碌的刈麦者明日不沦落成凄凉可怜的拾麦者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只要有繁重的捐税在，劳动人民就永远摆脱不了破产的命运。作者在这里对当时害民的赋税制度提出了尖锐批评，对劳动人民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所蒙受的苦难寄寓了深切的同情。而且不是一般的同情，是进而把自己摆进去，觉得自己和劳动人民的差别太大了，自己问心有愧。这时的白居易的诗歌确实反映了劳动人民的思想情绪，呼出了劳动人民的声音。表现了对劳动人民的同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091600" y="3286080"/>
            <a:ext cx="57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7162920" y="2971800"/>
          <a:ext cx="19810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971800"/>
                    <a:ext cx="1981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9" descr="C:\Documents and Settings\DBF\My Documents\My Pictures\12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0" y="17784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白居易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公元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7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84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唐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_x000b__x000c_"/>
              </a:rPr>
              <a:t>伟大的现实主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诗人。字乐天，晚年号香山居士。祖籍太原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今山西太原南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后迁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今陕西渭南北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一身经历了代宗、德宗、宪宗、穆宗、敬宗、文宗、武宗七朝。曾任过周至尉、左拾遗、左赞善大夫、江州司马、杭州刺史、苏州刺史、太子少傅等官。白居易前期有热情，有锐气，是个同情人民，敢于反映民间疾苦，敢于揭露官场贵族黑暗面的官吏和诗人。后期锐气消失，棱角磨平，潜心佛事，以知足长乐 “独善其身”自居。白居易的诗歌以通俗浅显著称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华文宋体"/>
                <a:ea typeface="华文宋体"/>
              </a:rPr>
              <a:t>据说能                    够流传于老太太、兵士、僧徒口中。现存白诗近                   三千首，数量当推为唐代诗人之冠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今留有作品             三千多首，他自己分之为讽谕诗、闲适诗、感                      伤诗、杂律诗四类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元稹为之编辑为《白氏长庆                集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7620120" y="3973680"/>
          <a:ext cx="1523880" cy="288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3973680"/>
                    <a:ext cx="15238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04920" y="304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DBF\My Documents\My Pictures\F1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-324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《观刈麦》是白居易任周至县县尉时有感于当地人民劳动艰苦、生活贫困所写的一首诗，作品对造成人民贫困之源的繁重租税提出</a:t>
            </a:r>
            <a:r>
              <a:rPr b="1" lang="zh-CN" sz="3600" spc="-1" strike="noStrike">
                <a:solidFill>
                  <a:srgbClr val="ff66ff"/>
                </a:solidFill>
                <a:latin typeface="华文楷体"/>
                <a:ea typeface="华文楷体"/>
              </a:rPr>
              <a:t>指责．对于自己无功无德又不劳动却能丰衣足食而深感愧疚，表现了一个有良心的封建官吏的人道主义精神。这首诗作于唐宪宗元和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二年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(807)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，诗人三十六岁。周至县在今陕西省西安市西。县尉在县里主管缉捕盗贼、征收捐税等事。正因为白居易主管此事；所以他对劳动人民在这方面所受的灾难也知道得最清楚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DBF\My Documents\My Pictures\险峻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04920" y="0"/>
            <a:ext cx="883908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田家少闲月，</a:t>
            </a:r>
            <a:r>
              <a:rPr b="1" lang="zh-CN" sz="3600" spc="-1" strike="noStrike">
                <a:solidFill>
                  <a:srgbClr val="ff66ff"/>
                </a:solidFill>
                <a:latin typeface="幼圆"/>
                <a:ea typeface="幼圆"/>
              </a:rPr>
              <a:t>五月人倍忙。夜来南风起，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小麦覆陇黄。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ff66ff"/>
                </a:solidFill>
                <a:latin typeface="幼圆"/>
                <a:ea typeface="幼圆"/>
              </a:rPr>
              <a:t>妇</a:t>
            </a:r>
            <a:r>
              <a:rPr b="1" lang="zh-CN" sz="3600" spc="-1" strike="noStrike">
                <a:solidFill>
                  <a:srgbClr val="ff66ff"/>
                </a:solidFill>
                <a:latin typeface="宋体"/>
                <a:ea typeface="幼圆"/>
              </a:rPr>
              <a:t>姑荷箪食，童稚携壶浆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相随饷田去，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幼圆"/>
              </a:rPr>
              <a:t>丁壮在南冈。足蒸暑土气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背灼炎天光。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幼圆"/>
              </a:rPr>
              <a:t>力尽不知热，但惜夏日长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幼圆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复有贫妇人，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幼圆"/>
              </a:rPr>
              <a:t>抱子在其旁。右手秉遗穗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左臂悬敝筐。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幼圆"/>
              </a:rPr>
              <a:t>听其相顾言，闻者为悲伤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田家输税尽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拾此充饥肠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今我何功德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曾不事农桑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幼圆"/>
              </a:rPr>
              <a:t>吏禄三百石，岁晏有余粮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幼圆"/>
              </a:rPr>
              <a:t>念此私自愧，尽日不能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DBF\My Documents\My Pictures\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5800" y="6094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田家少闲月，五月人倍忙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夜来南风起，小麦覆陇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2438280"/>
            <a:ext cx="9144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四句，交代时间及其环境气氛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农家少闲月，五月人倍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下文要说的事情就发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人倍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五月。这两句总领全篇，而且一开头就流露出了作者对劳动人民的同情；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夜来南风起，小麦覆陇黄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一派丰收景象，大画面是让人喜悦的。可是谁又能想到在这丰收景象下农民的悲哀呢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DBF\My Documents\My Pictures\017B94DE.jf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3520" y="533520"/>
            <a:ext cx="78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妇姑荷箪食，     童稚携壶桨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相随饷田去，     丁壮在南冈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足蒸暑土气，      背灼炎天光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力尽不知热，      但惜夏日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7200" y="3276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第二层八句，通过具体的一户人家来展现这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人倍忙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ff66ff"/>
                </a:solidFill>
                <a:latin typeface="宋体"/>
              </a:rPr>
              <a:t>割麦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情景。婆婆、儿媳妇担着饭篮子，小孙儿提着水壶，他们是去给地里干活儿的男人们送饭的。男人天不亮就下地了；女人起床后先忙家务，而后做饭；小孙子跟着奶奶、妈妈送饭时一齐到地里。她们是要在饭后和男人们一道干下去的。你看这一家忙不忙呢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?"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DBF\My Documents\My Pictures\蓝天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45720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足蒸暑土气，背灼炎天光。力尽不知热，但惜夏日长。</a:t>
            </a:r>
            <a:r>
              <a:rPr b="0" lang="zh-CN" sz="2800" spc="-1" strike="noStrike">
                <a:solidFill>
                  <a:srgbClr val="0099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这四句正面描写收麦劳动。他们脸对着大地，背对着蓝天，下面如同笼蒸，上面如同火烤，但是他们用尽一切力量挥舞着镰刀一路向前割去，似乎完全忘记了炎热，因为这是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虎口夺粮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，时间必须抓紧呀！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妇姑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：媳妇、婆婆，古时媳妇称婆婆叫姑，称公公叫舅。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荷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：肩挑；用篮子盛着食物，这里即指饭篮。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壶浆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：用壶装着水，这里即指水壶。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田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：给田里干活的人送饭。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丁壮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：成年的男劳力。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惜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：珍惜．舍不得浪费。天气如此之热，白天又如此之长，而人们却竭力苦干，就怕浪费一点时间，可见人们对即将到手的麦子的珍惜程度。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ff66ff"/>
                </a:solidFill>
                <a:latin typeface="宋体"/>
              </a:rPr>
              <a:t>惜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ccff33"/>
                </a:solidFill>
                <a:latin typeface="宋体"/>
              </a:rPr>
              <a:t>字在这里用得非常好，是用一种违背人之常情的写法来突出人们此时此地的感情烈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DBF\My Documents\My Pictures\k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85800" y="1447920"/>
            <a:ext cx="815328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白居易的《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卖炭翁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》中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可怜身上衣正单，心忧炭贱愿天寒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之语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愿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字的用法与此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字的用法正同。</a:t>
            </a:r>
            <a:br>
              <a:rPr sz="32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这一层交代了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人物、环境、心里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现了劳动人民的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艰辛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DBF\My Documents\My Pictures\k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91440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PMingLiU"/>
                <a:ea typeface="PMingLiU"/>
              </a:rPr>
              <a:t>复有贫妇人，         抱子在其旁。                            右手秉遗穗，         左臂悬</a:t>
            </a:r>
            <a:r>
              <a:rPr b="1" lang="zh-CN" sz="3600" spc="-1" strike="noStrike">
                <a:solidFill>
                  <a:srgbClr val="ffffff"/>
                </a:solidFill>
                <a:latin typeface="PMingLiU"/>
              </a:rPr>
              <a:t>敝</a:t>
            </a:r>
            <a:r>
              <a:rPr b="1" lang="zh-CN" sz="3600" spc="-1" strike="noStrike">
                <a:solidFill>
                  <a:srgbClr val="ffffff"/>
                </a:solidFill>
                <a:latin typeface="PMingLiU"/>
                <a:ea typeface="PMingLiU"/>
              </a:rPr>
              <a:t>筐。                     听其相顾言，         闻者为悲伤。                       田家输税尽，         拾此充饥肠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2209680"/>
            <a:ext cx="914400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笫三层八句，镜头转向一个贫妇人，她被捐税弄得破了产，现时只能以拾麦穗为生，这是比前述全家忙于收麦者更低一个层次的人。你看她的形象：左手抱着一个孩子，臂弯里挂着一个破竹筐，右手在那里捡人家落下的麦穗。这有多么累，而收获又是多么少啊！但有什么办法呢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现在是收麦的时候，还有麦穗可捡，换个别的时候，就只有去沿街乞讨了。而她们家在去年、前年，也是有地可种、有麦可收的人家呀，只是后来让捐税弄得走投无路，把家产，土地都折变了，至使今天落到了这个地步。秉：拿着。田家：这里指一个庄稼户的产业。输：交纳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这一层写拾穗，从肖像、语言，突出生活的悲惨。揭示了赋税的繁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8T08:31:02Z</dcterms:modified>
  <cp:revision>61</cp:revision>
  <dc:subject>第一PPT模板网-WWW.1PPT.COM</dc:subject>
  <dc:title>第一PPT模板网-WWW.1PPT.COM</dc:title>
</cp:coreProperties>
</file>