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6.wmf" ContentType="image/x-wmf"/>
  <Override PartName="/ppt/media/image13.jpeg" ContentType="image/jpeg"/>
  <Override PartName="/ppt/media/image18.gif" ContentType="image/gif"/>
  <Override PartName="/ppt/media/image20.gif" ContentType="image/gif"/>
  <Override PartName="/ppt/media/image23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29.gif" ContentType="image/gif"/>
  <Override PartName="/ppt/media/image2.jpeg" ContentType="image/jpeg"/>
  <Override PartName="/ppt/media/image24.png" ContentType="image/png"/>
  <Override PartName="/ppt/media/image25.jpeg" ContentType="image/jpeg"/>
  <Override PartName="/ppt/media/image22.gif" ContentType="image/gif"/>
  <Override PartName="/ppt/media/image26.png" ContentType="image/png"/>
  <Override PartName="/ppt/media/image17.jpeg" ContentType="image/jpe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gif" ContentType="image/gif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D3E7-6664-42CD-82BF-A864C06D9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805A-3B2C-4A86-870C-14E429AF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F176-B09A-4449-8443-E8B6F26A8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8C98-D9A6-4196-A1F9-42A6011CE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A7C6-53AA-4B4E-BBB9-5CDBF938A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E2D5-4AD2-4EE1-BE30-3EAFD895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A03B-4D9B-4F32-9C9D-1C505B99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E72D-B1FE-4F5A-8E2A-AAFF6C55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DFF6-FF17-4F11-A166-B8CAC390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CD8F-8462-49D2-A74C-BDE18DE4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5387-D8B1-4CBB-B814-C2406562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8FB4-6561-40E6-BA9A-3C46AD8A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9EA1-657C-4DCC-A91A-4D3A6204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399E-5AE7-4576-B6AA-EEE7B02D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AF99-E079-43C5-B088-298217DC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E32D-D909-41BB-9601-2C28DBF2A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FEAE-33AE-468C-9FA5-67FE99D4F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981E3-0F70-42AA-AC51-17C280D7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1EE82-B9D6-4256-9D99-068DAB56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20B12-A1DB-424B-93FE-AFF6EA80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E5150-EC1C-4754-B70B-A5F4DDC0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2DF1B-8AC9-4CD4-8797-43394C26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6056-A752-4DC7-9FA3-26BBA0C8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66286-8AB8-43F8-928A-880017CD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06407-C59A-41D4-A7E4-E6694EA4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CC3B5-29BA-454D-AF15-6C0F45CB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EF446-3374-4FEF-9385-B1C1443A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5F063-6974-4B35-93ED-5C0B128E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BFAC0-D2AA-4616-BE3A-426CD0616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B4E51-FCAE-4839-BF49-D543D70B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EF49-F797-4759-977A-19E987EE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06D5-7438-4D8E-B368-D6376DE1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43D3-3C23-408A-A7DD-081623D6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E379-3C5B-4C04-99BF-206D251C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8E92-184E-4D5C-AC86-34708194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B9DE-0BDC-4568-A230-C0FEEC06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741E-7C7B-4C05-9889-CAD5FB48A2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B132-B6D8-4750-B855-D060B4AF108D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6F8A-C70F-4797-98B1-C56F74F01AB1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image.baidu.com/i?ct=503316480&amp;z=0&amp;tn=baiduimagedetail&amp;word=%C8%FD%B9%FA&#1470;11%C8%CB%CE%EF&amp;in=23505&amp;cl=2&amp;cm=1&amp;sc=0&amp;lm=-1&amp;pn=15&amp;rn=1&amp;di=555700881&amp;ln=440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55640" y="2637000"/>
            <a:ext cx="5410080" cy="3381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2268360" y="260280"/>
            <a:ext cx="4032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公输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5" name=""/>
          <p:cNvSpPr txBox="1"/>
          <p:nvPr/>
        </p:nvSpPr>
        <p:spPr>
          <a:xfrm rot="5400000">
            <a:off x="6084720" y="3716280"/>
            <a:ext cx="2303640" cy="100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墨子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6836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770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6048360" cy="1871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6300720" y="5157720"/>
            <a:ext cx="2521080" cy="1417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539640" y="5229360"/>
            <a:ext cx="2521080" cy="14176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3492360" y="5229360"/>
            <a:ext cx="2521080" cy="14176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95280" y="2276640"/>
            <a:ext cx="8458200" cy="28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行十日十夜而至于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yǐn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邻有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bì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y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而欲窃之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荆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jīn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ɡ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有云梦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犀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xī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兕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sì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mí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鹿满之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江汉之鱼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鳖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biē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yuán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鼍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tuó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为天下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187280" y="404640"/>
            <a:ext cx="5185080" cy="12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文言词汇积累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-973080" y="-1874880"/>
            <a:ext cx="10117080" cy="8732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00040" y="1905120"/>
            <a:ext cx="83390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宋，所谓无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zhì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兔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f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鱼者也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荆有长松文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z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piá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楠豫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子墨子解带为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di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为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已持臣守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之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y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124000" y="333360"/>
            <a:ext cx="518472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文言词汇积累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-684360" y="-2187720"/>
            <a:ext cx="10117440" cy="87328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1765440"/>
            <a:ext cx="716292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公输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盘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bān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不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说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yuè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请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说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shu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胡不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xiàn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我于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臣之弟子禽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滑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ɡ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92360" y="260280"/>
            <a:ext cx="5184720" cy="12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文言词汇积累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med"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-541440" y="-406440"/>
            <a:ext cx="9686880" cy="7263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11280" y="1916280"/>
            <a:ext cx="7848360" cy="45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通假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公输盘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说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        “说”通“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悦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”，高兴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子墨子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之             “距”通“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拒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”，阻挡。 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子墨子之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有余     “圉”通“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御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”，抵挡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公输盘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诎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           “诎”通“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”，理屈。 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87280" y="404640"/>
            <a:ext cx="5185080" cy="12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文言词汇积累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971640" y="620640"/>
            <a:ext cx="1689120" cy="9367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4788000" y="4508640"/>
            <a:ext cx="3384360" cy="1320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684160" y="2133720"/>
            <a:ext cx="359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华文行楷"/>
                <a:ea typeface="华文行楷"/>
              </a:rPr>
              <a:t>朗读课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      </a:t>
            </a:r>
            <a:r>
              <a:rPr b="0" lang="zh-CN" sz="5400" spc="-1" strike="noStrike">
                <a:solidFill>
                  <a:srgbClr val="0000ff"/>
                </a:solidFill>
                <a:latin typeface="华文行楷"/>
                <a:ea typeface="华文行楷"/>
              </a:rPr>
              <a:t>感知内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854064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公输盘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[wèi]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楚造云梯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械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，成，将以攻宋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替，给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械：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器械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公输盘给楚国制造云梯这种器械，制成后，将要拿去攻打宋国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子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墨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闻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之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起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于鲁，行十日十夜而至于郢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[yǐng]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，见公输盘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子：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夫子（先生、老师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闻：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听说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起：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出发、动身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先生墨子听到这个消息，就从鲁国动身，走了十天十夜，到达郢都，去见公输盘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5406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公输盘曰：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夫子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何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命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焉为？”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夫子：</a:t>
            </a:r>
            <a:r>
              <a:rPr b="1" lang="zh-CN" sz="4000" spc="-1" strike="noStrike">
                <a:solidFill>
                  <a:srgbClr val="663300"/>
                </a:solidFill>
                <a:latin typeface="Arial"/>
              </a:rPr>
              <a:t>先生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命：</a:t>
            </a:r>
            <a:r>
              <a:rPr b="1" lang="zh-CN" sz="4000" spc="-1" strike="noStrike">
                <a:solidFill>
                  <a:srgbClr val="663300"/>
                </a:solidFill>
                <a:latin typeface="Arial"/>
              </a:rPr>
              <a:t>指教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Arial"/>
              </a:rPr>
              <a:t>公输盘说：“先生有什么指教呢？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子墨子曰：“北方有侮臣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愿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借 子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杀之。”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愿：</a:t>
            </a:r>
            <a:r>
              <a:rPr b="1" lang="zh-CN" sz="4000" spc="-1" strike="noStrike">
                <a:solidFill>
                  <a:srgbClr val="663300"/>
                </a:solidFill>
                <a:latin typeface="Arial"/>
              </a:rPr>
              <a:t>希望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借：</a:t>
            </a:r>
            <a:r>
              <a:rPr b="1" lang="zh-CN" sz="4000" spc="-1" strike="noStrike">
                <a:solidFill>
                  <a:srgbClr val="663300"/>
                </a:solidFill>
                <a:latin typeface="Arial"/>
              </a:rPr>
              <a:t>借助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子：您（对男子的美称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3300"/>
                </a:solidFill>
                <a:latin typeface="Arial"/>
              </a:rPr>
              <a:t>　</a:t>
            </a:r>
            <a:r>
              <a:rPr b="1" lang="zh-CN" sz="4000" spc="-1" strike="noStrike">
                <a:solidFill>
                  <a:srgbClr val="663300"/>
                </a:solidFill>
                <a:latin typeface="Arial"/>
              </a:rPr>
              <a:t>先生墨子说：“北方有人欺侮我，我希望借助您去杀了他。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889308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公输盘不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说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yuè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）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说：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通“悦”，高兴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公输盘不高兴了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子墨子曰：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请献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金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。”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请：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请允许我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献：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奉送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金：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量词，先秦以二十两为一金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墨子说：“请允许我奉送给您十金。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公输盘曰：“吾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义固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不杀人。”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 　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义：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善良坚持道义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固：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本来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坚决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公输盘说：“我善良坚持道义绝不杀人。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250920" y="1052280"/>
            <a:ext cx="854064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子墨子起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再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拜曰：“请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说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之。吾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从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北方闻子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梯，将以攻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再：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两次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说：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解说 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从：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在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为：做，造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墨子站起来，拜了两拜，说：“请允许我向您解说这件事。我在北方听说您造了云梯，要拿去攻打宋国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宋何罪之有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宋国有什么罪呢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-14400" y="-4680"/>
            <a:ext cx="9172800" cy="6867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3672000" cy="5977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851280" y="476280"/>
            <a:ext cx="4968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95640" y="404640"/>
            <a:ext cx="482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墨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约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7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9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名翟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，相传为战国时期宋国人，后长期住在鲁国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战国初期思想家、政治家、教育家，墨家的创始人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墨子宣传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非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反对侵略战争，维护和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兼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爱天下所有的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主张，反映劳动者的利益和愿望，其学说与儒家对立，在战国时影响很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5406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荆国有余于地而不足于民。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Arial"/>
              </a:rPr>
              <a:t>楚国多的是土地，缺少的是民众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杀所不足，而争所有余，不可谓智；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Arial"/>
              </a:rPr>
              <a:t>如今去杀害自己缺少的民众而争夺自己并不缺少的土地，不能说是聪明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5406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宋无罪而攻之，不可谓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仁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仁：</a:t>
            </a:r>
            <a:r>
              <a:rPr b="1" lang="zh-CN" sz="4000" spc="-1" strike="noStrike">
                <a:solidFill>
                  <a:srgbClr val="663300"/>
                </a:solidFill>
                <a:latin typeface="Arial"/>
              </a:rPr>
              <a:t>对人亲善，友爱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Arial"/>
              </a:rPr>
              <a:t>宋国并没有罪而要去攻打它，不能说是仁爱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知而不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争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，不可谓忠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争：</a:t>
            </a:r>
            <a:r>
              <a:rPr b="1" lang="zh-CN" sz="4000" spc="-1" strike="noStrike">
                <a:solidFill>
                  <a:srgbClr val="663300"/>
                </a:solidFill>
                <a:latin typeface="Arial"/>
              </a:rPr>
              <a:t>谏诤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[jiàn zhèng]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Arial"/>
              </a:rPr>
              <a:t>知道这个道理，却不对楚王谏诤，不能说是忠诚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85406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争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得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，不可谓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强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得：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没有结果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强：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尽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对楚王谏诤而没有结果，不能说是尽力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义不杀少而杀众，不可谓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知类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。”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知类：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明白事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（自己说）遵守道义，不杀少量人，却要去杀众多的人，不能说是明白事理。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公输盘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服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服：</a:t>
            </a:r>
            <a:r>
              <a:rPr b="1" lang="zh-CN" sz="4000" spc="-1" strike="noStrike">
                <a:solidFill>
                  <a:srgbClr val="663300"/>
                </a:solidFill>
                <a:latin typeface="Arial"/>
              </a:rPr>
              <a:t>被说服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Arial"/>
              </a:rPr>
              <a:t>公输盘被说服了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子墨子曰：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然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胡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不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已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乎？”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然：</a:t>
            </a:r>
            <a:r>
              <a:rPr b="1" lang="zh-CN" sz="4000" spc="-1" strike="noStrike">
                <a:solidFill>
                  <a:srgbClr val="663300"/>
                </a:solidFill>
                <a:latin typeface="Arial"/>
              </a:rPr>
              <a:t>但是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胡：</a:t>
            </a:r>
            <a:r>
              <a:rPr b="1" lang="zh-CN" sz="4000" spc="-1" strike="noStrike">
                <a:solidFill>
                  <a:srgbClr val="663300"/>
                </a:solidFill>
                <a:latin typeface="Arial"/>
              </a:rPr>
              <a:t>为什么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已：</a:t>
            </a:r>
            <a:r>
              <a:rPr b="1" lang="zh-CN" sz="4000" spc="-1" strike="noStrike">
                <a:solidFill>
                  <a:srgbClr val="663300"/>
                </a:solidFill>
                <a:latin typeface="Arial"/>
              </a:rPr>
              <a:t>停止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Arial"/>
              </a:rPr>
              <a:t>墨子说：“但是，为什么不停止攻宋呢？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50920" y="692280"/>
            <a:ext cx="85406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公输盘曰：“不可，吾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既已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言之王矣。”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既已：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已经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公输盘说：“不能，因为我已经对楚王说过了。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子墨子曰：“胡不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见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[xiàn]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我于王？”公输盘曰：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诺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。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见：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引见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诺：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好吧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先生墨子说：“（您）为什么不引见我去见楚王呢？” 公输盘说：“好吧。”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50920" y="54936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、墨子见到公输盘， 就请他帮助自己去杀人，而且进一步说可以‘“献金”，其真正的意图是什么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真正的意图在于步步激怒公输盘，逼使他说出“吾义固不杀人”一类的话来。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50920" y="1052280"/>
            <a:ext cx="854064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、墨子怎样驳斥了他的“义”？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墨子抓住公输盘“吾义固不杀人”一语，首先义正辞严地指出“宋何罪之有”，而后指责攻来的不智——“杀所不足而争所有余”。同时批评攻宋的不仁，因为宋本无罪。得出结论：公输盘的“义”是“不杀少而杀众”，是更大的不义。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50920" y="1052280"/>
            <a:ext cx="85406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、墨子仅用三次对话，就使公输盘理屈，这三次对话分别用了什么方法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设诱——“北方有侮臣者，愿借子杀之。”；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激将——“请献十金”；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追击——“请说之……不可谓知类”。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8540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子墨子见王，曰：“今有人于此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舍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其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文轩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邻有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敝舆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而欲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窃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之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舍弃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文轩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装饰华美的车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文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彩饰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轩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有篷的车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敝舆：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破车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窃：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墨子拜见了楚王，说：“现在这里有个人，抛掉自己华丽的车子，看到邻人有破车子便想去偷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舍其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锦绣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邻有短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褐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而欲窃之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锦绣：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华丽的衣服。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褐：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粗布衣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抛掉自己的锦绣衣裳，看见邻人有粗布衣服就想去偷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7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舍其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粱肉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邻有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糠糟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而欲窃之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粱肉：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好饭好菜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糠糟：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粗劣食物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抛掉自己的好饭好菜，看见邻人有粗劣食物便想去偷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此为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何若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人？”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何若：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什么样的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这是怎样的人呢？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0" t="2374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4360" y="1413000"/>
            <a:ext cx="47527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《墨子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716360" y="189000"/>
            <a:ext cx="4176720" cy="28191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799640" y="3068640"/>
            <a:ext cx="551484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墨子》是先秦墨家著作，是墨子的弟子及再传弟子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墨子言行的辑录，现存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五十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墨子》是我国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论辩性散文的源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运用譬喻，类比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举例，推论的论辩方法进行论政，逻辑严密，说理清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语言质朴无华，多用口语，在先秦诸子散文中占有重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地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5406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王曰：“必为有窃疾矣。”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楚王说：“（这个人）一定是有偷窃病了。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子墨子曰：“荆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地方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五千里，宋之地方五百里，此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犹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文轩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与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敝舆也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地方：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土地方圆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犹：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好像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与：同……相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墨子说：“楚国的土地方圆五千里，宋国的土地方圆只有五百里。这就好像华丽的车子和破车子相比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-360" y="549360"/>
            <a:ext cx="889308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荆有云梦，犀兕麋鹿满之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江汉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之鱼鳖鼋鼍为天下富，宋所为谓无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雉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兔鲋鱼者也，此犹粱肉之与糠糟也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江汉：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长江、汉水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雉：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野鸡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楚国有云梦泽，犀兕、麋鹿到处都是，长江、汉水里的鱼、鳖、鼋、鼍是天下最丰富的，宋国真像人们说的那样，是个连野鸡、野兔、鲫鱼都没有的地方。这就好像好饭好菜和粗劣食物相比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荆有长松、文梓、楩、枬、豫章，宋无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长木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此犹锦绣之与短褐也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长木：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多余的木材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楚国有松、梓、、楠、樟这些大树，宋国却没有什么大树。这就好像华丽衣服和粗布衣服相比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8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8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8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8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5406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臣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以 王吏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之攻宋也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此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同类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。”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以：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认为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王吏：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指楚王所派攻宋的官吏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为：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是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此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：这，指上文说的舍文轩、窃敝舆之类的行为。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同类：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相同的一类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我认为大王派官吏攻打宋国，是和这个害偷窃病的人一样。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王曰：“善哉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虽然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公输盘为我为云梯，必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取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宋。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虽然：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虽然如此。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取：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攻打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楚王说：“好呀！虽然是这样，但是公输盘给我造好云梯了，（我）一定要攻打宋国。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92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9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9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9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89308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墨子为什么要讲“窃疾”人的故事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为了设置圈套，诱使楚王说出“必为有窃疾”的话，以便进行类比说理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墨子是怎样借楚王的推断说服楚王的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首先拿楚国和宋国的土地、物产比较，然后把“王吏攻宋”的行为与“窃疾”人的行为进行类比，暗寓攻宋不智，实无必要之意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楚王是否承认墨子的道理？是否因之取消了攻宋的计划？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楚王承认墨子说的有理，从“善哉” 可看出。但并未取消攻宋计划，反而提到了公输盘及其所研制的云梯，而且态度坚决“必取宋”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7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2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7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2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7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2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于是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见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公输盘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见：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召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于是，楚王召见公输盘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子墨子解带为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城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以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牒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为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城：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城墙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牒：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木片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先生墨子解下衣带当作城墙，把木片当做攻城器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公输盘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九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设攻城之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机变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子墨子九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距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之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九：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表次数多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机变：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巧妙的方式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距：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通“拒”，挡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公输盘多次设置攻城的巧妙战术，墨子多次都挡住了他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公输盘之攻械尽，子墨子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守圉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有余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守圉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：守卫，圉通“御”，抵挡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公输盘的攻城器械都用尽了，墨子的守城办法还绰绰有余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7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2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7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2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7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2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7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公输盘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诎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而曰：“吾知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所以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距 子 矣，吾不言。”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诎：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通“屈”，理屈。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所以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：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用来……的方法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公输盘（办法）穷尽了，但他说：“我知道用什么方法对付你，（可是）我不说。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子墨子亦曰：“吾知子之所以距我，吾不言。” 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墨子也说：“我也知道你要用什么方法对付我，（可是）我也不说。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4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9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4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9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4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楚王问其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故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故：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缘故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楚王问他这是怎么回事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子墨子曰：“公输子之意，不过欲杀臣。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墨子说：“公输盘的意思，只不过是想要杀死我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1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6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1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6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1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50920" y="1052280"/>
            <a:ext cx="85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杀臣，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莫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能守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乃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可攻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莫：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没有人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乃：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于是，就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杀了我，宋国就没有谁能守卫抵御了，就可以攻下了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然臣之弟子禽滑厘等三百人，已 持 臣守圉之器，在宋城上而待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寇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矣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寇：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入侵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可是我的学生禽滑厘等三百人，已经拿着我的防守器械，在宋国城墙上等待楚国来入侵了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8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3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8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3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8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3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虽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杀臣，不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绝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也。”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虽：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即使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绝：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尽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即使杀了我，也不能杀尽保卫宋国的人。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楚王曰：“善哉！吾请无攻宋矣。”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楚王说：“好啦！我不攻打宋国了。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0" t="0" r="0" b="12499"/>
          <a:stretch/>
        </p:blipFill>
        <p:spPr>
          <a:xfrm>
            <a:off x="-1116000" y="-458640"/>
            <a:ext cx="10585440" cy="7316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1989000"/>
            <a:ext cx="914400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先秦诸子散文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产生于春秋末至战国时期，当时社会发生急剧变动，针对这种情况，各种流派提出了各自的思想观点和政治主张，形成了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百家争鸣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局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主要的著作有：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《论语》《墨子》 《孟子》《老子》《庄子》《荀子》《韩非子》《吕氏春秋》等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050920" y="404640"/>
            <a:ext cx="475164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先秦诸子散文</a:t>
            </a:r>
            <a:endParaRPr b="1" lang="en-US" sz="4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公输盘诎”说明了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说明不论在道义较量上还是在战术较量上，公输盘已告全面失败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墨子止楚攻宋，除了靠锋利巧妙的言辞外，他的坚强后盾是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是靠墨子的技艺和宋国的战备。由于有实力作后盾，墨子的话才更有力量，才更有取胜的把握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2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7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2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7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95280" y="404640"/>
            <a:ext cx="73915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文对阵的双方是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主要人物是哪一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墨子前往楚国的目的是什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0920" y="2349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本文对应的双方是墨子和楚国的公输盘、楚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0920" y="357336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主要人物是墨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9280" y="4292640"/>
            <a:ext cx="8136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他前往楚国的目的是劝阻楚国攻打宋国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3348000" cy="9079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6443640" y="5157720"/>
            <a:ext cx="1546200" cy="15145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rcRect l="15346" t="13242" r="10626" b="15241"/>
          <a:stretch/>
        </p:blipFill>
        <p:spPr>
          <a:xfrm>
            <a:off x="0" y="0"/>
            <a:ext cx="9144000" cy="69804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3348000" cy="9079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495080" y="11826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理清本文的叙事脉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96680" y="1860480"/>
            <a:ext cx="3880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以“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”字一线穿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墨子见公输盘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→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墨子见楚王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→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墨子见公输盘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86640" y="3379680"/>
            <a:ext cx="51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墨子劝阻楚国攻打宋国，可分为哪三个步骤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28200" y="4181400"/>
            <a:ext cx="8938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、使公输盘理屈词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、使楚王理屈词穷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、模拟攻守，击败公输盘，促使楚王放弃攻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50920" y="1052280"/>
            <a:ext cx="8540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从这个故事可以看出墨子是个怎样的人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Arial"/>
              </a:rPr>
              <a:t>墨子是个有勇有谋、不畏强暴、不辞劳苦、不怕牺牲、坚持正义的思想家和社会活动家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2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7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540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主题与艺术特色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《公输》通过墨子（ 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止楚攻宋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）的故事，生动地叙述了墨子为实现自己的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（“非攻”）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主张，所表现出的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（艰苦实践 ）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（顽强斗争 ）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的精神，同时也暴露了公输盘和楚王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（  阴险狡诈  ），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从而说明只有把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（道义 ）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（实力 ）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结合起来，才能迫使侵略者收敛其野心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墨子最终制止了这场战争，他采用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（以子之矛攻子之盾 ）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的办法，从道义上谴责楚攻宋之不义，他善用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（ 比喻 ），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层层说理，在说理中运用大量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（排比 ）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句，增强了说服力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838080" y="228600"/>
            <a:ext cx="2819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一词多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1415880"/>
            <a:ext cx="99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子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23880" y="990720"/>
            <a:ext cx="3276720" cy="141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子墨子闻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愿借子杀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016080"/>
            <a:ext cx="1066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19280" y="2565360"/>
            <a:ext cx="4105080" cy="141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公输盘不说（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yuè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请说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4616280"/>
            <a:ext cx="99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447920" y="4191120"/>
            <a:ext cx="4419360" cy="141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胡不已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吾既已言之王矣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97440" y="106668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先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389480" y="17208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410080" y="2635200"/>
            <a:ext cx="21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高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3321000"/>
            <a:ext cx="238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010040" y="42670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停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05320" y="49212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已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19320" y="1371600"/>
            <a:ext cx="304560" cy="762120"/>
          </a:xfrm>
          <a:custGeom>
            <a:avLst/>
            <a:gdLst>
              <a:gd name="textAreaLeft" fmla="*/ 194760 w 304560"/>
              <a:gd name="textAreaRight" fmla="*/ 304920 w 3045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2971800"/>
            <a:ext cx="304560" cy="762120"/>
          </a:xfrm>
          <a:custGeom>
            <a:avLst/>
            <a:gdLst>
              <a:gd name="textAreaLeft" fmla="*/ 194760 w 304560"/>
              <a:gd name="textAreaRight" fmla="*/ 304920 w 3045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572000"/>
            <a:ext cx="304560" cy="762120"/>
          </a:xfrm>
          <a:custGeom>
            <a:avLst/>
            <a:gdLst>
              <a:gd name="textAreaLeft" fmla="*/ 194760 w 304560"/>
              <a:gd name="textAreaRight" fmla="*/ 304920 w 3045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838080" y="1797120"/>
            <a:ext cx="99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28800" y="1371600"/>
            <a:ext cx="3657600" cy="141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胡不见我于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于是见公输盘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3701880"/>
            <a:ext cx="99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8800" y="3238560"/>
            <a:ext cx="3124080" cy="141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虽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虽杀臣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16560" y="144792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引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457960" y="213372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召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3321000"/>
            <a:ext cx="274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虽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086360" y="396252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即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1752480"/>
            <a:ext cx="304920" cy="7621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523880" y="3657600"/>
            <a:ext cx="304920" cy="7621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48720" y="6195960"/>
            <a:ext cx="1295280" cy="652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838080" y="457200"/>
            <a:ext cx="2133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通假字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600200"/>
            <a:ext cx="3810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子墨子九距之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3352680"/>
            <a:ext cx="4619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已持臣守圉之器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4800600"/>
            <a:ext cx="274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公输盘诎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208960" y="2362320"/>
            <a:ext cx="3255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距”通“拒”，抵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056680" y="4083120"/>
            <a:ext cx="3255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圉”通“御”，抵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80360" y="5562720"/>
            <a:ext cx="3255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诎”通“屈”，折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48720" y="6195960"/>
            <a:ext cx="1295280" cy="652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219320" y="609480"/>
            <a:ext cx="1676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虚词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3321000"/>
            <a:ext cx="914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143000" y="1905120"/>
            <a:ext cx="2209680" cy="33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语气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作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14600" y="1981080"/>
            <a:ext cx="5248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公输盘为楚造云梯之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48520" y="2666880"/>
            <a:ext cx="2100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夫子何命焉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24800" y="3352680"/>
            <a:ext cx="2649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吾从北方闻子为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246560" y="403848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子墨子解带为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3520" y="4648320"/>
            <a:ext cx="1826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必为有窃疾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38080" y="2286000"/>
            <a:ext cx="228600" cy="2743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828800" y="106668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0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相关链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198108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墨守成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95680" y="221616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墨子善于守城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3397320"/>
            <a:ext cx="78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在含贬义，用来表示因循守旧，不肯改进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0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50920" y="836640"/>
            <a:ext cx="8893080" cy="42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华文新魏"/>
              </a:rPr>
              <a:t>先秦诸子散文的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春秋战国之交为第一个发展阶段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以《论语》和《墨子》为代表。《论语》是较短的语录体散文。《墨子》在对话中有议论，初具议论文的规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战国中叶为第二个发展阶段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以《孟子》和《庄子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为代表。《孟子》是对话体论辩文，《庄子》接近专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论文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战国后期为第三个发展阶段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以《荀子》和《韩非子》为代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048120" y="762120"/>
            <a:ext cx="214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总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62120" y="175248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楷体"/>
                <a:ea typeface="华文楷体"/>
              </a:rPr>
              <a:t>    </a:t>
            </a:r>
            <a:r>
              <a:rPr b="1" lang="zh-CN" sz="3600" spc="-1" strike="noStrike">
                <a:solidFill>
                  <a:srgbClr val="007a77"/>
                </a:solidFill>
                <a:latin typeface="华文楷体"/>
                <a:ea typeface="华文楷体"/>
              </a:rPr>
              <a:t>本文是一篇以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记言</a:t>
            </a:r>
            <a:r>
              <a:rPr b="1" lang="zh-CN" sz="3600" spc="-1" strike="noStrike">
                <a:solidFill>
                  <a:srgbClr val="007a77"/>
                </a:solidFill>
                <a:latin typeface="华文楷体"/>
                <a:ea typeface="华文楷体"/>
              </a:rPr>
              <a:t>为主，趣味盎然的散文，它以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生动的对话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鲜明的人物形象</a:t>
            </a:r>
            <a:r>
              <a:rPr b="1" lang="zh-CN" sz="3600" spc="-1" strike="noStrike">
                <a:solidFill>
                  <a:srgbClr val="007a77"/>
                </a:solidFill>
                <a:latin typeface="华文楷体"/>
                <a:ea typeface="华文楷体"/>
              </a:rPr>
              <a:t>和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波澜起伏的故事情节</a:t>
            </a:r>
            <a:r>
              <a:rPr b="1" lang="zh-CN" sz="3600" spc="-1" strike="noStrike">
                <a:solidFill>
                  <a:srgbClr val="007a77"/>
                </a:solidFill>
                <a:latin typeface="华文楷体"/>
                <a:ea typeface="华文楷体"/>
              </a:rPr>
              <a:t>，给人留下极为深刻的印象。充分体现了《墨子》散文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论辩性强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逻辑性强</a:t>
            </a:r>
            <a:r>
              <a:rPr b="1" lang="zh-CN" sz="3600" spc="-1" strike="noStrike">
                <a:solidFill>
                  <a:srgbClr val="007a77"/>
                </a:solidFill>
                <a:latin typeface="华文楷体"/>
                <a:ea typeface="华文楷体"/>
              </a:rPr>
              <a:t>的特色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0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9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7534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260280"/>
            <a:ext cx="9144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华文新魏"/>
              </a:rPr>
              <a:t>          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华文新魏"/>
              </a:rPr>
              <a:t>先秦诸子散文的艺术特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先秦诸子散文大多文情并茂，极具文采，善用譬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陈说事理，论辩是非，增强了说服力，而排比、夸张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修辞的大量运用更使文章辞采缤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21800" y="3470400"/>
            <a:ext cx="5630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华文新魏"/>
              </a:rPr>
              <a:t>总之，先秦诸子散文无论思想性还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华文新魏"/>
              </a:rPr>
              <a:t>艺术性都对后世文学产生了深远影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63360">
            <a:solidFill>
              <a:srgbClr val="993366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5904000" y="0"/>
            <a:ext cx="3240000" cy="581400"/>
          </a:xfrm>
          <a:prstGeom prst="rect">
            <a:avLst/>
          </a:prstGeom>
          <a:solidFill>
            <a:srgbClr val="00ff00"/>
          </a:solidFill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隶书"/>
              </a:rPr>
              <a:t>春秋战国形势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32720" y="2637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08360" y="5734080"/>
            <a:ext cx="69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隶书"/>
              </a:rPr>
              <a:t>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58920" y="378936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64000" y="62064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59280" y="227664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88000" y="35733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41497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16720" y="357336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59640" y="3573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04000" y="6713640"/>
            <a:ext cx="287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20000" y="640080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92720" y="3357720"/>
            <a:ext cx="21600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35640" y="321300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Arial"/>
              </a:rPr>
              <a:t>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3348000" y="5589720"/>
            <a:ext cx="447840" cy="447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6516720" y="3573360"/>
            <a:ext cx="447480" cy="4478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5148360" y="3213000"/>
            <a:ext cx="447480" cy="4478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-973080" y="-730080"/>
            <a:ext cx="10874160" cy="81565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1680" y="549360"/>
            <a:ext cx="8540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时代背景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墨子所处的时代，各诸侯国掠夺性的战争频繁不已。当时楚国是大国，占有两湖一带广大地区。宋国小，在今河南商丘一带，但处于战略要地。楚用公输造器械，接连打败了周围几个国家，于是准备攻宋，墨子听到消息，便从鲁国赶到楚国去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止楚攻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             《公输》写的就是这件事，具体地表现了墨子的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非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思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-2714760" y="-1743120"/>
            <a:ext cx="14573520" cy="103442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708360" y="189000"/>
            <a:ext cx="5435640" cy="604836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方正铁筋隶书简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方正铁筋隶书简体"/>
                <a:ea typeface="方正铁筋隶书简体"/>
              </a:rPr>
              <a:t> </a:t>
            </a:r>
            <a:r>
              <a:rPr b="1" lang="zh-CN" sz="3000" spc="-1" strike="noStrike">
                <a:solidFill>
                  <a:srgbClr val="000000"/>
                </a:solidFill>
                <a:latin typeface="方正铁筋隶书简体"/>
                <a:ea typeface="方正铁筋隶书简体"/>
              </a:rPr>
              <a:t>公输，名盘，也作“般”或“班”又称</a:t>
            </a:r>
            <a:r>
              <a:rPr b="1" lang="zh-CN" sz="3000" spc="-1" strike="noStrike">
                <a:solidFill>
                  <a:srgbClr val="ff3300"/>
                </a:solidFill>
                <a:latin typeface="方正铁筋隶书简体"/>
                <a:ea typeface="方正铁筋隶书简体"/>
              </a:rPr>
              <a:t>鲁班</a:t>
            </a:r>
            <a:r>
              <a:rPr b="1" lang="zh-CN" sz="3000" spc="-1" strike="noStrike">
                <a:solidFill>
                  <a:srgbClr val="000000"/>
                </a:solidFill>
                <a:latin typeface="方正铁筋隶书简体"/>
                <a:ea typeface="方正铁筋隶书简体"/>
              </a:rPr>
              <a:t>，是我国古代传说中的能工巧匠。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生活在春秋末期到战国中期，鲁班的发明创造很多 ，木工使用的不少工具器械如曲尺、墨斗、凿子、铲子、锯等工具，传说都是鲁班发明的 。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人们把他尊为我国土木工匠的始祖。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在今天，我国建筑行业的最高的奖项－－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鲁班奖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，以他的名字命名，也是对他的一种怀念。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铁筋隶书简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89000"/>
            <a:ext cx="3708360" cy="5013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79680" y="5661000"/>
            <a:ext cx="217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木工始祖——鲁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05:22:17Z</dcterms:created>
  <dc:creator>微软用户</dc:creator>
  <dc:description/>
  <dc:language>en-US</dc:language>
  <cp:lastModifiedBy>zheng</cp:lastModifiedBy>
  <dcterms:modified xsi:type="dcterms:W3CDTF">2011-02-25T03:59:00Z</dcterms:modified>
  <cp:revision>23</cp:revision>
  <dc:subject/>
  <dc:title>幻灯片 1</dc:title>
</cp:coreProperties>
</file>