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84F-1C7D-4F68-936A-63A23D64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843-4F1B-4A3B-871D-5050B0D0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E58-7715-40D5-930B-D3316670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7E7-6352-4800-A915-35DA9101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36A-9C11-475C-B367-C8CEA3A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ECF-4373-4007-A1BD-2877730B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C34-2CF1-42E2-8F52-1F1CDA3E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6D5-28A8-404D-ABE3-513AE487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408-69D0-4E6F-A96C-9A15436B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61E-3FBB-4C0F-85A0-127AD0B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9A0-9006-499D-800B-A1D5495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273-6F28-4982-B6EC-3299ABD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C7EB-08C8-4156-8C79-66BE4478C50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1180.20101116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0-11-16T14:10:58Z</dcterms:modified>
  <cp:revision>115</cp:revision>
  <dc:subject/>
  <dc:title>投影片 1</dc:title>
</cp:coreProperties>
</file>