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10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455-5E0B-4622-BDFE-15DAA7FE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FDB-9EF3-4138-9931-97A43A47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EEDE3-423B-46A2-9ABB-6C0EDB60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34C49-0074-44A4-94FF-DCBAE65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3511A-FE3D-4A84-B96E-9D67412A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7B01F-A3D7-448D-AF17-03E0101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47A9A-EE2D-4455-A548-80E8FFA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F1622-77B7-4821-8BCE-A5E319A9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FFD00-7FE2-4C76-87FF-920A583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C9427-0997-4ACC-8633-A07756DD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9B12D-35D7-49C1-9C35-B7031698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7683C-AAC3-40B7-A6F3-E7FE2462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5AB-9E11-4955-A84B-77113F23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51404-86CA-41DF-A9B4-A1910B6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99628-3178-4678-AA7A-8625329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21F97-893D-4A7E-8735-F0BF227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A0FF7-9EA8-409E-91E9-278F0D3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7D8DD-4596-4A53-A70B-7A15DE9E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BAFD5-7F2C-4942-ADE4-D624CFEE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BB95C-0FB9-4006-B534-B4A6CE8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13178-DD0A-46EF-90FE-8C949699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ABC9-F77A-4629-AD39-1C607AAC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2428E-C551-4D2E-82CB-B52AFBE4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2E9-3703-4D56-84D5-586199DF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67029-CF7D-4300-9116-088E6336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DD077-6709-49FE-B99E-A0D49DB0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E2857-C8AD-4A3A-9217-881028A6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3D4AA-1D5A-41B9-A158-BAD55550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CF21-5DDF-414D-AE7A-AEBFB84C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7B0F-6B34-4A63-A700-CA70E5B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EF351-D1AF-4E1F-8321-953D6046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6589-436B-453C-B4CC-94D0D4A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4D31C-B457-403F-8F92-124908C3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C8A56-679F-4282-B81A-9C47086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4CBB-3685-42D4-95F8-4496B26F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4ECAF-372D-4275-8FE9-6185F03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EC0F2-6B98-459C-B89C-DE854530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C6C30-661D-4E0C-A12F-8A500DFF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52848-EC8B-49FB-B36F-09B3465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7A670-6112-4809-B50F-2710A3F3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40557-B0E3-4569-AA4A-3D6AC9E7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73E8A-4538-4994-94D3-D935E6C9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9E78D-1A4A-49A1-BA21-99C4B929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F7872-64CA-4C16-8911-5EC7622F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64B1C-CF41-4766-BFED-EFFDEEA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F84C-7F02-4D26-97CE-954A491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AA8B9-2F89-4238-B0E6-9D00C90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603C8-E5A2-4D8F-A50C-12DD4834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35522-D61B-4185-8076-E395F094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7AC0F-7CB4-4507-B74F-8BD47058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6BE0-5E65-467C-89B0-D9BC5F2C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DB150-10CE-4231-9F2E-4E707091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5C762-28B2-4A42-A387-ACEB620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9A093-7D59-4265-8522-F7DF436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CA0B4-36C1-44DE-8ED3-9AB3BB8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8693E-6333-409D-AC12-24B460DF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408B-03DE-475D-A219-EE2593C0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E6A8D-1997-49B4-9D8A-03AAA282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D78C1-1C52-4CAC-936E-CF82238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7B37D-D5AC-4803-896F-EFA56119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BFBB8-E9DA-465E-95AC-CC127A4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3F2D3-06F2-4F31-8703-63A0360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F3A50-C4FF-4620-92D8-0EC790BE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F466A-5A12-450F-924A-3085D845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40BA2-73FC-455F-8459-659B012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46E7F-7EC8-4580-AD03-936281D8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3B2AA-8DBD-4994-95C0-1AE3244F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5B13-8A14-46E1-8C06-7B480AA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E5B4F-5B8D-4C14-9A70-C64A06D5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89D5C-5895-4EB7-AFA4-46C0EB3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32D91-8B72-42D5-8DD4-5D6914F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EA82C-691E-45EF-B9FE-E295EF25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8ADE1-0382-4C69-B553-3F875AA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5709C-CDAD-4924-B964-3820E94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949F9-905A-4730-B786-3F73C508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22B9F-5D23-4A1D-9B2E-4ED58AFC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52A5C-8F99-4673-B74D-9B8BC52F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10AA-017B-4885-AE49-3026AEB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10AF-7E44-4E08-AEE1-D0F7D02B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8BEA-1ED7-4B12-997C-577A7957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975-A5AC-49F1-9A12-24C9CCE3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C262-75E2-49C4-BD27-E0BB761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A671-B9DE-46EA-9933-F4F8693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15AC-1223-4F26-8B9A-BB86852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E3EB-E734-4EB9-B517-E7AACBD7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6365-E640-431E-A038-5CAA3A5A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DE92-5D7D-4BDD-937B-E0C9625B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1D67-CCAB-4F0D-9A44-795CB9CF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574D-A23F-4993-AB0B-CF2FD1A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7873-94A4-4434-91AC-CDA1AE5D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D4DE-4373-4B2D-8E3E-3E6EDDD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DF3-7EC4-4CE3-A7F5-FF3DCBE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2257-CCD8-4553-9FE4-C1E683C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A33F-D639-4D97-8082-0B3A388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E824-505A-4913-898E-832B081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C3EE-848E-43D8-9BD8-387E96F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3FC0-2FC7-40F0-A8F1-99575F8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30FC-62CA-45BF-84FE-FCD3C799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7844-2A1B-44F1-A33B-917158DA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2909-264C-430C-AE39-F93AD459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4F74-0D43-4791-8CF2-028B2D9C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B7FB-E083-4E45-8771-A91A2079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C14-B23A-4C9F-ABC0-50D8C972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D877-8E57-42D2-889B-9C2C09DC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FA33-DFEA-4CED-BCA3-AA824F5A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632E-0E3B-4CC3-9996-0AD5F49D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89472-E22B-4C27-BCFD-29037BD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2716-D51F-4AC4-AA99-6D7FCDC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B4A5-EDF8-4479-A791-7F25281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D503-AED3-4C28-BF43-71F69A0C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02A9-03DA-4311-BAB9-D6ADD12E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88B7-2059-49ED-84D4-B297F05C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FE4B-A960-47C9-B994-125CBF2E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B42-23DE-4866-B4A5-89B4C77F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9391-614C-4155-BFBF-77FD876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8DC0-184C-450B-8AB5-0C0E34C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9844-E136-428D-A6C0-F97339CB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9311-CB2F-4FE7-AAE1-09A6D25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EFE9D-184E-4F33-B210-0C5C7AFE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F74B-6A41-4C43-AF86-FA9D2FC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53BB-7FBF-4C9C-8B68-61A4000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2B24-DA11-4AA9-BFCA-48D926D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2FCE-B2F6-412C-BC00-4F4ABEF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CFF3-B15D-4D02-8685-8D8C5EC1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7F9-DC13-4F19-8D86-3FFFEA66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D83A-8DF7-4081-BE46-955CA3BB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AF65A-1532-4F2F-B73D-96583B23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0390-0214-441E-9126-11F23648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DD46-40F4-494F-9529-71C15EB4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0E30-1BEA-4262-A960-BCBA2E71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D41C-5662-4F3A-AFA5-FE981B83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2D445-D1FE-43BB-98F6-FB295761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CE22-554B-405F-AF87-5658FCB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F038-631D-4F2E-A5D2-12B97BC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9CE6-FD72-4E3A-BD09-84F944B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D3B-C54E-4388-82F2-61B79EE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E802E-D0A6-43B9-B15A-0BB023B4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9FFA-4017-4CD6-A693-EC5855A9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0DA6-DE27-4A70-B686-63D05B87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D020-5178-48D1-9B70-210F7DEF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69BFD-C696-42D4-AAFE-1D20540E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91E7D-105E-4E88-A326-3FB3CC45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DA84-A424-47CF-A300-0A3164F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723C1-8733-4D93-B6A3-D799409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3B6C-315D-47B0-8EDD-A39419EE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2FC4-C68C-4CE0-8152-09C2654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49A-23D6-46BC-9509-A341CDA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DEC1-7B18-4B5A-B4B2-1675D13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8BDA9-D47C-475F-823D-C281EB1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DB4A-019F-48BE-B626-710082C9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D9507-63BF-4228-91EB-C98191A7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66E25-2599-41A9-9FF3-06776831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D20B2-F3DF-4C9B-8A0A-26E3C326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2866-7626-402E-8076-E85F4A09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4155-9F21-4962-BF5F-CF6E57EF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EA02-5F0C-4F5A-B081-2B395CB9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966D-3CB9-4F15-A446-12BA0486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CF5-5982-461A-9183-0D5EBEA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1042-BA1C-4CCC-BD27-FA1E2B33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3206D-A71F-4E22-BBFD-0B84717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D4943-A17E-4880-8B7F-6FC74CA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4E91D-891A-418F-9E7D-90EE884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FEF22-DB5A-45F1-BEEC-B78D0142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414E9-976C-4DAE-90CF-53F9A733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F63A-D03E-4193-9FCB-655AA0A6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209BE-E95E-4E1F-88DB-7BA77A23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AF04B-374D-4F34-8975-BBC8572D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5BF9D-DB80-412A-A71C-86D0B99B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FC8-2CDF-49A6-8C07-89831920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4807-89B1-4248-983D-FF6A5E6C1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9CE-C8B2-4BCB-B23D-6C2EDCD0C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165-7296-40FC-9492-19DCA7F7B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E9AF-403C-4D19-8F1A-94AE1089C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8BA1-6A93-4F52-A1C2-F9251961494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B38-8ADF-4F39-B1F4-29FB7CD5B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B1A4-C1A0-40C3-9E11-58922D7F4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FD2-9D45-4C5E-9CAF-14D8FEB2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BD5-0DE3-4EB5-8465-2B65D20A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56DC-8AE5-4D31-8BAE-36E6265F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E57D-8817-49C7-A388-363629CA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2A3-2CA1-41A5-BBA8-E364538E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当易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owny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666A-AED6-4075-8232-BF95F4D7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d-tour.com/hdwh/hdwenhua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页脚占位符 6"/>
          <p:cNvSpPr/>
          <p:nvPr/>
        </p:nvSpPr>
        <p:spPr>
          <a:xfrm>
            <a:off x="2340000" y="6019920"/>
            <a:ext cx="42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当易网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downyi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5" name="Picture 18" descr="2006671144331"/>
          <p:cNvPicPr/>
          <p:nvPr/>
        </p:nvPicPr>
        <p:blipFill>
          <a:blip r:embed="rId1"/>
          <a:srcRect l="388" t="4860" r="0" b="0"/>
          <a:stretch/>
        </p:blipFill>
        <p:spPr>
          <a:xfrm>
            <a:off x="826920" y="1535040"/>
            <a:ext cx="5977080" cy="41832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21"/>
          <p:cNvSpPr/>
          <p:nvPr/>
        </p:nvSpPr>
        <p:spPr>
          <a:xfrm>
            <a:off x="6633360" y="1700280"/>
            <a:ext cx="182628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黑体"/>
                <a:ea typeface="黑体"/>
              </a:rPr>
              <a:t>负 荆 请 罪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649440" y="620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北师大版五年级语文上册第九单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张  轮  片  方  副  弯  付  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187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华文隶书"/>
              </a:rPr>
              <a:t>选择最恰当的量词填在下边句子的横线上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95280" y="2852640"/>
            <a:ext cx="8532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深蓝的天空中挂着一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金黄的圆月，下面是海边的沙地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她们的吃法很文雅，用一 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小巧的手帕，托着牡蛎，头稍向前伸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一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新月升起了，我们借助淡淡的月光，在忽明忽暗的梨树林里走着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这时候，我的脑子里忽然闪出一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宋体"/>
              </a:rPr>
              <a:t>神异的图画来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2" name="Picture 6" descr="练习或作业"/>
          <p:cNvPicPr/>
          <p:nvPr/>
        </p:nvPicPr>
        <p:blipFill>
          <a:blip r:embed="rId1"/>
          <a:stretch/>
        </p:blipFill>
        <p:spPr>
          <a:xfrm>
            <a:off x="324000" y="836640"/>
            <a:ext cx="100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当易网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downyi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WordArt 4"/>
          <p:cNvSpPr txBox="1"/>
          <p:nvPr/>
        </p:nvSpPr>
        <p:spPr>
          <a:xfrm>
            <a:off x="3276720" y="2492280"/>
            <a:ext cx="306216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780000" y="1438200"/>
            <a:ext cx="4968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昨日兮昨日，昨日何其好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昨日过去了，今日徒烦恼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世人但知悔昨日，不觉今日又过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水去汩汩流，花落日日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万事立业在今日，莫待明朝悔今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3964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方正舒体"/>
              </a:rPr>
              <a:t>每日一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562200" y="3938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昨日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5773320" y="98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华文中宋"/>
              </a:rPr>
              <a:t>佚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136160" y="3241440"/>
            <a:ext cx="6054840" cy="19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380240" y="4005360"/>
            <a:ext cx="53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ù               shù             yō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521360" y="198900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īng            lìn            há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2020680" y="4653000"/>
            <a:ext cx="40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惧怕　宽恕　　昏庸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2192400" y="2637000"/>
            <a:ext cx="43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负荆请罪  蔺相如  韩勃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7" name="Picture 14" descr="生字学习"/>
          <p:cNvPicPr/>
          <p:nvPr/>
        </p:nvPicPr>
        <p:blipFill>
          <a:blip r:embed="rId1"/>
          <a:stretch/>
        </p:blipFill>
        <p:spPr>
          <a:xfrm>
            <a:off x="395280" y="115920"/>
            <a:ext cx="18003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7"/>
          <p:cNvSpPr/>
          <p:nvPr/>
        </p:nvSpPr>
        <p:spPr>
          <a:xfrm>
            <a:off x="6516720" y="306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96560" y="698040"/>
            <a:ext cx="6651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3300"/>
                </a:solidFill>
                <a:latin typeface="Arial"/>
                <a:ea typeface="华文新魏"/>
              </a:rPr>
              <a:t>选择正确的读音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9280" y="2190600"/>
            <a:ext cx="545652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府邸（</a:t>
            </a:r>
            <a:r>
              <a:rPr b="0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shǐ   dì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筵 </a:t>
            </a: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(</a:t>
            </a:r>
            <a:r>
              <a:rPr b="0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xián   yán</a:t>
            </a: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)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踱（</a:t>
            </a:r>
            <a:r>
              <a:rPr b="0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duó   dù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）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廉颇（</a:t>
            </a:r>
            <a:r>
              <a:rPr b="0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pō   bō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上卿（</a:t>
            </a:r>
            <a:r>
              <a:rPr b="0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qīn  qīng</a:t>
            </a: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侮（</a:t>
            </a:r>
            <a:r>
              <a:rPr b="0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wū   wǔ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）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1" name="Picture 12" descr="负荆请罪"/>
          <p:cNvPicPr/>
          <p:nvPr/>
        </p:nvPicPr>
        <p:blipFill>
          <a:blip r:embed="rId1"/>
          <a:stretch/>
        </p:blipFill>
        <p:spPr>
          <a:xfrm>
            <a:off x="5796000" y="2349360"/>
            <a:ext cx="22860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词语解释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-181440" y="2349360"/>
            <a:ext cx="613116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厉害：难以对付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 惧怕：害怕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 宽恕：宽容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 昏庸：糊涂而愚蠢。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4" name="Picture 7" descr="W020040324351901670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349360"/>
            <a:ext cx="3384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390240" y="2809440"/>
            <a:ext cx="694836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负荆请罪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什么意思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谁向谁请罪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为什么要请罪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结果怎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96" name="Group 17"/>
          <p:cNvGrpSpPr/>
          <p:nvPr/>
        </p:nvGrpSpPr>
        <p:grpSpPr>
          <a:xfrm>
            <a:off x="395280" y="333360"/>
            <a:ext cx="2448000" cy="1749600"/>
            <a:chOff x="395280" y="333360"/>
            <a:chExt cx="2448000" cy="1749600"/>
          </a:xfrm>
        </p:grpSpPr>
        <p:pic>
          <p:nvPicPr>
            <p:cNvPr id="597" name="Picture 13" descr="搬木块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209088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 Box 14"/>
            <p:cNvSpPr/>
            <p:nvPr/>
          </p:nvSpPr>
          <p:spPr>
            <a:xfrm>
              <a:off x="611280" y="62064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华文中宋"/>
                </a:rPr>
                <a:t>阅读思考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599" name="Picture 16" descr="20070620112606308"/>
          <p:cNvPicPr/>
          <p:nvPr/>
        </p:nvPicPr>
        <p:blipFill>
          <a:blip r:embed="rId2"/>
          <a:srcRect l="4630" t="2738" r="15237" b="16549"/>
          <a:stretch/>
        </p:blipFill>
        <p:spPr>
          <a:xfrm>
            <a:off x="5435640" y="4005360"/>
            <a:ext cx="309708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539280" y="2205000"/>
            <a:ext cx="8280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为什么说蔺相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真是一个深明大义、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宽容大度的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廉颇是怎样的人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廉颇勇于改错，蔺相如顾全大局 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4003920" y="4221000"/>
            <a:ext cx="6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知错就改。从语言、动作可以看出。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2" name="Picture 15" descr="阅读思考"/>
          <p:cNvPicPr/>
          <p:nvPr/>
        </p:nvPicPr>
        <p:blipFill>
          <a:blip r:embed="rId1"/>
          <a:stretch/>
        </p:blipFill>
        <p:spPr>
          <a:xfrm>
            <a:off x="250920" y="189000"/>
            <a:ext cx="2463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92901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蔺相如的深明大义、宽容大度体现在什么地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行动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1476360" y="2060640"/>
            <a:ext cx="8261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路上有意避让廉颇的车子；好几天不上朝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避免与廉颇见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1403280" y="3933720"/>
            <a:ext cx="8207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你要知道，秦王不敢侵略我国，是因为我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赵国武有廉颇，文有蔺相如。要是我跟将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闹翻了，后果将会怎样？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569520" y="38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语言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阅读课文片段，完成练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负荆请罪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是个历史小话剧，通过（       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讲了（                    ）的故事。从故事中，我们知道了“负荆请罪”这个词的意思是（                 ）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08" name="Picture 5" descr="练习或作业"/>
          <p:cNvPicPr/>
          <p:nvPr/>
        </p:nvPicPr>
        <p:blipFill>
          <a:blip r:embed="rId1"/>
          <a:stretch/>
        </p:blipFill>
        <p:spPr>
          <a:xfrm>
            <a:off x="684360" y="1268280"/>
            <a:ext cx="100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5-31T16:26:51Z</dcterms:modified>
  <cp:revision>23</cp:revision>
  <dc:subject>第一PPT模板网-WWW.1PPT.COM</dc:subject>
  <dc:title>第一PPT模板网-WWW.1PPT.COM</dc:title>
</cp:coreProperties>
</file>