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AC4B-1F61-4CFD-B51F-BB71D330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7CF-F3A2-4441-BEA5-FA7C452C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2BEC-CB25-4058-9D98-76AE8D49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A49-85AB-4D97-8B09-3A526EBC0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E8B-E806-4DE3-B013-0FB01FD3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4CF-BADB-4B6F-84D5-97310424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710-1A0E-4423-8DEE-B6109819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A44-8C17-4737-8E23-91C4C816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A74-CD0A-42A2-8237-F19647ED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BA03-EE85-425A-98E0-CBA70D4D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EEB-2620-4F9D-BC12-11E75150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E95-F3AC-4DE8-AE83-DDF8E61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0ED6-8143-4460-9944-1F6E416AB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3" descr=""/>
          <p:cNvPicPr/>
          <p:nvPr/>
        </p:nvPicPr>
        <p:blipFill>
          <a:blip r:embed="rId2"/>
          <a:stretch/>
        </p:blipFill>
        <p:spPr>
          <a:xfrm>
            <a:off x="-122400" y="639720"/>
            <a:ext cx="925380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612720" y="379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C:\Documents and Settings\Administrator\桌面\07、9、1五年级教案\07、9、1新教案\11、飞夺泸定桥\12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80880" y="60948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华文行楷"/>
                <a:ea typeface="华文行楷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将课题改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夺取泸定桥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好吗？你能结合课文内容简单说说理由吗？</a:t>
            </a:r>
            <a:r>
              <a:rPr b="0" lang="zh-CN" sz="4400" spc="-1" strike="noStrike">
                <a:solidFill>
                  <a:srgbClr val="00ff00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3520" y="3124080"/>
            <a:ext cx="80010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赶到泸定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飞一样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夺取泸定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2895480" y="3429000"/>
            <a:ext cx="457200" cy="2133720"/>
          </a:xfrm>
          <a:custGeom>
            <a:avLst/>
            <a:gdLst>
              <a:gd name="textAreaLeft" fmla="*/ 292320 w 457200"/>
              <a:gd name="textAreaRight" fmla="*/ 457560 w 4572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C:\Documents and Settings\Administrator\桌面\07、9、1五年级教案\07、9、1新教案\11、飞夺泸定桥\u=978826921,2454312136&amp;gp=-26.jpg"/>
          <p:cNvPicPr/>
          <p:nvPr/>
        </p:nvPicPr>
        <p:blipFill>
          <a:blip r:embed="rId1"/>
          <a:stretch/>
        </p:blipFill>
        <p:spPr>
          <a:xfrm>
            <a:off x="3809880" y="1295280"/>
            <a:ext cx="5334120" cy="3543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380880" y="60948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什么说红军是以飞一样的速度赶到泸定桥的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33520" y="31240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红军战士只有抢在敌人增援部队的前面赶到泸定桥，才能有望夺取泸定桥，继续北上抗日。所以，他们必须与敌人抢时间，争速度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C:\Documents and Settings\Administrator\桌面\07、9、1五年级教案\07、9、1新教案\11、飞夺泸定桥\u=1897652764,2295804775&amp;gp=0.jpg"/>
          <p:cNvPicPr/>
          <p:nvPr/>
        </p:nvPicPr>
        <p:blipFill>
          <a:blip r:embed="rId1"/>
          <a:stretch/>
        </p:blipFill>
        <p:spPr>
          <a:xfrm>
            <a:off x="0" y="0"/>
            <a:ext cx="5334120" cy="6781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80880" y="5335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华文行楷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00ff00"/>
                </a:solidFill>
                <a:latin typeface="华文行楷"/>
                <a:ea typeface="华文行楷"/>
              </a:rPr>
              <a:t>、红军战士是怎样与敌人抢时间、争速度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57200" y="19051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华文行楷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00ff00"/>
                </a:solidFill>
                <a:latin typeface="华文行楷"/>
                <a:ea typeface="华文行楷"/>
              </a:rPr>
              <a:t>、当红军战士克服重重困难，抢先到达泸定桥时，摆在他们面前的又是什么呢？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3809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、桥险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几十丈、十三根、两根、九根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449568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、水流湍急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心惊胆战、像瀑布一样、倾泻、冲、飞溅、震耳欲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0" y="5791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3</a:t>
            </a:r>
            <a:r>
              <a:rPr b="0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、敌狂</a:t>
            </a: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华文行楷"/>
              </a:rPr>
              <a:t>——</a:t>
            </a:r>
            <a:r>
              <a:rPr b="0" lang="zh-CN" sz="3600" spc="-1" strike="noStrike">
                <a:solidFill>
                  <a:srgbClr val="00ff00"/>
                </a:solidFill>
                <a:latin typeface="华文行楷"/>
                <a:ea typeface="华文行楷"/>
              </a:rPr>
              <a:t>筑好工事、疯狂喊叫、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C:\Documents and Settings\Administrator\桌面\07、9、1五年级教案\07、9、1新教案\11、飞夺泸定桥\u=2507779916,2277737142&amp;gp=30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57200" y="7621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面对桥险、水急、敌狂，红军是怎样夺下泸定桥的？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09480" y="2590920"/>
            <a:ext cx="8534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二十二位英雄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拿着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冲锋枪、短枪，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背着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)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马刀，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带着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手榴弹，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冒着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敌人密集的枪弹，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攀着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铁链向对岸冲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英雄们听到党的号召，更加奋不顾身，都箭一般地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穿过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熊熊大火，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冲进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城去，和城里的敌人展开了激烈的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ff00ff"/>
                </a:solidFill>
                <a:latin typeface="华文行楷"/>
                <a:ea typeface="华文行楷"/>
              </a:rPr>
              <a:t>搏斗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C:\Documents and Settings\Administrator\桌面\07、9、1五年级教案\07、9、1新教案\11、飞夺泸定桥\u=2948621003,3846657944&amp;gp=10.jpg"/>
          <p:cNvPicPr/>
          <p:nvPr/>
        </p:nvPicPr>
        <p:blipFill>
          <a:blip r:embed="rId1"/>
          <a:stretch/>
        </p:blipFill>
        <p:spPr>
          <a:xfrm>
            <a:off x="1314360" y="0"/>
            <a:ext cx="65152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762120" y="4038480"/>
            <a:ext cx="78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什么飞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怎样飞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怎样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结果怎样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几个方面简要概括课文主要内容。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C:\Documents and Settings\Administrator\桌面\07、9、1五年级教案\07、9、1新教案\11、飞夺泸定桥\u=3560811981,2186999291&amp;gp=40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7365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</a:t>
            </a:r>
            <a:r>
              <a:rPr b="0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长征是历史记录上的第一次。长征是宣言书，它向全世界宣告红军是英雄好汉；长征又是宣传队，它向十一个省内大约二万万人民宣布，只有红军的道路，才是解放他们的道路；长征又是播种机，它散布了许多种子，在十一个省内发芽、长叶、开花、结果。长征是以我们胜利敌人失败的结果而告结束的。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04920" y="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毛主席语录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C:\Documents and Settings\Administrator\桌面\07、9、1五年级教案\07、9、1新教案\11、飞夺泸定桥\12.jpg"/>
          <p:cNvPicPr/>
          <p:nvPr/>
        </p:nvPicPr>
        <p:blipFill>
          <a:blip r:embed="rId1"/>
          <a:stretch/>
        </p:blipFill>
        <p:spPr>
          <a:xfrm>
            <a:off x="4343400" y="1676520"/>
            <a:ext cx="4800600" cy="3479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304920" y="457200"/>
            <a:ext cx="434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夺下了泸定桥是红军在长征中取得的又一次决定性的胜利。红军在长征中还取得哪几次决定性的胜利呢？请你查找有关资料后说给大家听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1571760" y="3071880"/>
            <a:ext cx="65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当易网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ttp://www.downyi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16:37:13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7-04T10:47:22Z</dcterms:modified>
  <cp:revision>9</cp:revision>
  <dc:subject>第一PPT模板网-WWW.1PPT.COM</dc:subject>
  <dc:title>第一PPT模板网-WWW.1PPT.COM</dc:title>
</cp:coreProperties>
</file>