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1B7E-6800-456A-9B75-61267C3CB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7BDD-4F50-4CCF-9D31-97C1E962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C732-1E50-4E3B-A43A-3B08386F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5849-4808-4993-8AF9-4B7473119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04FE8-08A5-4C0A-A2A4-6033C483B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776D-24FA-4B92-A141-F8E3E9E0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F2C9-89A3-4CFE-B51F-6F3E0E739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B4136-C635-4815-9E38-34F910626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CA741-DCE9-45EB-9A99-D20439B2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BE3-D950-4D5A-B9B4-266850C3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413DE-998A-4585-929B-0D8C2B25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11AF-60F7-462E-AA20-45F9E4C1A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15BB-44BE-4D9A-B8E0-C42703D3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9E6C7-B9C9-4BF8-B509-76FDD91A8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A0E8-3D2B-4544-8E70-6ED87E39E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715CE-35F7-4AAD-AB48-18E9CDC39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1C24B-4AF2-45ED-913B-F2865539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3343-A798-4F53-9ADA-CE188B79C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FB8F-D61D-409E-8CA5-AB4EAACE0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0A4A3-203C-4912-BA16-F03F491AF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585B-8E56-49E9-B95F-2C7C15047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D622-4AA0-4843-BF46-738F524B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4288-F12A-44A7-937D-EAE96BC4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7E78-68EE-4734-A35B-790055E64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1658-5586-4BC0-B5ED-EDDFCB8947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prstGeom prst="pi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prstGeom prst="pi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CDE5-74E8-4C55-BF0E-4B8EC429C5E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usr/lib/libreoffice/share/gallery/sounds/applause.wav" TargetMode="Externa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pic_251408u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853320"/>
          </a:xfrm>
          <a:prstGeom prst="rect">
            <a:avLst/>
          </a:prstGeom>
          <a:ln w="0">
            <a:noFill/>
          </a:ln>
        </p:spPr>
      </p:pic>
      <p:pic>
        <p:nvPicPr>
          <p:cNvPr id="153" name="WordArt 3" descr=""/>
          <p:cNvPicPr/>
          <p:nvPr/>
        </p:nvPicPr>
        <p:blipFill>
          <a:blip r:embed="rId2"/>
          <a:stretch/>
        </p:blipFill>
        <p:spPr>
          <a:xfrm>
            <a:off x="689040" y="755640"/>
            <a:ext cx="77598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4" descr="168133576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971640" y="2855880"/>
            <a:ext cx="324000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反穿大羊皮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ahoma"/>
                <a:ea typeface="华文中宋"/>
              </a:rPr>
              <a:t>重临：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1619280" y="2900520"/>
            <a:ext cx="50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                </a:t>
            </a: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过去人们穿的羊毛朝外的一种皮袄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2484360" y="4221000"/>
            <a:ext cx="28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Arial"/>
                <a:ea typeface="楷体_GB2312"/>
              </a:rPr>
              <a:t>重新到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5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87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7" descr="pic_251411u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4"/>
          <p:cNvSpPr/>
          <p:nvPr/>
        </p:nvSpPr>
        <p:spPr>
          <a:xfrm>
            <a:off x="826920" y="1211400"/>
            <a:ext cx="7201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自由读课文，看看课文以什么顺序记叙了作者的童年生活？</a:t>
            </a:r>
            <a:br>
              <a:rPr sz="3600"/>
            </a:b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作者回忆了童年生活中的哪几个片断 ？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1692360" y="3573360"/>
            <a:ext cx="5400720" cy="2288520"/>
          </a:xfrm>
          <a:prstGeom prst="rect">
            <a:avLst/>
          </a:prstGeom>
          <a:solidFill>
            <a:srgbClr val="f8a5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66ff"/>
                </a:solidFill>
                <a:latin typeface="黑体"/>
                <a:ea typeface="黑体"/>
              </a:rPr>
              <a:t>1</a:t>
            </a: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）看骆驼咀嚼。</a:t>
            </a:r>
            <a:br>
              <a:rPr sz="3600"/>
            </a:b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66ff"/>
                </a:solidFill>
                <a:latin typeface="黑体"/>
                <a:ea typeface="黑体"/>
              </a:rPr>
              <a:t>2</a:t>
            </a: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）看骆驼脱皮毛。</a:t>
            </a:r>
            <a:br>
              <a:rPr sz="3600"/>
            </a:b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66ff"/>
                </a:solidFill>
                <a:latin typeface="黑体"/>
                <a:ea typeface="黑体"/>
              </a:rPr>
              <a:t>3</a:t>
            </a: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）关于铃铛的遐想。</a:t>
            </a:r>
            <a:br>
              <a:rPr sz="3600"/>
            </a:b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（</a:t>
            </a:r>
            <a:r>
              <a:rPr b="0" lang="en-US" sz="3600" spc="-1" strike="noStrike">
                <a:solidFill>
                  <a:srgbClr val="ff66ff"/>
                </a:solidFill>
                <a:latin typeface="黑体"/>
                <a:ea typeface="黑体"/>
              </a:rPr>
              <a:t>4</a:t>
            </a:r>
            <a:r>
              <a:rPr b="0" lang="zh-CN" sz="3600" spc="-1" strike="noStrike">
                <a:solidFill>
                  <a:srgbClr val="ff66ff"/>
                </a:solidFill>
                <a:latin typeface="黑体"/>
                <a:ea typeface="黑体"/>
              </a:rPr>
              <a:t>）怀念骆驼队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WordArt 8"/>
          <p:cNvSpPr txBox="1"/>
          <p:nvPr/>
        </p:nvSpPr>
        <p:spPr>
          <a:xfrm>
            <a:off x="395280" y="692280"/>
            <a:ext cx="223200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整体把握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9" descr="U624P62T3D103313F72DT2005110315192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572000" y="620640"/>
            <a:ext cx="4392720" cy="59040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U624P62T3D103313F72DT2005110315192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4392720" cy="590400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684360" y="2060640"/>
            <a:ext cx="7775280" cy="64260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①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那样丑的脸，那样长的牙，那样安静的态度。它们咀嚼的时候，上牙和下牙交错地磨来磨去，大鼻孔里冒着热气，白沫子沾在胡须上。我看呆了，自己的牙齿也动起来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WordArt 10"/>
          <p:cNvSpPr txBox="1"/>
          <p:nvPr/>
        </p:nvSpPr>
        <p:spPr>
          <a:xfrm>
            <a:off x="395280" y="836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重点句子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U624P62T3D103313F72DT2005110315192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0" y="620640"/>
            <a:ext cx="4392720" cy="59040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U624P62T3D103313F72DT2005110315192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4392720" cy="590400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250560" y="1339920"/>
            <a:ext cx="8459640" cy="4968720"/>
          </a:xfrm>
          <a:prstGeom prst="rect">
            <a:avLst/>
          </a:prstGeom>
          <a:solidFill>
            <a:srgbClr val="f8a500">
              <a:alpha val="7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9933"/>
                </a:solidFill>
                <a:latin typeface="Tahoma"/>
                <a:ea typeface="幼圆"/>
              </a:rPr>
              <a:t>           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今天生活在城里的孩子，能看到骆驼是不大容易的事，在旧北京却经常可以看到冬天里拉煤的骆驼队。因为爸爸买煤，使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有机会细细地看这样一种大个动物。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幼圆"/>
              </a:rPr>
              <a:t>“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我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幼圆"/>
              </a:rPr>
              <a:t>”</a:t>
            </a:r>
            <a:r>
              <a:rPr b="1" lang="zh-CN" sz="2800" spc="-1" strike="noStrike">
                <a:solidFill>
                  <a:srgbClr val="0066ff"/>
                </a:solidFill>
                <a:latin typeface="Tahoma"/>
                <a:ea typeface="幼圆"/>
              </a:rPr>
              <a:t>看得多细呀，看它们的脸，看它们的牙，看它们咀嚼的动作，看它们的大鼻孔，看它们的胡须；看得多入神啊，看着看着，自己的牙齿都动起来。看着看着，就喜欢上了它们，虽说觉得长得丑，却并没有厌恶的意思，这是一个孩子真实的想法。孩子好奇的表情跃然纸上，孩子天真的神态也展露无遗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12" descr="U624P62T3D103313F72DT2005110315192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0" y="620640"/>
            <a:ext cx="4392720" cy="5904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3" descr="U624P62T3D103313F72DT2005110315192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4392720" cy="5904000"/>
          </a:xfrm>
          <a:prstGeom prst="rect">
            <a:avLst/>
          </a:prstGeom>
          <a:ln w="0">
            <a:noFill/>
          </a:ln>
        </p:spPr>
      </p:pic>
      <p:sp>
        <p:nvSpPr>
          <p:cNvPr id="233" name="Text Box 9"/>
          <p:cNvSpPr/>
          <p:nvPr/>
        </p:nvSpPr>
        <p:spPr>
          <a:xfrm>
            <a:off x="755640" y="1268280"/>
            <a:ext cx="7920000" cy="119124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②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夏天来了，再不见骆驼的影子，我又问妈妈：“夏天它们到哪里去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?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Text Box 11"/>
          <p:cNvSpPr/>
          <p:nvPr/>
        </p:nvSpPr>
        <p:spPr>
          <a:xfrm>
            <a:off x="755640" y="2852640"/>
            <a:ext cx="7920000" cy="1702080"/>
          </a:xfrm>
          <a:prstGeom prst="rect">
            <a:avLst/>
          </a:prstGeom>
          <a:solidFill>
            <a:srgbClr val="f8a5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幼圆"/>
              </a:rPr>
              <a:t>这句话显然问得没头没脑，所以妈妈才问：“谁</a:t>
            </a:r>
            <a:r>
              <a:rPr b="1" lang="en-US" sz="3200" spc="-1" strike="noStrike">
                <a:solidFill>
                  <a:srgbClr val="0066ff"/>
                </a:solidFill>
                <a:latin typeface="Arial"/>
                <a:ea typeface="幼圆"/>
              </a:rPr>
              <a:t>?”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幼圆"/>
              </a:rPr>
              <a:t>正是这看似没头没脑的话，才把小小“我”内心对骆驼队的思念表现出来了。因为思念骆驼，头脑里满是骆驼的事情，所以情不自禁地把心里想的问题问了出来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8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8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9" descr="U624P62T3D103313F72DT20051103151921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572000" y="620640"/>
            <a:ext cx="4392720" cy="5904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0" descr="U624P62T3D103313F72DT2005110315192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4392720" cy="590400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7"/>
          <p:cNvSpPr/>
          <p:nvPr/>
        </p:nvSpPr>
        <p:spPr>
          <a:xfrm>
            <a:off x="755640" y="3141720"/>
            <a:ext cx="7632720" cy="581400"/>
          </a:xfrm>
          <a:prstGeom prst="rect">
            <a:avLst/>
          </a:prstGeom>
          <a:solidFill>
            <a:srgbClr val="f8a5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幼圆"/>
              </a:rPr>
              <a:t>  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幼圆"/>
              </a:rPr>
              <a:t>暑去寒来，骆驼队来了又走了，走了又来了，童年也在这岁月的流逝中远去了。童年的幼稚不再，童年的故事不再。这句话清晰地传达出作者对童年的眷恋，我们仿佛能听见她轻轻的叹息，对时光流逝、物是人非的感叹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755640" y="1413000"/>
            <a:ext cx="7561440" cy="1191240"/>
          </a:xfrm>
          <a:prstGeom prst="rect">
            <a:avLst/>
          </a:prstGeom>
          <a:solidFill>
            <a:srgbClr val="ffff99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       ③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夏天过去，秋天过去，冬天又来了，骆驼队又来了，童年却一去不还了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44" dur="2000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6" descr="U624P62T3D103313F72DT20051103151921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4572000" y="620640"/>
            <a:ext cx="4392720" cy="590400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7" descr="U624P62T3D103313F72DT20051103151921"/>
          <p:cNvPicPr/>
          <p:nvPr/>
        </p:nvPicPr>
        <p:blipFill>
          <a:blip r:embed="rId2">
            <a:lum bright="18000"/>
          </a:blip>
          <a:stretch/>
        </p:blipFill>
        <p:spPr>
          <a:xfrm>
            <a:off x="179280" y="620640"/>
            <a:ext cx="4392720" cy="590400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971640" y="1052640"/>
            <a:ext cx="7200720" cy="642600"/>
          </a:xfrm>
          <a:prstGeom prst="rect">
            <a:avLst/>
          </a:prstGeom>
          <a:solidFill>
            <a:srgbClr val="ffff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ccff"/>
                </a:solidFill>
                <a:latin typeface="Times New Roman"/>
                <a:ea typeface="黑体"/>
              </a:rPr>
              <a:t>        </a:t>
            </a:r>
            <a:r>
              <a:rPr b="1" lang="en-US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④</a:t>
            </a:r>
            <a:r>
              <a:rPr b="1" lang="zh-CN" sz="3600" spc="-1" strike="noStrike">
                <a:solidFill>
                  <a:srgbClr val="ff66ff"/>
                </a:solidFill>
                <a:latin typeface="Times New Roman"/>
                <a:ea typeface="黑体"/>
              </a:rPr>
              <a:t>我默默地想，慢慢地写，又看见冬阳下的骆驼队走过来，又听见缓缓悦耳的驼铃声。童年重临于我的心头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971640" y="3357720"/>
            <a:ext cx="7273800" cy="581400"/>
          </a:xfrm>
          <a:prstGeom prst="rect">
            <a:avLst/>
          </a:prstGeom>
          <a:solidFill>
            <a:srgbClr val="f8a5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Arial"/>
                <a:ea typeface="幼圆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  <a:ea typeface="幼圆"/>
              </a:rPr>
              <a:t>作者童年那段日子显然永远留在她的记忆中，让她怀念不已，让她回味不已。在回忆中，发现童年的一切，并没有走远，骆驼队仿佛就在眼前，驼铃声仿佛也响在耳边，童年的一切，又在心头出现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6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7" descr="pic_251411u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79280" y="620640"/>
            <a:ext cx="8785440" cy="5977080"/>
          </a:xfrm>
          <a:prstGeom prst="rect">
            <a:avLst/>
          </a:prstGeom>
          <a:ln w="0">
            <a:noFill/>
          </a:ln>
        </p:spPr>
      </p:pic>
      <p:sp>
        <p:nvSpPr>
          <p:cNvPr id="244" name="Text Box 4"/>
          <p:cNvSpPr/>
          <p:nvPr/>
        </p:nvSpPr>
        <p:spPr>
          <a:xfrm>
            <a:off x="900000" y="1413000"/>
            <a:ext cx="7632720" cy="642600"/>
          </a:xfrm>
          <a:prstGeom prst="rect">
            <a:avLst/>
          </a:prstGeom>
          <a:solidFill>
            <a:srgbClr val="f8a5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cc66"/>
                </a:solidFill>
                <a:latin typeface="Arial"/>
                <a:ea typeface="楷体_GB2312"/>
              </a:rPr>
              <a:t>作者以朴实纯真的笔调，梦境般的语言，把我们带到一个特定的环境，去看一个孩子童年的侧影，其中景和情既清晰，又那么朦胧。骆驼队是留在作者童年里鲜明的记忆，它们脖子上的铃声，则是童年中美妙的音响。就在这种淡淡的回忆中，我们真切地看到了作者对童年的魂牵梦萦，对早已走远的童年的依依流连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WordArt 5"/>
          <p:cNvSpPr txBox="1"/>
          <p:nvPr/>
        </p:nvSpPr>
        <p:spPr>
          <a:xfrm>
            <a:off x="395280" y="836640"/>
            <a:ext cx="2232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理解体会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5" descr="U105P28T3D881440F326DT20051031184057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247" name="AutoShape 6"/>
          <p:cNvSpPr/>
          <p:nvPr/>
        </p:nvSpPr>
        <p:spPr>
          <a:xfrm>
            <a:off x="1187280" y="5734080"/>
            <a:ext cx="1081080" cy="503280"/>
          </a:xfrm>
          <a:custGeom>
            <a:avLst/>
            <a:gdLst>
              <a:gd name="textAreaLeft" fmla="*/ 32400 w 1081080"/>
              <a:gd name="textAreaRight" fmla="*/ 1048680 w 108108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46381" h="21600">
                <a:moveTo>
                  <a:pt x="0" y="0"/>
                </a:moveTo>
                <a:lnTo>
                  <a:pt x="46381" y="0"/>
                </a:lnTo>
                <a:lnTo>
                  <a:pt x="46381" y="21600"/>
                </a:lnTo>
                <a:lnTo>
                  <a:pt x="0" y="21600"/>
                </a:lnTo>
                <a:close/>
              </a:path>
              <a:path fill="lightenLess" w="46381" h="21600">
                <a:moveTo>
                  <a:pt x="0" y="0"/>
                </a:moveTo>
                <a:lnTo>
                  <a:pt x="46381" y="0"/>
                </a:lnTo>
                <a:lnTo>
                  <a:pt x="44981" y="1400"/>
                </a:lnTo>
                <a:lnTo>
                  <a:pt x="1400" y="1400"/>
                </a:lnTo>
                <a:close/>
              </a:path>
              <a:path fill="darken" w="46381" h="21600">
                <a:moveTo>
                  <a:pt x="46381" y="0"/>
                </a:moveTo>
                <a:lnTo>
                  <a:pt x="46381" y="21600"/>
                </a:lnTo>
                <a:lnTo>
                  <a:pt x="44981" y="20200"/>
                </a:lnTo>
                <a:lnTo>
                  <a:pt x="44981" y="1400"/>
                </a:lnTo>
                <a:close/>
              </a:path>
              <a:path fill="darkenLess" w="46381" h="21600">
                <a:moveTo>
                  <a:pt x="463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981" y="20200"/>
                </a:lnTo>
                <a:close/>
              </a:path>
              <a:path fill="lighten" w="463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6381" h="21600">
                <a:moveTo>
                  <a:pt x="16184" y="7301"/>
                </a:moveTo>
                <a:lnTo>
                  <a:pt x="17098" y="7301"/>
                </a:lnTo>
                <a:lnTo>
                  <a:pt x="17481" y="7667"/>
                </a:lnTo>
                <a:lnTo>
                  <a:pt x="26689" y="7667"/>
                </a:lnTo>
                <a:lnTo>
                  <a:pt x="27246" y="8224"/>
                </a:lnTo>
                <a:lnTo>
                  <a:pt x="27246" y="8772"/>
                </a:lnTo>
                <a:lnTo>
                  <a:pt x="29091" y="8772"/>
                </a:lnTo>
                <a:lnTo>
                  <a:pt x="29457" y="8224"/>
                </a:lnTo>
                <a:lnTo>
                  <a:pt x="30197" y="8224"/>
                </a:lnTo>
                <a:lnTo>
                  <a:pt x="30197" y="13376"/>
                </a:lnTo>
                <a:lnTo>
                  <a:pt x="29457" y="13376"/>
                </a:lnTo>
                <a:lnTo>
                  <a:pt x="29091" y="12828"/>
                </a:lnTo>
                <a:lnTo>
                  <a:pt x="27246" y="12828"/>
                </a:lnTo>
                <a:lnTo>
                  <a:pt x="27246" y="14107"/>
                </a:lnTo>
                <a:lnTo>
                  <a:pt x="17663" y="14107"/>
                </a:lnTo>
                <a:lnTo>
                  <a:pt x="17663" y="9877"/>
                </a:lnTo>
                <a:lnTo>
                  <a:pt x="17481" y="9877"/>
                </a:lnTo>
                <a:lnTo>
                  <a:pt x="17098" y="10243"/>
                </a:lnTo>
                <a:lnTo>
                  <a:pt x="16184" y="10243"/>
                </a:lnTo>
                <a:close/>
              </a:path>
            </a:pathLst>
          </a:custGeom>
          <a:solidFill>
            <a:srgbClr val="f8a5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AutoShape 8">
            <a:hlinkClick r:id="rId2"/>
          </p:cNvPr>
          <p:cNvSpPr/>
          <p:nvPr/>
        </p:nvSpPr>
        <p:spPr>
          <a:xfrm>
            <a:off x="1332000" y="2637000"/>
            <a:ext cx="503280" cy="360360"/>
          </a:xfrm>
          <a:custGeom>
            <a:avLst/>
            <a:gdLst>
              <a:gd name="textAreaLeft" fmla="*/ 23040 w 503280"/>
              <a:gd name="textAreaRight" fmla="*/ 480240 w 503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58" h="21600">
                <a:moveTo>
                  <a:pt x="0" y="0"/>
                </a:moveTo>
                <a:lnTo>
                  <a:pt x="30158" y="0"/>
                </a:lnTo>
                <a:lnTo>
                  <a:pt x="30158" y="21600"/>
                </a:lnTo>
                <a:lnTo>
                  <a:pt x="0" y="21600"/>
                </a:lnTo>
                <a:close/>
              </a:path>
              <a:path fill="lightenLess" w="30158" h="21600">
                <a:moveTo>
                  <a:pt x="0" y="0"/>
                </a:moveTo>
                <a:lnTo>
                  <a:pt x="30158" y="0"/>
                </a:lnTo>
                <a:lnTo>
                  <a:pt x="28758" y="1400"/>
                </a:lnTo>
                <a:lnTo>
                  <a:pt x="1400" y="1400"/>
                </a:lnTo>
                <a:close/>
              </a:path>
              <a:path fill="darken" w="30158" h="21600">
                <a:moveTo>
                  <a:pt x="30158" y="0"/>
                </a:moveTo>
                <a:lnTo>
                  <a:pt x="30158" y="21600"/>
                </a:lnTo>
                <a:lnTo>
                  <a:pt x="28758" y="20200"/>
                </a:lnTo>
                <a:lnTo>
                  <a:pt x="28758" y="1400"/>
                </a:lnTo>
                <a:close/>
              </a:path>
              <a:path fill="darkenLess" w="30158" h="21600">
                <a:moveTo>
                  <a:pt x="301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58" y="20200"/>
                </a:lnTo>
                <a:close/>
              </a:path>
              <a:path fill="lighten" w="301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58" h="21600">
                <a:moveTo>
                  <a:pt x="8073" y="8406"/>
                </a:moveTo>
                <a:lnTo>
                  <a:pt x="12503" y="8406"/>
                </a:lnTo>
                <a:lnTo>
                  <a:pt x="16924" y="3794"/>
                </a:lnTo>
                <a:lnTo>
                  <a:pt x="16924" y="17806"/>
                </a:lnTo>
                <a:lnTo>
                  <a:pt x="12503" y="13194"/>
                </a:lnTo>
                <a:lnTo>
                  <a:pt x="8073" y="13194"/>
                </a:lnTo>
                <a:close/>
              </a:path>
              <a:path fill="darken" w="30158" h="21600">
                <a:moveTo>
                  <a:pt x="18578" y="10800"/>
                </a:moveTo>
                <a:lnTo>
                  <a:pt x="22086" y="10800"/>
                </a:lnTo>
              </a:path>
              <a:path fill="darken" w="30158" h="21600">
                <a:moveTo>
                  <a:pt x="18578" y="8406"/>
                </a:moveTo>
                <a:lnTo>
                  <a:pt x="22086" y="5639"/>
                </a:lnTo>
              </a:path>
              <a:path fill="darken" w="30158" h="21600">
                <a:moveTo>
                  <a:pt x="18578" y="13194"/>
                </a:moveTo>
                <a:lnTo>
                  <a:pt x="22086" y="15961"/>
                </a:lnTo>
              </a:path>
            </a:pathLst>
          </a:cu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1" name="Picture 4" descr="2006349513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2971800" y="0"/>
            <a:ext cx="6172200" cy="106884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骆驼哺乳纲，骆驼科。反刍家畜。头小，颈长，体大，毛褐色。眼为重睑，鼻孔能开闭，四肢细长，二趾，有厚皮，适于在沙漠行走。尾细长，尾端有丛毛。背有一或两个驼峰，内蓄脂肪；胃分三室，第一胃附生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20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隶书"/>
              </a:rPr>
              <a:t>—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个水脬，作贮水用，故善耐饥渴。性温驯而执拗，食粗草及灌木。能负重远行，号称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沙漠之舟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。寿命约</a:t>
            </a:r>
            <a:r>
              <a:rPr b="1" lang="en-US" sz="3200" spc="-1" strike="noStrike">
                <a:solidFill>
                  <a:srgbClr val="ffffff"/>
                </a:solidFill>
                <a:latin typeface="隶书"/>
                <a:ea typeface="隶书"/>
              </a:rPr>
              <a:t>30</a:t>
            </a:r>
            <a:r>
              <a:rPr b="1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年。单峰驼饲养于阿拉伯、印度及非洲北部；双峰驼产于我国及中亚细亚，还有野生的，体较大，四肢较短。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3" descr="88-1"/>
          <p:cNvPicPr/>
          <p:nvPr/>
        </p:nvPicPr>
        <p:blipFill>
          <a:blip r:embed="rId1"/>
          <a:stretch/>
        </p:blipFill>
        <p:spPr>
          <a:xfrm>
            <a:off x="0" y="0"/>
            <a:ext cx="297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remove" presetClass="emph" presetID="33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animClr clrSpc="rgb">
                                      <p:cBhvr>
                                        <p:cTn id="21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808000"/>
                                      </p:to>
                                    </p:animClr>
                                    <p:set>
                                      <p:cBhvr>
                                        <p:cTn id="22" dur="3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23" dur="1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100000" y="14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4" name="Picture 4" descr="20063495119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31" descr="tongnianshenghuo2_632"/>
          <p:cNvPicPr/>
          <p:nvPr/>
        </p:nvPicPr>
        <p:blipFill>
          <a:blip r:embed="rId1"/>
          <a:srcRect l="0" t="6518" r="-15" b="4769"/>
          <a:stretch/>
        </p:blipFill>
        <p:spPr>
          <a:xfrm>
            <a:off x="179280" y="620640"/>
            <a:ext cx="8785440" cy="6026400"/>
          </a:xfrm>
          <a:prstGeom prst="rect">
            <a:avLst/>
          </a:prstGeom>
          <a:ln w="0">
            <a:noFill/>
          </a:ln>
        </p:spPr>
      </p:pic>
      <p:sp>
        <p:nvSpPr>
          <p:cNvPr id="256" name="WordArt 21"/>
          <p:cNvSpPr txBox="1"/>
          <p:nvPr/>
        </p:nvSpPr>
        <p:spPr>
          <a:xfrm>
            <a:off x="2843280" y="4005360"/>
            <a:ext cx="4032360" cy="194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>
    <p:random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00040" y="29286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Arial"/>
              </a:rPr>
              <a:t>当易网 </a:t>
            </a: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http://www.downyi.com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{3AB6AD8B-E135-4B72-9AD7-BE9599717F7D}"/>
          <p:cNvPicPr/>
          <p:nvPr/>
        </p:nvPicPr>
        <p:blipFill>
          <a:blip r:embed="rId1"/>
          <a:srcRect l="845" t="1102" r="0" b="0"/>
          <a:stretch/>
        </p:blipFill>
        <p:spPr>
          <a:xfrm>
            <a:off x="0" y="0"/>
            <a:ext cx="9144000" cy="631044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0" y="43308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林海音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1918—2001)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原名林含英，原籍台湾省苗栗县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1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日生于日本大阪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时随父母由台湾迁居北京城南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岁时担任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世界日报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记者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48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举家迁回台湾。她写过不少脍炙人口的小说和散文。以北京生活的点点滴滴写成的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城南旧事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一书，深得读者喜爱，后改拍成同名电影，还改编成了儿童连环画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、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99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年两度回到北京，为两岸文学交流默默地工作。北京中国现代文学馆目前设有林海音文库，主要作品有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林海音自选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《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林海音童话集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等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0" descr="{3AB6AD8B-E135-4B72-9AD7-BE9599717F7D}"/>
          <p:cNvPicPr/>
          <p:nvPr/>
        </p:nvPicPr>
        <p:blipFill>
          <a:blip r:embed="rId1"/>
          <a:srcRect l="845" t="1102" r="0" b="0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"/>
          <p:cNvSpPr/>
          <p:nvPr/>
        </p:nvSpPr>
        <p:spPr>
          <a:xfrm>
            <a:off x="539640" y="692280"/>
            <a:ext cx="8280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66ff"/>
                </a:solidFill>
                <a:latin typeface="Arial"/>
              </a:rPr>
              <a:t>看了这题目，请你闭上眼睛感受一下，在你的脑海中浮现出一幅怎样的画面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9933"/>
                </a:solidFill>
                <a:latin typeface="Arial"/>
                <a:ea typeface="楷体_GB2312"/>
              </a:rPr>
              <a:t>（在温暖的冬阳下，一群骆驼队从远处走来，驼铃声悦耳动听，童年的“我”站在旁边静静地看着。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539640" y="3436920"/>
            <a:ext cx="80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66"/>
                </a:solidFill>
                <a:latin typeface="幼圆"/>
                <a:ea typeface="幼圆"/>
              </a:rPr>
              <a:t>    </a:t>
            </a:r>
            <a:r>
              <a:rPr b="1" lang="zh-CN" sz="3200" spc="-1" strike="noStrike">
                <a:solidFill>
                  <a:srgbClr val="ffcc66"/>
                </a:solidFill>
                <a:latin typeface="幼圆"/>
                <a:ea typeface="幼圆"/>
              </a:rPr>
              <a:t>这个题目把三种事物编织在一起，充满诗情画意，会令我们产生许多遐想。每个人都有美好的童年，童年发生的事往往充满稚趣，又很有意思，它们像一颗颗闪亮的珍珠收藏在我们的记忆里，今天就让我们和作者一起回忆他那充满稚气的童年往事吧</a:t>
            </a:r>
            <a:r>
              <a:rPr b="1" lang="en-US" sz="3200" spc="-1" strike="noStrike">
                <a:solidFill>
                  <a:srgbClr val="ffcc66"/>
                </a:solidFill>
                <a:latin typeface="幼圆"/>
                <a:ea typeface="幼圆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8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5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6" descr="{3AB6AD8B-E135-4B72-9AD7-BE9599717F7D}"/>
          <p:cNvPicPr/>
          <p:nvPr/>
        </p:nvPicPr>
        <p:blipFill>
          <a:blip r:embed="rId1"/>
          <a:srcRect l="845" t="1102" r="0" b="0"/>
          <a:stretch/>
        </p:blipFill>
        <p:spPr>
          <a:xfrm>
            <a:off x="179280" y="606600"/>
            <a:ext cx="8785440" cy="606240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>
            <a:off x="684360" y="1052640"/>
            <a:ext cx="7991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宋体"/>
              </a:rPr>
              <a:t>　 </a:t>
            </a:r>
            <a:r>
              <a:rPr b="0" lang="zh-CN" sz="3600" spc="-1" strike="noStrike">
                <a:solidFill>
                  <a:srgbClr val="ff7c80"/>
                </a:solidFill>
                <a:latin typeface="宋体"/>
                <a:ea typeface="隶书"/>
              </a:rPr>
              <a:t>“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冬阳下的骆驼队</a:t>
            </a:r>
            <a:r>
              <a:rPr b="0" lang="zh-CN" sz="3600" spc="-1" strike="noStrike">
                <a:solidFill>
                  <a:srgbClr val="ff7c80"/>
                </a:solidFill>
                <a:latin typeface="宋体"/>
                <a:ea typeface="隶书"/>
              </a:rPr>
              <a:t>”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是作者林海音女士童年记忆最深刻的一个画面。林海音是我国现代著名作家。她原籍台湾，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1918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年出生于日本，童年时随父母回国住在北京城南，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1948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年举家迁回台湾。林海音女士根据在北京生活的点点滴滴写成了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城南旧事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一书，深受读者喜爱。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冬阳</a:t>
            </a:r>
            <a:r>
              <a:rPr b="0" lang="en-US" sz="3600" spc="-1" strike="noStrike">
                <a:solidFill>
                  <a:srgbClr val="ff7c80"/>
                </a:solidFill>
                <a:latin typeface="宋体"/>
                <a:ea typeface="隶书"/>
              </a:rPr>
              <a:t>·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童年</a:t>
            </a:r>
            <a:r>
              <a:rPr b="0" lang="en-US" sz="3600" spc="-1" strike="noStrike">
                <a:solidFill>
                  <a:srgbClr val="ff7c80"/>
                </a:solidFill>
                <a:latin typeface="宋体"/>
                <a:ea typeface="隶书"/>
              </a:rPr>
              <a:t>·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骆驼队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一文正是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《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城南旧事</a:t>
            </a:r>
            <a:r>
              <a:rPr b="0" lang="en-US" sz="3600" spc="-1" strike="noStrike">
                <a:solidFill>
                  <a:srgbClr val="ff7c80"/>
                </a:solidFill>
                <a:latin typeface="隶书"/>
                <a:ea typeface="隶书"/>
              </a:rPr>
              <a:t>》</a:t>
            </a:r>
            <a:r>
              <a:rPr b="0" lang="zh-CN" sz="3600" spc="-1" strike="noStrike">
                <a:solidFill>
                  <a:srgbClr val="ff7c80"/>
                </a:solidFill>
                <a:latin typeface="隶书"/>
                <a:ea typeface="隶书"/>
              </a:rPr>
              <a:t>这本书的序言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5" descr="168133580"/>
          <p:cNvPicPr/>
          <p:nvPr/>
        </p:nvPicPr>
        <p:blipFill>
          <a:blip r:embed="rId1"/>
          <a:stretch/>
        </p:blipFill>
        <p:spPr>
          <a:xfrm>
            <a:off x="179280" y="620640"/>
            <a:ext cx="8785440" cy="5904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920000" cy="37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1.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读懂课文，了解作者童年时对骆驼的关注，想象课文描写的童年生活画面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2.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有感情地朗读课文，能通过重点词句的理解，体会作者对童年生活的怀念之情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3.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认识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3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个生字，会写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9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个，抄写喜欢的句子。课余，有兴趣的同学可以读读小说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《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城南旧事</a:t>
            </a:r>
            <a:r>
              <a:rPr b="1" lang="en-US" sz="3200" spc="-1" strike="noStrike">
                <a:solidFill>
                  <a:srgbClr val="0066ff"/>
                </a:solidFill>
                <a:latin typeface="Tahoma"/>
              </a:rPr>
              <a:t>》</a:t>
            </a:r>
            <a:r>
              <a:rPr b="1" lang="zh-CN" sz="3200" spc="-1" strike="noStrike">
                <a:solidFill>
                  <a:srgbClr val="0066ff"/>
                </a:solidFill>
                <a:latin typeface="Tahoma"/>
              </a:rPr>
              <a:t>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WordArt 6"/>
          <p:cNvSpPr txBox="1"/>
          <p:nvPr/>
        </p:nvSpPr>
        <p:spPr>
          <a:xfrm>
            <a:off x="971640" y="1125360"/>
            <a:ext cx="2160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学习目标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8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8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8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8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20050801161247274"/>
          <p:cNvPicPr/>
          <p:nvPr/>
        </p:nvPicPr>
        <p:blipFill>
          <a:blip r:embed="rId1"/>
          <a:stretch/>
        </p:blipFill>
        <p:spPr>
          <a:xfrm>
            <a:off x="0" y="122400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842920" y="2206440"/>
            <a:ext cx="71892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宋体"/>
              </a:rPr>
              <a:t>毡 </a:t>
            </a:r>
            <a:r>
              <a:rPr b="0" lang="zh-CN" sz="2000" spc="-1" strike="noStrike">
                <a:solidFill>
                  <a:srgbClr val="ff33cc"/>
                </a:solidFill>
                <a:latin typeface="宋体"/>
              </a:rPr>
              <a:t>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宋体"/>
              </a:rPr>
              <a:t>卸           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cc"/>
                </a:solidFill>
                <a:latin typeface="宋体"/>
              </a:rPr>
              <a:t>咀</a:t>
            </a:r>
            <a:r>
              <a:rPr b="0" lang="zh-CN" sz="2000" spc="-1" strike="noStrike">
                <a:solidFill>
                  <a:srgbClr val="ffffff"/>
                </a:solidFill>
                <a:latin typeface="宋体"/>
              </a:rPr>
              <a:t>       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492360" y="34257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xiè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3348000" y="220176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zhān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5078520" y="2201760"/>
            <a:ext cx="18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毡帽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Text Box 9"/>
          <p:cNvSpPr/>
          <p:nvPr/>
        </p:nvSpPr>
        <p:spPr>
          <a:xfrm>
            <a:off x="5003640" y="3425760"/>
            <a:ext cx="208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卸货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WordArt 10"/>
          <p:cNvSpPr txBox="1"/>
          <p:nvPr/>
        </p:nvSpPr>
        <p:spPr>
          <a:xfrm>
            <a:off x="826920" y="1052640"/>
            <a:ext cx="280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方正舒体"/>
              </a:rPr>
              <a:t>生字学习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方正舒体"/>
              <a:ea typeface="方正舒体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3564000" y="465300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ff33cc"/>
                </a:solidFill>
                <a:latin typeface="Arial"/>
              </a:rPr>
              <a:t>jǔ</a:t>
            </a: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5005440" y="464832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宋体"/>
              </a:rPr>
              <a:t>（咀嚼）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8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8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8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8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8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8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8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8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4" descr="20050801161247274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1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毡帽   卸煤   咀嚼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沙漠   棉袄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34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ahoma"/>
              </a:rPr>
              <a:t>寂寞  袍子   傻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20050801161214387"/>
          <p:cNvPicPr/>
          <p:nvPr/>
        </p:nvPicPr>
        <p:blipFill>
          <a:blip r:embed="rId1"/>
          <a:stretch/>
        </p:blipFill>
        <p:spPr>
          <a:xfrm>
            <a:off x="-36360" y="504720"/>
            <a:ext cx="9144000" cy="6309000"/>
          </a:xfrm>
          <a:prstGeom prst="rect">
            <a:avLst/>
          </a:prstGeom>
          <a:ln w="0">
            <a:noFill/>
          </a:ln>
        </p:spPr>
      </p:pic>
      <p:grpSp>
        <p:nvGrpSpPr>
          <p:cNvPr id="178" name="Group 3"/>
          <p:cNvGrpSpPr/>
          <p:nvPr/>
        </p:nvGrpSpPr>
        <p:grpSpPr>
          <a:xfrm>
            <a:off x="3421080" y="2301840"/>
            <a:ext cx="1224000" cy="1224000"/>
            <a:chOff x="3421080" y="2301840"/>
            <a:chExt cx="1224000" cy="1224000"/>
          </a:xfrm>
        </p:grpSpPr>
        <p:sp>
          <p:nvSpPr>
            <p:cNvPr id="179" name="Rectangle 4"/>
            <p:cNvSpPr/>
            <p:nvPr/>
          </p:nvSpPr>
          <p:spPr>
            <a:xfrm>
              <a:off x="3421080" y="230184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0" name="Line 5"/>
            <p:cNvSpPr/>
            <p:nvPr/>
          </p:nvSpPr>
          <p:spPr>
            <a:xfrm flipH="1">
              <a:off x="3421080" y="29138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1" name="Line 6"/>
            <p:cNvSpPr/>
            <p:nvPr/>
          </p:nvSpPr>
          <p:spPr>
            <a:xfrm>
              <a:off x="4033440" y="23320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2" name="Group 7"/>
          <p:cNvGrpSpPr/>
          <p:nvPr/>
        </p:nvGrpSpPr>
        <p:grpSpPr>
          <a:xfrm>
            <a:off x="4645080" y="2301840"/>
            <a:ext cx="1224000" cy="1224000"/>
            <a:chOff x="4645080" y="2301840"/>
            <a:chExt cx="1224000" cy="1224000"/>
          </a:xfrm>
        </p:grpSpPr>
        <p:sp>
          <p:nvSpPr>
            <p:cNvPr id="183" name="Rectangle 8"/>
            <p:cNvSpPr/>
            <p:nvPr/>
          </p:nvSpPr>
          <p:spPr>
            <a:xfrm>
              <a:off x="4645080" y="230184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4" name="Line 9"/>
            <p:cNvSpPr/>
            <p:nvPr/>
          </p:nvSpPr>
          <p:spPr>
            <a:xfrm flipH="1">
              <a:off x="4645080" y="29138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5" name="Line 10"/>
            <p:cNvSpPr/>
            <p:nvPr/>
          </p:nvSpPr>
          <p:spPr>
            <a:xfrm>
              <a:off x="5257440" y="23320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86" name="Group 11"/>
          <p:cNvGrpSpPr/>
          <p:nvPr/>
        </p:nvGrpSpPr>
        <p:grpSpPr>
          <a:xfrm>
            <a:off x="5869080" y="2301840"/>
            <a:ext cx="1224000" cy="1224000"/>
            <a:chOff x="5869080" y="2301840"/>
            <a:chExt cx="1224000" cy="1224000"/>
          </a:xfrm>
        </p:grpSpPr>
        <p:sp>
          <p:nvSpPr>
            <p:cNvPr id="187" name="Rectangle 12"/>
            <p:cNvSpPr/>
            <p:nvPr/>
          </p:nvSpPr>
          <p:spPr>
            <a:xfrm>
              <a:off x="5869080" y="230184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8" name="Line 13"/>
            <p:cNvSpPr/>
            <p:nvPr/>
          </p:nvSpPr>
          <p:spPr>
            <a:xfrm flipH="1">
              <a:off x="5869080" y="29138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9" name="Line 14"/>
            <p:cNvSpPr/>
            <p:nvPr/>
          </p:nvSpPr>
          <p:spPr>
            <a:xfrm>
              <a:off x="6481440" y="23320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0" name="Group 15"/>
          <p:cNvGrpSpPr/>
          <p:nvPr/>
        </p:nvGrpSpPr>
        <p:grpSpPr>
          <a:xfrm>
            <a:off x="2195640" y="2301840"/>
            <a:ext cx="1224000" cy="1224000"/>
            <a:chOff x="2195640" y="2301840"/>
            <a:chExt cx="1224000" cy="1224000"/>
          </a:xfrm>
        </p:grpSpPr>
        <p:sp>
          <p:nvSpPr>
            <p:cNvPr id="191" name="Rectangle 16"/>
            <p:cNvSpPr/>
            <p:nvPr/>
          </p:nvSpPr>
          <p:spPr>
            <a:xfrm>
              <a:off x="2195640" y="230184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Line 17"/>
            <p:cNvSpPr/>
            <p:nvPr/>
          </p:nvSpPr>
          <p:spPr>
            <a:xfrm flipH="1">
              <a:off x="2195640" y="291384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18"/>
            <p:cNvSpPr/>
            <p:nvPr/>
          </p:nvSpPr>
          <p:spPr>
            <a:xfrm>
              <a:off x="2808000" y="233208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4" name="Text Box 19"/>
          <p:cNvSpPr/>
          <p:nvPr/>
        </p:nvSpPr>
        <p:spPr>
          <a:xfrm>
            <a:off x="2232000" y="2276640"/>
            <a:ext cx="48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毡卸咀嚼</a:t>
            </a: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 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5" name="Group 89"/>
          <p:cNvGrpSpPr/>
          <p:nvPr/>
        </p:nvGrpSpPr>
        <p:grpSpPr>
          <a:xfrm>
            <a:off x="1547640" y="4005360"/>
            <a:ext cx="1224000" cy="1224000"/>
            <a:chOff x="1547640" y="4005360"/>
            <a:chExt cx="1224000" cy="1224000"/>
          </a:xfrm>
        </p:grpSpPr>
        <p:sp>
          <p:nvSpPr>
            <p:cNvPr id="196" name="Rectangle 90"/>
            <p:cNvSpPr/>
            <p:nvPr/>
          </p:nvSpPr>
          <p:spPr>
            <a:xfrm>
              <a:off x="1547640" y="400536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Line 91"/>
            <p:cNvSpPr/>
            <p:nvPr/>
          </p:nvSpPr>
          <p:spPr>
            <a:xfrm flipH="1">
              <a:off x="1547640" y="4617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Line 92"/>
            <p:cNvSpPr/>
            <p:nvPr/>
          </p:nvSpPr>
          <p:spPr>
            <a:xfrm>
              <a:off x="2160000" y="4035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99" name="Group 93"/>
          <p:cNvGrpSpPr/>
          <p:nvPr/>
        </p:nvGrpSpPr>
        <p:grpSpPr>
          <a:xfrm>
            <a:off x="5219640" y="4005360"/>
            <a:ext cx="1224000" cy="1224000"/>
            <a:chOff x="5219640" y="4005360"/>
            <a:chExt cx="1224000" cy="1224000"/>
          </a:xfrm>
        </p:grpSpPr>
        <p:sp>
          <p:nvSpPr>
            <p:cNvPr id="200" name="Rectangle 94"/>
            <p:cNvSpPr/>
            <p:nvPr/>
          </p:nvSpPr>
          <p:spPr>
            <a:xfrm>
              <a:off x="5219640" y="400536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1" name="Line 95"/>
            <p:cNvSpPr/>
            <p:nvPr/>
          </p:nvSpPr>
          <p:spPr>
            <a:xfrm flipH="1">
              <a:off x="5219640" y="4617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2" name="Line 96"/>
            <p:cNvSpPr/>
            <p:nvPr/>
          </p:nvSpPr>
          <p:spPr>
            <a:xfrm>
              <a:off x="5832000" y="4035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3" name="Group 97"/>
          <p:cNvGrpSpPr/>
          <p:nvPr/>
        </p:nvGrpSpPr>
        <p:grpSpPr>
          <a:xfrm>
            <a:off x="3995640" y="4005360"/>
            <a:ext cx="1224000" cy="1224000"/>
            <a:chOff x="3995640" y="4005360"/>
            <a:chExt cx="1224000" cy="1224000"/>
          </a:xfrm>
        </p:grpSpPr>
        <p:sp>
          <p:nvSpPr>
            <p:cNvPr id="204" name="Rectangle 98"/>
            <p:cNvSpPr/>
            <p:nvPr/>
          </p:nvSpPr>
          <p:spPr>
            <a:xfrm>
              <a:off x="3995640" y="400536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99"/>
            <p:cNvSpPr/>
            <p:nvPr/>
          </p:nvSpPr>
          <p:spPr>
            <a:xfrm flipH="1">
              <a:off x="3995640" y="4617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Line 100"/>
            <p:cNvSpPr/>
            <p:nvPr/>
          </p:nvSpPr>
          <p:spPr>
            <a:xfrm>
              <a:off x="4608000" y="4035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07" name="Group 101"/>
          <p:cNvGrpSpPr/>
          <p:nvPr/>
        </p:nvGrpSpPr>
        <p:grpSpPr>
          <a:xfrm>
            <a:off x="6443640" y="4005360"/>
            <a:ext cx="1224000" cy="1224000"/>
            <a:chOff x="6443640" y="4005360"/>
            <a:chExt cx="1224000" cy="1224000"/>
          </a:xfrm>
        </p:grpSpPr>
        <p:sp>
          <p:nvSpPr>
            <p:cNvPr id="208" name="Rectangle 102"/>
            <p:cNvSpPr/>
            <p:nvPr/>
          </p:nvSpPr>
          <p:spPr>
            <a:xfrm>
              <a:off x="6443640" y="400536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Line 103"/>
            <p:cNvSpPr/>
            <p:nvPr/>
          </p:nvSpPr>
          <p:spPr>
            <a:xfrm flipH="1">
              <a:off x="6443640" y="4617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0" name="Line 104"/>
            <p:cNvSpPr/>
            <p:nvPr/>
          </p:nvSpPr>
          <p:spPr>
            <a:xfrm>
              <a:off x="7056000" y="4035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11" name="Group 105"/>
          <p:cNvGrpSpPr/>
          <p:nvPr/>
        </p:nvGrpSpPr>
        <p:grpSpPr>
          <a:xfrm>
            <a:off x="2771640" y="4005360"/>
            <a:ext cx="1224000" cy="1224000"/>
            <a:chOff x="2771640" y="4005360"/>
            <a:chExt cx="1224000" cy="1224000"/>
          </a:xfrm>
        </p:grpSpPr>
        <p:sp>
          <p:nvSpPr>
            <p:cNvPr id="212" name="Rectangle 106"/>
            <p:cNvSpPr/>
            <p:nvPr/>
          </p:nvSpPr>
          <p:spPr>
            <a:xfrm>
              <a:off x="2771640" y="4005360"/>
              <a:ext cx="1224000" cy="1224000"/>
            </a:xfrm>
            <a:prstGeom prst="rect">
              <a:avLst/>
            </a:prstGeom>
            <a:solidFill>
              <a:srgbClr val="996600"/>
            </a:solidFill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Line 107"/>
            <p:cNvSpPr/>
            <p:nvPr/>
          </p:nvSpPr>
          <p:spPr>
            <a:xfrm flipH="1">
              <a:off x="2771640" y="4617360"/>
              <a:ext cx="1224000" cy="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4" name="Line 108"/>
            <p:cNvSpPr/>
            <p:nvPr/>
          </p:nvSpPr>
          <p:spPr>
            <a:xfrm>
              <a:off x="3384000" y="4035600"/>
              <a:ext cx="0" cy="119340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5" name="Text Box 70"/>
          <p:cNvSpPr/>
          <p:nvPr/>
        </p:nvSpPr>
        <p:spPr>
          <a:xfrm>
            <a:off x="1547640" y="4005360"/>
            <a:ext cx="60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99"/>
                </a:solidFill>
                <a:latin typeface="Arial"/>
                <a:ea typeface="楷体_GB2312"/>
              </a:rPr>
              <a:t>漠寞袄袍傻</a:t>
            </a:r>
            <a:endParaRPr b="0" lang="en-US" sz="7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Administrator</cp:lastModifiedBy>
  <dcterms:modified xsi:type="dcterms:W3CDTF">2016-07-03T13:47:26Z</dcterms:modified>
  <cp:revision>872</cp:revision>
  <dc:subject>第一PPT模板网-WWW.1PPT.COM</dc:subject>
  <dc:title>第一PPT模板网-WWW.1PPT.COM</dc:title>
</cp:coreProperties>
</file>