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BA0-C71E-4AAB-A372-1C1CABDE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F1F-26A8-44DD-8EC4-69C01D3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76-626C-4D03-9D64-BC182CC9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E2F-363E-4B15-AB4E-263941F6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986-5B37-4EC5-92ED-A402DDF8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339-AC4D-4AF1-92F0-7B9B77AD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47C-97A0-410B-A606-A1D36BBB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55A-8539-4865-B7DB-5FB4E01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AB1-3AF9-4674-83E5-4FF026D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099-5489-46B6-BE0A-33E69F5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E75-2B9C-40B4-8989-BF2319E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DAE-2A85-41C8-8477-0F4A14DE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0A73-AFA3-471C-8DEE-83CE6353D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268280"/>
            <a:ext cx="8076960" cy="13129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冬阳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童年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骆驼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0720" y="2708280"/>
            <a:ext cx="2087640" cy="825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林海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549360"/>
            <a:ext cx="871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站在骆驼面前，看它们咀嚼的样子： 那样丑的脸，那样长的牙，那样安静的态度。它们咀嚼的时候，上牙和下牙交错地磨来磨去，大鼻孔里冒着热气，白沫子沾在胡须上。我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了，自己的牙齿也动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10560" y="3573360"/>
            <a:ext cx="2016360" cy="720720"/>
          </a:xfrm>
          <a:prstGeom prst="wedgeRoundRectCallout">
            <a:avLst>
              <a:gd name="adj1" fmla="val -19055"/>
              <a:gd name="adj2" fmla="val -84805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愣、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4797360"/>
            <a:ext cx="71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注、仔细、投入、全神贯注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1197000"/>
            <a:ext cx="8712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站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那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它们咀嚼的时候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大鼻孔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白沫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我看呆了，自己的牙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1341360"/>
            <a:ext cx="73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看骆驼咀嚼给“我”怎样的启示呢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492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教给我，要学骆驼，沉得住气。看它从不着急，慢慢地走，总会到的；慢慢地嚼，总会吃饱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3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人做事不要着急，要沉得住气，坚持到底，总会成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1280" y="155736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为什么要系一个铃铛？”我不懂的事就要问一问。</a:t>
            </a:r>
            <a:endParaRPr b="1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70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2708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防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342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增加情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您不是说，它们走上三天三夜都不喝一口水，只是不声不响地咀嚼着从胃里倒出来的食物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125360"/>
            <a:ext cx="237636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836640"/>
            <a:ext cx="50508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50920" y="836640"/>
            <a:ext cx="43164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7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您说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276640"/>
            <a:ext cx="863640" cy="71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59280" y="2852640"/>
            <a:ext cx="21600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2852640"/>
            <a:ext cx="288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256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349360"/>
            <a:ext cx="1368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71640" y="2852280"/>
            <a:ext cx="4032000" cy="716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42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7800" y="29966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00" y="342900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刍动物（牛、羊、鹿、骆驼等）的胃分为三或四部分：瘤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li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胃、网胃、瓣胃和皱胃。它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采食一般比较匆忙，特别是粗饲料，大部分未经充分咀嚼就吞咽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瘤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经过瘤胃浸泡和软化一段时间后，食物经逆呕重新回到口腔，经过再咀嚼，再次混入唾液并再吞咽进入瘤胃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700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定是拉骆驼的人，耐不住那长途寂寞的旅程，才给骆驼戴上了铃铛，增加一些行路的情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3500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明“我”有丰富的想象力，不希望骆驼有危险，也说明“我” 很善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484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也脱掉它的旧驼绒袍子啦！它的毛皮一大块一大块地从身上掉下来，垂在肚皮底下。我真想拿把剪刀替它们剪一剪，因为太不整齐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2060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060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765000"/>
            <a:ext cx="1584000" cy="719280"/>
          </a:xfrm>
          <a:prstGeom prst="wedgeRoundRectCallout">
            <a:avLst>
              <a:gd name="adj1" fmla="val -53805"/>
              <a:gd name="adj2" fmla="val 681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拟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141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80360" y="1341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131640" y="2563920"/>
            <a:ext cx="93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1619280" y="4004280"/>
            <a:ext cx="2232000" cy="865080"/>
          </a:xfrm>
          <a:prstGeom prst="wedgeRoundRectCallout">
            <a:avLst>
              <a:gd name="adj1" fmla="val 34777"/>
              <a:gd name="adj2" fmla="val -20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貌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 rot="10800000">
            <a:off x="4356000" y="4004280"/>
            <a:ext cx="2232000" cy="865080"/>
          </a:xfrm>
          <a:prstGeom prst="wedgeRoundRectCallout">
            <a:avLst>
              <a:gd name="adj1" fmla="val 34421"/>
              <a:gd name="adj2" fmla="val -1520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理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522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喜欢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522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心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52293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善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13413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夏天来了，再不见骆驼的影子，我又问妈妈：“夏天它们到哪儿去？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“谁？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“骆驼呀！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妈妈回答不上来了，她说：“总是问，总是问，你这孩子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07480" y="121932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夏天过去，秋天过去，冬天又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骆驼队又来了，童年却一去不还了。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阳底下学骆驼咀嚼的傻事，我也不会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2997360"/>
            <a:ext cx="36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" y="12193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夏天过去，秋天过去，冬天又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骆驼队又来了，童年却一去不还了。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阳底下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____________________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黑体"/>
              </a:rPr>
              <a:t>，我也不会再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2276640"/>
            <a:ext cx="4465800" cy="642600"/>
          </a:xfrm>
          <a:prstGeom prst="rect">
            <a:avLst/>
          </a:prstGeom>
          <a:solidFill>
            <a:srgbClr val="bbe0e3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讨论骆驼挂铃铛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26828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毡帽   卸煤   咀嚼   咀嚼   沙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毡靴   卸载   咀咂   嚼食   荒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毡子   推卸   咀吞   嚼舌   漠不关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寂寞   棉袄   傻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冷寞   皮袄   傻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寞   夹袄   傻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91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ān  xiè  jǔ jué  ju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3360" y="2707920"/>
            <a:ext cx="9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924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mò    ǎo sh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228600" y="0"/>
            <a:ext cx="9372600" cy="7318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是，我是多么想念童年住在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京城南的那些景色和人物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还想念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8862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41972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62064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夏天过去，秋天过去，冬天又来了，骆驼队又来了，童年却一去不还了。冬阳底下学骆驼咀嚼的傻事，我也不会再做了。可是，我是多么想念童年住在北京城南的那些景色和人物啊！我对自己说，把它们写下来吧。就这样，我写了一本《城南旧事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默默地想，慢慢地写，又看见冬阳下的骆驼队走过来，又听见缓缓悦耳的驼铃声。童年重临于我的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686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去不还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临于我的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26920" y="620640"/>
            <a:ext cx="266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发挥想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19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789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思想感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268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讲了作者回忆童年时，学骆驼咀嚼，跟爸爸讨论骆驼为什么系铃铛，想为骆驼剪毛，问妈妈骆驼夏天去哪了这几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现了作者对美好童年的怀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43280" y="1125360"/>
            <a:ext cx="450072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骆驼，哺乳动物，反刍家畜。头小，颈长，体大，毛褐色。眼为重睑，鼻孔能开闭，四肢细长，二趾，有厚皮，适于在沙漠行走。尾细长，尾端有丛毛。背有一或两个驼峰，内蓄脂肪；胃分三室，第一胃附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水脬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pā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作贮水用，故善耐饥渴。性温驯而执拗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ni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食粗草及灌木。能负重远行，号称“沙漠之舟”。寿命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。单峰驼饲养于阿拉伯、印度及非洲北部；双峰驼产于我国及中亚细亚，还有野生的，体较大，四肢较短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32360" y="18900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知识链接</a:t>
            </a: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15920"/>
            <a:ext cx="66261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98100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毡：沾、粘、玷、站、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卸：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咀：阻、沮、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嚼：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漠：寞、莫、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袄：沃、跃、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袍：抱、炮、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傻：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628640"/>
            <a:ext cx="82090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匹  磨来磨去   老师教给我   从不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系着铃铛    从胃里倒出来的食物   暖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童年却一去一还了   重临于我的心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12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27592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87040" y="342864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7720" y="112536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m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14120" y="11253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1520" y="11253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zh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5120" y="2276640"/>
            <a:ext cx="12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dà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72960" y="227664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h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3328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h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268280"/>
            <a:ext cx="8076960" cy="13129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冬阳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童年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骆驼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708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这题目，在你的脑海中浮现出一幅怎样的画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4005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冬天，在温暖的阳光下，一队骆驼从远处走来，“我”静静地看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95640" y="126828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资料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5640" y="549360"/>
            <a:ext cx="3457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作者简介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205000"/>
            <a:ext cx="806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《冬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童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队》是小说《城南旧事》的序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429000"/>
            <a:ext cx="867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林海音，台湾著名女作家。她的童年在北京度过。《城南旧事》是自传体小说，被拍成电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7000" y="5157720"/>
            <a:ext cx="15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们曾学过林海音的《窃读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71960" y="422064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u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13258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围绕骆驼队，写了作者童年生活中的哪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2708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学骆驼咀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3284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和爸爸讨论骆驼挂铃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3860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想为骆驼剪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4437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问妈妈夏天骆驼去哪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1557360"/>
            <a:ext cx="871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站在骆驼面前，看它们咀嚼的样子： 那样丑的脸，那样长的牙，那样安静的态度。它们咀嚼的时候，上牙和下牙交错地磨来磨去，大鼻孔里冒着热气，白沫子沾在胡须上。我看呆了，自己的牙齿也动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549360"/>
            <a:ext cx="871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站在骆驼面前，看它们咀嚼的样子：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那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丑的脸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那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的牙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那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安静的态度。它们咀嚼的时候，上牙和下牙交错地磨来磨去，大鼻孔里冒着热气，白沫子沾在胡须上。我看呆了，自己的牙齿也动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4437000"/>
            <a:ext cx="223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貌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5229360"/>
            <a:ext cx="223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3200" y="213372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▲      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240" y="2637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4680" y="2637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7960" y="2637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02:47Z</dcterms:created>
  <dc:creator/>
  <dc:description/>
  <dc:language>en-US</dc:language>
  <cp:lastModifiedBy>Microsoft</cp:lastModifiedBy>
  <dcterms:modified xsi:type="dcterms:W3CDTF">2014-02-25T10:47:01Z</dcterms:modified>
  <cp:revision>63</cp:revision>
  <dc:subject/>
  <dc:title>幻灯片 1</dc:title>
</cp:coreProperties>
</file>