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940C-F779-41C7-89D4-C1E3CA967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6114-8526-414E-A195-836DD6BD9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D87F-2E83-46CB-B498-777D5710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2CBB-B52D-4454-A00A-C33A731A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8FB1E-B7B1-460D-A9D5-2232A80C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93530-83D9-43E4-A28B-9CB99DA5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B9489-FAA4-4FDC-9459-85D96FE6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568B4-F08C-46F1-BD2A-41DA64C4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E4450-5F0D-4EE9-8E6D-C40407A7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7A5C9-5DBB-42B3-8C39-4771EF73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4B8AF-7A21-400C-BADB-EFC6D26B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086E4-179A-47AF-B6F7-043B813C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868E3-33A4-433B-B5BE-D310DDC6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948E4-136A-4087-9F47-72BCE211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EBBA-3052-440B-ADF6-8843923A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6CAE5-FF7C-4008-952C-BD89C0AA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25FB7-C1A4-474E-A5BE-4FA08D47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407D7-7FEB-47F4-9FD4-6455E194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45BEA-B966-44EE-A571-2F82F1B4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588E8-1BBF-463D-B2AF-62CA4D39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DE398-AF1B-4078-A1CF-A32EBC2E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5625E-ACB9-4142-9D5D-B4DDD1DF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ED508-156D-443A-B2A4-A3018F45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C4D39-DEF4-4E8E-AA1D-E5817AA4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46893-CD28-4B17-95C0-9302A201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D976-36C1-452F-B1B1-D41B4167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5EE90-4960-4D82-B70D-536AB433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8BB76-04C9-472E-AE1C-F3A46ADC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0C58B-0AF6-4929-BE99-56F93844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B633A-7820-4136-AAD0-1372C05B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666C1-A100-4FDE-90D8-D36D5810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8C044-57EA-4728-B5CA-DBBC6555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DD1B3-A9F7-4FB3-AADD-4167F9E2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7B6A3-C1FD-4127-8E7C-2B4AD323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9B860-9746-417C-81B6-43AFE047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45246-4F23-44D4-A12C-8DFF9640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7619-F454-40D7-9443-8AAE541D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B97A5-4049-42BB-91CB-872E626E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F6319-204B-48D2-B183-4D105C6F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7ECFB-CDCA-46DE-BD80-A987C6D3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E4181-4E7B-41C1-AB61-001995B0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1E322-6133-4687-84D4-11D73319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F2B79-20B6-4A10-A6F0-386EF224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AB82A-946A-4E4B-AB9B-D3CF0A8E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FD2D1-37D0-4362-AC19-D2CE6D87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68F49-379F-45EB-B6BC-972A5251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07831-1B86-4D19-92A5-B7FC6ACC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A2F3-98C6-4DB3-987B-5FEBEEE0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B1E07-D903-4C2D-A7E0-A21F78E7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A0A06-0782-42C3-A7BB-62A98EDD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C8620-0936-4EF9-8848-82F6C106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D8AC4-FED6-4C51-BA46-EED51C2A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9D568-D261-43F1-9B4E-1C752ABE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1A80-D69C-4E19-8496-9800D8C8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65D5-7A2B-41E5-A93E-FC4EB57A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CD1D-5EFC-4019-8174-72879C08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D412-8F73-4A00-9BD6-4F3A7815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AF5C-75A1-47C2-8FF6-D96F1F5F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463D-AEC3-4201-BF67-86971CEB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E83F-8BF2-4743-97BF-8B0B92A6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9BFF-CAF3-4FEC-8FE5-A78568F7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4102-59ED-41E5-882A-7F06CFD6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8B5D-8CC0-4D88-9880-D169482D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3C23-1D21-41F7-B5AE-C03291F7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18B97-C435-4A5F-8CE9-A95B026B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E8273-1D87-4F1B-887B-D6767C32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E515C-0E7E-40C8-A826-7C394C50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594DF-B66B-4EAE-A6B2-23D6D1E5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3FF47-DDA5-434F-BA83-8F164A00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B88D-B59D-43C6-B6B7-D7F440A4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A6E71-6139-4230-A3D3-CCE2CF93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52F94-35CA-41CD-BF6C-E1BE3DA9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B374A-7B0C-4539-BADB-1EAEC4BA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FF160-6E68-4805-8AF0-B19540A2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466F5-0003-430A-B023-359DA585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5093E-8FA7-4A75-88BD-68C8BA55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DE954-1C7E-4E6B-A312-456438A6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DF62E-CC90-4DDF-8EB8-4C36385E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A44B8-2E03-4902-BE92-1DC14F6F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158E8-B048-4433-9FC8-0608A7C1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1408-664E-4AFE-86C9-38B17487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92AAB-5ED5-4871-8A77-B0426CE3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D533F-B0DE-404B-9B3D-8F0A71C4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12EEE-F37F-413B-864B-E127DB0A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405DD-FFE6-486E-893A-30181806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07F55-53E1-42BE-A20E-FBF0D3A5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C159A-F77F-40AC-B19D-0369EAD6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B74A3-A9D2-4F3D-AF71-CA75D3FD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6C795-A192-4744-98E8-89D1BCD0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C123B-C18B-4B97-837B-3B5E92A77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E2AB9-A050-4DF4-B586-0FE9D06A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333F-1BCB-480C-8C6F-30338830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AB759-1FDE-4369-B73E-1C0FA15D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F8944-D59A-46A8-8C43-677C61FF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A797A-302E-4B01-B1FE-BE591A1B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F571A-8E8D-4326-A775-56C11341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73282-C886-41D0-9F5F-E450B42F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15B69-3B9C-426E-A6E5-87B72C00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D5B68-246A-4EBA-BBEA-A453B789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0EE1D-F881-466E-BBBB-BF3C7003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27AC7-0D30-4559-90D8-0FAB8301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B11B2-CF52-43A0-8F20-57D21C6D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6676-D5CC-4275-81E3-DB54688E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36F41-E6AA-4527-9EEA-DE175E06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87A06-DFE0-4394-9894-B1D8AF9A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727B9-20E3-4724-B93B-2C007894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175BB-4931-48F5-858A-FF2A5E90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DF6C3-FE90-4256-9FBC-38E59105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E1BD4-7B25-49D4-B7C1-13D872C2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1AB9B-5315-45B2-9086-8454D271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8A27A-AF91-4F8A-BC33-041EB18B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7A18B-8101-4E3A-AEE0-CB87B97B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1CB15-60E9-4342-A999-7F8ED0E0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BF3F-EE23-4481-9C62-0C41B696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62416-1596-4EAA-9C5C-D7633C2B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C7D09-D718-409E-AFBD-38194E17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71B42-5EF6-4E1C-AF27-40B1E299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156D3-717D-413C-845A-423E5107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BA32A-3DD6-4D45-A9C1-F7C20902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09BBF-76C6-4DF9-915B-C789240C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B8F44-49B3-466C-90AC-92888096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08E4F-3D3C-4513-B93B-F8C0A2FE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EE7EF-2043-4231-BE61-938E0DEC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EAD45-1C27-43A4-91FC-6211EF0E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A2ED-40E5-4603-B29B-A96B8BB9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F8A3A-EF11-4CD7-81C2-D499CC26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EC1B7-44E5-4167-9FED-4D9A6217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F974A-EDA4-4373-AB4E-2C546513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62A82-98ED-4E03-B918-FEE529C2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07815-6011-435B-A2A9-A0CC4217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9FE8D-641F-4F5F-9A49-7C29C8A6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AA55A-46C5-4642-AD17-75FF21F4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3A58E-945A-4E2D-B7DA-3C24FE41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62C6E-333F-4F29-957C-3A9B47F3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90B44-D75B-423F-8F26-FA2E2248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B17E-AB29-4B22-8E16-A882A429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9DBE8-527E-4665-9FC7-B0EE5C9D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FD0D7-E3F6-401F-927F-C1055152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1C945-1085-4F80-A8F3-97CA0F63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9865C-0904-46BF-AACD-2D157FBC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5F6B1-5689-4778-BEFA-F6CFA63E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7D6F4-3448-43CC-BB82-C9BDC4A7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24548-0706-4D3B-AAB4-57C1A8F0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DB217-BB44-418B-B417-55A25CDD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58916-7DBE-4CAF-B0B3-3C366C0E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FB599-3655-4414-BC7F-EF1F2B9C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C946-F08D-4C04-B999-2219DC72E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官方logo副本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9A5C-37A7-495A-87D3-018C9BCC1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5C2F-506B-4BD4-AB1E-FB45D91D2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2CCA-76FD-4D9B-8822-740FCED7F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E8A6-F5A5-432A-B496-E1D2DD8AB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AB1E-CED4-42B1-A5B6-8C20499AE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27FA-4B13-4166-AD0C-1DC3450D3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5682-2E88-4B0F-BD02-CB260C283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8C43-1B63-428A-BFE5-1345EA2D0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21CC-2754-4944-BBCD-308E0803D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DD4C-C2EC-47EC-BBFB-256B34848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2D05-E10E-4AA8-A860-B7C630EC8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5364000" y="0"/>
            <a:ext cx="3780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WordArt 4"/>
          <p:cNvSpPr txBox="1"/>
          <p:nvPr/>
        </p:nvSpPr>
        <p:spPr>
          <a:xfrm rot="5400000">
            <a:off x="3937680" y="2218320"/>
            <a:ext cx="6597720" cy="216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顶碗少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pic>
        <p:nvPicPr>
          <p:cNvPr id="502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4"/>
          <p:cNvSpPr/>
          <p:nvPr/>
        </p:nvSpPr>
        <p:spPr>
          <a:xfrm>
            <a:off x="2720880" y="2209680"/>
            <a:ext cx="355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这真是一场</a:t>
            </a:r>
            <a:r>
              <a:rPr b="0" lang="zh-CN" sz="4400" spc="-1" strike="noStrike" u="sng">
                <a:solidFill>
                  <a:srgbClr val="990000"/>
                </a:solidFill>
                <a:uFillTx/>
                <a:latin typeface="隶书"/>
                <a:ea typeface="隶书"/>
              </a:rPr>
              <a:t>惊心动魄</a:t>
            </a:r>
            <a:r>
              <a:rPr b="0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的</a:t>
            </a:r>
            <a:r>
              <a:rPr b="0" lang="zh-CN" sz="4400" spc="-1" strike="noStrike" u="sng">
                <a:solidFill>
                  <a:srgbClr val="990000"/>
                </a:solidFill>
                <a:uFillTx/>
                <a:latin typeface="隶书"/>
                <a:ea typeface="隶书"/>
              </a:rPr>
              <a:t>拼搏</a:t>
            </a:r>
            <a:r>
              <a:rPr b="0" lang="en-US" sz="4400" spc="-1" strike="noStrike">
                <a:solidFill>
                  <a:srgbClr val="333399"/>
                </a:solidFill>
                <a:latin typeface="隶书"/>
                <a:ea typeface="隶书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5"/>
          <p:cNvSpPr/>
          <p:nvPr/>
        </p:nvSpPr>
        <p:spPr>
          <a:xfrm>
            <a:off x="685800" y="3733920"/>
            <a:ext cx="3124080" cy="1523880"/>
          </a:xfrm>
          <a:prstGeom prst="cloudCallout">
            <a:avLst>
              <a:gd name="adj1" fmla="val 73120"/>
              <a:gd name="adj2" fmla="val -98856"/>
            </a:avLst>
          </a:prstGeom>
          <a:solidFill>
            <a:srgbClr val="bbe0e3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形容使人感受很深，震动很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7"/>
          <p:cNvSpPr/>
          <p:nvPr/>
        </p:nvSpPr>
        <p:spPr>
          <a:xfrm>
            <a:off x="2590920" y="457200"/>
            <a:ext cx="2590560" cy="1447920"/>
          </a:xfrm>
          <a:prstGeom prst="cloudCallout">
            <a:avLst>
              <a:gd name="adj1" fmla="val 125430"/>
              <a:gd name="adj2" fmla="val 87828"/>
            </a:avLst>
          </a:prstGeom>
          <a:solidFill>
            <a:srgbClr val="bbe0e3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使出全部力量搏斗或争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778680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由朗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—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然段，边读边勾画批注，想一想：从哪些地方可以感受到这是一场难度非常大的、惊心动魄的杂技表演？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5"/>
          <p:cNvSpPr/>
          <p:nvPr/>
        </p:nvSpPr>
        <p:spPr>
          <a:xfrm>
            <a:off x="1423800" y="763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隶书"/>
              </a:rPr>
              <a:t>第一次表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1757880" y="9144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Arial"/>
                <a:ea typeface="华文中宋"/>
              </a:rPr>
              <a:t>描写顶碗过程的词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7"/>
          <p:cNvSpPr/>
          <p:nvPr/>
        </p:nvSpPr>
        <p:spPr>
          <a:xfrm>
            <a:off x="2043720" y="335268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Arial"/>
                <a:ea typeface="华文中宋"/>
              </a:rPr>
              <a:t>描写少年神态动作的词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1529280" y="53341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Arial"/>
                <a:ea typeface="华文中宋"/>
              </a:rPr>
              <a:t>描写观众的词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289080" y="1389240"/>
            <a:ext cx="8016840" cy="6426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00"/>
                </a:solidFill>
                <a:uFillTx/>
                <a:latin typeface="楷体_GB2312"/>
                <a:ea typeface="楷体_GB2312"/>
              </a:rPr>
              <a:t>站在别人晃动着的身体上，很难再保持平衡，他头顶上的碗，摇晃得厉害起来。在一个大幅度转身的刹那间，那一大摞碗突然从头上掉了下来！</a:t>
            </a:r>
            <a:r>
              <a:rPr b="1" lang="zh-CN" sz="24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304920" y="3841920"/>
            <a:ext cx="8001000" cy="6426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00"/>
                </a:solidFill>
                <a:uFillTx/>
                <a:latin typeface="Arial"/>
                <a:ea typeface="楷体_GB2312"/>
              </a:rPr>
              <a:t>台上却没有慌乱。顶碗少年歉疚地微笑着，不失风度地向观众鞠了一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3223080" y="6095880"/>
            <a:ext cx="330120" cy="45972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00"/>
                </a:solidFill>
                <a:uFillTx/>
                <a:latin typeface="Arial"/>
                <a:ea typeface="楷体_GB2312"/>
              </a:rPr>
              <a:t>这意想不到的失误使所有的观众都惊呆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1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4"/>
          <p:cNvSpPr/>
          <p:nvPr/>
        </p:nvSpPr>
        <p:spPr>
          <a:xfrm>
            <a:off x="457200" y="20034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第一次表演的失败了。如果你是那位少年，你是怎样的心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865080" y="763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隶书"/>
              </a:rPr>
              <a:t>第二次表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1757880" y="9144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Arial"/>
                <a:ea typeface="华文中宋"/>
              </a:rPr>
              <a:t>描写顶碗过程的词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2062800" y="289548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Arial"/>
                <a:ea typeface="华文中宋"/>
              </a:rPr>
              <a:t>描写少年神态动作的词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1510200" y="4876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Arial"/>
                <a:ea typeface="华文中宋"/>
              </a:rPr>
              <a:t>描写观众的词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289080" y="1389240"/>
            <a:ext cx="8016840" cy="6426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00"/>
                </a:solidFill>
                <a:uFillTx/>
                <a:latin typeface="Arial"/>
                <a:ea typeface="楷体_GB2312"/>
              </a:rPr>
              <a:t>那一摞碗却仿佛故意捣乱，突然跳起摇摆舞来。少年急忙摆动脑袋保持平衡，可是来不及了。碗，又掉了下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304920" y="3429000"/>
            <a:ext cx="7924680" cy="6426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00"/>
                </a:solidFill>
                <a:uFillTx/>
                <a:latin typeface="Arial"/>
                <a:ea typeface="楷体_GB2312"/>
              </a:rPr>
              <a:t>台上，顶碗少年呆呆地站着，脸上全是汗珠，他有些不知所措了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8"/>
          <p:cNvSpPr/>
          <p:nvPr/>
        </p:nvSpPr>
        <p:spPr>
          <a:xfrm>
            <a:off x="380880" y="5410080"/>
            <a:ext cx="7925040" cy="8254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00"/>
                </a:solidFill>
                <a:uFillTx/>
                <a:latin typeface="Arial"/>
                <a:ea typeface="楷体_GB2312"/>
              </a:rPr>
              <a:t>观众们屏住气，目不转睛地盯着他头上的碗</a:t>
            </a: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  <a:ea typeface="楷体_GB2312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00"/>
                </a:solidFill>
                <a:uFillTx/>
                <a:latin typeface="Arial"/>
                <a:ea typeface="楷体_GB2312"/>
              </a:rPr>
              <a:t>观众中有人在大声地喊：“行了，不要再来了，演下一个节目吧！”好多人附和着喊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1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457200" y="20034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第二次表演又失败了。有些观众失望了甚至轰少年下场。假如你是那位少年，你是怎样的心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865080" y="763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隶书"/>
              </a:rPr>
              <a:t>第三次表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7880" y="106668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Arial"/>
                <a:ea typeface="华文中宋"/>
              </a:rPr>
              <a:t>描写顶碗过程的词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1452960" y="335268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Arial"/>
                <a:ea typeface="华文中宋"/>
              </a:rPr>
              <a:t>描写观众的词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289080" y="1905120"/>
            <a:ext cx="8016840" cy="6426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00"/>
                </a:solidFill>
                <a:uFillTx/>
                <a:latin typeface="Arial"/>
                <a:ea typeface="楷体_GB2312"/>
              </a:rPr>
              <a:t>当那摞碗又剧烈地晃动起来时，少年轻轻抖了一下脑袋。终于把碗稳住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304920" y="4114800"/>
            <a:ext cx="7924680" cy="8254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00"/>
                </a:solidFill>
                <a:uFillTx/>
                <a:latin typeface="Arial"/>
                <a:ea typeface="楷体_GB2312"/>
              </a:rPr>
              <a:t>场子时静得没有一丝声息。有一些女观众，索性用手掌捂住了眼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00"/>
                </a:solidFill>
                <a:uFillTx/>
                <a:latin typeface="Arial"/>
                <a:ea typeface="楷体_GB2312"/>
              </a:rPr>
              <a:t>全场想起了暴风雨般的掌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谁？是什么力量使少年重新镇静下来表演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位矮小结实的白发老者从后台走到灯光下，他的手里，依然是一摞金边红花白瓷碗。他走到少年面前，脸上微笑着，并无责怪的神色。他把手中的碗交给少年，然后抚摩着少年的肩胛，轻轻摇了一下．嘴里低声说了一句什么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324000" y="3860640"/>
            <a:ext cx="809928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老者上台对少年说了些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顶碗少年听了之后又是怎么想的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66"/>
                </a:solidFill>
                <a:latin typeface="Arial"/>
                <a:ea typeface="楷体_GB2312"/>
              </a:rPr>
              <a:t>我们从老者的神态和动作中可以体会到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9280" y="1773360"/>
            <a:ext cx="814716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从这里我们还可以看出这是一场怎样的杂技表演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132000" y="27432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赵丽宏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51——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626920" y="1267920"/>
            <a:ext cx="591516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诗人、散文家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海市崇明县人 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6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中学毕业后曾下乡“插队”，种过田，当过乡邮员、教师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7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考入华东师范大学中文系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大学毕业后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萌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杂志社工作。现为中国作家协会全国委员会委员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5" descr="u=2660159618,1577441202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2762280" cy="422100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6"/>
          <p:cNvSpPr/>
          <p:nvPr/>
        </p:nvSpPr>
        <p:spPr>
          <a:xfrm>
            <a:off x="395280" y="4437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著有散文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命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爱在人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玛雅之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。他的散文叙写清新明丽，重视创造诗的意境和情调，是一位有创作个性的散文作家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11280" y="1699920"/>
            <a:ext cx="794232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者看到的还是一场充满</a:t>
            </a:r>
            <a:r>
              <a:rPr b="1" lang="zh-CN" sz="5000" spc="-1" strike="noStrike">
                <a:solidFill>
                  <a:srgbClr val="ff0066"/>
                </a:solidFill>
                <a:latin typeface="Arial"/>
              </a:rPr>
              <a:t>关爱和宽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表演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些偶然遇到的事情，竟会难以忘怀，并且时时萦绕于心。因为，你也许能从中不断地得到启示，悟出一些人生的哲理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468360" y="4724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作者从顶碗少年身上悟出了怎样的人生哲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8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同学们把第一自然段和最后一自然段连起来读一读，想想你从文末的省略号中读出了什么？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把你想到的内容写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4"/>
          <p:cNvSpPr/>
          <p:nvPr/>
        </p:nvSpPr>
        <p:spPr>
          <a:xfrm>
            <a:off x="971640" y="1989000"/>
            <a:ext cx="7072200" cy="26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读完这篇文章后，能够给你留下深刻印象的都有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5" descr="复件 细读感悟"/>
          <p:cNvPicPr/>
          <p:nvPr/>
        </p:nvPicPr>
        <p:blipFill>
          <a:blip r:embed="rId1"/>
          <a:stretch/>
        </p:blipFill>
        <p:spPr>
          <a:xfrm>
            <a:off x="684360" y="692280"/>
            <a:ext cx="223200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文中有很多值得积累的词语，请你抄写下来，推荐给大家，说说这个词是什么意思，用来形容什么，可以怎样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5"/>
          <p:cNvSpPr/>
          <p:nvPr/>
        </p:nvSpPr>
        <p:spPr>
          <a:xfrm>
            <a:off x="2411280" y="549360"/>
            <a:ext cx="3672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0066"/>
                </a:solidFill>
                <a:latin typeface="Arial"/>
                <a:ea typeface="楷体_GB2312"/>
              </a:rPr>
              <a:t>词 语 积 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900000" y="184464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萦绕      幽雅     惊羡     歉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1977840" y="3141720"/>
            <a:ext cx="481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陶醉      座无虚席      不知所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826920" y="4365720"/>
            <a:ext cx="81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失风度     惊心动魄     目不转睛</a:t>
            </a:r>
            <a:r>
              <a:rPr b="1" lang="zh-CN" sz="35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0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4" descr="88"/>
          <p:cNvPicPr/>
          <p:nvPr/>
        </p:nvPicPr>
        <p:blipFill>
          <a:blip r:embed="rId1"/>
          <a:stretch/>
        </p:blipFill>
        <p:spPr>
          <a:xfrm>
            <a:off x="2627280" y="2276640"/>
            <a:ext cx="4467240" cy="17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2400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初读课文，理解课文内容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4"/>
          <p:cNvSpPr/>
          <p:nvPr/>
        </p:nvSpPr>
        <p:spPr>
          <a:xfrm>
            <a:off x="928800" y="1989000"/>
            <a:ext cx="76755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自由读课文，读准字音，读通课文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作者看了一场怎样的杂技表演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你从文末的省略号中读出了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55640" y="83664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4" descr="复件 读一读"/>
          <p:cNvPicPr/>
          <p:nvPr/>
        </p:nvPicPr>
        <p:blipFill>
          <a:blip r:embed="rId1"/>
          <a:stretch/>
        </p:blipFill>
        <p:spPr>
          <a:xfrm>
            <a:off x="468360" y="333360"/>
            <a:ext cx="2477880" cy="294624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6"/>
          <p:cNvSpPr/>
          <p:nvPr/>
        </p:nvSpPr>
        <p:spPr>
          <a:xfrm>
            <a:off x="7236000" y="90792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ji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6443640" y="2852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ji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0"/>
          <p:cNvSpPr/>
          <p:nvPr/>
        </p:nvSpPr>
        <p:spPr>
          <a:xfrm>
            <a:off x="3564000" y="1413000"/>
            <a:ext cx="93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1476360" y="4076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2"/>
          <p:cNvSpPr/>
          <p:nvPr/>
        </p:nvSpPr>
        <p:spPr>
          <a:xfrm>
            <a:off x="6456240" y="3284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3"/>
          <p:cNvSpPr/>
          <p:nvPr/>
        </p:nvSpPr>
        <p:spPr>
          <a:xfrm>
            <a:off x="7248600" y="1413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4"/>
          <p:cNvSpPr/>
          <p:nvPr/>
        </p:nvSpPr>
        <p:spPr>
          <a:xfrm>
            <a:off x="4500720" y="400536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5"/>
          <p:cNvSpPr/>
          <p:nvPr/>
        </p:nvSpPr>
        <p:spPr>
          <a:xfrm>
            <a:off x="4427640" y="1844640"/>
            <a:ext cx="576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66"/>
                </a:solidFill>
                <a:latin typeface="Arial"/>
              </a:rPr>
              <a:t>绕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6"/>
          <p:cNvSpPr/>
          <p:nvPr/>
        </p:nvSpPr>
        <p:spPr>
          <a:xfrm>
            <a:off x="6516720" y="1773360"/>
            <a:ext cx="719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66"/>
                </a:solidFill>
                <a:latin typeface="Arial"/>
              </a:rPr>
              <a:t>肩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7"/>
          <p:cNvSpPr/>
          <p:nvPr/>
        </p:nvSpPr>
        <p:spPr>
          <a:xfrm>
            <a:off x="5724360" y="3645000"/>
            <a:ext cx="649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66"/>
                </a:solidFill>
                <a:latin typeface="Arial"/>
              </a:rPr>
              <a:t>歉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8"/>
          <p:cNvSpPr/>
          <p:nvPr/>
        </p:nvSpPr>
        <p:spPr>
          <a:xfrm>
            <a:off x="900000" y="4437000"/>
            <a:ext cx="647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66"/>
                </a:solidFill>
                <a:latin typeface="Arial"/>
              </a:rPr>
              <a:t>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9"/>
          <p:cNvSpPr/>
          <p:nvPr/>
        </p:nvSpPr>
        <p:spPr>
          <a:xfrm>
            <a:off x="3132000" y="4365720"/>
            <a:ext cx="1729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66"/>
                </a:solidFill>
                <a:latin typeface="Arial"/>
              </a:rPr>
              <a:t>不知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0"/>
          <p:cNvSpPr/>
          <p:nvPr/>
        </p:nvSpPr>
        <p:spPr>
          <a:xfrm>
            <a:off x="3635280" y="112536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yí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1"/>
          <p:cNvSpPr/>
          <p:nvPr/>
        </p:nvSpPr>
        <p:spPr>
          <a:xfrm>
            <a:off x="4500720" y="3357720"/>
            <a:ext cx="10810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u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2"/>
          <p:cNvSpPr/>
          <p:nvPr/>
        </p:nvSpPr>
        <p:spPr>
          <a:xfrm>
            <a:off x="1547640" y="3716280"/>
            <a:ext cx="863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lu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4" descr="复件 读一读"/>
          <p:cNvPicPr/>
          <p:nvPr/>
        </p:nvPicPr>
        <p:blipFill>
          <a:blip r:embed="rId1"/>
          <a:stretch/>
        </p:blipFill>
        <p:spPr>
          <a:xfrm>
            <a:off x="468360" y="333360"/>
            <a:ext cx="2477880" cy="294624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10"/>
          <p:cNvSpPr/>
          <p:nvPr/>
        </p:nvSpPr>
        <p:spPr>
          <a:xfrm>
            <a:off x="3564000" y="1413000"/>
            <a:ext cx="93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1"/>
          <p:cNvSpPr/>
          <p:nvPr/>
        </p:nvSpPr>
        <p:spPr>
          <a:xfrm>
            <a:off x="1476360" y="4076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2"/>
          <p:cNvSpPr/>
          <p:nvPr/>
        </p:nvSpPr>
        <p:spPr>
          <a:xfrm>
            <a:off x="6456240" y="3284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3"/>
          <p:cNvSpPr/>
          <p:nvPr/>
        </p:nvSpPr>
        <p:spPr>
          <a:xfrm>
            <a:off x="7248600" y="1413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4"/>
          <p:cNvSpPr/>
          <p:nvPr/>
        </p:nvSpPr>
        <p:spPr>
          <a:xfrm>
            <a:off x="4500720" y="400536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5"/>
          <p:cNvSpPr/>
          <p:nvPr/>
        </p:nvSpPr>
        <p:spPr>
          <a:xfrm>
            <a:off x="4427640" y="1844640"/>
            <a:ext cx="576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66"/>
                </a:solidFill>
                <a:latin typeface="Arial"/>
              </a:rPr>
              <a:t>绕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6"/>
          <p:cNvSpPr/>
          <p:nvPr/>
        </p:nvSpPr>
        <p:spPr>
          <a:xfrm>
            <a:off x="6516720" y="1773360"/>
            <a:ext cx="719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66"/>
                </a:solidFill>
                <a:latin typeface="Arial"/>
              </a:rPr>
              <a:t>肩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7"/>
          <p:cNvSpPr/>
          <p:nvPr/>
        </p:nvSpPr>
        <p:spPr>
          <a:xfrm>
            <a:off x="5724360" y="3645000"/>
            <a:ext cx="649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66"/>
                </a:solidFill>
                <a:latin typeface="Arial"/>
              </a:rPr>
              <a:t>歉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8"/>
          <p:cNvSpPr/>
          <p:nvPr/>
        </p:nvSpPr>
        <p:spPr>
          <a:xfrm>
            <a:off x="900000" y="4437000"/>
            <a:ext cx="647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66"/>
                </a:solidFill>
                <a:latin typeface="Arial"/>
              </a:rPr>
              <a:t>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9"/>
          <p:cNvSpPr/>
          <p:nvPr/>
        </p:nvSpPr>
        <p:spPr>
          <a:xfrm>
            <a:off x="3132000" y="4365720"/>
            <a:ext cx="1729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66"/>
                </a:solidFill>
                <a:latin typeface="Arial"/>
              </a:rPr>
              <a:t>不知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4"/>
          <p:cNvSpPr/>
          <p:nvPr/>
        </p:nvSpPr>
        <p:spPr>
          <a:xfrm>
            <a:off x="2627280" y="2276640"/>
            <a:ext cx="59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主要写一件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6" descr="复件 小女孩"/>
          <p:cNvPicPr/>
          <p:nvPr/>
        </p:nvPicPr>
        <p:blipFill>
          <a:blip r:embed="rId1"/>
          <a:stretch/>
        </p:blipFill>
        <p:spPr>
          <a:xfrm>
            <a:off x="611280" y="2060640"/>
            <a:ext cx="1966680" cy="32796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6" descr="复件 初读感知"/>
          <p:cNvPicPr/>
          <p:nvPr/>
        </p:nvPicPr>
        <p:blipFill>
          <a:blip r:embed="rId2"/>
          <a:stretch/>
        </p:blipFill>
        <p:spPr>
          <a:xfrm>
            <a:off x="900000" y="836640"/>
            <a:ext cx="273528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4"/>
          <p:cNvSpPr/>
          <p:nvPr/>
        </p:nvSpPr>
        <p:spPr>
          <a:xfrm>
            <a:off x="539640" y="765000"/>
            <a:ext cx="792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文章描写了一场扣人心弦的杂技表演。演杂技的顶碗少年第一次表演失败了，但他不失风度地向观众鞠了一躬，一切重新开始；第二次，碗又掉下来了，少年又镇定下来，手捧着新碗，又深深向观众鞠了一躬；第三次，终于把碗稳住了，全场响起了暴风雨般的掌声。多少年后，作者每每想起，总会产生一阵微微的激动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4"/>
          <p:cNvSpPr/>
          <p:nvPr/>
        </p:nvSpPr>
        <p:spPr>
          <a:xfrm>
            <a:off x="3922560" y="1915200"/>
            <a:ext cx="892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作者看了一场怎样的杂技表演？</a:t>
            </a:r>
            <a:r>
              <a:rPr b="0" lang="zh-CN" sz="35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6" descr="复件 细读感悟"/>
          <p:cNvPicPr/>
          <p:nvPr/>
        </p:nvPicPr>
        <p:blipFill>
          <a:blip r:embed="rId1"/>
          <a:stretch/>
        </p:blipFill>
        <p:spPr>
          <a:xfrm>
            <a:off x="826920" y="907920"/>
            <a:ext cx="2232360" cy="596880"/>
          </a:xfrm>
          <a:prstGeom prst="rect">
            <a:avLst/>
          </a:prstGeom>
          <a:ln w="0">
            <a:noFill/>
          </a:ln>
        </p:spPr>
      </p:pic>
      <p:sp>
        <p:nvSpPr>
          <p:cNvPr id="543" name="WordArt 10"/>
          <p:cNvSpPr txBox="1"/>
          <p:nvPr/>
        </p:nvSpPr>
        <p:spPr>
          <a:xfrm>
            <a:off x="2124000" y="2997360"/>
            <a:ext cx="49690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惊心动魄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8:39:10Z</dcterms:created>
  <dc:creator>雨林木风</dc:creator>
  <dc:description/>
  <dc:language>en-US</dc:language>
  <cp:lastModifiedBy>user</cp:lastModifiedBy>
  <dcterms:modified xsi:type="dcterms:W3CDTF">2013-02-27T07:02:24Z</dcterms:modified>
  <cp:revision>35</cp:revision>
  <dc:subject/>
  <dc:title>幻灯片 1</dc:title>
</cp:coreProperties>
</file>