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14.png" ContentType="image/png"/>
  <Override PartName="/ppt/media/projctor.wav" ContentType="audio/x-wav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1AB-92C2-4341-AB56-F8B22D32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FC7-ED1C-4A59-BAD5-8AE13D79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308-DFB1-42A7-AA1C-94C58367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5AB-2A0E-4A0B-9CD0-3AC8273E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3B9-B807-4828-8409-BD30E495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6AF8-222B-48CA-A5E8-C837DB2E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E422-C8E8-4AC1-8FDC-AAE19584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F9BC-F178-4DE8-BB2B-8507959C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45FB-97ED-411F-8259-5EB57B9B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4F4D-744A-4F98-A9A8-FDD6FA35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1D8D-03B3-49A0-9297-8EAB1EE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FD7-74CE-4440-A2BE-F8C98374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5A27-EA70-47B4-885E-E29380B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B148-6834-4301-9F0B-593C788D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EC2D-4600-46FF-80DD-B8752C5A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B9FD-081F-4183-A270-E8FB0043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C07F-600D-448C-A1BC-4D1AFAAB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449-06D2-4EA0-90F8-A953822A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08B-4A0E-41B1-A1AD-56BF2891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791-1EFB-44C6-81BF-4E7B4A28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6CF-6335-4C12-943A-8770F42D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97D-0EDB-4531-B9A5-FFF20135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C7B-181E-416B-BCA9-AE3D40D9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74C-A3AC-4FA6-A33A-FEC7925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CAA-C949-4867-9FD5-53002E2A8F2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EBC5-7F2D-454A-BC43-875BF0566CE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tyiyou.com/" TargetMode="External"/><Relationship Id="rId2" Type="http://schemas.openxmlformats.org/officeDocument/2006/relationships/hyperlink" Target="http://www.ntyiyou.com/" TargetMode="External"/><Relationship Id="rId3" Type="http://schemas.openxmlformats.org/officeDocument/2006/relationships/hyperlink" Target="http://www.ntyiyou.com/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projctor.wav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projctor.wav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projctor.wav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projctor.wav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projctor.wav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projctor.wav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http://www.ntcc.cn/" TargetMode="External"/><Relationship Id="rId4" Type="http://schemas.openxmlformats.org/officeDocument/2006/relationships/hyperlink" Target="http://www.ntcc.cn/" TargetMode="External"/><Relationship Id="rId5" Type="http://schemas.openxmlformats.org/officeDocument/2006/relationships/hyperlink" Target="http://www.ntcc.cn/" TargetMode="External"/><Relationship Id="rId6" Type="http://schemas.openxmlformats.org/officeDocument/2006/relationships/hyperlink" Target="http://www.ntcc.cn/" TargetMode="External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关于彩扩店规范管理讨论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3124080"/>
            <a:ext cx="491328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作者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俞忠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址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ntyiyou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u"/>
    <p:sndAc>
      <p:stSnd>
        <p:snd r:embed="rId4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743200" y="0"/>
          <a:ext cx="5715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0"/>
                    <a:ext cx="5715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83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职务说明（例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wipe dir="u"/>
    <p:sndAc>
      <p:stSnd>
        <p:snd r:embed="rId3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业务流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实现业务流程电子化及自动化（取代任何纸质文档的传输及浪费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业务流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码照片业务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14600" y="0"/>
          <a:ext cx="4818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0"/>
                    <a:ext cx="4818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u"/>
    <p:sndAc>
      <p:stSnd>
        <p:snd r:embed="rId3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业务流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统照片业务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295360" y="0"/>
          <a:ext cx="4867560" cy="66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5360" y="0"/>
                    <a:ext cx="486756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u"/>
    <p:sndAc>
      <p:stSnd>
        <p:snd r:embed="rId3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219320"/>
            <a:ext cx="7543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软件功能简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台业务管理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收管理；预收取件管理；正常取件；客户赠送；客  户充值；车间管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销存管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入库管理；调拨管理；库存统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业务分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据检索；客户消费历史；客户应收；报表管理；数据分析处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系统维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商品资料；客户资料；员工资料；供货商资料；会员定价；权限设置；系统设置；数据库备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信交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生日提醒，节日问候，短信广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6858000" cy="396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12193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软件功能简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模块界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590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会员资料</a:t>
            </a:r>
            <a:r>
              <a:rPr b="0" lang="zh-CN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/>
          </p:cNvPr>
          <p:cNvSpPr/>
          <p:nvPr/>
        </p:nvSpPr>
        <p:spPr>
          <a:xfrm>
            <a:off x="4876920" y="2590920"/>
            <a:ext cx="3047760" cy="990360"/>
          </a:xfrm>
          <a:prstGeom prst="wedgeRoundRectCallout">
            <a:avLst>
              <a:gd name="adj1" fmla="val -60050"/>
              <a:gd name="adj2" fmla="val 876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录入客户的基本资料，掌握客户信息，更迅速快捷的与客户沟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6781680" cy="403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12193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软件功能简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模块界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590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商品资料</a:t>
            </a:r>
            <a:r>
              <a:rPr b="0" lang="zh-CN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3"/>
          </p:cNvPr>
          <p:cNvSpPr/>
          <p:nvPr/>
        </p:nvSpPr>
        <p:spPr>
          <a:xfrm>
            <a:off x="4876920" y="2590920"/>
            <a:ext cx="3047760" cy="990360"/>
          </a:xfrm>
          <a:prstGeom prst="wedgeRoundRectCallout">
            <a:avLst>
              <a:gd name="adj1" fmla="val -60050"/>
              <a:gd name="adj2" fmla="val 876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宋体"/>
              </a:rPr>
              <a:t>定义消费的基本项目，进而制定不同消费项目，不同客户群体的价格政策。</a:t>
            </a: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12193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软件功能简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模块界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590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正常取件</a:t>
            </a:r>
            <a:r>
              <a:rPr b="0" lang="zh-CN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7188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3824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3"/>
          </p:cNvPr>
          <p:cNvSpPr/>
          <p:nvPr/>
        </p:nvSpPr>
        <p:spPr>
          <a:xfrm>
            <a:off x="5486400" y="2286000"/>
            <a:ext cx="2895480" cy="1523880"/>
          </a:xfrm>
          <a:prstGeom prst="wedgeRoundRectCallout">
            <a:avLst>
              <a:gd name="adj1" fmla="val -59208"/>
              <a:gd name="adj2" fmla="val 802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宋体"/>
              </a:rPr>
              <a:t>业务主要往来界面（快速键盘操作），保存销售记录，具有打印帐单功能；登记每日业务记录；方便业务管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121932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管理规范提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业务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管理软件功能简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突出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管理分析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WOT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致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9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6781680" cy="4038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" y="12193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软件功能简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模块界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590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器材库存进销存明细</a:t>
            </a:r>
            <a:r>
              <a:rPr b="0" lang="zh-CN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7188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/>
          </p:cNvPr>
          <p:cNvSpPr/>
          <p:nvPr/>
        </p:nvSpPr>
        <p:spPr>
          <a:xfrm>
            <a:off x="4876920" y="2590920"/>
            <a:ext cx="3047760" cy="990360"/>
          </a:xfrm>
          <a:prstGeom prst="wedgeRoundRectCallout">
            <a:avLst>
              <a:gd name="adj1" fmla="val -60050"/>
              <a:gd name="adj2" fmla="val 876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宋体"/>
              </a:rPr>
              <a:t>查看器材的流水帐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6705720" cy="4038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5800" y="12193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软件功能简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模块界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590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客户余额</a:t>
            </a:r>
            <a:r>
              <a:rPr b="0" lang="zh-CN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7188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7188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188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/>
          </p:cNvPr>
          <p:cNvSpPr/>
          <p:nvPr/>
        </p:nvSpPr>
        <p:spPr>
          <a:xfrm>
            <a:off x="4876920" y="2590920"/>
            <a:ext cx="3047760" cy="990360"/>
          </a:xfrm>
          <a:prstGeom prst="wedgeRoundRectCallout">
            <a:avLst>
              <a:gd name="adj1" fmla="val -60050"/>
              <a:gd name="adj2" fmla="val 876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宋体"/>
              </a:rPr>
              <a:t>查询客户的应收情况，及余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670572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12193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软件功能简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模块界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590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数据处理及分析</a:t>
            </a:r>
            <a:r>
              <a:rPr b="0" lang="zh-CN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7188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7188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3"/>
          </p:cNvPr>
          <p:cNvSpPr/>
          <p:nvPr/>
        </p:nvSpPr>
        <p:spPr>
          <a:xfrm>
            <a:off x="4876920" y="1828800"/>
            <a:ext cx="3276360" cy="2590920"/>
          </a:xfrm>
          <a:prstGeom prst="wedgeRoundRectCallout">
            <a:avLst>
              <a:gd name="adj1" fmla="val -59351"/>
              <a:gd name="adj2" fmla="val 3204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宋体"/>
              </a:rPr>
              <a:t>可以按客户类别；客户名称；业务员；消费的规格型号；消费单号 组合分析数量及金额；对于核对数量及消费状况起到良好的数据支持分析功能。数据进行备份功能，可以每月备份一次数据；可以移出业务数据；当前结果可以另存为</a:t>
            </a:r>
            <a:r>
              <a:rPr b="1" lang="en-US" sz="1800" spc="-1" strike="noStrike">
                <a:solidFill>
                  <a:srgbClr val="003399"/>
                </a:solidFill>
                <a:latin typeface="宋体"/>
              </a:rPr>
              <a:t>Excel </a:t>
            </a:r>
            <a:r>
              <a:rPr b="1" lang="en-US" sz="1800" spc="-1" strike="noStrike">
                <a:solidFill>
                  <a:srgbClr val="003399"/>
                </a:solidFill>
                <a:latin typeface="宋体"/>
              </a:rPr>
              <a:t>。 </a:t>
            </a:r>
            <a:r>
              <a:rPr b="1" lang="zh-CN" sz="1800" spc="-1" strike="noStrike">
                <a:solidFill>
                  <a:srgbClr val="003399"/>
                </a:solidFill>
                <a:latin typeface="宋体"/>
              </a:rPr>
              <a:t>。</a:t>
            </a: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143000" y="2819520"/>
          <a:ext cx="66294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6629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85800" y="12193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软件功能简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模块界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590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短信沟通</a:t>
            </a:r>
            <a:r>
              <a:rPr b="0" lang="zh-CN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188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188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5264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876920" y="2590920"/>
            <a:ext cx="3504960" cy="2133360"/>
          </a:xfrm>
          <a:prstGeom prst="wedgeRoundRectCallout">
            <a:avLst>
              <a:gd name="adj1" fmla="val -63768"/>
              <a:gd name="adj2" fmla="val 5237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宋体"/>
              </a:rPr>
              <a:t>生日提醒，节日礼品赠送，定期或不定期举行活动，首先应该让会员客户知道，应该经常跟客户进行简单的沟通，让客户了解“你在我心中”，而软件短信通可以快速便捷的为你效力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5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优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66680" y="2133720"/>
            <a:ext cx="6857640" cy="4119480"/>
            <a:chOff x="1066680" y="2133720"/>
            <a:chExt cx="6857640" cy="4119480"/>
          </a:xfrm>
        </p:grpSpPr>
        <p:grpSp>
          <p:nvGrpSpPr>
            <p:cNvPr id="193" name=""/>
            <p:cNvGrpSpPr/>
            <p:nvPr/>
          </p:nvGrpSpPr>
          <p:grpSpPr>
            <a:xfrm>
              <a:off x="1072080" y="2136960"/>
              <a:ext cx="6845760" cy="4111920"/>
              <a:chOff x="1072080" y="2136960"/>
              <a:chExt cx="6845760" cy="411192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072080" y="2136960"/>
                <a:ext cx="1315800" cy="444240"/>
                <a:chOff x="1072080" y="2136960"/>
                <a:chExt cx="1315800" cy="444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152360" y="2136960"/>
                  <a:ext cx="1154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工作项目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072080" y="2136960"/>
                  <a:ext cx="1315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388240" y="2136960"/>
                <a:ext cx="2848680" cy="444240"/>
                <a:chOff x="2388240" y="2136960"/>
                <a:chExt cx="2848680" cy="4442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468160" y="2136960"/>
                  <a:ext cx="26884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手工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388240" y="2136960"/>
                  <a:ext cx="28486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237280" y="2136960"/>
                <a:ext cx="2680560" cy="444240"/>
                <a:chOff x="5237280" y="2136960"/>
                <a:chExt cx="2680560" cy="4442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317560" y="2136960"/>
                  <a:ext cx="2520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管理软件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237280" y="2136960"/>
                  <a:ext cx="26805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072080" y="2581200"/>
                <a:ext cx="1315800" cy="666720"/>
                <a:chOff x="1072080" y="2581200"/>
                <a:chExt cx="1315800" cy="666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152360" y="2581200"/>
                  <a:ext cx="1154880" cy="66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工作单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072080" y="2581200"/>
                  <a:ext cx="1315800" cy="66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388240" y="2581200"/>
                <a:ext cx="2848680" cy="666720"/>
                <a:chOff x="2388240" y="2581200"/>
                <a:chExt cx="2848680" cy="6667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468160" y="2581200"/>
                  <a:ext cx="2688480" cy="66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手工开取件单等（字迹辨认，以及书写规范问题，而且取件时查找不方便）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88240" y="2581200"/>
                  <a:ext cx="2848680" cy="66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237280" y="2581200"/>
                <a:ext cx="2680560" cy="666720"/>
                <a:chOff x="5237280" y="2581200"/>
                <a:chExt cx="2680560" cy="6667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317560" y="2581200"/>
                  <a:ext cx="2520360" cy="66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打印机打印，单号自动流水，拜访时按日期流水号排好，查找方便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37280" y="2581200"/>
                  <a:ext cx="2680560" cy="66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072080" y="3248280"/>
                <a:ext cx="1315800" cy="555480"/>
                <a:chOff x="1072080" y="3248280"/>
                <a:chExt cx="1315800" cy="5554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52360" y="3248280"/>
                  <a:ext cx="115488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客户档案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072080" y="3248280"/>
                  <a:ext cx="131580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388240" y="3248280"/>
                <a:ext cx="2848680" cy="555480"/>
                <a:chOff x="2388240" y="3248280"/>
                <a:chExt cx="2848680" cy="5554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468160" y="3248280"/>
                  <a:ext cx="268848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客户资料登记笔记本上，查找困难，且信息几回无更深层利用价值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88240" y="3248280"/>
                  <a:ext cx="284868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237280" y="3248280"/>
                <a:ext cx="2680560" cy="555480"/>
                <a:chOff x="5237280" y="3248280"/>
                <a:chExt cx="2680560" cy="5554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317560" y="3248280"/>
                  <a:ext cx="252036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查找方便快捷，且利于客户沟通，消费跟踪，消费统计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37280" y="3248280"/>
                  <a:ext cx="268056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072080" y="3804120"/>
                <a:ext cx="1315800" cy="555480"/>
                <a:chOff x="1072080" y="3804120"/>
                <a:chExt cx="1315800" cy="5554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152360" y="3804120"/>
                  <a:ext cx="115488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营业状况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072080" y="3804120"/>
                  <a:ext cx="131580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388240" y="3804120"/>
                <a:ext cx="2848680" cy="555480"/>
                <a:chOff x="2388240" y="3804120"/>
                <a:chExt cx="2848680" cy="555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468160" y="3804120"/>
                  <a:ext cx="268848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无法及时快速了解当前营业发生额，营业数据统计靠手工重复劳碌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388240" y="3804120"/>
                  <a:ext cx="284868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237280" y="3804120"/>
                <a:ext cx="2680560" cy="555480"/>
                <a:chOff x="5237280" y="3804120"/>
                <a:chExt cx="2680560" cy="5554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317560" y="3804120"/>
                  <a:ext cx="252036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计算机统计，快，准，简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37280" y="3804120"/>
                  <a:ext cx="268056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072080" y="4359960"/>
                <a:ext cx="1315800" cy="555480"/>
                <a:chOff x="1072080" y="4359960"/>
                <a:chExt cx="1315800" cy="5554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152360" y="4359960"/>
                  <a:ext cx="115488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数据统计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072080" y="4359960"/>
                  <a:ext cx="131580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388240" y="4359960"/>
                <a:ext cx="2848680" cy="555480"/>
                <a:chOff x="2388240" y="4359960"/>
                <a:chExt cx="2848680" cy="555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468160" y="4359960"/>
                  <a:ext cx="268848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简单的收入统计，无法进行有效的数据分析工作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388240" y="4359960"/>
                  <a:ext cx="284868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237280" y="4359960"/>
                <a:ext cx="2680560" cy="555480"/>
                <a:chOff x="5237280" y="4359960"/>
                <a:chExt cx="2680560" cy="5554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317560" y="4359960"/>
                  <a:ext cx="252036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可以进行数据分析，提供决策支持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237280" y="4359960"/>
                  <a:ext cx="268056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072080" y="4915440"/>
                <a:ext cx="1315800" cy="444600"/>
                <a:chOff x="1072080" y="4915440"/>
                <a:chExt cx="1315800" cy="4446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152360" y="4915440"/>
                  <a:ext cx="11548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员工绩效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072080" y="4915440"/>
                  <a:ext cx="13158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388240" y="4915440"/>
                <a:ext cx="2848680" cy="444600"/>
                <a:chOff x="2388240" y="4915440"/>
                <a:chExt cx="2848680" cy="4446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468160" y="4915440"/>
                  <a:ext cx="26884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没有具体的数据依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88240" y="4915440"/>
                  <a:ext cx="28486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37280" y="4915440"/>
                <a:ext cx="2680560" cy="444600"/>
                <a:chOff x="5237280" y="4915440"/>
                <a:chExt cx="2680560" cy="4446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317560" y="4915440"/>
                  <a:ext cx="2520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有数据可查，且方便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37280" y="4915440"/>
                  <a:ext cx="26805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072080" y="5360040"/>
                <a:ext cx="1315800" cy="444240"/>
                <a:chOff x="1072080" y="5360040"/>
                <a:chExt cx="1315800" cy="4442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152360" y="5360040"/>
                  <a:ext cx="1154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器材库存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72080" y="5360040"/>
                  <a:ext cx="1315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388240" y="5360040"/>
                <a:ext cx="2848680" cy="444240"/>
                <a:chOff x="2388240" y="5360040"/>
                <a:chExt cx="2848680" cy="4442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468160" y="5360040"/>
                  <a:ext cx="26884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库存数据基本靠手工作帐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88240" y="5360040"/>
                  <a:ext cx="28486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237280" y="5360040"/>
                <a:ext cx="2680560" cy="444240"/>
                <a:chOff x="5237280" y="5360040"/>
                <a:chExt cx="2680560" cy="4442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317560" y="5360040"/>
                  <a:ext cx="2520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计算机进行商品进销存处理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237280" y="5360040"/>
                  <a:ext cx="26805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072080" y="5804640"/>
                <a:ext cx="1315800" cy="444240"/>
                <a:chOff x="1072080" y="5804640"/>
                <a:chExt cx="1315800" cy="4442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152360" y="5804640"/>
                  <a:ext cx="11548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。。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072080" y="5804640"/>
                  <a:ext cx="1315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88240" y="5804640"/>
                <a:ext cx="2848680" cy="444240"/>
                <a:chOff x="2388240" y="5804640"/>
                <a:chExt cx="2848680" cy="44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468160" y="5804640"/>
                  <a:ext cx="26884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388240" y="5804640"/>
                  <a:ext cx="28486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237280" y="5804640"/>
                <a:ext cx="2680560" cy="444240"/>
                <a:chOff x="5237280" y="5804640"/>
                <a:chExt cx="2680560" cy="44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317560" y="5804640"/>
                  <a:ext cx="2520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237280" y="5804640"/>
                  <a:ext cx="26805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1066680" y="2133720"/>
              <a:ext cx="6857640" cy="4119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u"/>
    <p:sndAc>
      <p:stSnd>
        <p:snd r:embed="rId2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突出优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堵住管理漏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软件可以及时了解车间出片数量，门市销售数量，从而控制所有车间图片全部销售。保证了收银情况切实，避免私吞公款或者私下接活的可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突出优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员工业绩考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员工的业绩实时统计，可以了解当前员工的工作状态。进行员工业绩考核，可以提高员工的积极性。送片员的忙碌，修片美工的辛苦，扩片员的尽职，收银员的尽责，都会有可以查询的数据依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121932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突出优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客户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贵宾卡的发放，可以锁定大部分散客。强大的会员基础，为企业的稳定发展奠定了基础。拥有强大的客户档案，继而可以通过软件的企业短信服务，可以及时发布企业短信，进行简单有效的客户关系管理，如生日问候，特大节日馈赠，优惠活动广播等等。有效的快捷的沟通可以为客户创造良好的消费心里（我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I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创造良性的消费循环机制。提高客户的忠诚度，意味着消费时非你莫属，想没生意都困难。建立详实的客户档案，简单快捷的短信交流，对于客户消费的跟踪提供了有力支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突出优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客户消费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数据分析，掌握任意时间段内，不同客户群体，不同客户，不同消费类别，不同产品，不同规格的消费数量，消费金额合计以及消费趋势分析。灵活的数据统计，为决策支持提供有力的数据支持。可以发现客户的消费趋势，如某客户消费力减弱，从而领导层应该及时分析消费减弱的可能原因，是品质还是价格等原因，是否应该制定相应更合理的价格政策，或者其他主动弥补的措施，这样可以最大限度避免客户的流失。留住客户的成本是开发新客户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而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的大客户给企业带来的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的利润。所以客户关系管理，客户消费分析关注尤为重要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分析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WOT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定发展方向及管理方案的采用分析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WO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SWO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分析法（自我诊断方法）是一种能够较客观而准确地分析和研究一个单位现实情况的方法。利用这种方法可以从中找出对自己有利的、值得发扬的因素，以及对自己不利的、如何去避开的东西，发现存在的问题，找出解决办法，并明确以后的发展方向。根据这个分析，可以将问题按轻重缓急分类，明确哪些是目前急需解决的问题，哪些是可以稍微拖后一点儿的事情，哪些属于战略目标上的障碍，哪些属于战术上的问题。它很有针对性，有利于领导者和管理者在单位的发展上做出较正确的决策和规划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管理规范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营业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统彩扩，数码彩扩，器材销售，证件照，婚纱摄影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666880" y="0"/>
          <a:ext cx="5715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0"/>
                    <a:ext cx="5715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83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OT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分析（例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wipe dir="u"/>
    <p:sndAc>
      <p:stSnd>
        <p:snd r:embed="rId3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295280" y="9144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OT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关键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36232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WO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四个英文字母代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trengt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Weakness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Opportunity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hreat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意思分别为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强项、优势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弱项、劣势；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机会、机遇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威胁、对手。从整体上看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WO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分为两部分。第一部分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W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来分析内部条件；第二部分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OT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来分析外部条件。另外，每一个单项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又可以分为外部因素和内部因素，这样就可以对情况有一个较完整的概念了。作为领导者和管理者首先要明确：我们的顾客是谁？在哪儿？产品是什么？应该提供什么服务？在管理运作中怎样应付不断出现的变化？存在哪些威胁和竞争对手？会发生什么样的竞争？怎样去改进并完善自己？只有这样，事业才能发展壮大。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6212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案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22860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1981080"/>
            <a:ext cx="66294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66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cc66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客户冲卷时，预收客户费用为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张照片费用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.5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张计）加冲卷费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计）共计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21.0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元。如果实际洗出照片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张，客户取件时，可以开具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张照片冲洗单交客户，并不退还客户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张照片费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cc"/>
                </a:solidFill>
                <a:latin typeface="Times New Roman"/>
              </a:rPr>
              <a:t>分析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可以保留客户的再次消费权益，从而花费很少的成本促使客户的再次惠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案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2860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1981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66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cc66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cc66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不定期举行消费优惠活动，如发放消费优惠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cc"/>
                </a:solidFill>
                <a:latin typeface="宋体"/>
              </a:rPr>
              <a:t>分析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可以快速吸收新客户，拉升企业的知名度，提升客户流量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6212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案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22860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1981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66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cc66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cc66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办理贵宾卡，建立详实的客户档案。可以在客户发生消费后，预期其再次消费可能情况，进行消费跟踪。比如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顾客消费链（结婚照</a:t>
            </a:r>
            <a:r>
              <a:rPr b="1" lang="zh-CN" sz="1800" spc="-1" strike="noStrike">
                <a:solidFill>
                  <a:srgbClr val="ffcf01"/>
                </a:solidFill>
                <a:latin typeface="Times New Roman"/>
              </a:rPr>
              <a:t>＝</a:t>
            </a:r>
            <a:r>
              <a:rPr b="1" lang="zh-CN" sz="1800" spc="-1" strike="noStrike">
                <a:solidFill>
                  <a:srgbClr val="ffcf01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婚礼摄像</a:t>
            </a:r>
            <a:r>
              <a:rPr b="1" lang="zh-CN" sz="1800" spc="-1" strike="noStrike">
                <a:solidFill>
                  <a:srgbClr val="ffcf01"/>
                </a:solidFill>
                <a:latin typeface="Times New Roman"/>
              </a:rPr>
              <a:t>＝</a:t>
            </a:r>
            <a:r>
              <a:rPr b="1" lang="zh-CN" sz="1800" spc="-1" strike="noStrike">
                <a:solidFill>
                  <a:srgbClr val="ffcf01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结婚周年纪念照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cc"/>
                </a:solidFill>
                <a:latin typeface="宋体"/>
              </a:rPr>
              <a:t>分析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根据顾客可能发生的消费链情况，回访客户，跟踪顾客消费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促进再次消费实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致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管理软件，提升管理水平，管理更规范、轻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管理软件是工具，管理的思想才是其灵魂及价值的体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管理思想不断进步，管理软件这一工具也是在不断的人性化，科学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" y="-3826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（例）收银员职务说明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日编号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1219320"/>
            <a:ext cx="78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致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祝愿各位同行：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做好做大市场，一路狂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感谢多年来为摄影行业做出贡献的软件技术服务商―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南通点拓科技有限公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欢迎对本文有兴趣的同行朋友现场索取材料光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80"/>
                </a:solidFill>
                <a:latin typeface="宋体"/>
              </a:rPr>
              <a:t>谢谢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" y="-3826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（例）收银员职务说明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日编号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管理规范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特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费群庞大，服务项目专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管理规范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市场目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广纳客户，一次消费，终身消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管理规范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理需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摆脱繁重的手工业务管理，更多精力的致力于企业的决策，市场开拓，事业推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管理规范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理方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计算机管理软件采用，规范管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32280" y="36021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"/>
          </p:cNvPr>
          <p:cNvSpPr/>
          <p:nvPr/>
        </p:nvSpPr>
        <p:spPr>
          <a:xfrm>
            <a:off x="2895480" y="3048120"/>
            <a:ext cx="4267440" cy="1447560"/>
          </a:xfrm>
          <a:prstGeom prst="wedgeRoundRectCallout">
            <a:avLst>
              <a:gd name="adj1" fmla="val -42185"/>
              <a:gd name="adj2" fmla="val -6545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华文行楷"/>
              </a:rPr>
              <a:t>点拓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  <a:ea typeface="华文行楷"/>
              </a:rPr>
              <a:t>彩扩管理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ntc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13-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0827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22640" y="352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7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管理规范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2362320"/>
          <a:ext cx="7467840" cy="412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74678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u"/>
    <p:sndAc>
      <p:stSnd>
        <p:snd r:embed="rId4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管理规范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岗位职责（员工手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员工很快进入相应角色，减少培训压力。权责分明，管理制度化，科学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" y="-3826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（例）收银员职务说明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日编号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9:50:12Z</dcterms:created>
  <dc:creator>Dml</dc:creator>
  <dc:description/>
  <dc:language>en-US</dc:language>
  <cp:lastModifiedBy>Dml</cp:lastModifiedBy>
  <dcterms:modified xsi:type="dcterms:W3CDTF">2005-03-15T13:00:31Z</dcterms:modified>
  <cp:revision>47</cp:revision>
  <dc:subject/>
  <dc:title>关于彩扩店规范管理讨论 </dc:title>
</cp:coreProperties>
</file>