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091-0CD3-4090-8A23-F3C0C780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8A6-FC19-46F6-8FD5-EEA88B89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958-90C8-42BD-9E55-837FE16D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667-2934-439B-A5C3-72C81A7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4B8-4EB3-43F8-B817-BCD2DB9D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F119-291D-4583-A49E-A5A8E68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BC3-18C2-4B51-AC3C-6C1FD57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C2D-3B12-419E-B587-1502D45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189-EE14-40E5-A798-C42C29C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157-8D79-4D42-A692-D1D3C5B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513-A200-4BA8-8DCE-F2F068C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716-BE49-4CC6-9CAE-63EEB19C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5F42-F0AE-49EB-9E01-2A021CA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B20-2F26-4B9F-B7AC-1C0AB24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C53A-663A-416B-AEB6-6709EB5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6AA-5AA6-42D1-B6E4-622F9640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4F96-815A-4D0F-8645-7EFB062F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0FB-013A-4D46-87DE-13D4645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0FF-82D7-4172-964A-9A35F00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DFA-2900-40A6-902E-5B3E842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71C-1E91-4BAA-B18F-3EAFCE6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792-F05E-4282-822E-1C267819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B97-6E00-4868-A887-9C4D599F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5C0-C5D2-4AD5-B5E5-2A33138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6F7-75B5-4028-87B7-2DA2FDB92E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27E9-7C39-49DB-8084-697510852B1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tcc.cn/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tcc.cn/" TargetMode="Externa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tcc.cn/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tcc.cn/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6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ntcc.cn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南通点拓科技有限公司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DT tech.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ahoma"/>
              </a:rPr>
              <a:t>操作理论指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43000" y="19810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门市接触处理的对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8195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客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资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88620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员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资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105520"/>
            <a:ext cx="4419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服务项目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即商品资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819520"/>
            <a:ext cx="1447560" cy="14475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595" stAng="10800000" swAng="5400000"/>
                <a:lnTo>
                  <a:pt x="12427" y="256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593"/>
                </a:lnTo>
                <a:lnTo>
                  <a:pt x="12427" y="9593"/>
                </a:lnTo>
                <a:arcTo wR="5399" hR="2567" stAng="16200000" swAng="-5400000"/>
                <a:lnTo>
                  <a:pt x="702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4267080"/>
            <a:ext cx="1447560" cy="1524240"/>
          </a:xfrm>
          <a:custGeom>
            <a:avLst/>
            <a:gdLst>
              <a:gd name="textAreaLeft" fmla="*/ 0 w 1447560"/>
              <a:gd name="textAreaRight" fmla="*/ 1447920 w 1447560"/>
              <a:gd name="textAreaTop" fmla="*/ 360 h 1524240"/>
              <a:gd name="textAreaBottom" fmla="*/ 1524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595" stAng="10800000" swAng="5400000"/>
                <a:lnTo>
                  <a:pt x="12427" y="256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593"/>
                </a:lnTo>
                <a:lnTo>
                  <a:pt x="12427" y="9593"/>
                </a:lnTo>
                <a:arcTo wR="5399" hR="2567" stAng="16200000" swAng="-5400000"/>
                <a:lnTo>
                  <a:pt x="702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200" y="395460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6480" y="396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门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200" y="3078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6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ntcc.cn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南通点拓科技有限公司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DT tech.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ahoma"/>
              </a:rPr>
              <a:t>操作理论指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3000" y="19810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门市业务主体流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03200" y="395460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120" y="2819520"/>
            <a:ext cx="546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冲卷业务流（传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666880"/>
            <a:ext cx="1219320" cy="60984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预收单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590920"/>
            <a:ext cx="1218960" cy="83808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预收定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971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410080"/>
            <a:ext cx="1218960" cy="60984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预收单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181480"/>
            <a:ext cx="1600200" cy="9144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取件结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多退少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90920"/>
            <a:ext cx="914400" cy="799920"/>
          </a:xfrm>
          <a:prstGeom prst="flowChartPunchedTap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胶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6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ntcc.cn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南通点拓科技有限公司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DT tech.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ahoma"/>
              </a:rPr>
              <a:t>操作理论指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19810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门市业务主体流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03200" y="395460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60" y="2819520"/>
            <a:ext cx="91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数码及其它当场结算业务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886200"/>
            <a:ext cx="1600200" cy="9144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直接结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86200"/>
            <a:ext cx="1371600" cy="914400"/>
          </a:xfrm>
          <a:prstGeom prst="flowChartDocumen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取件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81952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42900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证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03848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刻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64832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器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25780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867280"/>
            <a:ext cx="914400" cy="685800"/>
          </a:xfrm>
          <a:prstGeom prst="flowChartInputOutpu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680" y="6172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6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ntcc.cn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南通点拓科技有限公司  </a:t>
            </a:r>
            <a:r>
              <a:rPr b="0" lang="zh-CN" sz="1000" spc="-1" strike="noStrike">
                <a:solidFill>
                  <a:srgbClr val="333399"/>
                </a:solidFill>
                <a:latin typeface="Tahoma"/>
              </a:rPr>
              <a:t>DT tech.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ahoma"/>
              </a:rPr>
              <a:t>操作理论指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66680" y="3276360"/>
            <a:ext cx="746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根据业务流程进入软件相关操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02:16Z</dcterms:created>
  <dc:creator>Dml</dc:creator>
  <dc:description/>
  <dc:language>en-US</dc:language>
  <cp:lastModifiedBy>Dml</cp:lastModifiedBy>
  <dcterms:modified xsi:type="dcterms:W3CDTF">2005-04-22T09:06:15Z</dcterms:modified>
  <cp:revision>24</cp:revision>
  <dc:subject/>
  <dc:title>www.ntcc.cn  南通点拓科技有限公司  Dttech.</dc:title>
</cp:coreProperties>
</file>