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chimes.wav" ContentType="audio/x-wav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3.jpeg" ContentType="image/jpeg"/>
  <Override PartName="/ppt/media/image2.jpeg" ContentType="image/jpeg"/>
  <Override PartName="/ppt/media/image25.wmf" ContentType="image/x-wmf"/>
  <Override PartName="/ppt/media/image4.wmf" ContentType="image/x-wmf"/>
  <Override PartName="/ppt/media/image27.wmf" ContentType="image/x-wmf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3.wmf" ContentType="image/x-wmf"/>
  <Override PartName="/ppt/media/image1.jpeg" ContentType="image/jpeg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E59B-CCD0-41DA-AEFF-637B0F7ED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32B8-AD56-4585-A302-9A64C443F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011F-7500-4DD0-9265-EC7C4383B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172C-F59C-4279-90D0-6C1F6E205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A887-9945-4BBB-BC7F-8D0C0F1E4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6B37-AA48-412F-9C28-FCD4D4C24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15F2-3DAB-47EB-B43B-2E67215E3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9A44-D9C8-4DC5-B279-5AD84DA4C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02D0-E667-4CCE-90F9-E439569B9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A486-690A-46B2-B341-E432B216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423D-0F52-4DE2-B1CA-F1D2D75B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44BD-5024-4C29-A319-86E283E1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051C0-0AC5-4CEA-AE71-4B8188DCBD0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7.wmf"/><Relationship Id="rId14" Type="http://schemas.openxmlformats.org/officeDocument/2006/relationships/image" Target="../media/image11.wmf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5.wmf"/><Relationship Id="rId10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0" y="0"/>
            <a:ext cx="9144000" cy="7074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98100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00"/>
                </a:solidFill>
                <a:latin typeface="Times New Roman"/>
                <a:ea typeface="华文琥珀"/>
              </a:rPr>
              <a:t>等差数列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755640" y="314172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直线的一般形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4500720" y="2997360"/>
          <a:ext cx="2303280" cy="73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00720" y="2997360"/>
                    <a:ext cx="230328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468360" y="765000"/>
            <a:ext cx="46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等差数列的通项公式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572000" y="692280"/>
          <a:ext cx="3672000" cy="717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0" y="692280"/>
                    <a:ext cx="367200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4500720" y="1700280"/>
          <a:ext cx="2374920" cy="749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00720" y="1700280"/>
                    <a:ext cx="237492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1042920" y="4869000"/>
            <a:ext cx="77770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华文行楷"/>
                <a:ea typeface="华文行楷"/>
              </a:rPr>
              <a:t>等差数列的图象为相应直线上的点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403280" y="5013360"/>
            <a:ext cx="633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1979640" y="692280"/>
            <a:ext cx="0" cy="47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484360" y="3645000"/>
            <a:ext cx="216000" cy="1368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843280" y="3573360"/>
            <a:ext cx="216000" cy="1440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2411280" y="2781000"/>
            <a:ext cx="5329440" cy="863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03640" y="3500280"/>
            <a:ext cx="216000" cy="1513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564000" y="3429000"/>
            <a:ext cx="216000" cy="1584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20000" y="2852640"/>
            <a:ext cx="216000" cy="216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47640" y="4941720"/>
            <a:ext cx="360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885080" y="4797360"/>
            <a:ext cx="5032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979640" y="333360"/>
            <a:ext cx="720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rId2" action="ppaction://hlinksldjump"/>
          </p:cNvPr>
          <p:cNvSpPr/>
          <p:nvPr/>
        </p:nvSpPr>
        <p:spPr>
          <a:xfrm>
            <a:off x="7885080" y="6237360"/>
            <a:ext cx="576360" cy="360360"/>
          </a:xfrm>
          <a:custGeom>
            <a:avLst/>
            <a:gdLst>
              <a:gd name="textAreaLeft" fmla="*/ 77040 w 576360"/>
              <a:gd name="textAreaRight" fmla="*/ 499320 w 576360"/>
              <a:gd name="textAreaTop" fmla="*/ 63000 h 360360"/>
              <a:gd name="textAreaBottom" fmla="*/ 26136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826920" y="692280"/>
            <a:ext cx="2953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课下作业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71640" y="1484280"/>
            <a:ext cx="7704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答课本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并思考：为什么梯子的两侧是直线？你能用本节知识和平面几何知识解答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27640" y="0"/>
            <a:ext cx="4716360" cy="3141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9640" y="333360"/>
            <a:ext cx="3024360" cy="1739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在过去的三百多年里，人们分别在下列时间里观测到了哈雷慧星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6000" y="3692520"/>
            <a:ext cx="85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68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75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83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9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98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（ 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4920" y="4292640"/>
            <a:ext cx="4248000" cy="1655640"/>
            <a:chOff x="34920" y="4292640"/>
            <a:chExt cx="4248000" cy="1655640"/>
          </a:xfrm>
        </p:grpSpPr>
        <p:sp>
          <p:nvSpPr>
            <p:cNvPr id="47" name=""/>
            <p:cNvSpPr/>
            <p:nvPr/>
          </p:nvSpPr>
          <p:spPr>
            <a:xfrm>
              <a:off x="34920" y="4292640"/>
              <a:ext cx="4248000" cy="1655640"/>
            </a:xfrm>
            <a:prstGeom prst="cloudCallout">
              <a:avLst>
                <a:gd name="adj1" fmla="val -43347"/>
                <a:gd name="adj2" fmla="val 102731"/>
              </a:avLst>
            </a:prstGeom>
            <a:solidFill>
              <a:srgbClr val="ccff99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9640" y="4594320"/>
              <a:ext cx="3671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ff"/>
                  </a:solidFill>
                  <a:latin typeface="华文行楷"/>
                  <a:ea typeface="华文行楷"/>
                </a:rPr>
                <a:t>你能预测出下一次的大致时间吗？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7308720" y="370188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06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4674600"/>
            <a:ext cx="4103640" cy="155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持人问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近的时间什么时候可以看到哈雷慧星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文学家陈丹说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06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左右。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59280" y="1773360"/>
            <a:ext cx="2376720" cy="1065240"/>
          </a:xfrm>
          <a:prstGeom prst="wedgeEllipseCallout">
            <a:avLst>
              <a:gd name="adj1" fmla="val -67902"/>
              <a:gd name="adj2" fmla="val 13405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35640" y="198900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相差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7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95280" y="0"/>
            <a:ext cx="5040360" cy="1484280"/>
          </a:xfrm>
          <a:prstGeom prst="cloudCallout">
            <a:avLst>
              <a:gd name="adj1" fmla="val -53305"/>
              <a:gd name="adj2" fmla="val 74814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16000" y="260280"/>
            <a:ext cx="38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行楷"/>
                <a:ea typeface="华文行楷"/>
              </a:rPr>
              <a:t>你能根据规律在（    ）内填上合适的数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2637000"/>
            <a:ext cx="679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2)     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（     ）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3716280"/>
            <a:ext cx="633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3)     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-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-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（     ）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03280" y="177336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68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758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83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91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986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06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-612720" y="-100080"/>
            <a:ext cx="23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637000"/>
            <a:ext cx="100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3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43640" y="371628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8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213372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( 2)   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（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3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2852640"/>
            <a:ext cx="633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( 3 )   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-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-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（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-8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,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1413000"/>
            <a:ext cx="72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( 1 )   168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75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83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9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98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06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-612720" y="-100080"/>
            <a:ext cx="23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52600" y="4005360"/>
            <a:ext cx="859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定义：如果一个数列从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项起，每一项与它的前一项的差等 于同一个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常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6877080" y="404640"/>
            <a:ext cx="2025720" cy="890640"/>
            <a:chOff x="6877080" y="404640"/>
            <a:chExt cx="2025720" cy="890640"/>
          </a:xfrm>
        </p:grpSpPr>
        <p:sp>
          <p:nvSpPr>
            <p:cNvPr id="67" name=""/>
            <p:cNvSpPr/>
            <p:nvPr/>
          </p:nvSpPr>
          <p:spPr>
            <a:xfrm>
              <a:off x="6877080" y="404640"/>
              <a:ext cx="2025720" cy="890640"/>
            </a:xfrm>
            <a:prstGeom prst="wedgeEllipseCallout">
              <a:avLst>
                <a:gd name="adj1" fmla="val -96472"/>
                <a:gd name="adj2" fmla="val 53208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462800" y="639720"/>
              <a:ext cx="14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=7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6659640" y="1413000"/>
            <a:ext cx="2025720" cy="890640"/>
            <a:chOff x="6659640" y="1413000"/>
            <a:chExt cx="2025720" cy="890640"/>
          </a:xfrm>
        </p:grpSpPr>
        <p:sp>
          <p:nvSpPr>
            <p:cNvPr id="70" name=""/>
            <p:cNvSpPr/>
            <p:nvPr/>
          </p:nvSpPr>
          <p:spPr>
            <a:xfrm>
              <a:off x="6659640" y="1413000"/>
              <a:ext cx="2025720" cy="890640"/>
            </a:xfrm>
            <a:prstGeom prst="wedgeEllipseCallout">
              <a:avLst>
                <a:gd name="adj1" fmla="val -125939"/>
                <a:gd name="adj2" fmla="val 54101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137720" y="1629000"/>
              <a:ext cx="101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=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6902280" y="2349360"/>
            <a:ext cx="2241720" cy="890640"/>
            <a:chOff x="6902280" y="2349360"/>
            <a:chExt cx="2241720" cy="890640"/>
          </a:xfrm>
        </p:grpSpPr>
        <p:sp>
          <p:nvSpPr>
            <p:cNvPr id="73" name=""/>
            <p:cNvSpPr/>
            <p:nvPr/>
          </p:nvSpPr>
          <p:spPr>
            <a:xfrm>
              <a:off x="6902280" y="2349360"/>
              <a:ext cx="2025720" cy="890640"/>
            </a:xfrm>
            <a:prstGeom prst="wedgeEllipseCallout">
              <a:avLst>
                <a:gd name="adj1" fmla="val -144199"/>
                <a:gd name="adj2" fmla="val 4821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451640" y="2565360"/>
              <a:ext cx="16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=-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539640" y="530064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个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常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叫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等差数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公差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公差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通常用字母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50240" y="4365720"/>
            <a:ext cx="23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个数列就叫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等差数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4753080" cy="1052640"/>
          </a:xfrm>
          <a:prstGeom prst="cloudCallout">
            <a:avLst>
              <a:gd name="adj1" fmla="val -49032"/>
              <a:gd name="adj2" fmla="val 108523"/>
            </a:avLst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8000" y="260280"/>
            <a:ext cx="45352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华文行楷"/>
                <a:ea typeface="华文行楷"/>
              </a:rPr>
              <a:t>它们的共同的规律是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-108000" y="115920"/>
            <a:ext cx="4753080" cy="1512720"/>
          </a:xfrm>
          <a:prstGeom prst="cloudCallout">
            <a:avLst>
              <a:gd name="adj1" fmla="val -49898"/>
              <a:gd name="adj2" fmla="val 164060"/>
            </a:avLst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79280" y="54936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它们是等差数列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3270240"/>
            <a:ext cx="55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2)     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156360" y="333216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Times New Roman"/>
              </a:rPr>
              <a:t>公差 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</a:rPr>
              <a:t>d=0   </a:t>
            </a:r>
            <a:r>
              <a:rPr b="1" i="1" lang="zh-CN" sz="2400" spc="-1" strike="noStrike">
                <a:solidFill>
                  <a:srgbClr val="666633"/>
                </a:solidFill>
                <a:latin typeface="Times New Roman"/>
              </a:rPr>
              <a:t>常数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04000" y="41958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Times New Roman"/>
              </a:rPr>
              <a:t>公差 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</a:rPr>
              <a:t>d= 2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19280" y="247968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)    1, 3, 5, 7, 9,   2, 4, 6, 8,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49228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619280" y="4076640"/>
            <a:ext cx="4465440" cy="576360"/>
            <a:chOff x="1619280" y="4076640"/>
            <a:chExt cx="4465440" cy="576360"/>
          </a:xfrm>
        </p:grpSpPr>
        <p:graphicFrame>
          <p:nvGraphicFramePr>
            <p:cNvPr id="87" name=""/>
            <p:cNvGraphicFramePr/>
            <p:nvPr/>
          </p:nvGraphicFramePr>
          <p:xfrm>
            <a:off x="2498760" y="4146480"/>
            <a:ext cx="3585960" cy="5065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498760" y="4146480"/>
                      <a:ext cx="3585960" cy="50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9" name=""/>
            <p:cNvSpPr/>
            <p:nvPr/>
          </p:nvSpPr>
          <p:spPr>
            <a:xfrm>
              <a:off x="1619280" y="4076640"/>
              <a:ext cx="86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(3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6443640" y="620640"/>
            <a:ext cx="22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300720" y="76500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5076720" y="378000"/>
            <a:ext cx="4103640" cy="1322280"/>
            <a:chOff x="5076720" y="378000"/>
            <a:chExt cx="4103640" cy="1322280"/>
          </a:xfrm>
        </p:grpSpPr>
        <p:grpSp>
          <p:nvGrpSpPr>
            <p:cNvPr id="93" name=""/>
            <p:cNvGrpSpPr/>
            <p:nvPr/>
          </p:nvGrpSpPr>
          <p:grpSpPr>
            <a:xfrm>
              <a:off x="5076720" y="378000"/>
              <a:ext cx="4103640" cy="1322280"/>
              <a:chOff x="5076720" y="378000"/>
              <a:chExt cx="4103640" cy="1322280"/>
            </a:xfrm>
          </p:grpSpPr>
          <p:sp>
            <p:nvSpPr>
              <p:cNvPr id="94" name=""/>
              <p:cNvSpPr/>
              <p:nvPr/>
            </p:nvSpPr>
            <p:spPr>
              <a:xfrm>
                <a:off x="5076720" y="378000"/>
                <a:ext cx="3826080" cy="1322280"/>
              </a:xfrm>
              <a:prstGeom prst="wedgeEllipseCallout">
                <a:avLst>
                  <a:gd name="adj1" fmla="val -40041"/>
                  <a:gd name="adj2" fmla="val 246759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95" name=""/>
              <p:cNvGraphicFramePr/>
              <p:nvPr/>
            </p:nvGraphicFramePr>
            <p:xfrm>
              <a:off x="5435640" y="765000"/>
              <a:ext cx="647640" cy="64800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96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5435640" y="765000"/>
                        <a:ext cx="647640" cy="648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7" name=""/>
              <p:cNvSpPr/>
              <p:nvPr/>
            </p:nvSpPr>
            <p:spPr>
              <a:xfrm>
                <a:off x="5977080" y="907920"/>
                <a:ext cx="32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是项数       的函数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98" name=""/>
            <p:cNvGraphicFramePr/>
            <p:nvPr/>
          </p:nvGraphicFramePr>
          <p:xfrm>
            <a:off x="7020000" y="907920"/>
            <a:ext cx="576360" cy="4032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020000" y="907920"/>
                      <a:ext cx="576360" cy="40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pull dir="ru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等差数列的通项公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884160"/>
            <a:ext cx="357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果一个数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2760" y="1523880"/>
            <a:ext cx="682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等差数列，它的公差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那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863800" y="765000"/>
            <a:ext cx="5380200" cy="706320"/>
            <a:chOff x="2863800" y="765000"/>
            <a:chExt cx="5380200" cy="706320"/>
          </a:xfrm>
        </p:grpSpPr>
        <mc:AlternateContent>
          <mc:Choice xmlns:a14="http://schemas.microsoft.com/office/drawing/2010/main" Requires="a14">
            <p:sp>
              <p:nvSpPr>
                <p:cNvPr id="104" name=""/>
                <p:cNvSpPr txBox="1"/>
                <p:nvPr/>
              </p:nvSpPr>
              <p:spPr>
                <a:xfrm>
                  <a:off x="2863800" y="765000"/>
                  <a:ext cx="747720" cy="62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5" name=""/>
                <p:cNvSpPr txBox="1"/>
                <p:nvPr/>
              </p:nvSpPr>
              <p:spPr>
                <a:xfrm>
                  <a:off x="3655800" y="765000"/>
                  <a:ext cx="841680" cy="62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" name=""/>
                <p:cNvSpPr txBox="1"/>
                <p:nvPr/>
              </p:nvSpPr>
              <p:spPr>
                <a:xfrm>
                  <a:off x="4616280" y="765000"/>
                  <a:ext cx="793800" cy="66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7" name=""/>
                <p:cNvSpPr txBox="1"/>
                <p:nvPr/>
              </p:nvSpPr>
              <p:spPr>
                <a:xfrm>
                  <a:off x="6218280" y="765000"/>
                  <a:ext cx="838080" cy="66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8" name=""/>
            <p:cNvSpPr/>
            <p:nvPr/>
          </p:nvSpPr>
          <p:spPr>
            <a:xfrm>
              <a:off x="5302080" y="828720"/>
              <a:ext cx="868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24680" y="80928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828800" y="2133720"/>
                <a:ext cx="179064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828800" y="2743200"/>
            <a:ext cx="5538960" cy="5968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828800" y="3429000"/>
            <a:ext cx="5738760" cy="5968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1806480" y="4038480"/>
            <a:ext cx="5737320" cy="596880"/>
          </a:xfrm>
          <a:prstGeom prst="rect">
            <a:avLst/>
          </a:prstGeom>
          <a:ln w="0">
            <a:noFill/>
          </a:ln>
        </p:spPr>
      </p:pic>
      <p:grpSp>
        <p:nvGrpSpPr>
          <p:cNvPr id="114" name=""/>
          <p:cNvGrpSpPr/>
          <p:nvPr/>
        </p:nvGrpSpPr>
        <p:grpSpPr>
          <a:xfrm>
            <a:off x="1905120" y="4648320"/>
            <a:ext cx="5340240" cy="663480"/>
            <a:chOff x="1905120" y="4648320"/>
            <a:chExt cx="5340240" cy="663480"/>
          </a:xfrm>
        </p:grpSpPr>
        <p:pic>
          <p:nvPicPr>
            <p:cNvPr id="115" name="" descr=""/>
            <p:cNvPicPr/>
            <p:nvPr/>
          </p:nvPicPr>
          <p:blipFill>
            <a:blip r:embed="rId5"/>
            <a:stretch/>
          </p:blipFill>
          <p:spPr>
            <a:xfrm>
              <a:off x="1905120" y="4724280"/>
              <a:ext cx="244476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6"/>
            <a:stretch/>
          </p:blipFill>
          <p:spPr>
            <a:xfrm>
              <a:off x="4800600" y="4648320"/>
              <a:ext cx="2444760" cy="587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7" name="" descr=""/>
          <p:cNvPicPr/>
          <p:nvPr/>
        </p:nvPicPr>
        <p:blipFill>
          <a:blip r:embed="rId7"/>
          <a:stretch/>
        </p:blipFill>
        <p:spPr>
          <a:xfrm>
            <a:off x="1763640" y="5300640"/>
            <a:ext cx="2752920" cy="5968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835280" y="616572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n=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时亦适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7" dur="2000" fill="hold"/>
                                        <p:tgtEl>
                                          <p:spTgt spid="1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042920" y="1125360"/>
            <a:ext cx="31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124000" y="765000"/>
          <a:ext cx="2519280" cy="72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4000" y="765000"/>
                    <a:ext cx="2519280" cy="7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2195640" y="1413000"/>
          <a:ext cx="2447640" cy="682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1413000"/>
                    <a:ext cx="244764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2195640" y="1989000"/>
          <a:ext cx="2447640" cy="719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95640" y="1989000"/>
                    <a:ext cx="244764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2124000" y="3213000"/>
          <a:ext cx="2517840" cy="723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24000" y="3213000"/>
                    <a:ext cx="251784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2124000" y="3933720"/>
          <a:ext cx="2592360" cy="7527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124000" y="3933720"/>
                    <a:ext cx="2592360" cy="7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684360" y="486900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迭加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197080" y="4797360"/>
          <a:ext cx="3670200" cy="7225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197080" y="4797360"/>
                    <a:ext cx="367020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2535840" y="2852640"/>
            <a:ext cx="667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-252360" y="74520"/>
            <a:ext cx="6095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等差数列的通项公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4"/>
          <a:stretch/>
        </p:blipFill>
        <p:spPr>
          <a:xfrm>
            <a:off x="2195640" y="5589720"/>
            <a:ext cx="3960720" cy="8586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8" dur="2000" fill="hold"/>
                                        <p:tgtEl>
                                          <p:spTgt spid="1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24000" y="12906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   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求等差数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…，的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60360" y="1989000"/>
            <a:ext cx="11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900000" y="2565360"/>
            <a:ext cx="6424560" cy="6494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68360" y="3578400"/>
            <a:ext cx="741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差数列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-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-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-1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…，的第几项是 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0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4720" y="4148280"/>
            <a:ext cx="10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1125360" y="4133880"/>
            <a:ext cx="6902640" cy="596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90640" y="49719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此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1746360" y="4946760"/>
            <a:ext cx="4770360" cy="5302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949320" y="57387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1957320" y="5738760"/>
            <a:ext cx="1390680" cy="4986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407280" y="0"/>
            <a:ext cx="2736720" cy="1052640"/>
          </a:xfrm>
          <a:prstGeom prst="wedgeEllipseCallout">
            <a:avLst>
              <a:gd name="adj1" fmla="val -43328"/>
              <a:gd name="adj2" fmla="val 11681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6588000" y="260280"/>
                <a:ext cx="241164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8" name=""/>
          <p:cNvGrpSpPr/>
          <p:nvPr/>
        </p:nvGrpSpPr>
        <p:grpSpPr>
          <a:xfrm>
            <a:off x="927720" y="1949400"/>
            <a:ext cx="6036840" cy="558360"/>
            <a:chOff x="927720" y="1949400"/>
            <a:chExt cx="6036840" cy="558360"/>
          </a:xfrm>
        </p:grpSpPr>
        <p:sp>
          <p:nvSpPr>
            <p:cNvPr id="149" name=""/>
            <p:cNvSpPr/>
            <p:nvPr/>
          </p:nvSpPr>
          <p:spPr>
            <a:xfrm>
              <a:off x="6855480" y="1994040"/>
              <a:ext cx="109080" cy="4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8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,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381000" y="1994040"/>
              <a:ext cx="433440" cy="4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8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20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382000" y="1994040"/>
              <a:ext cx="109080" cy="4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8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,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159880" y="1994040"/>
              <a:ext cx="217080" cy="4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8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3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118760" y="1994040"/>
              <a:ext cx="217080" cy="4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8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8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47360" y="1994040"/>
              <a:ext cx="217080" cy="4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8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5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34320" y="1994040"/>
              <a:ext cx="109080" cy="4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8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,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204280" y="1994040"/>
              <a:ext cx="217080" cy="4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8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8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81040" y="2233080"/>
              <a:ext cx="12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959080" y="1949400"/>
              <a:ext cx="343800" cy="4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8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977720" y="1949400"/>
              <a:ext cx="144000" cy="4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8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478400" y="1949400"/>
              <a:ext cx="343800" cy="4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8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873600" y="1949400"/>
              <a:ext cx="144000" cy="4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8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060720" y="1949400"/>
              <a:ext cx="343800" cy="4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8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27360" y="1949400"/>
              <a:ext cx="343800" cy="4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8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83240" y="1994040"/>
              <a:ext cx="217080" cy="4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8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4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n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637360" y="1994040"/>
              <a:ext cx="217080" cy="4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8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4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d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304640" y="1994040"/>
              <a:ext cx="217080" cy="4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8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4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a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927720" y="2030040"/>
              <a:ext cx="275040" cy="4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8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MT Extra"/>
                  <a:ea typeface="MT Extra"/>
                </a:rPr>
                <a:t>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250920" y="0"/>
            <a:ext cx="2555640" cy="907920"/>
          </a:xfrm>
          <a:prstGeom prst="cloudCallout">
            <a:avLst>
              <a:gd name="adj1" fmla="val -26458"/>
              <a:gd name="adj2" fmla="val 33041"/>
            </a:avLst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9640" y="189000"/>
            <a:ext cx="2016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行楷"/>
                <a:ea typeface="华文行楷"/>
              </a:rPr>
              <a:t>用一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28600" y="105264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如下的两个数之间，插入一个什么数后这三个数就会成为一个等差数列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89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      )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      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365200" y="1981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110280" y="1981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357336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间插入一个数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成等差数列，那么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叫做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等差中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835280" y="4653000"/>
                <a:ext cx="16570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1116000" y="3068640"/>
            <a:ext cx="50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274840" y="2492280"/>
          <a:ext cx="650880" cy="71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74840" y="2492280"/>
                    <a:ext cx="65088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4572000" y="4653000"/>
          <a:ext cx="2303640" cy="80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0" y="4653000"/>
                    <a:ext cx="230364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250920" y="0"/>
            <a:ext cx="2555640" cy="907920"/>
          </a:xfrm>
          <a:prstGeom prst="cloudCallout">
            <a:avLst>
              <a:gd name="adj1" fmla="val -26458"/>
              <a:gd name="adj2" fmla="val 33041"/>
            </a:avLst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4360" y="189000"/>
            <a:ext cx="1584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行楷"/>
                <a:ea typeface="华文行楷"/>
              </a:rPr>
              <a:t>思 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900000" y="2565360"/>
            <a:ext cx="3097440" cy="503280"/>
            <a:chOff x="900000" y="2565360"/>
            <a:chExt cx="3097440" cy="503280"/>
          </a:xfrm>
        </p:grpSpPr>
        <p:sp>
          <p:nvSpPr>
            <p:cNvPr id="184" name=""/>
            <p:cNvSpPr/>
            <p:nvPr/>
          </p:nvSpPr>
          <p:spPr>
            <a:xfrm>
              <a:off x="900000" y="2565360"/>
              <a:ext cx="309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 3 )    ,  (           ) 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5" name=""/>
            <p:cNvGraphicFramePr/>
            <p:nvPr/>
          </p:nvGraphicFramePr>
          <p:xfrm>
            <a:off x="1476360" y="2637000"/>
            <a:ext cx="500040" cy="3603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476360" y="2637000"/>
                      <a:ext cx="50004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7" name=""/>
            <p:cNvGraphicFramePr/>
            <p:nvPr/>
          </p:nvGraphicFramePr>
          <p:xfrm>
            <a:off x="3348000" y="2637000"/>
            <a:ext cx="647640" cy="4316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88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3348000" y="2637000"/>
                      <a:ext cx="647640" cy="43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pull dir="ru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1T15:07:52Z</dcterms:created>
  <dc:creator>王新厂</dc:creator>
  <dc:description/>
  <dc:language>en-US</dc:language>
  <cp:lastModifiedBy>USER</cp:lastModifiedBy>
  <dcterms:modified xsi:type="dcterms:W3CDTF">2011-04-30T02:35:34Z</dcterms:modified>
  <cp:revision>94</cp:revision>
  <dc:subject/>
  <dc:title>等差数列</dc:title>
</cp:coreProperties>
</file>