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25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7DC-8617-488E-BA2F-12ECD06D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5F5-F7E1-4CA0-9707-548293D7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BF1-3832-4658-AC99-43FCF8A3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930-BCFE-435A-A8A5-2DC437CB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5D7-6DB8-4779-88E8-15CA64D2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7793-E9A8-4913-9A89-FD7AF7E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FB6E-2573-4E9C-B957-BBE2C1A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2724-FA31-4B9C-9AD1-0B899667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BD7E-452C-436E-9784-11D2616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E60D-63C6-4535-A702-A965C96A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FD37-D45D-4F20-B42D-8DF51A4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E8D-1070-4E61-9F38-90F1233B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26A-5C62-4B85-98DA-4D7DCE3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E10-084D-4DE4-AD88-1401B2A9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A2C5-951C-4DB0-BDE0-14D8AA74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E21-AA23-4C49-B6F0-51D4FE98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B367-A448-4A1B-ABAF-875B3798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92D60-D975-4A5C-8376-2E4B723E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18F0-B109-4DA5-8574-986B870D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0E61-BD88-4B64-A3E8-85CE7B11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2F2D-6EAF-4330-A6C2-2C71187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AC25-80A4-4332-BAAA-726E6CAD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62E-C9B5-40EF-8978-6166122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6E5F-09DE-4846-9945-7B18DF73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7089-DAAD-4A84-A0BE-C6970E1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AC57-378E-4DDC-BD4F-AAE931B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D781-3F92-424D-999B-2427BD8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6528-C54B-47A6-8BD6-98CCDAC9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DA74-E6ED-49EF-BB4A-7FD9947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98D7-D500-4B55-90DF-6C21935C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6E05-B6A4-44EC-AA4D-F4B954E9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2A0A-49A0-4B58-9888-B777889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839B-C1C4-4E23-87EF-EC1A6BF9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973-9BB4-460D-9B43-5F3F85FE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A7B6-5DCA-4138-9E61-9B74F09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B8DF-63FD-482E-A760-E9FD600C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87BF-1F5D-4C61-9712-B3DC661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BABD-2206-4A2A-AC61-D4D827CB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B754-D8D3-49C6-AB2F-66F6CD9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8D2E-4D01-4B4D-A4E7-411E73F4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A1E4-6765-48B4-933B-4A9498E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046E-15FC-4294-B931-948F5964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5872-DD58-4B68-BF27-68CCED60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1A8-D6BD-4651-8B10-CC27655F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76D-915F-465B-A57A-E689AAD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6C1-D9CC-428F-A433-B39AC295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F69-4E0D-4AE6-8D12-1F3665D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515-5E26-4586-AD7E-ADD89C7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715-80BF-44FE-807C-ACC36D31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AD62-F70B-41CF-8405-B5CA84304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5E73-1F23-42D5-9B59-8B6F3A6032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18EA-B3A7-4961-AB20-13F7B805206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1349280" y="1420920"/>
            <a:ext cx="64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5 </a:t>
            </a:r>
            <a:r>
              <a:rPr b="0" lang="zh-CN" sz="8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禹治水</a:t>
            </a:r>
            <a:endParaRPr b="0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9" descr=""/>
          <p:cNvPicPr/>
          <p:nvPr/>
        </p:nvPicPr>
        <p:blipFill>
          <a:blip r:embed="rId1"/>
          <a:stretch/>
        </p:blipFill>
        <p:spPr>
          <a:xfrm>
            <a:off x="92160" y="2205000"/>
            <a:ext cx="8959680" cy="3970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1403280" y="1773360"/>
            <a:ext cx="74167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形、形式、形体、形容、地形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知、通过、通行、交通、通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服、制造、制定、制度、节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、伟人、伟业、伟力、伟绩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24000" y="1773360"/>
            <a:ext cx="934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8" descr=""/>
          <p:cNvPicPr/>
          <p:nvPr/>
        </p:nvPicPr>
        <p:blipFill>
          <a:blip r:embed="rId1"/>
          <a:stretch/>
        </p:blipFill>
        <p:spPr>
          <a:xfrm>
            <a:off x="92160" y="1012680"/>
            <a:ext cx="8959680" cy="3970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250920" y="3506760"/>
            <a:ext cx="8424720" cy="30178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179280" y="134136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下面偏旁的名称，再按笔顺描红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beijing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1187280" y="971640"/>
            <a:ext cx="699624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滔 滔   洪 水   淹 没   害 人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 大   仔 细   劈 开   治 理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 导   感 激   制 服   房 屋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形   百 姓   英 雄   冲 倒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家可归   代代相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辛万苦   千山万水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539640" y="364500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淹没了农田，冲倒了房屋，害得老百姓无家可归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104120" y="4467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淹没了农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474440" y="4465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冲倒了房屋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3266280" y="5129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无家可归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054120" y="3776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滔滔的洪水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219320" y="5943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淹没了农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9" name="Picture 3" descr="20067201715282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6072840" y="333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倒了房屋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539640" y="364500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很久以前，滔滔的洪水淹没了农田，冲倒了房屋，害得老百姓无家可归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104120" y="4467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淹没了农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474440" y="4465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冲倒了房屋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66280" y="5129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无家可归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054120" y="3776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滔滔的洪水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708360" y="400536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禹下决心要治理洪水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3686040" y="400536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禹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决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治理洪水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吃尽了千辛万苦，走遍了千山万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，仔细地察看水流和地形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2" name="图片 1" descr=""/>
          <p:cNvPicPr/>
          <p:nvPr/>
        </p:nvPicPr>
        <p:blipFill>
          <a:blip r:embed="rId1"/>
          <a:stretch/>
        </p:blipFill>
        <p:spPr>
          <a:xfrm>
            <a:off x="1116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92160" y="2205000"/>
            <a:ext cx="8959680" cy="3970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627560" y="9619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到课题，你想说什么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28760" y="1735200"/>
            <a:ext cx="8286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大禹是什么人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为什么要治水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是怎样治水的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治水的结果怎样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吃尽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辛万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走遍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山万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仔细地察看水流和地形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图片 5" descr=""/>
          <p:cNvPicPr/>
          <p:nvPr/>
        </p:nvPicPr>
        <p:blipFill>
          <a:blip r:embed="rId1"/>
          <a:stretch/>
        </p:blipFill>
        <p:spPr>
          <a:xfrm>
            <a:off x="1116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gaoyuan"/>
          <p:cNvPicPr/>
          <p:nvPr/>
        </p:nvPicPr>
        <p:blipFill>
          <a:blip r:embed="rId1"/>
          <a:stretch/>
        </p:blipFill>
        <p:spPr>
          <a:xfrm>
            <a:off x="468360" y="3068640"/>
            <a:ext cx="3959280" cy="3097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haidao"/>
          <p:cNvPicPr/>
          <p:nvPr/>
        </p:nvPicPr>
        <p:blipFill>
          <a:blip r:embed="rId2"/>
          <a:stretch/>
        </p:blipFill>
        <p:spPr>
          <a:xfrm>
            <a:off x="4500720" y="260280"/>
            <a:ext cx="4174920" cy="273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jiangnan"/>
          <p:cNvPicPr/>
          <p:nvPr/>
        </p:nvPicPr>
        <p:blipFill>
          <a:blip r:embed="rId3"/>
          <a:stretch/>
        </p:blipFill>
        <p:spPr>
          <a:xfrm>
            <a:off x="468360" y="260280"/>
            <a:ext cx="3959280" cy="273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saibei"/>
          <p:cNvPicPr/>
          <p:nvPr/>
        </p:nvPicPr>
        <p:blipFill>
          <a:blip r:embed="rId4"/>
          <a:stretch/>
        </p:blipFill>
        <p:spPr>
          <a:xfrm>
            <a:off x="4500720" y="3068640"/>
            <a:ext cx="4174920" cy="3097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2411280" y="105264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千辛万苦千山万水 九座大山    九条大河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" descr=""/>
          <p:cNvPicPr/>
          <p:nvPr/>
        </p:nvPicPr>
        <p:blipFill>
          <a:blip r:embed="rId1"/>
          <a:stretch/>
        </p:blipFill>
        <p:spPr>
          <a:xfrm>
            <a:off x="90360" y="2276640"/>
            <a:ext cx="8961480" cy="3971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539640" y="1125360"/>
            <a:ext cx="8064720" cy="70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词语积累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山万水        千辛万苦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    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      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千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r>
              <a:rPr b="1" lang="zh-CN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万</a:t>
            </a:r>
            <a:r>
              <a:rPr b="1" lang="en-US" sz="44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( )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835280" y="3213000"/>
            <a:ext cx="6697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   语         家   户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军   马         秋   代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   确         差   别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12"/>
          <p:cNvPicPr/>
          <p:nvPr/>
        </p:nvPicPr>
        <p:blipFill>
          <a:blip r:embed="rId1"/>
          <a:stretch/>
        </p:blipFill>
        <p:spPr>
          <a:xfrm>
            <a:off x="71280" y="44280"/>
            <a:ext cx="8893440" cy="6742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5508720" y="476280"/>
            <a:ext cx="28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水  流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20081030211616831"/>
          <p:cNvPicPr/>
          <p:nvPr/>
        </p:nvPicPr>
        <p:blipFill>
          <a:blip r:embed="rId1"/>
          <a:stretch/>
        </p:blipFill>
        <p:spPr>
          <a:xfrm>
            <a:off x="108000" y="11736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635280" y="620640"/>
            <a:ext cx="357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地  形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　　　大禹在走遍千山万水的过程中，他会吃什么苦呢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WordArt 3" descr=""/>
          <p:cNvPicPr/>
          <p:nvPr/>
        </p:nvPicPr>
        <p:blipFill>
          <a:blip r:embed="rId1"/>
          <a:stretch/>
        </p:blipFill>
        <p:spPr>
          <a:xfrm>
            <a:off x="390600" y="731880"/>
            <a:ext cx="3767040" cy="14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8" descr=""/>
          <p:cNvPicPr/>
          <p:nvPr/>
        </p:nvPicPr>
        <p:blipFill>
          <a:blip r:embed="rId1"/>
          <a:stretch/>
        </p:blipFill>
        <p:spPr>
          <a:xfrm>
            <a:off x="90360" y="2276640"/>
            <a:ext cx="8961480" cy="3971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250920" y="175104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波涛汹涌中查看水流，一个巨浪迎面扑来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所带的干粮吃完了，他只能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高路陡，烈日炎炎，禹在艰难地攀爬峭壁，突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951840" y="765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想象说话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吃尽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辛万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走遍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山万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仔细地察看水流和地形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1" name="图片 5" descr=""/>
          <p:cNvPicPr/>
          <p:nvPr/>
        </p:nvPicPr>
        <p:blipFill>
          <a:blip r:embed="rId1"/>
          <a:stretch/>
        </p:blipFill>
        <p:spPr>
          <a:xfrm>
            <a:off x="1116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58920" y="620640"/>
            <a:ext cx="81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领老百姓挖通了九条大河，劈开了九座大山，引导洪水流入了大海。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94600" y="1541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九条大河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282360" y="15429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九座大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92840" y="2349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山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6" name="图片 1" descr=""/>
          <p:cNvPicPr/>
          <p:nvPr/>
        </p:nvPicPr>
        <p:blipFill>
          <a:blip r:embed="rId1"/>
          <a:stretch/>
        </p:blipFill>
        <p:spPr>
          <a:xfrm>
            <a:off x="4651200" y="3271680"/>
            <a:ext cx="449280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" descr="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带领老百姓挖通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条大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劈开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九座大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引导洪水流入了大海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9" descr=""/>
          <p:cNvPicPr/>
          <p:nvPr/>
        </p:nvPicPr>
        <p:blipFill>
          <a:blip r:embed="rId1"/>
          <a:stretch/>
        </p:blipFill>
        <p:spPr>
          <a:xfrm>
            <a:off x="93600" y="2887560"/>
            <a:ext cx="8961480" cy="3970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285840" y="83664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看课文，一边听朗读；想想刚才提出的问题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06360" y="2205000"/>
            <a:ext cx="489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大禹是什么人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为什么要治水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是怎样治水的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禹治水的结果怎样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0" name="16.大禹治水_app-320x240.mp4" descr=""/>
          <p:cNvPicPr/>
          <p:nvPr/>
        </p:nvPicPr>
        <p:blipFill>
          <a:blip r:embed="rId4"/>
          <a:stretch/>
        </p:blipFill>
        <p:spPr>
          <a:xfrm>
            <a:off x="8532720" y="6399360"/>
            <a:ext cx="61128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838080" y="3808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禹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决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治理洪水。他吃尽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辛万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走遍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山万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仔细地察看水流和地形。他带领老百姓挖通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大河，劈开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大山，引导洪水流入了大海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7"/>
          <p:cNvSpPr/>
          <p:nvPr/>
        </p:nvSpPr>
        <p:spPr>
          <a:xfrm>
            <a:off x="4335480" y="304920"/>
            <a:ext cx="4773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禹在外治水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3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年，曾经三次路过自己的家门，但他一次也没有进去看一看。禹的儿子十多岁了，还不知道父亲是个什么样子。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2" name="图片 1" descr=""/>
          <p:cNvPicPr/>
          <p:nvPr/>
        </p:nvPicPr>
        <p:blipFill>
          <a:blip r:embed="rId1"/>
          <a:stretch/>
        </p:blipFill>
        <p:spPr>
          <a:xfrm>
            <a:off x="-23760" y="123840"/>
            <a:ext cx="4462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4716360" y="176040"/>
            <a:ext cx="4535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禹在外治水</a:t>
            </a:r>
            <a:r>
              <a:rPr b="0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13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年，曾经</a:t>
            </a:r>
            <a:r>
              <a:rPr b="0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次路过自己的家门，但他</a:t>
            </a:r>
            <a:r>
              <a:rPr b="0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次也没有进去看一看禹的儿子</a:t>
            </a:r>
            <a:r>
              <a:rPr b="0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十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多岁了，还不知道父亲是个什么样子。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1"/>
          <a:stretch/>
        </p:blipFill>
        <p:spPr>
          <a:xfrm>
            <a:off x="0" y="123840"/>
            <a:ext cx="44625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曾经三次路过自己，但他一次也没有进去看一看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6" name="图片 5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曾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路过自己，但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次也没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去看一看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8" name="图片 5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4788000" y="29667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禹为什么三次路过自己的家门都不回去看一看，难道他不想自己的妻儿吗？如果是你，当你一年、二年见不到你的父母，你会怎么想？禹的儿子十三年见不到他的父亲，他幼小的心灵又会怎么想？有一天他再也忍不住了，跑去问娘，他会问些什么呢？面对儿子的提问娘又会怎样回答他呢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0" name="图片 5" descr=""/>
          <p:cNvPicPr/>
          <p:nvPr/>
        </p:nvPicPr>
        <p:blipFill>
          <a:blip r:embed="rId1"/>
          <a:stretch/>
        </p:blipFill>
        <p:spPr>
          <a:xfrm>
            <a:off x="0" y="123840"/>
            <a:ext cx="446256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7640" y="10414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禹在外治水（    ）年，曾经（    ）次路过自己的家门，但他（    ）次也没有进去看一看。禹的儿子（    ）多岁了，还不知道父亲是个什么样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5867280" y="90792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3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2627280" y="162864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三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780000" y="2421000"/>
            <a:ext cx="115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一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6804000" y="3141720"/>
            <a:ext cx="115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十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9" descr=""/>
          <p:cNvPicPr/>
          <p:nvPr/>
        </p:nvPicPr>
        <p:blipFill>
          <a:blip r:embed="rId1"/>
          <a:stretch/>
        </p:blipFill>
        <p:spPr>
          <a:xfrm>
            <a:off x="3240" y="387684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"/>
          <p:cNvSpPr/>
          <p:nvPr/>
        </p:nvSpPr>
        <p:spPr>
          <a:xfrm>
            <a:off x="1835280" y="692280"/>
            <a:ext cx="70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洪水被制服了，老百姓过上了安定的日子，大家非常感激这位治水的伟大英雄。从此，大禹的名字代代相传。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4845240" y="80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被制服了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896000" y="15969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安定的日子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202480" y="30654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大英雄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900520" y="380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代代相传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dy02"/>
          <p:cNvPicPr/>
          <p:nvPr/>
        </p:nvPicPr>
        <p:blipFill>
          <a:blip r:embed="rId1"/>
          <a:stretch/>
        </p:blipFill>
        <p:spPr>
          <a:xfrm>
            <a:off x="4465800" y="333360"/>
            <a:ext cx="4643280" cy="6453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dy01"/>
          <p:cNvPicPr/>
          <p:nvPr/>
        </p:nvPicPr>
        <p:blipFill>
          <a:blip r:embed="rId2"/>
          <a:stretch/>
        </p:blipFill>
        <p:spPr>
          <a:xfrm>
            <a:off x="144360" y="333360"/>
            <a:ext cx="42260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想一想：</a:t>
            </a: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治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和 </a:t>
            </a: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制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怎么区分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411280" y="1628640"/>
          <a:ext cx="3827520" cy="3918240"/>
        </p:xfrm>
        <a:graphic>
          <a:graphicData uri="http://schemas.openxmlformats.org/drawingml/2006/table">
            <a:tbl>
              <a:tblPr/>
              <a:tblGrid>
                <a:gridCol w="1852920"/>
                <a:gridCol w="1974600"/>
              </a:tblGrid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WordArt 14" descr=""/>
          <p:cNvPicPr/>
          <p:nvPr/>
        </p:nvPicPr>
        <p:blipFill>
          <a:blip r:embed="rId1"/>
          <a:stretch/>
        </p:blipFill>
        <p:spPr>
          <a:xfrm>
            <a:off x="2755800" y="2048040"/>
            <a:ext cx="3084480" cy="31525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6"/>
          <p:cNvSpPr/>
          <p:nvPr/>
        </p:nvSpPr>
        <p:spPr>
          <a:xfrm>
            <a:off x="25092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（氵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429240" y="126216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洪水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服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没有水（无“氵”）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8" descr=""/>
          <p:cNvPicPr/>
          <p:nvPr/>
        </p:nvPicPr>
        <p:blipFill>
          <a:blip r:embed="rId1"/>
          <a:stretch/>
        </p:blipFill>
        <p:spPr>
          <a:xfrm>
            <a:off x="0" y="2798640"/>
            <a:ext cx="8961480" cy="397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539640" y="22654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，长句子或难读的句子多读几遍，做到不错读，不漏读，不重读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" descr=""/>
          <p:cNvPicPr/>
          <p:nvPr/>
        </p:nvPicPr>
        <p:blipFill>
          <a:blip r:embed="rId1"/>
          <a:stretch/>
        </p:blipFill>
        <p:spPr>
          <a:xfrm>
            <a:off x="3240" y="387684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-11160" y="189000"/>
            <a:ext cx="9252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后作业</a:t>
            </a:r>
            <a:r>
              <a:rPr b="0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今天学的故事讲给父母或好朋友听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国家的历史上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大禹治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样的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神话故事还有很多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愚公移山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夸父逐日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可以找相关的故事来读读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2214360" y="3286080"/>
            <a:ext cx="52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易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ownyi.com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609480" y="228600"/>
            <a:ext cx="7880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āo tāo     hó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ǐ      yān mò       hài ré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滔  滔   洪  水    淹 没   害 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ěi dà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ǐ  xì         pī kāi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ì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 大    仔 细    劈 开    治 理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ǐ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dǎo       gǎn  jī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ì fú         fáng w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 导     感 激    制 服   房 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ì  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í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bǎi  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ì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ī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xióng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形    百 姓      英  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ú jiā kě guī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ōng  dǎo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 家可 归   冲  倒 </a:t>
            </a:r>
            <a:br>
              <a:rPr sz="3600"/>
            </a:b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0" y="2741760"/>
            <a:ext cx="8961480" cy="3971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179280" y="9079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249120" y="1700280"/>
            <a:ext cx="86439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以前  滔滔的洪水  淹没 治理  冲倒  察看  带领  挖通  引导  劈开  知道  制服  感激   </a:t>
            </a:r>
            <a:endParaRPr b="0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辛万苦  走遍  千山万水   农田  房屋  地形  父亲  曾经  无家可归  决心 老百姓  仔细 </a:t>
            </a:r>
            <a:endParaRPr b="0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  英雄  代代相传  从此</a:t>
            </a:r>
            <a:endParaRPr b="0" lang="en-US" sz="4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9" descr=""/>
          <p:cNvPicPr/>
          <p:nvPr/>
        </p:nvPicPr>
        <p:blipFill>
          <a:blip r:embed="rId1"/>
          <a:stretch/>
        </p:blipFill>
        <p:spPr>
          <a:xfrm>
            <a:off x="92160" y="2205000"/>
            <a:ext cx="8959680" cy="3970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250920" y="13478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大禹带领百姓开山挖河，三过家门而不入，儿子十多岁没见过父亲，老百姓过上安定日子，世代不忘大禹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27" descr=""/>
          <p:cNvPicPr/>
          <p:nvPr/>
        </p:nvPicPr>
        <p:blipFill>
          <a:blip r:embed="rId1"/>
          <a:stretch/>
        </p:blipFill>
        <p:spPr>
          <a:xfrm>
            <a:off x="52560" y="2757600"/>
            <a:ext cx="8961120" cy="397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214200" y="19368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210960" y="765000"/>
            <a:ext cx="86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生字，注意每一笔在田字格里的位置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1584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矩形 12"/>
          <p:cNvSpPr/>
          <p:nvPr/>
        </p:nvSpPr>
        <p:spPr>
          <a:xfrm>
            <a:off x="108900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508200" y="155592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矩形 12"/>
          <p:cNvSpPr/>
          <p:nvPr/>
        </p:nvSpPr>
        <p:spPr>
          <a:xfrm>
            <a:off x="3681360" y="14842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72200" y="1569960"/>
          <a:ext cx="1711440" cy="149868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矩形 12"/>
          <p:cNvSpPr/>
          <p:nvPr/>
        </p:nvSpPr>
        <p:spPr>
          <a:xfrm>
            <a:off x="6345360" y="149868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71640" y="344340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矩形 12"/>
          <p:cNvSpPr/>
          <p:nvPr/>
        </p:nvSpPr>
        <p:spPr>
          <a:xfrm>
            <a:off x="1144440" y="3371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564000" y="3429000"/>
          <a:ext cx="171144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矩形 12"/>
          <p:cNvSpPr/>
          <p:nvPr/>
        </p:nvSpPr>
        <p:spPr>
          <a:xfrm>
            <a:off x="3736800" y="33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227640" y="3443400"/>
          <a:ext cx="1711440" cy="1498320"/>
        </p:xfrm>
        <a:graphic>
          <a:graphicData uri="http://schemas.openxmlformats.org/drawingml/2006/table">
            <a:tbl>
              <a:tblPr/>
              <a:tblGrid>
                <a:gridCol w="8352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矩形 12"/>
          <p:cNvSpPr/>
          <p:nvPr/>
        </p:nvSpPr>
        <p:spPr>
          <a:xfrm>
            <a:off x="6400800" y="3371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5243400"/>
          <a:ext cx="1711080" cy="149868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矩形 12"/>
          <p:cNvSpPr/>
          <p:nvPr/>
        </p:nvSpPr>
        <p:spPr>
          <a:xfrm>
            <a:off x="496800" y="51721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56000" y="5229360"/>
          <a:ext cx="1711080" cy="1498320"/>
        </p:xfrm>
        <a:graphic>
          <a:graphicData uri="http://schemas.openxmlformats.org/drawingml/2006/table">
            <a:tbl>
              <a:tblPr/>
              <a:tblGrid>
                <a:gridCol w="83484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12"/>
          <p:cNvSpPr/>
          <p:nvPr/>
        </p:nvSpPr>
        <p:spPr>
          <a:xfrm>
            <a:off x="2728800" y="51577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32360" y="5243400"/>
          <a:ext cx="1655640" cy="1498680"/>
        </p:xfrm>
        <a:graphic>
          <a:graphicData uri="http://schemas.openxmlformats.org/drawingml/2006/table">
            <a:tbl>
              <a:tblPr/>
              <a:tblGrid>
                <a:gridCol w="779400"/>
                <a:gridCol w="87624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矩形 12"/>
          <p:cNvSpPr/>
          <p:nvPr/>
        </p:nvSpPr>
        <p:spPr>
          <a:xfrm>
            <a:off x="5049720" y="51721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姓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8" name="Picture 113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093080" y="5229360"/>
          <a:ext cx="1655640" cy="1498320"/>
        </p:xfrm>
        <a:graphic>
          <a:graphicData uri="http://schemas.openxmlformats.org/drawingml/2006/table">
            <a:tbl>
              <a:tblPr/>
              <a:tblGrid>
                <a:gridCol w="779400"/>
                <a:gridCol w="8762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矩形 12"/>
          <p:cNvSpPr/>
          <p:nvPr/>
        </p:nvSpPr>
        <p:spPr>
          <a:xfrm>
            <a:off x="7210440" y="51577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9" descr=""/>
          <p:cNvPicPr/>
          <p:nvPr/>
        </p:nvPicPr>
        <p:blipFill>
          <a:blip r:embed="rId1"/>
          <a:stretch/>
        </p:blipFill>
        <p:spPr>
          <a:xfrm>
            <a:off x="92160" y="2205000"/>
            <a:ext cx="8959680" cy="397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2540160" cy="571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357120" y="66996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扩词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403280" y="1773360"/>
            <a:ext cx="74167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理、治病、治家、治本、自治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洪亮、洪水、洪大、山洪、分洪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虫、害人、害处、害眼、遇害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姓名、百姓、贵姓、李姓、姓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由、讲理、说理、理发、条理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24000" y="1773360"/>
            <a:ext cx="9349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洪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姓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3"/>
          <a:stretch/>
        </p:blipFill>
        <p:spPr>
          <a:xfrm>
            <a:off x="2771640" y="44280"/>
            <a:ext cx="19447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1:16:24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7T03:52:18Z</dcterms:modified>
  <cp:revision>102</cp:revision>
  <dc:subject>第一PPT模板网-WWW.1PPT.COM</dc:subject>
  <dc:title>第一PPT模板网-WWW.1PPT.COM</dc:title>
</cp:coreProperties>
</file>