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779-3B65-4881-BB44-B2A78350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895-B80C-4D5D-AFBC-2EE4CBBF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E5D-EE06-491A-8A96-6300C715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FC1-5F85-4D0F-8918-63FB0F89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7C8B-DA78-4ECD-9954-1BB1A173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03B1-2F46-44FE-B09A-38279214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7741-B157-498D-B247-F32F9999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B296-BE79-487E-B97B-B28BA437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8D39-2922-4FC9-B3DB-34DA2FA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4150-73D3-4639-BD3E-1F3A2D2D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9B16-7600-475B-8A62-E5894AEE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023-5ED7-4B4D-92A1-35CB2FD3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2C3F-4180-480F-911D-D2593DF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49F8-7296-4CD7-BDCD-A1D998B3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4245-2DBC-4D74-83E4-3B052E5A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A0F3-E371-49DE-A95E-632692C0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6AA2-ED17-42E0-925C-63E4B041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D414-3EB2-4F70-BF16-A42560CC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2042-D7C9-4C6F-A51A-6E68290F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4E87-23BE-49E6-91BF-47F4507E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CF9C-1D28-4387-A6B8-45973306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B7E7-37CA-40AF-9B8F-7298D12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91A-E332-4002-9414-02C588F8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8C58-7080-4FA6-97C3-81184BF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6F63-AD87-41EE-9459-6A5483C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CA06-3D1A-4316-99B0-92BBC104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D6D7-2863-4F07-87A9-E60A3ACD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0B2F-5BB9-4D6A-8A73-A9E2F45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6D2D-63F9-45E4-A3E4-717DA6F1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4980-E8D7-437E-83C2-9F75173F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38D-6959-4DFE-9662-63798B8F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999-D89C-4481-8712-429BCDD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EBA-EA54-49F2-8D92-782B35FA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E61-A146-41F8-BDFE-AC6AD23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824-CE1E-4122-9D26-B2E4CBCA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422-A2BA-496E-8EE4-241A3419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03A1-D32D-4112-B376-7F597251A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2315-1E9C-4D4E-ABCA-FC755785DA2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E880-E45B-44F4-BE51-AF8534C26CF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6047" r="0" b="101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5805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356000" y="5805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148360" y="5805360"/>
            <a:ext cx="647640" cy="600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156360" y="5805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77080" y="5805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8317080" y="5805360"/>
            <a:ext cx="512640" cy="51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7596360" y="5805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461040" y="3048120"/>
            <a:ext cx="34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不但知道了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羡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意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而且我还会用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羡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羡慕——，因为—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762120"/>
            <a:ext cx="2666880" cy="1066680"/>
          </a:xfrm>
          <a:prstGeom prst="cloudCallout">
            <a:avLst>
              <a:gd name="adj1" fmla="val -90953"/>
              <a:gd name="adj2" fmla="val 152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7" descr=""/>
          <p:cNvPicPr/>
          <p:nvPr/>
        </p:nvPicPr>
        <p:blipFill>
          <a:blip r:embed="rId1"/>
          <a:srcRect l="10084" t="6841" r="0" b="100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260280"/>
            <a:ext cx="63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越来越冷，湖面结了厚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冰。丑小鸭趴在冰上冻僵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幸亏一位农夫看见了，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3640" y="3573360"/>
            <a:ext cx="252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果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刻你就在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身边，你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怎么说，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308720" y="145080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5943600" cy="44956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天，丑小鸭出来散步，看见丁香开花了，知道春天来了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他扑扑翅膀，向湖边飞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忽然看见镜子似的湖面上，映出一个漂亮的影子，雪白的羽毛，长长的脖子，美丽极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难道是自己的影子？啊，原来我不是丑小鸭，是一只漂亮的天鹅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715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丑小鸭变成了一只（    ）的白天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195640" y="1143000"/>
            <a:ext cx="64008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丑小鸭子说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丑小鸭的哥哥、姐姐说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农夫说———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对猎狗和小鸟说——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对养鸭小姑娘说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同学说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308720" y="5013360"/>
            <a:ext cx="1513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90920" y="1752480"/>
            <a:ext cx="710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安徒生是一百多年前的丹麦人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他是世界著名的童话作家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&lt;&lt;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卖火柴的小女孩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&gt;&gt;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&lt;&lt;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的女儿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&gt;&gt;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&lt;&lt;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皇帝的新装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&gt;&gt;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&lt;&lt;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拇指姑娘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&gt;&gt;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等都是他写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380880"/>
            <a:ext cx="2133720" cy="990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安徒生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9829800" cy="6856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055600" y="373392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丑小鸭的故事讲给爸爸妈妈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990720"/>
            <a:ext cx="266688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作业自选超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21840" y="2286000"/>
            <a:ext cx="186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丑小鸭变成白天鹅后，又会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精彩的故事呢？试着写一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28954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欺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9920" y="28195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篱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76212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剩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7080" y="289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芦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2819520"/>
            <a:ext cx="15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讥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762120"/>
            <a:ext cx="137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裂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838080"/>
            <a:ext cx="13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卧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762120"/>
            <a:ext cx="20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暖烘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752480" cy="1544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1752840" cy="1544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1752480" cy="1544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010280" y="457200"/>
            <a:ext cx="1752840" cy="1544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" y="2427120"/>
            <a:ext cx="1828800" cy="161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676520" cy="1478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5105520" y="2514600"/>
            <a:ext cx="1670040" cy="1471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7010280" y="2362320"/>
            <a:ext cx="1752840" cy="154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64880" y="4800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孤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98600" y="4724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讨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6000" y="4648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冻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3400" y="4648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幸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533520" y="4419720"/>
            <a:ext cx="1752480" cy="1544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2895480" y="4343400"/>
            <a:ext cx="1752840" cy="1544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1"/>
          <a:stretch/>
        </p:blipFill>
        <p:spPr>
          <a:xfrm>
            <a:off x="4952880" y="4343400"/>
            <a:ext cx="1752840" cy="1544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2"/>
          <a:stretch/>
        </p:blipFill>
        <p:spPr>
          <a:xfrm>
            <a:off x="6934320" y="4267080"/>
            <a:ext cx="1752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32280" y="253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1523880"/>
            <a:ext cx="67816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、听课文朗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、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课文主要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16002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301"/>
                </a:moveTo>
                <a:lnTo>
                  <a:pt x="7411" y="7301"/>
                </a:lnTo>
                <a:lnTo>
                  <a:pt x="7794" y="7667"/>
                </a:lnTo>
                <a:lnTo>
                  <a:pt x="17002" y="7667"/>
                </a:lnTo>
                <a:lnTo>
                  <a:pt x="17559" y="8224"/>
                </a:lnTo>
                <a:lnTo>
                  <a:pt x="17559" y="8772"/>
                </a:lnTo>
                <a:lnTo>
                  <a:pt x="19404" y="8772"/>
                </a:lnTo>
                <a:lnTo>
                  <a:pt x="19770" y="8224"/>
                </a:lnTo>
                <a:lnTo>
                  <a:pt x="20510" y="8224"/>
                </a:lnTo>
                <a:lnTo>
                  <a:pt x="20510" y="13376"/>
                </a:lnTo>
                <a:lnTo>
                  <a:pt x="19770" y="13376"/>
                </a:lnTo>
                <a:lnTo>
                  <a:pt x="19404" y="12828"/>
                </a:lnTo>
                <a:lnTo>
                  <a:pt x="17559" y="12828"/>
                </a:lnTo>
                <a:lnTo>
                  <a:pt x="17559" y="14107"/>
                </a:lnTo>
                <a:lnTo>
                  <a:pt x="7976" y="14107"/>
                </a:lnTo>
                <a:lnTo>
                  <a:pt x="7976" y="9877"/>
                </a:lnTo>
                <a:lnTo>
                  <a:pt x="7794" y="9877"/>
                </a:lnTo>
                <a:lnTo>
                  <a:pt x="7411" y="10243"/>
                </a:lnTo>
                <a:lnTo>
                  <a:pt x="64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24379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42600" y="2085840"/>
            <a:ext cx="32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默读课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段并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27480" y="327672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鸭妈妈在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7560" y="4343400"/>
            <a:ext cx="34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画出描写丑小鸭模样的句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685800"/>
            <a:ext cx="2743200" cy="12193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导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24201" r="24385" b="0"/>
          <a:stretch/>
        </p:blipFill>
        <p:spPr>
          <a:xfrm>
            <a:off x="-1219320" y="-762120"/>
            <a:ext cx="10363320" cy="76201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172200" y="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的毛灰灰的，嘴巴大大的，身子瘦瘦的，大家都叫它“丑小鸭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8380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哥哥、姐姐咬他，公鸡啄他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连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养鸭的小姑娘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讨厌他。丑小鸭感到非常孤单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钻出篱笆，离开了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3414600" cy="3657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3505320" cy="3657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33720" y="3809880"/>
            <a:ext cx="4419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2560" cy="3733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8080" y="3838680"/>
            <a:ext cx="7848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丑小鸭来到树林里，小鸟讥笑他，猎狗追赶他。他白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起来，到了晚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敢出来找吃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4648320"/>
            <a:ext cx="91440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到了，树叶黄了，丑小鸭来到湖边的芦苇里，悄悄地过日子。一天傍晚，一群天鹅从空中飞过。  丑小鸭望着洁白美丽的天鹅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又惊奇又羡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999宝藏网</cp:lastModifiedBy>
  <dcterms:modified xsi:type="dcterms:W3CDTF">2012-04-04T03:58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