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9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4.png" ContentType="image/png"/>
  <Override PartName="/ppt/media/image11.jpeg" ContentType="image/jpeg"/>
  <Override PartName="/ppt/media/image10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12.jpeg" ContentType="image/jpeg"/>
  <Override PartName="/ppt/media/image43.gif" ContentType="image/gif"/>
  <Override PartName="/ppt/media/image34.jpeg" ContentType="image/jpeg"/>
  <Override PartName="/ppt/media/image44.gif" ContentType="image/gif"/>
  <Override PartName="/ppt/media/image7.png" ContentType="image/png"/>
  <Override PartName="/ppt/media/image22.jpeg" ContentType="image/jpeg"/>
  <Override PartName="/ppt/media/image9.gif" ContentType="image/gif"/>
  <Override PartName="/ppt/media/image16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924-8AEE-4790-A44B-7040524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95A-28C1-4FE2-86D0-9469017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C0A-D046-42A1-96F1-EFA2E433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125-58C3-418F-B204-702FD4A7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79C-B239-4A2A-8DE8-FC706814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454-D88F-4BED-BE85-0CFF14F9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2AF1-DAF9-4B5D-8103-0CD7453F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A7AC-9681-4D93-B55E-891B0236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D277-C453-4F32-AC75-EEB0748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2796-2BAD-45EA-93C7-5C8AA7CF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672-039D-4A11-8C18-34160E07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6EF-DF7D-4F0D-91CE-45346525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A2A5-1BC6-4176-A1F9-10CC83F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524-B3B4-4061-8020-7C08B82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F8C-DA86-4800-BB24-B81597E3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945F-C3B7-4FC7-B1BA-05BB6AD7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2349-C654-40A6-A5BB-DD34F8E5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01F-E9B8-4571-B9B8-CE49FCA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E9F-B2FD-439C-94D1-C194E2A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6CA-ADB7-4BFB-83A7-521517E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426-0348-4244-8FFB-3B23BF49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2D6-C4FD-478F-AC90-8444D51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BBC-E9CB-4E8E-BA78-497C2C9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051-F4E8-4A0B-9398-1D19DF0E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D412-1BA9-4A2B-BEFF-9586F52B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CC0-B470-49C4-9B4E-278F99F92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6446;&#29618;&#29577;%20-%20&#22826;&#38451;&#26368;&#32418;&#27611;&#20027;&#24109;&#26368;&#20146;.mp3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sina.com.cn/s/2004-02-03/02091696829s.s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image" Target="../media/image29.gif"/><Relationship Id="rId24" Type="http://schemas.openxmlformats.org/officeDocument/2006/relationships/image" Target="../media/image29.gif"/><Relationship Id="rId25" Type="http://schemas.openxmlformats.org/officeDocument/2006/relationships/image" Target="../media/image29.gif"/><Relationship Id="rId26" Type="http://schemas.openxmlformats.org/officeDocument/2006/relationships/image" Target="../media/image29.gif"/><Relationship Id="rId27" Type="http://schemas.openxmlformats.org/officeDocument/2006/relationships/image" Target="../media/image29.gif"/><Relationship Id="rId28" Type="http://schemas.openxmlformats.org/officeDocument/2006/relationships/image" Target="../media/image29.gif"/><Relationship Id="rId29" Type="http://schemas.openxmlformats.org/officeDocument/2006/relationships/image" Target="../media/image29.gif"/><Relationship Id="rId30" Type="http://schemas.openxmlformats.org/officeDocument/2006/relationships/image" Target="../media/image29.gif"/><Relationship Id="rId31" Type="http://schemas.openxmlformats.org/officeDocument/2006/relationships/image" Target="../media/image29.gif"/><Relationship Id="rId32" Type="http://schemas.openxmlformats.org/officeDocument/2006/relationships/image" Target="../media/image29.gif"/><Relationship Id="rId33" Type="http://schemas.openxmlformats.org/officeDocument/2006/relationships/image" Target="../media/image29.gif"/><Relationship Id="rId34" Type="http://schemas.openxmlformats.org/officeDocument/2006/relationships/image" Target="../media/image29.gif"/><Relationship Id="rId35" Type="http://schemas.openxmlformats.org/officeDocument/2006/relationships/image" Target="../media/image29.gif"/><Relationship Id="rId36" Type="http://schemas.openxmlformats.org/officeDocument/2006/relationships/image" Target="../media/image29.gif"/><Relationship Id="rId37" Type="http://schemas.openxmlformats.org/officeDocument/2006/relationships/image" Target="../media/image29.gif"/><Relationship Id="rId38" Type="http://schemas.openxmlformats.org/officeDocument/2006/relationships/image" Target="../media/image29.gif"/><Relationship Id="rId39" Type="http://schemas.openxmlformats.org/officeDocument/2006/relationships/image" Target="../media/image29.gif"/><Relationship Id="rId40" Type="http://schemas.openxmlformats.org/officeDocument/2006/relationships/image" Target="../media/image29.gif"/><Relationship Id="rId41" Type="http://schemas.openxmlformats.org/officeDocument/2006/relationships/image" Target="../media/image29.gif"/><Relationship Id="rId42" Type="http://schemas.openxmlformats.org/officeDocument/2006/relationships/image" Target="../media/image29.gif"/><Relationship Id="rId43" Type="http://schemas.openxmlformats.org/officeDocument/2006/relationships/image" Target="../media/image29.gif"/><Relationship Id="rId44" Type="http://schemas.openxmlformats.org/officeDocument/2006/relationships/image" Target="../media/image29.gif"/><Relationship Id="rId45" Type="http://schemas.openxmlformats.org/officeDocument/2006/relationships/image" Target="../media/image29.gif"/><Relationship Id="rId46" Type="http://schemas.openxmlformats.org/officeDocument/2006/relationships/image" Target="../media/image29.gif"/><Relationship Id="rId47" Type="http://schemas.openxmlformats.org/officeDocument/2006/relationships/image" Target="../media/image29.gif"/><Relationship Id="rId48" Type="http://schemas.openxmlformats.org/officeDocument/2006/relationships/image" Target="../media/image29.gif"/><Relationship Id="rId49" Type="http://schemas.openxmlformats.org/officeDocument/2006/relationships/image" Target="../media/image29.gif"/><Relationship Id="rId50" Type="http://schemas.openxmlformats.org/officeDocument/2006/relationships/image" Target="../media/image29.gif"/><Relationship Id="rId51" Type="http://schemas.openxmlformats.org/officeDocument/2006/relationships/image" Target="../media/image29.gif"/><Relationship Id="rId52" Type="http://schemas.openxmlformats.org/officeDocument/2006/relationships/image" Target="../media/image29.gif"/><Relationship Id="rId53" Type="http://schemas.openxmlformats.org/officeDocument/2006/relationships/image" Target="../media/image30.png"/><Relationship Id="rId5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cshooter.com/photos/special/0003/00000151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ths.cn/chinese/xuzhimo/&#24464;&#24535;&#25705;/xiangguanneirong/q4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4916143226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066680" y="228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9</a:t>
            </a:r>
            <a:r>
              <a:rPr b="1" lang="zh-CN" sz="4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、吃水不忘挖井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识字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 在生活中遇到不认识的字要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扮演小老师领读生字，并说说读、记这些字时应该注意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92自选商场"/>
          <p:cNvPicPr/>
          <p:nvPr/>
        </p:nvPicPr>
        <p:blipFill>
          <a:blip r:embed="rId1"/>
          <a:srcRect l="0" t="11168" r="0" b="5057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68360" y="1052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ī  shuǐ  bú  wàng  wā  jǐng  rén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吃     水    不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挖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4000" y="2276640"/>
            <a:ext cx="320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áo  zhǔ   x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毛    主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席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4292640"/>
            <a:ext cx="21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àn shì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战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9640" y="54936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拼，我会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564000" y="2276640"/>
            <a:ext cx="252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ǐng  dǎ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领   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940360" y="2205000"/>
            <a:ext cx="252108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é  mì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革     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700360" y="4292640"/>
            <a:ext cx="194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ě fà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解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572000" y="422100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í k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时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227640" y="4221000"/>
            <a:ext cx="2521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ǎng nià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想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403280" y="98100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6836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连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700280"/>
            <a:ext cx="6985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忘      挖     井      席      导    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ā  jǐng  wàng niàn   jiě   kè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命      战     士     解       刻     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9640" y="3645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é  mì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348000" y="3645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ǎ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í  zhàn   shì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1619280" y="4292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52280" y="1371600"/>
            <a:ext cx="899172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īn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ā  zhō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m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zh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xí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ǐ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ǎ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ě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uǎn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hì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iāng   qī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yǐ    h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bēi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iǎng   n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1752480"/>
            <a:ext cx="92962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瑞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沙洲</a:t>
            </a:r>
            <a:r>
              <a:rPr b="1" lang="zh-CN" sz="5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毛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主</a:t>
            </a:r>
            <a:r>
              <a:rPr b="1" lang="zh-CN" sz="5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领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   战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士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碑    想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 Black"/>
              </a:rPr>
              <a:t>朗读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调皮的生字宝宝跑回课文中去了，你还认识他们吗？请你练习读一读课文吧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自由朗读全文，注意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476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 会 认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627280" y="1197000"/>
            <a:ext cx="5256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忘    挖   井    席    战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士    刻   念    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GL_026"/>
          <p:cNvPicPr/>
          <p:nvPr/>
        </p:nvPicPr>
        <p:blipFill>
          <a:blip r:embed="rId2"/>
          <a:stretch/>
        </p:blipFill>
        <p:spPr>
          <a:xfrm>
            <a:off x="611280" y="549360"/>
            <a:ext cx="552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>
            <a:hlinkClick r:id="rId1" action="ppaction://hlinksldjump"/>
          </p:cNvPr>
          <p:cNvSpPr/>
          <p:nvPr/>
        </p:nvSpPr>
        <p:spPr>
          <a:xfrm>
            <a:off x="7740720" y="595008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认读词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549360"/>
            <a:ext cx="81532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不忘 挖井人 瑞金城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叫沙洲坝 领导 毛主席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很远 战士 以后 乡亲们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革命  解放  时刻  想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石碑  时候  挑水  带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08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想一想：本文讲了一件什么事？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讲述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，毛主席在江西革命时，看到乡亲们吃水困难，带领战士和乡亲们挖了一口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979640" y="1773360"/>
            <a:ext cx="630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瑞金城外有个小村子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沙洲坝。毛主席在江西领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革命的时候，就在那儿住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148360" y="234936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02360" y="1052640"/>
            <a:ext cx="722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瑞金城外有个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村子叫沙洲坝。毛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席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在江西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时候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就在那儿住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898560"/>
            <a:ext cx="74674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 Black"/>
                <a:hlinkClick r:id="rId1"/>
              </a:rPr>
              <a:t>谈话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播放歌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阳最红毛主席最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说说你都听到了什么？你知道毛主席是什么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02360" y="1052640"/>
            <a:ext cx="722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瑞金城外有个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村子叫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沙洲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。毛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席在江西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时候，就在那儿住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00552492550734"/>
          <p:cNvPicPr/>
          <p:nvPr/>
        </p:nvPicPr>
        <p:blipFill>
          <a:blip r:embed="rId1"/>
          <a:stretch/>
        </p:blipFill>
        <p:spPr>
          <a:xfrm>
            <a:off x="3962520" y="3276720"/>
            <a:ext cx="4647960" cy="30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l5"/>
          <p:cNvPicPr/>
          <p:nvPr/>
        </p:nvPicPr>
        <p:blipFill>
          <a:blip r:embed="rId2"/>
          <a:stretch/>
        </p:blipFill>
        <p:spPr>
          <a:xfrm>
            <a:off x="304920" y="380880"/>
            <a:ext cx="4800600" cy="3124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867280" y="1157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瑞金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38080" y="443376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沙洲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02360" y="1052640"/>
            <a:ext cx="722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瑞金城外有个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村子叫沙洲坝。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毛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在江西领导革命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时候，就在那儿住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673600" y="522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57200" y="868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1855800"/>
            <a:ext cx="374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毛泽东，湖南湘潭人。生于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8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，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去世。他一生为中国人民的解放，为祖国的繁荣富强而奋斗，他是中国人民深深热爱的伟大领袖，中国人民将永远怀念他。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14-01"/>
          <p:cNvPicPr/>
          <p:nvPr/>
        </p:nvPicPr>
        <p:blipFill>
          <a:blip r:embed="rId1"/>
          <a:stretch/>
        </p:blipFill>
        <p:spPr>
          <a:xfrm>
            <a:off x="4879800" y="1143000"/>
            <a:ext cx="334980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434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80"/>
                </a:solidFill>
                <a:latin typeface="Arial Black"/>
              </a:rPr>
              <a:t>青年毛泽东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4d3eecf25b23dc76342acc6f"/>
          <p:cNvPicPr/>
          <p:nvPr/>
        </p:nvPicPr>
        <p:blipFill>
          <a:blip r:embed="rId1"/>
          <a:stretch/>
        </p:blipFill>
        <p:spPr>
          <a:xfrm>
            <a:off x="2195640" y="1484280"/>
            <a:ext cx="341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901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红军时期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d4f67ec3653afd0b3fb9521"/>
          <p:cNvPicPr/>
          <p:nvPr/>
        </p:nvPicPr>
        <p:blipFill>
          <a:blip r:embed="rId1"/>
          <a:stretch/>
        </p:blipFill>
        <p:spPr>
          <a:xfrm>
            <a:off x="2050920" y="1268280"/>
            <a:ext cx="381636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2003112009454500000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57200" y="1676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7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毛泽东在延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66960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8080"/>
                </a:solidFill>
                <a:latin typeface="Arial Black"/>
              </a:rPr>
              <a:t>1949</a:t>
            </a: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年开国大典时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9fb9a2a105b2d3a3461064e1"/>
          <p:cNvPicPr/>
          <p:nvPr/>
        </p:nvPicPr>
        <p:blipFill>
          <a:blip r:embed="rId1"/>
          <a:stretch/>
        </p:blipFill>
        <p:spPr>
          <a:xfrm>
            <a:off x="2268360" y="1457280"/>
            <a:ext cx="400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5061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Arial Black"/>
              </a:rPr>
              <a:t>解放后的毛主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f247d28264621bfc9123d9a4"/>
          <p:cNvPicPr/>
          <p:nvPr/>
        </p:nvPicPr>
        <p:blipFill>
          <a:blip r:embed="rId1"/>
          <a:stretch/>
        </p:blipFill>
        <p:spPr>
          <a:xfrm>
            <a:off x="1979640" y="1484280"/>
            <a:ext cx="404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65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80"/>
                </a:solidFill>
                <a:latin typeface="Arial Black"/>
              </a:rPr>
              <a:t>毛主席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009759_1230675782JHW3"/>
          <p:cNvPicPr/>
          <p:nvPr/>
        </p:nvPicPr>
        <p:blipFill>
          <a:blip r:embed="rId1"/>
          <a:stretch/>
        </p:blipFill>
        <p:spPr>
          <a:xfrm>
            <a:off x="2340000" y="1844640"/>
            <a:ext cx="3154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69-3"/>
          <p:cNvPicPr/>
          <p:nvPr/>
        </p:nvPicPr>
        <p:blipFill>
          <a:blip r:embed="rId1"/>
          <a:stretch/>
        </p:blipFill>
        <p:spPr>
          <a:xfrm>
            <a:off x="0" y="-152280"/>
            <a:ext cx="9448920" cy="70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-152280" y="1219320"/>
            <a:ext cx="944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城外有个小村子叫（     ）。（     ）在江西（       ）的时候，就在那儿住过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12193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瑞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21337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沙洲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219320" y="304812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领导革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648320" y="2133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毛主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058760" y="299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很远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带领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很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带领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艰难挑水"/>
          <p:cNvPicPr/>
          <p:nvPr/>
        </p:nvPicPr>
        <p:blipFill>
          <a:blip r:embed="rId1"/>
          <a:stretch/>
        </p:blipFill>
        <p:spPr>
          <a:xfrm>
            <a:off x="533520" y="152280"/>
            <a:ext cx="4692600" cy="6348600"/>
          </a:xfrm>
          <a:prstGeom prst="rect">
            <a:avLst/>
          </a:prstGeom>
          <a:ln w="0">
            <a:noFill/>
          </a:ln>
        </p:spPr>
      </p:pic>
      <p:sp>
        <p:nvSpPr>
          <p:cNvPr id="179" name="矩形 2"/>
          <p:cNvSpPr/>
          <p:nvPr/>
        </p:nvSpPr>
        <p:spPr>
          <a:xfrm>
            <a:off x="5214960" y="18572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几公里以外的小河去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751640" cy="5410080"/>
          </a:xfrm>
          <a:prstGeom prst="rect">
            <a:avLst/>
          </a:prstGeom>
          <a:ln w="0">
            <a:noFill/>
          </a:ln>
        </p:spPr>
      </p:pic>
      <p:sp>
        <p:nvSpPr>
          <p:cNvPr id="181" name="矩形 2"/>
          <p:cNvSpPr/>
          <p:nvPr/>
        </p:nvSpPr>
        <p:spPr>
          <a:xfrm>
            <a:off x="5214960" y="185724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几公里以外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的小河去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挑水3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矩形 2"/>
          <p:cNvSpPr/>
          <p:nvPr/>
        </p:nvSpPr>
        <p:spPr>
          <a:xfrm>
            <a:off x="0" y="5288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楷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沙洲坝是个缺水的村庄村子里一口井也没有。居住在这儿的人们吃水非常困难，要到几公里以外的小河去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屋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09052408120f5dc607225b3dca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5029200" y="533520"/>
            <a:ext cx="3733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沙洲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沙洲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三天不下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Calibri"/>
                <a:ea typeface="楷体_GB2312"/>
              </a:rPr>
              <a:t>无水洗手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332000" y="1197000"/>
            <a:ext cx="67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2556000" y="1484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692360" y="1197000"/>
            <a:ext cx="673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子里没有井，吃水要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很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地方去挑。毛主席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带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战士和乡 亲们挖了一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无标题"/>
          <p:cNvPicPr/>
          <p:nvPr/>
        </p:nvPicPr>
        <p:blipFill>
          <a:blip r:embed="rId1"/>
          <a:stretch/>
        </p:blipFill>
        <p:spPr>
          <a:xfrm>
            <a:off x="571680" y="357120"/>
            <a:ext cx="5638680" cy="46483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714240" y="54291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毛主席决定带领红军战士为村里人挖口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835280" y="981000"/>
            <a:ext cx="619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解放以后，乡亲们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旁边立了一块大石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面刻着：“吃水不忘挖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，时刻想念毛主席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路旁水井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Picture 3" descr="1075752654_3xaGr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73360"/>
            <a:ext cx="68900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835280" y="981000"/>
            <a:ext cx="619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解放以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乡亲们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旁边立了一块大石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面刻着：“吃水不忘挖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，时刻想念毛主席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S0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835280" y="981000"/>
            <a:ext cx="619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解放以后，乡亲们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井旁边立了一块大石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上面刻着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吃水不忘挖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，时刻想念毛主席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03"/>
          <p:cNvPicPr/>
          <p:nvPr/>
        </p:nvPicPr>
        <p:blipFill>
          <a:blip r:embed="rId2"/>
          <a:stretch/>
        </p:blipFill>
        <p:spPr>
          <a:xfrm>
            <a:off x="6443640" y="4437000"/>
            <a:ext cx="2700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69-3"/>
          <p:cNvPicPr/>
          <p:nvPr/>
        </p:nvPicPr>
        <p:blipFill>
          <a:blip r:embed="rId1"/>
          <a:stretch/>
        </p:blipFill>
        <p:spPr>
          <a:xfrm>
            <a:off x="179280" y="260280"/>
            <a:ext cx="4254480" cy="6381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4800600" y="22845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吃水不忘挖井人，时刻想念毛主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8077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75438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6934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63244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11280" y="1539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例：沙洲坝的乡亲们时刻想念着毛主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71640" y="26208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我们时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116000" y="39164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刻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16000" y="17431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我很想念在北京工作的爸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0000" y="26082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鸟十分想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00000" y="36878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念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50920" y="692280"/>
            <a:ext cx="874872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" descr="红井"/>
          <p:cNvPicPr/>
          <p:nvPr/>
        </p:nvPicPr>
        <p:blipFill>
          <a:blip r:embed="rId1"/>
          <a:stretch/>
        </p:blipFill>
        <p:spPr>
          <a:xfrm>
            <a:off x="304920" y="106668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4356000" y="2309760"/>
            <a:ext cx="4788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井水，甜又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捧清泉想恩人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毛主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喝上一口红井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股暖流涌上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24000" y="184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红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804000" y="2050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ī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78800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443640" y="285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427640" y="35672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428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148360" y="4286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uǎ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pic_77516"/>
          <p:cNvPicPr/>
          <p:nvPr/>
        </p:nvPicPr>
        <p:blipFill>
          <a:blip r:embed="rId1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562720" y="5335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知这个红井的故事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486400" y="175248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1933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混浊的水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再脏的水也得吃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塘里挑来的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洗衣、洗菜、吃水全在这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沙洲坝缺水，河太远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商量挖井、勘察水源、选择井位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卷起衣袖裤腿，带头挖井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十几天的奋战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我们从来没有喝过这么甜的水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国民党要填井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白天填，群众晚上挖开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五次后，敌人放弃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cc9900"/>
                </a:solidFill>
                <a:latin typeface="Arial"/>
              </a:rPr>
              <a:t>建国后，称为“红井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838080" y="1752480"/>
            <a:ext cx="8001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学了这课，你懂 </a:t>
            </a:r>
            <a:endParaRPr b="1" lang="en-US" sz="32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得了什么？</a:t>
            </a:r>
            <a:endParaRPr b="1" lang="en-US" sz="32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2" name="Picture 3" descr="Pi_21375[1]"/>
          <p:cNvPicPr/>
          <p:nvPr/>
        </p:nvPicPr>
        <p:blipFill>
          <a:blip r:embed="rId1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ZW_009"/>
          <p:cNvPicPr/>
          <p:nvPr/>
        </p:nvPicPr>
        <p:blipFill>
          <a:blip r:embed="rId2"/>
          <a:stretch/>
        </p:blipFill>
        <p:spPr>
          <a:xfrm>
            <a:off x="12193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ZW_009"/>
          <p:cNvPicPr/>
          <p:nvPr/>
        </p:nvPicPr>
        <p:blipFill>
          <a:blip r:embed="rId3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ZW_009"/>
          <p:cNvPicPr/>
          <p:nvPr/>
        </p:nvPicPr>
        <p:blipFill>
          <a:blip r:embed="rId4"/>
          <a:stretch/>
        </p:blipFill>
        <p:spPr>
          <a:xfrm>
            <a:off x="2057400" y="5257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ZW_009"/>
          <p:cNvPicPr/>
          <p:nvPr/>
        </p:nvPicPr>
        <p:blipFill>
          <a:blip r:embed="rId5"/>
          <a:stretch/>
        </p:blipFill>
        <p:spPr>
          <a:xfrm>
            <a:off x="160020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ZW_009"/>
          <p:cNvPicPr/>
          <p:nvPr/>
        </p:nvPicPr>
        <p:blipFill>
          <a:blip r:embed="rId6"/>
          <a:stretch/>
        </p:blipFill>
        <p:spPr>
          <a:xfrm>
            <a:off x="45720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ZW_009"/>
          <p:cNvPicPr/>
          <p:nvPr/>
        </p:nvPicPr>
        <p:blipFill>
          <a:blip r:embed="rId7"/>
          <a:stretch/>
        </p:blipFill>
        <p:spPr>
          <a:xfrm>
            <a:off x="1523880" y="5029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ZW_009"/>
          <p:cNvPicPr/>
          <p:nvPr/>
        </p:nvPicPr>
        <p:blipFill>
          <a:blip r:embed="rId8"/>
          <a:stretch/>
        </p:blipFill>
        <p:spPr>
          <a:xfrm>
            <a:off x="38088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ZW_009"/>
          <p:cNvPicPr/>
          <p:nvPr/>
        </p:nvPicPr>
        <p:blipFill>
          <a:blip r:embed="rId9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ZW_009"/>
          <p:cNvPicPr/>
          <p:nvPr/>
        </p:nvPicPr>
        <p:blipFill>
          <a:blip r:embed="rId10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ZW_009"/>
          <p:cNvPicPr/>
          <p:nvPr/>
        </p:nvPicPr>
        <p:blipFill>
          <a:blip r:embed="rId11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ZW_009"/>
          <p:cNvPicPr/>
          <p:nvPr/>
        </p:nvPicPr>
        <p:blipFill>
          <a:blip r:embed="rId12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ZW_009"/>
          <p:cNvPicPr/>
          <p:nvPr/>
        </p:nvPicPr>
        <p:blipFill>
          <a:blip r:embed="rId13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ZW_009"/>
          <p:cNvPicPr/>
          <p:nvPr/>
        </p:nvPicPr>
        <p:blipFill>
          <a:blip r:embed="rId14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ZW_009"/>
          <p:cNvPicPr/>
          <p:nvPr/>
        </p:nvPicPr>
        <p:blipFill>
          <a:blip r:embed="rId15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ZW_009"/>
          <p:cNvPicPr/>
          <p:nvPr/>
        </p:nvPicPr>
        <p:blipFill>
          <a:blip r:embed="rId16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ZW_009"/>
          <p:cNvPicPr/>
          <p:nvPr/>
        </p:nvPicPr>
        <p:blipFill>
          <a:blip r:embed="rId17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ZW_009"/>
          <p:cNvPicPr/>
          <p:nvPr/>
        </p:nvPicPr>
        <p:blipFill>
          <a:blip r:embed="rId18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ZW_009"/>
          <p:cNvPicPr/>
          <p:nvPr/>
        </p:nvPicPr>
        <p:blipFill>
          <a:blip r:embed="rId19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ZW_009"/>
          <p:cNvPicPr/>
          <p:nvPr/>
        </p:nvPicPr>
        <p:blipFill>
          <a:blip r:embed="rId20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ZW_009"/>
          <p:cNvPicPr/>
          <p:nvPr/>
        </p:nvPicPr>
        <p:blipFill>
          <a:blip r:embed="rId21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4" descr="ZW_009"/>
          <p:cNvPicPr/>
          <p:nvPr/>
        </p:nvPicPr>
        <p:blipFill>
          <a:blip r:embed="rId22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5" descr="ZW_009"/>
          <p:cNvPicPr/>
          <p:nvPr/>
        </p:nvPicPr>
        <p:blipFill>
          <a:blip r:embed="rId23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6" descr="ZW_009"/>
          <p:cNvPicPr/>
          <p:nvPr/>
        </p:nvPicPr>
        <p:blipFill>
          <a:blip r:embed="rId24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7" descr="ZW_009"/>
          <p:cNvPicPr/>
          <p:nvPr/>
        </p:nvPicPr>
        <p:blipFill>
          <a:blip r:embed="rId25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8" descr="ZW_009"/>
          <p:cNvPicPr/>
          <p:nvPr/>
        </p:nvPicPr>
        <p:blipFill>
          <a:blip r:embed="rId26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9" descr="ZW_009"/>
          <p:cNvPicPr/>
          <p:nvPr/>
        </p:nvPicPr>
        <p:blipFill>
          <a:blip r:embed="rId27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0" descr="ZW_009"/>
          <p:cNvPicPr/>
          <p:nvPr/>
        </p:nvPicPr>
        <p:blipFill>
          <a:blip r:embed="rId28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1" descr="ZW_009"/>
          <p:cNvPicPr/>
          <p:nvPr/>
        </p:nvPicPr>
        <p:blipFill>
          <a:blip r:embed="rId29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ZW_009"/>
          <p:cNvPicPr/>
          <p:nvPr/>
        </p:nvPicPr>
        <p:blipFill>
          <a:blip r:embed="rId30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ZW_009"/>
          <p:cNvPicPr/>
          <p:nvPr/>
        </p:nvPicPr>
        <p:blipFill>
          <a:blip r:embed="rId31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4" descr="ZW_009"/>
          <p:cNvPicPr/>
          <p:nvPr/>
        </p:nvPicPr>
        <p:blipFill>
          <a:blip r:embed="rId32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ZW_009"/>
          <p:cNvPicPr/>
          <p:nvPr/>
        </p:nvPicPr>
        <p:blipFill>
          <a:blip r:embed="rId33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6" descr="ZW_009"/>
          <p:cNvPicPr/>
          <p:nvPr/>
        </p:nvPicPr>
        <p:blipFill>
          <a:blip r:embed="rId34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7" descr="ZW_009"/>
          <p:cNvPicPr/>
          <p:nvPr/>
        </p:nvPicPr>
        <p:blipFill>
          <a:blip r:embed="rId35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8" descr="ZW_009"/>
          <p:cNvPicPr/>
          <p:nvPr/>
        </p:nvPicPr>
        <p:blipFill>
          <a:blip r:embed="rId36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9" descr="ZW_009"/>
          <p:cNvPicPr/>
          <p:nvPr/>
        </p:nvPicPr>
        <p:blipFill>
          <a:blip r:embed="rId37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0" descr="ZW_009"/>
          <p:cNvPicPr/>
          <p:nvPr/>
        </p:nvPicPr>
        <p:blipFill>
          <a:blip r:embed="rId38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1" descr="ZW_009"/>
          <p:cNvPicPr/>
          <p:nvPr/>
        </p:nvPicPr>
        <p:blipFill>
          <a:blip r:embed="rId39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2" descr="ZW_009"/>
          <p:cNvPicPr/>
          <p:nvPr/>
        </p:nvPicPr>
        <p:blipFill>
          <a:blip r:embed="rId40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3" descr="ZW_009"/>
          <p:cNvPicPr/>
          <p:nvPr/>
        </p:nvPicPr>
        <p:blipFill>
          <a:blip r:embed="rId41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4" descr="ZW_009"/>
          <p:cNvPicPr/>
          <p:nvPr/>
        </p:nvPicPr>
        <p:blipFill>
          <a:blip r:embed="rId42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5" descr="ZW_009"/>
          <p:cNvPicPr/>
          <p:nvPr/>
        </p:nvPicPr>
        <p:blipFill>
          <a:blip r:embed="rId43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6" descr="ZW_009"/>
          <p:cNvPicPr/>
          <p:nvPr/>
        </p:nvPicPr>
        <p:blipFill>
          <a:blip r:embed="rId44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7" descr="ZW_009"/>
          <p:cNvPicPr/>
          <p:nvPr/>
        </p:nvPicPr>
        <p:blipFill>
          <a:blip r:embed="rId45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8" descr="ZW_009"/>
          <p:cNvPicPr/>
          <p:nvPr/>
        </p:nvPicPr>
        <p:blipFill>
          <a:blip r:embed="rId46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9" descr="ZW_009"/>
          <p:cNvPicPr/>
          <p:nvPr/>
        </p:nvPicPr>
        <p:blipFill>
          <a:blip r:embed="rId47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0" descr="ZW_009"/>
          <p:cNvPicPr/>
          <p:nvPr/>
        </p:nvPicPr>
        <p:blipFill>
          <a:blip r:embed="rId48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1" descr="ZW_009"/>
          <p:cNvPicPr/>
          <p:nvPr/>
        </p:nvPicPr>
        <p:blipFill>
          <a:blip r:embed="rId49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2" descr="ZW_009"/>
          <p:cNvPicPr/>
          <p:nvPr/>
        </p:nvPicPr>
        <p:blipFill>
          <a:blip r:embed="rId50"/>
          <a:stretch/>
        </p:blipFill>
        <p:spPr>
          <a:xfrm>
            <a:off x="5335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3" descr="ZW_009"/>
          <p:cNvPicPr/>
          <p:nvPr/>
        </p:nvPicPr>
        <p:blipFill>
          <a:blip r:embed="rId51"/>
          <a:stretch/>
        </p:blipFill>
        <p:spPr>
          <a:xfrm>
            <a:off x="99072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4" descr="ZW_009"/>
          <p:cNvPicPr/>
          <p:nvPr/>
        </p:nvPicPr>
        <p:blipFill>
          <a:blip r:embed="rId52"/>
          <a:stretch/>
        </p:blipFill>
        <p:spPr>
          <a:xfrm>
            <a:off x="1523880" y="5715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MTM_121.MID" descr=""/>
          <p:cNvPicPr/>
          <p:nvPr/>
        </p:nvPicPr>
        <p:blipFill>
          <a:blip r:embed="rId53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图片22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WordArt 3"/>
          <p:cNvSpPr txBox="1"/>
          <p:nvPr/>
        </p:nvSpPr>
        <p:spPr>
          <a:xfrm rot="5400000">
            <a:off x="5142600" y="2705040"/>
            <a:ext cx="586764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吃水不忘挖井人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WordArt 4"/>
          <p:cNvSpPr txBox="1"/>
          <p:nvPr/>
        </p:nvSpPr>
        <p:spPr>
          <a:xfrm rot="5400000">
            <a:off x="-2019240" y="2781360"/>
            <a:ext cx="586728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时刻想念毛主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32000" y="3933720"/>
            <a:ext cx="597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>
            <a:hlinkClick r:id="rId1" action="ppaction://hlinksldjump"/>
          </p:cNvPr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49" y="1400"/>
                </a:lnTo>
                <a:lnTo>
                  <a:pt x="1400" y="140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49" y="20200"/>
                </a:lnTo>
                <a:lnTo>
                  <a:pt x="29749" y="140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9" y="2020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9" h="21600">
                <a:moveTo>
                  <a:pt x="1557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149" h="21600">
                <a:moveTo>
                  <a:pt x="16680" y="14281"/>
                </a:moveTo>
                <a:lnTo>
                  <a:pt x="16680" y="12323"/>
                </a:lnTo>
                <a:cubicBezTo>
                  <a:pt x="16680" y="11496"/>
                  <a:pt x="17011" y="10800"/>
                  <a:pt x="17611" y="10800"/>
                </a:cubicBezTo>
                <a:cubicBezTo>
                  <a:pt x="18743" y="10800"/>
                  <a:pt x="19639" y="9434"/>
                  <a:pt x="19639" y="7849"/>
                </a:cubicBezTo>
                <a:cubicBezTo>
                  <a:pt x="19639" y="5534"/>
                  <a:pt x="17785" y="3794"/>
                  <a:pt x="15575" y="3794"/>
                </a:cubicBezTo>
                <a:cubicBezTo>
                  <a:pt x="13364" y="3794"/>
                  <a:pt x="11693" y="5534"/>
                  <a:pt x="11693" y="7849"/>
                </a:cubicBezTo>
                <a:lnTo>
                  <a:pt x="13547" y="7849"/>
                </a:lnTo>
                <a:cubicBezTo>
                  <a:pt x="13547" y="6709"/>
                  <a:pt x="14469" y="5821"/>
                  <a:pt x="15575" y="5821"/>
                </a:cubicBezTo>
                <a:cubicBezTo>
                  <a:pt x="16680" y="5821"/>
                  <a:pt x="17611" y="6709"/>
                  <a:pt x="17611" y="7849"/>
                </a:cubicBezTo>
                <a:cubicBezTo>
                  <a:pt x="17611" y="8589"/>
                  <a:pt x="17141" y="9320"/>
                  <a:pt x="16680" y="9320"/>
                </a:cubicBezTo>
                <a:cubicBezTo>
                  <a:pt x="15575" y="9320"/>
                  <a:pt x="14469" y="10800"/>
                  <a:pt x="14469" y="12323"/>
                </a:cubicBezTo>
                <a:lnTo>
                  <a:pt x="14469" y="14281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现代水井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2" name="Picture 3" descr="000001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700280"/>
            <a:ext cx="4135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32000" y="3933720"/>
            <a:ext cx="597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4">
            <a:hlinkClick r:id="rId1" action="ppaction://hlinksldjump"/>
          </p:cNvPr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49" y="1400"/>
                </a:lnTo>
                <a:lnTo>
                  <a:pt x="1400" y="140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49" y="20200"/>
                </a:lnTo>
                <a:lnTo>
                  <a:pt x="29749" y="140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9" y="2020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9" h="21600">
                <a:moveTo>
                  <a:pt x="1557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149" h="21600">
                <a:moveTo>
                  <a:pt x="16680" y="14281"/>
                </a:moveTo>
                <a:lnTo>
                  <a:pt x="16680" y="12323"/>
                </a:lnTo>
                <a:cubicBezTo>
                  <a:pt x="16680" y="11496"/>
                  <a:pt x="17011" y="10800"/>
                  <a:pt x="17611" y="10800"/>
                </a:cubicBezTo>
                <a:cubicBezTo>
                  <a:pt x="18743" y="10800"/>
                  <a:pt x="19639" y="9434"/>
                  <a:pt x="19639" y="7849"/>
                </a:cubicBezTo>
                <a:cubicBezTo>
                  <a:pt x="19639" y="5534"/>
                  <a:pt x="17785" y="3794"/>
                  <a:pt x="15575" y="3794"/>
                </a:cubicBezTo>
                <a:cubicBezTo>
                  <a:pt x="13364" y="3794"/>
                  <a:pt x="11693" y="5534"/>
                  <a:pt x="11693" y="7849"/>
                </a:cubicBezTo>
                <a:lnTo>
                  <a:pt x="13547" y="7849"/>
                </a:lnTo>
                <a:cubicBezTo>
                  <a:pt x="13547" y="6709"/>
                  <a:pt x="14469" y="5821"/>
                  <a:pt x="15575" y="5821"/>
                </a:cubicBezTo>
                <a:cubicBezTo>
                  <a:pt x="16680" y="5821"/>
                  <a:pt x="17611" y="6709"/>
                  <a:pt x="17611" y="7849"/>
                </a:cubicBezTo>
                <a:cubicBezTo>
                  <a:pt x="17611" y="8589"/>
                  <a:pt x="17141" y="9320"/>
                  <a:pt x="16680" y="9320"/>
                </a:cubicBezTo>
                <a:cubicBezTo>
                  <a:pt x="15575" y="9320"/>
                  <a:pt x="14469" y="10800"/>
                  <a:pt x="14469" y="12323"/>
                </a:cubicBezTo>
                <a:lnTo>
                  <a:pt x="14469" y="14281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49" y="1400"/>
                </a:lnTo>
                <a:lnTo>
                  <a:pt x="1400" y="140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49" y="20200"/>
                </a:lnTo>
                <a:lnTo>
                  <a:pt x="29749" y="140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9" y="2020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9" h="21600">
                <a:moveTo>
                  <a:pt x="1557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149" h="21600">
                <a:moveTo>
                  <a:pt x="16680" y="14281"/>
                </a:moveTo>
                <a:lnTo>
                  <a:pt x="16680" y="12323"/>
                </a:lnTo>
                <a:cubicBezTo>
                  <a:pt x="16680" y="11496"/>
                  <a:pt x="17011" y="10800"/>
                  <a:pt x="17611" y="10800"/>
                </a:cubicBezTo>
                <a:cubicBezTo>
                  <a:pt x="18743" y="10800"/>
                  <a:pt x="19639" y="9434"/>
                  <a:pt x="19639" y="7849"/>
                </a:cubicBezTo>
                <a:cubicBezTo>
                  <a:pt x="19639" y="5534"/>
                  <a:pt x="17785" y="3794"/>
                  <a:pt x="15575" y="3794"/>
                </a:cubicBezTo>
                <a:cubicBezTo>
                  <a:pt x="13364" y="3794"/>
                  <a:pt x="11693" y="5534"/>
                  <a:pt x="11693" y="7849"/>
                </a:cubicBezTo>
                <a:lnTo>
                  <a:pt x="13547" y="7849"/>
                </a:lnTo>
                <a:cubicBezTo>
                  <a:pt x="13547" y="6709"/>
                  <a:pt x="14469" y="5821"/>
                  <a:pt x="15575" y="5821"/>
                </a:cubicBezTo>
                <a:cubicBezTo>
                  <a:pt x="16680" y="5821"/>
                  <a:pt x="17611" y="6709"/>
                  <a:pt x="17611" y="7849"/>
                </a:cubicBezTo>
                <a:cubicBezTo>
                  <a:pt x="17611" y="8589"/>
                  <a:pt x="17141" y="9320"/>
                  <a:pt x="16680" y="9320"/>
                </a:cubicBezTo>
                <a:cubicBezTo>
                  <a:pt x="15575" y="9320"/>
                  <a:pt x="14469" y="10800"/>
                  <a:pt x="14469" y="12323"/>
                </a:cubicBezTo>
                <a:lnTo>
                  <a:pt x="14469" y="14281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187280" y="155736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是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毛主席、战士们、乡亲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32000" y="3933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：谁不忘挖井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答：沙洲坝的乡亲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900000" y="836640"/>
            <a:ext cx="936720" cy="6494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1149" h="21600">
                <a:moveTo>
                  <a:pt x="0" y="0"/>
                </a:moveTo>
                <a:lnTo>
                  <a:pt x="31149" y="0"/>
                </a:lnTo>
                <a:lnTo>
                  <a:pt x="31149" y="21600"/>
                </a:lnTo>
                <a:lnTo>
                  <a:pt x="0" y="21600"/>
                </a:lnTo>
                <a:close/>
              </a:path>
              <a:path fill="lightenLess" w="31149" h="21600">
                <a:moveTo>
                  <a:pt x="0" y="0"/>
                </a:moveTo>
                <a:lnTo>
                  <a:pt x="31149" y="0"/>
                </a:lnTo>
                <a:lnTo>
                  <a:pt x="29749" y="1400"/>
                </a:lnTo>
                <a:lnTo>
                  <a:pt x="1400" y="1400"/>
                </a:lnTo>
                <a:close/>
              </a:path>
              <a:path fill="darken" w="31149" h="21600">
                <a:moveTo>
                  <a:pt x="31149" y="0"/>
                </a:moveTo>
                <a:lnTo>
                  <a:pt x="31149" y="21600"/>
                </a:lnTo>
                <a:lnTo>
                  <a:pt x="29749" y="20200"/>
                </a:lnTo>
                <a:lnTo>
                  <a:pt x="29749" y="1400"/>
                </a:lnTo>
                <a:close/>
              </a:path>
              <a:path fill="darkenLess" w="31149" h="21600">
                <a:moveTo>
                  <a:pt x="3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9" y="20200"/>
                </a:lnTo>
                <a:close/>
              </a:path>
              <a:path fill="lighten" w="3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9" h="21600">
                <a:moveTo>
                  <a:pt x="1557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149" h="21600">
                <a:moveTo>
                  <a:pt x="16680" y="14281"/>
                </a:moveTo>
                <a:lnTo>
                  <a:pt x="16680" y="12323"/>
                </a:lnTo>
                <a:cubicBezTo>
                  <a:pt x="16680" y="11496"/>
                  <a:pt x="17011" y="10800"/>
                  <a:pt x="17611" y="10800"/>
                </a:cubicBezTo>
                <a:cubicBezTo>
                  <a:pt x="18743" y="10800"/>
                  <a:pt x="19639" y="9434"/>
                  <a:pt x="19639" y="7849"/>
                </a:cubicBezTo>
                <a:cubicBezTo>
                  <a:pt x="19639" y="5534"/>
                  <a:pt x="17785" y="3794"/>
                  <a:pt x="15575" y="3794"/>
                </a:cubicBezTo>
                <a:cubicBezTo>
                  <a:pt x="13364" y="3794"/>
                  <a:pt x="11693" y="5534"/>
                  <a:pt x="11693" y="7849"/>
                </a:cubicBezTo>
                <a:lnTo>
                  <a:pt x="13547" y="7849"/>
                </a:lnTo>
                <a:cubicBezTo>
                  <a:pt x="13547" y="6709"/>
                  <a:pt x="14469" y="5821"/>
                  <a:pt x="15575" y="5821"/>
                </a:cubicBezTo>
                <a:cubicBezTo>
                  <a:pt x="16680" y="5821"/>
                  <a:pt x="17611" y="6709"/>
                  <a:pt x="17611" y="7849"/>
                </a:cubicBezTo>
                <a:cubicBezTo>
                  <a:pt x="17611" y="8589"/>
                  <a:pt x="17141" y="9320"/>
                  <a:pt x="16680" y="9320"/>
                </a:cubicBezTo>
                <a:cubicBezTo>
                  <a:pt x="15575" y="9320"/>
                  <a:pt x="14469" y="10800"/>
                  <a:pt x="14469" y="12323"/>
                </a:cubicBezTo>
                <a:lnTo>
                  <a:pt x="14469" y="14281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问：为什么不能忘记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楷体_GB2312"/>
              </a:rPr>
              <a:t>答：因为挖井人关爱乡亲们，让乡亲们吃水不再困难，为他们做了好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6436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    我们的幸福生活来之不易。珍惜美好的生活。记住所有爱我们和关心我们的人</a:t>
            </a:r>
            <a:r>
              <a:rPr b="0" lang="en-US" sz="45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——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们的先辈、我们的父母、我们的老师</a:t>
            </a:r>
            <a:r>
              <a:rPr b="0" lang="en-US" sz="4500" spc="-1" strike="noStrike">
                <a:solidFill>
                  <a:srgbClr val="0066ff"/>
                </a:solidFill>
                <a:latin typeface="宋体"/>
                <a:ea typeface="楷体_GB2312"/>
              </a:rPr>
              <a:t>……</a:t>
            </a:r>
            <a:r>
              <a:rPr b="0" lang="zh-CN" sz="4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让我们永远记住他们的恩情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1_1-1-21_20020410122139"/>
          <p:cNvPicPr/>
          <p:nvPr/>
        </p:nvPicPr>
        <p:blipFill>
          <a:blip r:embed="rId1"/>
          <a:stretch/>
        </p:blipFill>
        <p:spPr>
          <a:xfrm>
            <a:off x="1763640" y="189000"/>
            <a:ext cx="5203800" cy="645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毛主席去安源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红军不怕远征难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06" name="Picture 3" descr="709863_1070644892859"/>
          <p:cNvPicPr/>
          <p:nvPr/>
        </p:nvPicPr>
        <p:blipFill>
          <a:blip r:embed="rId1"/>
          <a:stretch/>
        </p:blipFill>
        <p:spPr>
          <a:xfrm>
            <a:off x="0" y="1887480"/>
            <a:ext cx="7812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强渡天堑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08" name="Picture 3" descr="709863_1070645199078"/>
          <p:cNvPicPr/>
          <p:nvPr/>
        </p:nvPicPr>
        <p:blipFill>
          <a:blip r:embed="rId1"/>
          <a:stretch/>
        </p:blipFill>
        <p:spPr>
          <a:xfrm>
            <a:off x="468360" y="1700280"/>
            <a:ext cx="68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革命理想高于天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0" name="Picture 3" descr="709863_1070645502093"/>
          <p:cNvPicPr/>
          <p:nvPr/>
        </p:nvPicPr>
        <p:blipFill>
          <a:blip r:embed="rId1"/>
          <a:stretch/>
        </p:blipFill>
        <p:spPr>
          <a:xfrm>
            <a:off x="324000" y="2060640"/>
            <a:ext cx="7164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万里长征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2" name="Picture 3" descr="709863_1070645570625"/>
          <p:cNvPicPr/>
          <p:nvPr/>
        </p:nvPicPr>
        <p:blipFill>
          <a:blip r:embed="rId1"/>
          <a:stretch/>
        </p:blipFill>
        <p:spPr>
          <a:xfrm>
            <a:off x="395280" y="1989000"/>
            <a:ext cx="74516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水井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4" name="Picture 3" descr="1108in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73360"/>
            <a:ext cx="68580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走向胜利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4" name="Picture 3" descr="709863_1070645664843"/>
          <p:cNvPicPr/>
          <p:nvPr/>
        </p:nvPicPr>
        <p:blipFill>
          <a:blip r:embed="rId1"/>
          <a:stretch/>
        </p:blipFill>
        <p:spPr>
          <a:xfrm>
            <a:off x="304920" y="1828800"/>
            <a:ext cx="729144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毛主席和老帅们在一起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4337640" y="324576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毛主席和老帅们在一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4" descr="709863_1070644189937"/>
          <p:cNvPicPr/>
          <p:nvPr/>
        </p:nvPicPr>
        <p:blipFill>
          <a:blip r:embed="rId1"/>
          <a:stretch/>
        </p:blipFill>
        <p:spPr>
          <a:xfrm>
            <a:off x="838080" y="1309680"/>
            <a:ext cx="76201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决战前夕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19" name="Picture 3" descr="20031260532480048"/>
          <p:cNvPicPr/>
          <p:nvPr/>
        </p:nvPicPr>
        <p:blipFill>
          <a:blip r:embed="rId1"/>
          <a:stretch/>
        </p:blipFill>
        <p:spPr>
          <a:xfrm>
            <a:off x="685800" y="1916280"/>
            <a:ext cx="7086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 Black"/>
              </a:rPr>
              <a:t>胜利在前 </a:t>
            </a: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-- </a:t>
            </a:r>
            <a:r>
              <a:rPr b="0" lang="zh-CN" sz="4000" spc="-1" strike="noStrike">
                <a:solidFill>
                  <a:srgbClr val="003300"/>
                </a:solidFill>
                <a:latin typeface="Arial Black"/>
              </a:rPr>
              <a:t>毛主席、周副主席、朱总司令在西柏坡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21" name="Picture 3" descr="20031260524516926"/>
          <p:cNvPicPr/>
          <p:nvPr/>
        </p:nvPicPr>
        <p:blipFill>
          <a:blip r:embed="rId1"/>
          <a:stretch/>
        </p:blipFill>
        <p:spPr>
          <a:xfrm>
            <a:off x="539640" y="1773360"/>
            <a:ext cx="64072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101"/>
          <p:cNvPicPr/>
          <p:nvPr/>
        </p:nvPicPr>
        <p:blipFill>
          <a:blip r:embed="rId1"/>
          <a:stretch/>
        </p:blipFill>
        <p:spPr>
          <a:xfrm>
            <a:off x="2484360" y="189000"/>
            <a:ext cx="5064120" cy="6453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85860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无限风光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26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Rectangle 5"/>
          <p:cNvSpPr/>
          <p:nvPr/>
        </p:nvSpPr>
        <p:spPr>
          <a:xfrm>
            <a:off x="1187280" y="162864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井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800600" y="1127160"/>
            <a:ext cx="43434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挖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井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水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坐井观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317240" y="-458640"/>
            <a:ext cx="298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Times New Roman"/>
              </a:rPr>
              <a:t>jǐng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32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5"/>
          <p:cNvSpPr/>
          <p:nvPr/>
        </p:nvSpPr>
        <p:spPr>
          <a:xfrm>
            <a:off x="900000" y="162864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867280" y="1143000"/>
            <a:ext cx="244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故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家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乡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乡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018080" y="-316080"/>
            <a:ext cx="38232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3300"/>
                </a:solidFill>
                <a:latin typeface="Times New Roman"/>
              </a:rPr>
              <a:t>xiāng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38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Rectangle 5"/>
          <p:cNvSpPr/>
          <p:nvPr/>
        </p:nvSpPr>
        <p:spPr>
          <a:xfrm>
            <a:off x="1116000" y="1989000"/>
            <a:ext cx="40384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5867280" y="1143000"/>
            <a:ext cx="27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里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外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对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方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758160" y="-387360"/>
            <a:ext cx="414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3300"/>
                </a:solidFill>
                <a:latin typeface="Times New Roman"/>
              </a:rPr>
              <a:t>miàn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44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900000" y="1700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忘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429600" y="1143000"/>
            <a:ext cx="182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忘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忘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忘不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难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044000" y="-316080"/>
            <a:ext cx="37299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3300"/>
                </a:solidFill>
                <a:latin typeface="Times New Roman"/>
              </a:rPr>
              <a:t>wàng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50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Rectangle 5"/>
          <p:cNvSpPr/>
          <p:nvPr/>
        </p:nvSpPr>
        <p:spPr>
          <a:xfrm>
            <a:off x="1116000" y="1413000"/>
            <a:ext cx="40384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6172200" y="762120"/>
            <a:ext cx="236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想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想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想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思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663120" y="-458640"/>
            <a:ext cx="418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Times New Roman"/>
              </a:rPr>
              <a:t>xiǎng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66960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自由读课文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． 借助汉语拼音带问题通读全文，边读边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是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不忘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要挖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． 边读边用自己喜欢的方法为自然段做 出标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0" y="1523880"/>
            <a:ext cx="5562000" cy="5333400"/>
            <a:chOff x="0" y="1523880"/>
            <a:chExt cx="5562000" cy="5333400"/>
          </a:xfrm>
        </p:grpSpPr>
        <p:pic>
          <p:nvPicPr>
            <p:cNvPr id="356" name="Picture 3" descr="02"/>
            <p:cNvPicPr/>
            <p:nvPr/>
          </p:nvPicPr>
          <p:blipFill>
            <a:blip r:embed="rId1"/>
            <a:stretch/>
          </p:blipFill>
          <p:spPr>
            <a:xfrm>
              <a:off x="0" y="1523880"/>
              <a:ext cx="5562000" cy="53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4"/>
            <p:cNvSpPr/>
            <p:nvPr/>
          </p:nvSpPr>
          <p:spPr>
            <a:xfrm>
              <a:off x="993600" y="2150640"/>
              <a:ext cx="4471920" cy="192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Rectangle 5"/>
          <p:cNvSpPr/>
          <p:nvPr/>
        </p:nvSpPr>
        <p:spPr>
          <a:xfrm>
            <a:off x="1042920" y="162864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念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867280" y="1143000"/>
            <a:ext cx="25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想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挂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念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思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260000" y="-387360"/>
            <a:ext cx="3286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Times New Roman"/>
              </a:rPr>
              <a:t>niàn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06280" y="184464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（      ）     想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（      ）     念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（      ）     忘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（      ）     意（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1600200" y="2286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187280" y="1844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井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230480" y="2852640"/>
            <a:ext cx="13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5796000" y="1916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想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5796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念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1187280" y="3716280"/>
            <a:ext cx="13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战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187280" y="4710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黄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5724360" y="37893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忘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5796000" y="465300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心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04920" y="471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7"/>
          <p:cNvSpPr/>
          <p:nvPr/>
        </p:nvSpPr>
        <p:spPr>
          <a:xfrm>
            <a:off x="5867280" y="60199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80" h="21600">
                <a:moveTo>
                  <a:pt x="23584" y="3794"/>
                </a:moveTo>
                <a:lnTo>
                  <a:pt x="37597" y="10800"/>
                </a:lnTo>
                <a:lnTo>
                  <a:pt x="23584" y="17806"/>
                </a:lnTo>
                <a:close/>
              </a:path>
            </a:pathLst>
          </a:cu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下一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38120" y="304920"/>
            <a:ext cx="4204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井台 井口 井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领导 导游 指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革命 生命 救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席 凉席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念 挂念 念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刻 立刻 刻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0_2"/>
          <p:cNvPicPr/>
          <p:nvPr/>
        </p:nvPicPr>
        <p:blipFill>
          <a:blip r:embed="rId1"/>
          <a:stretch/>
        </p:blipFill>
        <p:spPr>
          <a:xfrm>
            <a:off x="7086600" y="3048120"/>
            <a:ext cx="1600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2664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我会说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84232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DT~W763S%SEF`9C)@WI(G_Y"/>
          <p:cNvPicPr/>
          <p:nvPr/>
        </p:nvPicPr>
        <p:blipFill>
          <a:blip r:embed="rId1"/>
          <a:stretch/>
        </p:blipFill>
        <p:spPr>
          <a:xfrm>
            <a:off x="4284720" y="620640"/>
            <a:ext cx="1366920" cy="1728720"/>
          </a:xfrm>
          <a:prstGeom prst="rect">
            <a:avLst/>
          </a:prstGeom>
          <a:ln w="0">
            <a:noFill/>
          </a:ln>
        </p:spPr>
      </p:pic>
      <p:sp>
        <p:nvSpPr>
          <p:cNvPr id="382" name="Oval 5"/>
          <p:cNvSpPr/>
          <p:nvPr/>
        </p:nvSpPr>
        <p:spPr>
          <a:xfrm>
            <a:off x="1116000" y="2924280"/>
            <a:ext cx="1440000" cy="1368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116000" y="32958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900000" y="4005360"/>
            <a:ext cx="720720" cy="936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2195640" y="3933720"/>
            <a:ext cx="72072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2268360" y="2565360"/>
            <a:ext cx="64800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826920" y="2565360"/>
            <a:ext cx="72072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900000" y="2637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3708360" y="2924280"/>
            <a:ext cx="1440000" cy="1368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067280" y="32130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4"/>
          <p:cNvSpPr/>
          <p:nvPr/>
        </p:nvSpPr>
        <p:spPr>
          <a:xfrm>
            <a:off x="3348000" y="2492280"/>
            <a:ext cx="64764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5"/>
          <p:cNvSpPr/>
          <p:nvPr/>
        </p:nvSpPr>
        <p:spPr>
          <a:xfrm>
            <a:off x="4788000" y="2421000"/>
            <a:ext cx="647640" cy="79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3348000" y="3933720"/>
            <a:ext cx="64764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4932360" y="3789360"/>
            <a:ext cx="647640" cy="79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6372360" y="3068640"/>
            <a:ext cx="1295280" cy="1081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6659640" y="3213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6084720" y="2492280"/>
            <a:ext cx="64800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>
            <a:off x="7308720" y="2492280"/>
            <a:ext cx="64800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2"/>
          <p:cNvSpPr/>
          <p:nvPr/>
        </p:nvSpPr>
        <p:spPr>
          <a:xfrm>
            <a:off x="6156360" y="3860640"/>
            <a:ext cx="64764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7380360" y="3860640"/>
            <a:ext cx="64764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68360" y="256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2556000" y="213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想  ）  （     ）   （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556000" y="32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河   ）  （     ）   （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2556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  （     ）   （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13"/>
          <p:cNvSpPr/>
          <p:nvPr/>
        </p:nvSpPr>
        <p:spPr>
          <a:xfrm>
            <a:off x="1258920" y="3357720"/>
            <a:ext cx="576360" cy="50472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556000" y="2133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想）  （ 念 ）（ 意）（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556000" y="3284640"/>
            <a:ext cx="62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河  ）（ 海 ）（ 江 ）（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沙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2556000" y="4508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叫 ）（ 吓 ）（听） （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258920" y="3357720"/>
            <a:ext cx="576360" cy="50472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石碑    一（    ）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鲜花    一（    ）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山羊    一（    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    ）池塘    一（    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（         ）   一句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枝（         ）   一双（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填空：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块）石碑    一（口）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束）鲜花    一（棵）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只）山羊    一（只）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个）池塘    一（本）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（学生）   一句（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枝（毛笔）   一双（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903240"/>
            <a:ext cx="914400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华文宋体"/>
                <a:ea typeface="华文宋体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曹冲        聪明勇敢救出小朋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毛主席      善于动脑筋想办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司马光      关心爱护人民群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1403280" y="2351160"/>
            <a:ext cx="2016360" cy="11491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1835280" y="3500280"/>
            <a:ext cx="1584360" cy="9367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"/>
          <p:cNvSpPr/>
          <p:nvPr/>
        </p:nvSpPr>
        <p:spPr>
          <a:xfrm flipV="1">
            <a:off x="1905120" y="2492280"/>
            <a:ext cx="1555560" cy="1851120"/>
          </a:xfrm>
          <a:prstGeom prst="line">
            <a:avLst/>
          </a:prstGeom>
          <a:ln cap="sq"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6">
            <a:hlinkClick r:id="" action="ppaction://hlinkshowjump?jump=nextslide"/>
          </p:cNvPr>
          <p:cNvSpPr/>
          <p:nvPr/>
        </p:nvSpPr>
        <p:spPr>
          <a:xfrm>
            <a:off x="7308720" y="6093000"/>
            <a:ext cx="1295640" cy="431640"/>
          </a:xfrm>
          <a:custGeom>
            <a:avLst/>
            <a:gdLst>
              <a:gd name="textAreaLeft" fmla="*/ 27720 w 1295640"/>
              <a:gd name="textAreaRight" fmla="*/ 1267920 w 129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22.</a:t>
            </a: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吃水不忘挖井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瑞金城外有个小村子叫沙洲坝。毛主席在江西领导革命的时候，在那儿住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村子里没有井，吃水要到很远的地方去挑。毛主席就带领战士和乡亲们挖了一口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解放以后，乡亲们在井旁边立了一块石碑，上面刻着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水不忘挖井人，时刻想念毛主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22.</a:t>
            </a: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吃水不忘挖井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瑞金城外有个小村子叫沙洲坝。毛主席在江西领导革命的时候，在那儿住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村子里没有井，吃水要到很远的地方去挑。毛主席就带领战士和乡亲们挖了一口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放以后，乡亲们在井旁边立了一块石碑，上面刻着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水不忘挖井人，时刻想念毛主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38Z</dcterms:created>
  <dc:creator/>
  <dc:description/>
  <dc:language>en-US</dc:language>
  <cp:lastModifiedBy>admin</cp:lastModifiedBy>
  <dcterms:modified xsi:type="dcterms:W3CDTF">2018-05-21T10:16:34Z</dcterms:modified>
  <cp:revision>92</cp:revision>
  <dc:subject/>
  <dc:title>幻灯片 1</dc:title>
</cp:coreProperties>
</file>