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D1F-4CC0-46EF-9B6A-C74B4D40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310-B521-43E1-81F1-03B60D9F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887-F293-41AB-8DFE-F7D3678C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727-F381-4679-B9F2-4FD90DCB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C09-76A8-46A0-8870-D1649895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6F0-49C1-42D3-926B-66B6EAD2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25A-4850-4329-B087-842DB979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B8A-FF1D-42EB-BCDD-7498EF2E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440-23BF-44AB-BAE7-BD566E8B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244-94F5-4535-B9CD-F015BE64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2D8-AB42-4E5D-8D22-9C5BE98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E7F-CD5F-4723-9AC9-9DF57BEA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8C78-C8B0-43D2-B296-4D12344AD5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4221000"/>
            <a:ext cx="172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朱自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1268280"/>
            <a:ext cx="338292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匆  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用了哪些词语尤其让你感到时间的匆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907920"/>
            <a:ext cx="835164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轻轻悄悄地挪移”        “伶伶俐俐地跨过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飞去”                 “溜走”                 “闪过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989000"/>
            <a:ext cx="360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词语含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去的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尽管去了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来的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尽管来着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去来的中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92360" y="2565360"/>
            <a:ext cx="30258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过去的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将来的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现在的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221000"/>
            <a:ext cx="88930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上我起来的时候，小屋里射进两三方斜斜的太阳。太阳他有脚啊，轻轻悄悄地挪移了；”运用什么修辞方法，有何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拟人，把时间的流逝写得有形有声，可见可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60280"/>
            <a:ext cx="889308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选取了日常生活中的哪些瞬间来具体表现时间的流逝？这样写的作用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答：洗手的时候，吃饭的时候，默默时，伸出手遮挽时，躺在床上时，和太阳再见时，掩着面叹息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作用：说明时间无时无刻不在匆匆的流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437000"/>
            <a:ext cx="68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节的段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具体写时间是匆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7460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赏析第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4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逃去如飞的日子里，在千门万户的世界里的我能做些什么呢？只有徘徊罢了，只有匆匆罢了；在八千多日的匆匆里，除徘徊外，又剩些什么呢？过去的日子如轻烟，被微风吹散了，如薄雾，被初阳蒸融了；我留着些什么痕迹呢？我何曾留着像游丝样的痕迹呢？我赤裸裸来到这世界，转眼间也将赤裸裸的回去罢？但不能平的，为什么偏要白白走这一遭啊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675640" cy="31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下面两句话的含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节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千多日子已经从我手中溜去；像针尖上一滴水滴在大海里，我的日子滴在时间的流里，没有声音，也没有影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节：过去的日子如轻烟，被微风吹散了，如薄雾，被初阳蒸融了；我留着些什么痕迹呢？我何曾留着像游丝样的痕迹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2293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两句的意思相同。都是作者对自己虚度年华，没有成就的形象说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0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赤裸裸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到这世界，转眼间也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赤裸裸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回去罢？但不能平的，为什么偏要白白走这一遭啊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349360"/>
            <a:ext cx="874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赤裸裸：形容一无所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赤裸裸：形容没有在世界上留下什么东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个反问句自我激问，催人猛醒，表达了作者决心珍惜时间，奋发有为，干一番事业的情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08464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节段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我由“感悟”而奋发的情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名言欣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最宝贵的是生命，生命每个人只有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的一生应该这样度过：当回忆往事的时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不会因为虚度年华而悔恨，也不会因为碌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为而羞愧；在临死的时候他能够说：“我的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生命和全部精力，都已经献给了世界上最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丽的事业——为人类的解放而斗争。”人应当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紧地，充分地生活，因为意外的疾病或悲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事故随时都可以突然结束他的生命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                                 ——奥斯特洛夫斯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钢铁是怎样炼成的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26028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赏析第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5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聪明的，告诉我，我们的日子为什么一去不复返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492280"/>
            <a:ext cx="835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强调时间一去不复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首尾呼应，总结全文，突出中心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04640"/>
            <a:ext cx="914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语言比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刚刚说他是“今”是“现在”，他早已风驰电掣一般，已成“过去”了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“今”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天黑时，我躺在床上，他便伶伶俐俐地从我身上跨过队我脚边飞去了。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匆匆》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句都是表达时间流逝得很快。但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句是非常概括的阐述性语言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句是具体生动的描写性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吾人若要糊糊涂涂把他丢掉，岂不可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“今”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我赤裸裸来到这世界，转眼间也将赤裸裸的回去罢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但不能平的，为什么偏要白白走这一遭啊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?(&lt;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匆匆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句都是要表达珍惜时间的：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句语言概括抽象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句语言形象生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49360"/>
          <a:ext cx="8209080" cy="4221000"/>
        </p:xfrm>
        <a:graphic>
          <a:graphicData uri="http://schemas.openxmlformats.org/drawingml/2006/table">
            <a:tbl>
              <a:tblPr/>
              <a:tblGrid>
                <a:gridCol w="1249200"/>
                <a:gridCol w="839880"/>
                <a:gridCol w="1008000"/>
                <a:gridCol w="2376720"/>
                <a:gridCol w="273528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课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文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表达方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语言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写作目的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今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议论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议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语言概括抽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以理服人 </a:t>
                      </a:r>
                      <a:br>
                        <a:rPr sz="3200"/>
                      </a:b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匆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散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描写抒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语言形象生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以情感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24000" y="47628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同点：《“今”》和《匆匆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晓喻人们要珍惜时间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20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标题《匆匆》指的是什么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500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于时间的匆匆流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始终在围绕一个问题发问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达对时间逝去的遗憾、无奈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家能从文中找出吗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566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我们的日子为什么一去不复返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70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章旨在叙述时间的流逝。请同学们用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什么样的）时间”的句式来概括时间的特点（用文中的一个词或一个短语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260280"/>
          <a:ext cx="9144000" cy="633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9144000" cy="6337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76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874872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赏析第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燕子去了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有再来的时候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;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杨柳枯了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有再青的时候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;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桃花谢了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有再开的时候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是，聪明的，你告诉我，我们的日子为什么一去不返呢？——是有人偷了他们罢：那是谁？又藏在何处呢？是他们自己逃走了罢：现在又到了哪里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0280"/>
            <a:ext cx="88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开头写“燕子、杨柳、桃花”这些春天的景物，有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答：不仅意象优美，而且有潜在的含义：       我们的青春却一去不复返，值得珍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99736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段连用了几个反问句，有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答：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个。表现了我对时间一去不复返的惶恐心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5300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节段意：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写时间的一去不复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3336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彩云简体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赏析第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2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不知道他们给了我多少日子；但我的手确乎是渐渐空虚了。在默默里算着，八千多日子已经从我手中溜去；像针尖上一滴水滴在大海里，我的日子滴在时间的流里，没有声音，也没有影子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不禁头涔涔而泪潸潸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60280"/>
            <a:ext cx="892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不禁头涔涔而泪潸潸了。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句中的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头涔涔”、“泪潸潸”是什么意思？为什么作者会“涔涔而泪潸潸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头涔涔”：形容汗流不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泪潸潸”：形容流泪不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为：我的日子滴在时间的流里，没有声音，也没有影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653000"/>
            <a:ext cx="82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声音，也没有影子”可以形象地比喻成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没有成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62064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千多日子已经从我手中溜去；像针尖上一滴水滴在大海里。”句子用了什么修辞方法？有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拟人、比喻。生动、形象地写出了时间的流逝无声无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43700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节段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因感悟年华虚度而惶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赏析第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3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段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新魏"/>
              </a:rPr>
              <a:t>去的尽管去了，来的尽管来着；去来的中间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新魏"/>
              </a:rPr>
              <a:t>又怎样地匆匆呢？早上我起来的时候，小屋里射进两三方斜斜的太阳。太阳他有脚啊，轻轻悄悄地挪移了；我也茫茫然跟着旋转。于是——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洗手的时候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新魏"/>
              </a:rPr>
              <a:t>日子从水盆里过去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吃饭的时候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新魏"/>
              </a:rPr>
              <a:t>日子从饭碗里过去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华文新魏"/>
              </a:rPr>
              <a:t>默默时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华文新魏"/>
              </a:rPr>
              <a:t>便从凝然的双眼前过去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觉察他去的匆匆了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伸出手遮挽时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又从遮挽着的手边过去，天黑时，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躺在床上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便伶伶俐俐地从我身上跨过，从我脚边飞去了。等我睁开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和太阳再见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算又溜走了一日。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掩着面叹息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但是新来的日子的影儿又开始在叹息里闪过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10:03Z</dcterms:created>
  <dc:creator/>
  <dc:description/>
  <dc:language>en-US</dc:language>
  <cp:lastModifiedBy>雨林木风</cp:lastModifiedBy>
  <dcterms:modified xsi:type="dcterms:W3CDTF">2011-03-08T03:18:22Z</dcterms:modified>
  <cp:revision>9</cp:revision>
  <dc:subject/>
  <dc:title>PowerPoint 演示文稿</dc:title>
</cp:coreProperties>
</file>