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351-F6CA-481D-8AD3-B1932126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D40-8176-460C-A3F7-933B517E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776-56E3-420D-81E5-65E12F24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5F6-8305-45EE-B677-9AAD6B94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828-2B62-4FC2-AF51-91CAE6CD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6A5-B919-4898-83C9-A6133BCB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C9D-3400-43F0-9E2E-D0A92A64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A8E-D722-4388-9466-5B2E28E3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EAD-9EFE-42ED-91C2-0F5AB2EA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6A4-E8A3-4435-A1A3-57158307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6D6-FEA0-4FF1-B116-7FA5CCCE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DCD-2606-4742-9E6B-9D545430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285A-331A-4712-9396-D198B0457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滁州西涧</a:t>
            </a:r>
            <a:br>
              <a:rPr sz="88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韦应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739152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独怜幽草涧边生，上有黄鹂深树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春潮带雨晚来急，野渡无人舟自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两句历来为人们称道，这两句描绘的景物创设出一幅怎样的画面？表达出作者什么样的感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11280" y="2205000"/>
            <a:ext cx="820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野渡无人，水急舟横的景象里，蕴含着一种不得其位、不得其用的无奈而忧伤的情怀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60" y="19162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舟自横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是船只独自停泊的意思，写出了小船处于激流之中的坦荡与悠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这句诗的意思是因傍晚下了春雨，河面像潮水一样流得更急了；在那暮色苍茫的荒野渡口，已没有人渡河，只有一只小船独自悠闲地橫泊在水边，任凭潮来潮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达诗人悠闲恬淡的胸襟和不在其位、不得其用的无奈而忧伤的情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68360" y="260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们历来称赞“野渡无人舟自横”中的“舟自横”三字，结合整首诗歌，请你也来品一品这三个字的妙处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首诗描写春游滁州西涧赏景和晚潮带雨的野渡所见。从诗人创造的涧边幽草、水急舟横的清幽意境中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表露着恬淡的胸襟和忧伤的情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971640" y="549360"/>
            <a:ext cx="25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诗词主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的前二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怜幽草涧边生，上有黄鹂深树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说：诗人独独喜爱涧边生长的幽草，上有黄莺在树阴深处啼鸣。这是清丽的色彩与动听的音乐交织成的幽雅景致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偏爱的意思，偏爱幽草，流露着诗人恬淡的胸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3238560" y="358920"/>
            <a:ext cx="25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诗句赏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二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潮带雨晚来急，野渡无人舟自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说：傍晚下雨潮水涨得更急，郊野的渡口没有行人，一只渡船横泊河里。这雨中渡口扁舟闲横的画面，蕴含着诗人对自己无所作为的忧伤，引人思索。还更加说明韦应物宁愿做一株无人关注的小草，也不愿意去做那些大的官职。末两句以飞转流动之势，衬托闲淡宁静之景，可谓诗中有画，景中寓景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>
            <a:off x="3205080" y="620640"/>
            <a:ext cx="25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诗句赏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易网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www.downyi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韦应物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9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中国唐代诗人。长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陕西西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世称韦江州、韦左司或韦苏州。他是山水田园诗派著名诗人，后人每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孟韦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盛唐王维、孟浩然、中唐韦应物、柳宗元的合称并称）。其诗以写田园风物著名，诗风恬淡高远，以善于写景和描写隐逸生活著称，涉及时政和民生疾苦之作，亦颇有佳篇。作其品今传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韦江州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两卷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韦苏州诗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韦苏州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843280" y="765000"/>
            <a:ext cx="3097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者简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怜：独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有黄鹂深树鸣：树阴深处黄鹂发出诱人的叫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鹂：黄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树：树阴深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渡无人舟自横：郊野的渡口空无一人，只有空空的渡船自在的漂浮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渡：野外的渡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横：自由自在地浮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3238560" y="358920"/>
            <a:ext cx="25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重点字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滁州西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一首著名的山水诗，是唐代诗人韦应物最负盛名的写景佳作。作者任滁州刺史时，游览至滁州西涧，写下了这首诗情浓郁的小诗。诗里写的虽然是平常的景物，但经诗人的点染，却成了一幅意境幽深的有韵之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3213000" y="1093680"/>
            <a:ext cx="251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写作背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17160" y="2060640"/>
            <a:ext cx="83516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河边生长的野草，是那样幽静而富有生趣；河岸上茂密的丛林深处，不时传来黄鹂鸟的叫声，是那样婉转动听。因傍晚下了春雨，河面像潮水一样流的更急了，在那暮色苍茫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荒野渡口，已没有人渡河，只有小船独自横漂在河边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24000" y="620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展开想象，用生动的语言描绘诗中为我们呈现的景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独爱生长在涧边的幽草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涧上有黄鹂在深林中啼叫。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潮伴着夜雨急急地涌来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渡口无人船只随波浪横漂。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8680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者游览西涧哪些景物，喜欢什么，不喜欢什么，最能体现作者情感倾向的是哪个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08000" y="2349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幽草、山涧、黄鹂、深树、潮水、雨、野渡、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68360" y="364500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现情感的字是：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1522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晋陶渊明独爱菊”，因为菊花有高洁傲岸的美好品质，是隐士的象征；韦应物则是“独怜幽草涧边生”，那么在诗人笔下，幽草的寓意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在春天繁荣景物中，诗人唯独喜爱自甘寂寞的涧边幽草，而对深树上鸣声诱人的黄莺儿却表示无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幽草安贫守节，黄鹂居高媚时，两相比照。清楚表露出诗人恬淡的胸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3:21:54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7-04T10:40:17Z</dcterms:modified>
  <cp:revision>9</cp:revision>
  <dc:subject>第一PPT模板网-WWW.1PPT.COM</dc:subject>
  <dc:title>第一PPT模板网-WWW.1PPT.COM</dc:title>
</cp:coreProperties>
</file>