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A239-E80E-4F06-9977-1BCE15170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F795-968E-4153-BB50-0D1107D4596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708-C4F0-474F-AA2F-7FB09A4F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DEB-C7C5-4014-AE94-190BA27A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98E-3EEB-4CFA-8BFD-90B21780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74A-6606-413F-A8BB-8B560C75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2D55-5CB7-4785-ABB1-5A74AB0D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582A-207F-4B6E-95B9-C7C7B56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92F4-BF86-4F9A-8B4A-DD054889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FC8C-CC87-4BD2-B47A-5C68C57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E900-5FA4-45A8-A3B0-D6950AE2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467E-E4D7-4A5E-BF2C-D0F9DD7B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4A4-8926-4F5D-BD66-4A847FE9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223-B9B6-4CFA-8F56-22EA57A0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EBF-F8DC-4D75-BB35-DC332C43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0DF1-32C7-47BF-A6FD-1817860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1287-5672-49D5-8F78-57BFDA6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F26F-A1B0-40A6-ACDF-1AC1CBCE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5845-9777-4AA9-80F3-7A464615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119-DF65-4219-BD0E-B4DB755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C18-23AC-422F-8356-C6B790B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117-9525-4C57-85BA-7A00864E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03A-5CF0-46B0-B142-68800885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CCF-1B3B-4394-9448-D77D6942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8B4-1C66-41E1-A673-4C53FFBD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0ED-F118-4155-ADA0-3FF61F20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6D95-CA40-4AFB-8C18-CC37CC3B74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B3BB-06D5-4DCF-A8B6-E10C373B5E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矩形 1" descr=""/>
          <p:cNvPicPr/>
          <p:nvPr/>
        </p:nvPicPr>
        <p:blipFill>
          <a:blip r:embed="rId1"/>
          <a:stretch/>
        </p:blipFill>
        <p:spPr>
          <a:xfrm>
            <a:off x="669960" y="512640"/>
            <a:ext cx="7778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7740720" y="515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4`V_ZUT6XRDXI{8)2D6ZGX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N(}1@XF~12X11QM[TO1]VFX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_D`~VSXQO}2UG@R]Y4RZF]7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J4E{EZK%DL8Q_P2]`8J7A{1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8[)WXGVPHZ80R%5}UUB][5T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F)F_(XJ4Q]~P9}T2[9(HIE2"/>
          <p:cNvPicPr/>
          <p:nvPr/>
        </p:nvPicPr>
        <p:blipFill>
          <a:blip r:embed="rId1"/>
          <a:stretch/>
        </p:blipFill>
        <p:spPr>
          <a:xfrm>
            <a:off x="0" y="25560"/>
            <a:ext cx="903600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1ZTIVOVHF76IY)J04U1@B2B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43720" y="357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当易网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://www.downyi.c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2:15:15Z</dcterms:created>
  <dc:creator>第一PPT模板网-WWW.1PPT.COM </dc:creator>
  <dc:description>第一PPT模板网-WWW.1PPT.COM 
</dc:description>
  <cp:keywords>第一PPT模板网-WWW.1PPT.COM</cp:keywords>
  <dc:language>en-US</dc:language>
  <cp:lastModifiedBy>Administrator</cp:lastModifiedBy>
  <dcterms:modified xsi:type="dcterms:W3CDTF">2016-06-30T14:42:07Z</dcterms:modified>
  <cp:revision>4</cp:revision>
  <dc:subject>第一PPT模板网-WWW.1PPT.COM </dc:subject>
  <dc:title>第一PPT模板网-WWW.1PPT.COM </dc:title>
</cp:coreProperties>
</file>