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465-FA1B-4F0A-8A58-401D4AD0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9C8-8D61-4359-8D11-4900F50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8BE-9CC3-4834-81A4-9101E05F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6C0-1B4D-416B-B499-177BED83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21DF-71C8-45E4-8FCB-C0D43FED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1DE-2D6C-47AA-AB83-5FD792D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F0E-A391-4E88-A591-3571E6E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CD5A-F4FE-4404-A562-8389594C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5D6-6CB4-41C5-9A4E-CDB52B7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05E5-2CD8-42D3-BE1C-F1865A24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FD1-4FCB-4EF2-A798-AE0DDC6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680-BE29-4779-8DA1-073225F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7F99-93B7-485E-B9D8-123AA57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D85D-1072-4553-945F-6BE3F14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B441-1933-4256-B938-617D1984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2EB-68B5-4705-8820-D33532F6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135-2415-4304-9235-0F73C8E2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522-2444-460E-9BCA-0CCAA555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930-B84F-4A81-81D6-D1BEA73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4D2-1CA5-4911-A3D6-88B367A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4B9-5D1D-4503-BD79-F999D2B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850-06D9-4C3E-BD1D-0B555CB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AD6-DFA4-44F6-97F6-BE66E2B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B8F-C053-4B34-A6F8-64A30C7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314-9742-4586-AF3F-18456C8AC0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A4D-B0FD-479F-9280-63422622AD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sucaiw.com/../images.asp?url=http://py.sucaiw.com/&#21160;&#30011;&#31867;/&#19968;&#33324;&#21160;&#30011;/&#9733;&#20799;&#31461;//&amp;pic=gif&amp;num=356&amp;ext=.gif&amp;picall=388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bs.163vk.com/dispbbs.asp?boardid=75&amp;id=49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fgly.cn/bbs/viewthread.php?tid=10354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bbs.800j.cc/bbs/viewthread.php?tid=3232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067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0000"/>
                </a:solidFill>
                <a:latin typeface="Garamond"/>
              </a:rPr>
              <a:t>春晓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》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00000" y="1341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5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3348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_GB2312"/>
              </a:rPr>
              <a:t>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867280" y="4437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点击放大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9000"/>
            <a:ext cx="2195640" cy="212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0" y="1413000"/>
            <a:ext cx="1476360" cy="1584360"/>
          </a:xfrm>
          <a:prstGeom prst="wedgeEllipseCallout">
            <a:avLst>
              <a:gd name="adj1" fmla="val 30754"/>
              <a:gd name="adj2" fmla="val 7455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帮我认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3417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3047400" y="14461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7449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50440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5459040" y="142560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6892200" y="1341360"/>
            <a:ext cx="162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w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3054960" y="364500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m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5636520" y="371628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7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20085132275097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20070406_2d79421661b62da8643eoq7OPkfEiNo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200532916829784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9f4c7005557b7cd267fb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69920" y="404280"/>
            <a:ext cx="325116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33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》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55640" y="2637000"/>
            <a:ext cx="432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春眠∕不∕觉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晓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处处∕闻∕啼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鸟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夜来∕风雨∕声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花落∕知∕多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少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12956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Arial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bbad191e3fc74d096595628df9e92ae1"/>
          <p:cNvPicPr/>
          <p:nvPr/>
        </p:nvPicPr>
        <p:blipFill>
          <a:blip r:embed="rId1"/>
          <a:stretch/>
        </p:blipFill>
        <p:spPr>
          <a:xfrm>
            <a:off x="0" y="0"/>
            <a:ext cx="9144000" cy="6607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5775120" y="530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处处闻啼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0066353814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791c9eb677938bef31add1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92006562137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2395440" y="620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</a:rPr>
              <a:t>花落知多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4:43:17Z</dcterms:created>
  <dc:creator/>
  <dc:description/>
  <cp:keywords/>
  <dc:language>en-US</dc:language>
  <cp:lastModifiedBy>ABC</cp:lastModifiedBy>
  <dcterms:modified xsi:type="dcterms:W3CDTF">2013-09-14T01:39:10Z</dcterms:modified>
  <cp:revision>10</cp:revision>
  <dc:subject/>
  <dc:title>ppt.glzy8.com提供海量PPT模板免费下载！</dc:title>
</cp:coreProperties>
</file>