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9D18-2BB2-4C56-B932-BF16210B1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6EEE-5AF3-4887-AFC3-7391D9402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8376-39BF-41C7-9230-17E1721DD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39C5-EF90-4530-A834-DE05CD2B13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3C84-9758-40D1-906C-F1A93EAC52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48CF-F4DB-4A40-9887-4AC7C4B07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1C77-DA86-441D-89BE-242A33451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764E-652E-4FCD-8B6F-163E05F55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B7F0-C300-4DD5-BD7D-A9304836B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F236-C6E2-47FF-90C0-6574F80D6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5DF6-BC2C-4BB6-9B4E-7B310C3B2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E3EF-9E6C-4E6C-8E56-EB84F5058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6BE8-D12F-4A97-95DB-F22A896E0E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03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业计划书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050560" y="4941360"/>
            <a:ext cx="5472360" cy="863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副标题 2"/>
          <p:cNvSpPr/>
          <p:nvPr/>
        </p:nvSpPr>
        <p:spPr>
          <a:xfrm>
            <a:off x="2195640" y="3429000"/>
            <a:ext cx="5040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197080"/>
            <a:ext cx="8229600" cy="295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描述为什么客户会使用你的产品，而不是竞争对手的产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描述在竞争对手完全复制你的产品后，你还拥有的竞争优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永远不要否认你有竞争对手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和任何人竞争都没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竞品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968480"/>
            <a:ext cx="8229600" cy="3835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描述你的产品、团队、市场营销和销售当前的状态和未来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1-3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季度的里程碑。使用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X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轴是季度，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Y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轴是功能的表格。还要包括未来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1-3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季度的累积消耗总值（开支，假设零收入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如果你没有收入、卓越的盈利状况和问题洞察力，不要建立一个详细的财务模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你在上一轮融资中测试的假设是什么？结果是什么？这一轮测试的假设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成长历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2323800"/>
            <a:ext cx="8229600" cy="1917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这张幻灯片可以是鼓舞人心的，或是描述一下在这些计划都实现后公司的愿景，或是摘要幻灯片的翻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结束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1207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过往融资的日期、金额和筹集资金来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想在这一轮融多少钱？出让比例？资金用途？重述这部分资金能达成的里程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融资需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7920" y="4381560"/>
            <a:ext cx="89046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一句话介绍：将你创业公司的愿景提炼成一个简单的短语或者句子，用于粉丝和投资人对你公司进行宣传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（在您写完一句话介绍后请删</a:t>
            </a:r>
            <a:r>
              <a:rPr b="0" lang="zh-TW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除</a:t>
            </a:r>
            <a:r>
              <a:rPr b="0" lang="en-US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 </a:t>
            </a:r>
            <a:r>
              <a:rPr b="0" lang="zh-TW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2247840" y="1473120"/>
            <a:ext cx="4635720" cy="1625760"/>
          </a:xfrm>
          <a:prstGeom prst="rect">
            <a:avLst/>
          </a:prstGeom>
          <a:noFill/>
          <a:ln w="12600">
            <a:solidFill>
              <a:srgbClr val="9a9a9a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565440" y="2095560"/>
            <a:ext cx="193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9a9a9a"/>
                </a:solidFill>
                <a:latin typeface="微软雅黑"/>
                <a:ea typeface="微软雅黑"/>
              </a:rPr>
              <a:t>请把您的</a:t>
            </a:r>
            <a:r>
              <a:rPr b="0" lang="en-US" sz="1800" spc="-1" strike="noStrike">
                <a:solidFill>
                  <a:srgbClr val="9a9a9a"/>
                </a:solidFill>
                <a:latin typeface="微软雅黑"/>
                <a:ea typeface="微软雅黑"/>
              </a:rPr>
              <a:t>LOGO</a:t>
            </a:r>
            <a:r>
              <a:rPr b="0" lang="zh-TW" sz="1800" spc="-1" strike="noStrike">
                <a:solidFill>
                  <a:srgbClr val="9a9a9a"/>
                </a:solidFill>
                <a:latin typeface="微软雅黑"/>
                <a:ea typeface="微软雅黑"/>
              </a:rPr>
              <a:t>放在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405320" y="3772080"/>
            <a:ext cx="30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这里放您项目的一句话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5943600" y="301680"/>
            <a:ext cx="28954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项目亮点</a:t>
            </a:r>
            <a:r>
              <a:rPr b="0" lang="en-US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(</a:t>
            </a: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摘要</a:t>
            </a:r>
            <a:r>
              <a:rPr b="0" lang="en-US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33240" y="5156280"/>
            <a:ext cx="7861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如果项目处于早期阶段，请在以下几方面突出亮点：团队、合作商、订单量或其他能帮助项目成长的资源等。</a:t>
            </a:r>
            <a:r>
              <a:rPr b="0" lang="en-US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(</a:t>
            </a:r>
            <a:r>
              <a:rPr b="0" lang="zh-CN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在您写完</a:t>
            </a:r>
            <a:r>
              <a:rPr b="0" lang="zh-TW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项目亮点</a:t>
            </a:r>
            <a:r>
              <a:rPr b="0" lang="zh-CN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后请删</a:t>
            </a:r>
            <a:r>
              <a:rPr b="0" lang="zh-TW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除</a:t>
            </a:r>
            <a:r>
              <a:rPr b="0" lang="en-US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9a9a9a"/>
                </a:solidFill>
                <a:latin typeface="微软雅黑"/>
                <a:ea typeface="微软雅黑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79360" y="1650600"/>
            <a:ext cx="8229600" cy="321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总结公司关键的、令人信服的事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 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我们是</a:t>
            </a:r>
            <a:r>
              <a:rPr b="0" lang="en-US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[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行业</a:t>
            </a:r>
            <a:r>
              <a:rPr b="0" lang="en-US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]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中的</a:t>
            </a:r>
            <a:r>
              <a:rPr b="0" lang="en-US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Fac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 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超过</a:t>
            </a:r>
            <a:r>
              <a:rPr b="0" lang="en-US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150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万注册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 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以每天</a:t>
            </a:r>
            <a:r>
              <a:rPr b="0" lang="en-US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10,000-15,000</a:t>
            </a:r>
            <a:r>
              <a:rPr b="0" lang="zh-CN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新用户在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 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在未来</a:t>
            </a:r>
            <a:r>
              <a:rPr b="0" lang="en-US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60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天内会突出的增长，大约每天</a:t>
            </a:r>
            <a:r>
              <a:rPr b="0" lang="en-US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50K-60K</a:t>
            </a: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新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7960" y="2222640"/>
            <a:ext cx="8940960" cy="346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描述客户、市场和面临的问题（暂时不要介绍你的产品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目前客户是如何应对这些问题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强调问题严重性以及竞争对手无法满足市场需求的客观事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面临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4920" y="1841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介绍你的产品和它的好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43434"/>
                </a:solidFill>
                <a:latin typeface="微软雅黑"/>
                <a:ea typeface="微软雅黑"/>
              </a:rPr>
              <a:t>并说明它是如何解决你刚才提到的问题。包括产品小样如截屏、一个链接直接到运用软件，或图片。（用户场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解决方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35040" y="6350040"/>
            <a:ext cx="165564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14596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描述解决方案背后的技术。专注于技术如何使您的解决方案呈现差异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如果合适的话，可以提到专利、知识产权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技术支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35040" y="6350040"/>
            <a:ext cx="165564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841400"/>
            <a:ext cx="8229600" cy="3556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强调团队过去的成就。如果你的团队之前已经成功过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,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投资者可能会认为它可以再次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包括给公司带来特殊附加价值的董事或顾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不包括你打算填补的职位空缺：为里程碑保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讲述一个关于你的职业怎样引导你发现这个团队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团队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87920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消费者是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市场有多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343434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之前幻灯片中你已经做出了总结，现在需要你来进行详细阐述。你将如何获得客户？你已经获得哪些客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市场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917720"/>
            <a:ext cx="8229600" cy="3860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你的商业模式是什么？如果你有销量，讨论你已完成的销售额以及渠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利用宏观和微观经济学来阐明你在做一个价值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$X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百万销售量的生意。注意强调微观经济学（每个用户价值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1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元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/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年，因为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…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），而不是宏观经济学（如果我们可以得到一个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100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亿元的市场的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1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％</a:t>
            </a:r>
            <a:r>
              <a:rPr b="0" lang="en-US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...</a:t>
            </a:r>
            <a:r>
              <a:rPr b="0" lang="zh-TW" sz="2400" spc="-1" strike="noStrike">
                <a:solidFill>
                  <a:srgbClr val="343434"/>
                </a:solidFill>
                <a:latin typeface="微软雅黑"/>
                <a:ea typeface="微软雅黑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 flipH="1" rot="10800000">
            <a:off x="609480" y="1320840"/>
            <a:ext cx="8229600" cy="38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7201080" y="301680"/>
            <a:ext cx="1638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 baseline="-23000">
                <a:solidFill>
                  <a:srgbClr val="343434"/>
                </a:solidFill>
                <a:latin typeface="微软雅黑"/>
                <a:ea typeface="微软雅黑"/>
              </a:rPr>
              <a:t>商业模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2T02:53:05Z</dcterms:created>
  <dc:creator>Jeff</dc:creator>
  <dc:description/>
  <dc:language>en-US</dc:language>
  <cp:lastModifiedBy>wuhan</cp:lastModifiedBy>
  <dcterms:modified xsi:type="dcterms:W3CDTF">2016-08-22T02:55:20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