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A826-9C34-46BC-B533-4798C31080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CB9E-6672-43EF-A9DF-A2ADDE2AC04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D041-EDE4-48F9-8587-88B3226CE3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5A1D-12F9-4933-8231-C8B83B58B9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1AC9-D2AF-4443-945D-B122DCF246D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6A90-891F-4663-9FFA-9D79BADD71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2C24-43DA-40A6-AB7F-3DD4A5ED2C2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1AA7-5DD0-4FCA-AA9B-F9EC4FA409E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9062-F41D-4E08-8D13-DFE6B7F48F6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CC88-7376-485B-BE3B-50339929BC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E0B5-EF57-490A-986F-5067E77B21A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15A1-F91C-4163-8CD5-F198845747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6712-EA4D-4A31-89A9-6B5FB7C1C78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FEBD-3F97-49DE-8636-CE3425934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3A34-75BE-4176-8E40-FF717B4B3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449A-CB1D-4E94-9BB7-04CE64B56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20FE-E367-4814-B5C6-6F67543FA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6EB8-A736-4BC1-B425-E1E1A4C5D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6169-F18E-4A3F-A44A-A41100D73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B9FF-4563-46D1-8322-D042B21FB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7CAC-94F5-4F0E-9410-CA0B80FDA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6ED5-2C2F-423C-B59A-BCFCEE173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A3A8-9CD1-4E75-BFCB-AB1E89874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5261-867B-49B3-8B6D-2CECFD875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8F31-5496-4C9D-A0EE-EC0DB451B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D4A5-CC72-4C28-8560-D5CFA760B9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03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商业计划书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0560" y="4941360"/>
            <a:ext cx="5472360" cy="863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建议您，在演示</a:t>
            </a:r>
            <a:r>
              <a:rPr b="0" lang="en-US" sz="1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PTT</a:t>
            </a:r>
            <a:r>
              <a:rPr b="0" lang="zh-CN" sz="1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时隐藏或删除此页</a:t>
            </a:r>
            <a:r>
              <a:rPr b="1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副标题 2"/>
          <p:cNvSpPr/>
          <p:nvPr/>
        </p:nvSpPr>
        <p:spPr>
          <a:xfrm>
            <a:off x="2195640" y="3429000"/>
            <a:ext cx="5040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Microsoft YaHei"/>
                <a:ea typeface="Microsoft YaHei"/>
              </a:rPr>
              <a:t>天使汇</a:t>
            </a:r>
            <a:r>
              <a:rPr b="1" lang="en-US" sz="1600" spc="-1" strike="noStrike">
                <a:solidFill>
                  <a:srgbClr val="7f7f7f"/>
                </a:solidFill>
                <a:latin typeface="Microsoft YaHei"/>
                <a:ea typeface="Microsoft YaHei"/>
              </a:rPr>
              <a:t>Angelcr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Microsoft YaHei"/>
                <a:ea typeface="Microsoft YaHei"/>
              </a:rPr>
              <a:t>此</a:t>
            </a:r>
            <a:r>
              <a:rPr b="0" lang="zh-CN" sz="1600" spc="-1" strike="noStrike">
                <a:solidFill>
                  <a:srgbClr val="7f7f7f"/>
                </a:solidFill>
                <a:latin typeface="Microsoft YaHei"/>
                <a:ea typeface="Microsoft YaHei"/>
              </a:rPr>
              <a:t>模板汇聚许多成功项目的思路</a:t>
            </a:r>
            <a:r>
              <a:rPr b="0" lang="zh-TW" sz="1600" spc="-1" strike="noStrike">
                <a:solidFill>
                  <a:srgbClr val="7f7f7f"/>
                </a:solidFill>
                <a:latin typeface="Microsoft YaHei"/>
                <a:ea typeface="Microsoft YaHei"/>
              </a:rPr>
              <a:t>，</a:t>
            </a:r>
            <a:r>
              <a:rPr b="0" lang="zh-CN" sz="1600" spc="-1" strike="noStrike">
                <a:solidFill>
                  <a:srgbClr val="7f7f7f"/>
                </a:solidFill>
                <a:latin typeface="Microsoft YaHei"/>
                <a:ea typeface="Microsoft YaHei"/>
              </a:rPr>
              <a:t>如嘀嘀打车、大姨妈、下厨房、贷小秘，欢迎有志改变世界创业者们使用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19708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描述为什么客户会使用你的产品，而不是竞争对手的产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描述在竞争对手完全复制你的产品后，你还拥有的竞争优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永远不要否认你有竞争对手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-</a:t>
            </a:r>
            <a:r>
              <a:rPr b="0" lang="zh-CN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和任何人竞争都没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竞品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6848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描述你的产品、团队、市场营销和销售当前的状态和未来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1-3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季度的里程碑。使用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X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轴是季度，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Y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轴是功能的表格。还要包括未来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1-3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季度的累积消耗总值（开支，假设零收入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如果你没有收入、卓越的盈利状况和问题洞察力，不要建立一个详细的财务模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你在上一轮融资中测试的假设是什么？结果是什么？这一轮测试的假设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成长历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323800"/>
            <a:ext cx="822960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这张幻灯片可以是鼓舞人心的，或是描述一下在这些计划都实现后公司的愿景，或是摘要幻灯片的翻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结束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1207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过往融资的日期、金额和筹集资金来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想在这一轮融多少钱？出让比例？资金用途？重述这部分资金能达成的里程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融资需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副标题 2"/>
          <p:cNvSpPr/>
          <p:nvPr/>
        </p:nvSpPr>
        <p:spPr>
          <a:xfrm>
            <a:off x="1187280" y="2397240"/>
            <a:ext cx="6985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天使汇</a:t>
            </a:r>
            <a:r>
              <a:rPr b="1" lang="zh-TW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：</a:t>
            </a:r>
            <a:r>
              <a:rPr b="1" lang="zh-CN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让靠谱的项目找到靠谱的钱</a:t>
            </a:r>
            <a:r>
              <a:rPr b="1" lang="zh-TW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Microsoft YaHei"/>
                <a:ea typeface="Microsoft YaHei"/>
              </a:rPr>
              <a:t>我们</a:t>
            </a:r>
            <a:r>
              <a:rPr b="0" lang="zh-CN" sz="1600" spc="-1" strike="noStrike">
                <a:solidFill>
                  <a:srgbClr val="7f7f7f"/>
                </a:solidFill>
                <a:latin typeface="Microsoft YaHei"/>
                <a:ea typeface="Microsoft YaHei"/>
              </a:rPr>
              <a:t>致力为创业者与投资人打造最公平、快速的投融资平台，让项目与感兴趣的投资人找到彼此，并获得融资。加入我们，或许你就是下一个明日之星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7920" y="4381560"/>
            <a:ext cx="89046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一句话介绍：将你创业公司的愿景提炼成一个简单的短语或者句子，用于粉丝和投资人对你公司进行宣传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（在您写完一句话介绍后请删</a:t>
            </a:r>
            <a:r>
              <a:rPr b="0" lang="zh-TW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除</a:t>
            </a:r>
            <a:r>
              <a:rPr b="0" lang="en-US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 </a:t>
            </a:r>
            <a:r>
              <a:rPr b="0" lang="zh-TW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47840" y="1473120"/>
            <a:ext cx="4635720" cy="1625760"/>
          </a:xfrm>
          <a:prstGeom prst="rect">
            <a:avLst/>
          </a:prstGeom>
          <a:noFill/>
          <a:ln w="12600">
            <a:solidFill>
              <a:srgbClr val="9a9a9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565440" y="2095560"/>
            <a:ext cx="193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请把您的</a:t>
            </a:r>
            <a:r>
              <a:rPr b="0" lang="en-US" sz="18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LOGO</a:t>
            </a:r>
            <a:r>
              <a:rPr b="0" lang="zh-TW" sz="18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放在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405320" y="3772080"/>
            <a:ext cx="30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这里放您项目的一句话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943600" y="301680"/>
            <a:ext cx="2895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项目亮点</a:t>
            </a:r>
            <a:r>
              <a:rPr b="0" lang="en-US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(</a:t>
            </a: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摘要</a:t>
            </a:r>
            <a:r>
              <a:rPr b="0" lang="en-US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33240" y="5156280"/>
            <a:ext cx="786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如果项目处于早期阶段，请在以下几方面突出亮点：团队、合作商、订单量或其他能帮助项目成长的资源等。</a:t>
            </a:r>
            <a:r>
              <a:rPr b="0" lang="en-US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(</a:t>
            </a:r>
            <a:r>
              <a:rPr b="0" lang="zh-CN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在您写完</a:t>
            </a:r>
            <a:r>
              <a:rPr b="0" lang="zh-TW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项目亮点</a:t>
            </a:r>
            <a:r>
              <a:rPr b="0" lang="zh-CN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后请删</a:t>
            </a:r>
            <a:r>
              <a:rPr b="0" lang="zh-TW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除</a:t>
            </a:r>
            <a:r>
              <a:rPr b="0" lang="en-US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 </a:t>
            </a:r>
            <a:r>
              <a:rPr b="0" lang="en-US" sz="1400" spc="-1" strike="noStrike">
                <a:solidFill>
                  <a:srgbClr val="9a9a9a"/>
                </a:solidFill>
                <a:latin typeface="Microsoft YaHei"/>
                <a:ea typeface="Microsoft YaHe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79360" y="165060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总结公司关键的、令人信服的事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Microsoft Ya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我们是</a:t>
            </a:r>
            <a:r>
              <a:rPr b="0" lang="en-US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[</a:t>
            </a: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行业</a:t>
            </a:r>
            <a:r>
              <a:rPr b="0" lang="en-US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]</a:t>
            </a: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中的</a:t>
            </a:r>
            <a:r>
              <a:rPr b="0" lang="en-US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Microsoft Ya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超过</a:t>
            </a:r>
            <a:r>
              <a:rPr b="0" lang="en-US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150</a:t>
            </a: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万注册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Microsoft Ya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以每天</a:t>
            </a:r>
            <a:r>
              <a:rPr b="0" lang="en-US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10,000-15,000</a:t>
            </a:r>
            <a:r>
              <a:rPr b="0" lang="zh-CN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新用户在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Microsoft Ya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在未来</a:t>
            </a:r>
            <a:r>
              <a:rPr b="0" lang="en-US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60</a:t>
            </a: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天内会突出的增长，大约每天</a:t>
            </a:r>
            <a:r>
              <a:rPr b="0" lang="en-US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50K-60K</a:t>
            </a: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新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7960" y="2222640"/>
            <a:ext cx="894096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描述客户、市场和面临的问题（暂时不要介绍你的产品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目前客户是如何应对这些问题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强调问题严重性以及竞争对手无法满足市场需求的客观事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面临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841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介绍你的产品和它的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并说明它是如何解决你刚才提到的问题。包括产品小样如截屏、一个链接直接到运用软件，或图片。（用户场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解决方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14596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描述解决方案背后的技术。专注于技术如何使您的解决方案呈现差异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如果合适的话，可以提到专利、知识产权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技术支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84140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强调团队过去的成就。如果你的团队之前已经成功过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,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投资者可能会认为它可以再次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包括给公司带来特殊附加价值的董事或顾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不包括你打算填补的职位空缺：为里程碑保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讲述一个关于你的职业怎样引导你发现这个团队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团队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7920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Microsoft Ya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消费者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Microsoft Ya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市场有多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343434"/>
              </a:buClr>
              <a:buFont typeface="Microsoft Ya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之前幻灯片中你已经做出了总结，现在需要你来进行详细阐述。你将如何获得客户？你已经获得哪些客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市场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91772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你的商业模式是什么？如果你有销量，讨论你已完成的销售额以及渠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利用宏观和微观经济学来阐明你在做一个价值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$X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百万销售量的生意。注意强调微观经济学（每个用户价值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1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元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/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年，因为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…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），而不是宏观经济学（如果我们可以得到一个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100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亿元的市场的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1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％</a:t>
            </a:r>
            <a:r>
              <a:rPr b="0" lang="en-US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...</a:t>
            </a:r>
            <a:r>
              <a:rPr b="0" lang="zh-TW" sz="2400" spc="-1" strike="noStrike">
                <a:solidFill>
                  <a:srgbClr val="343434"/>
                </a:solidFill>
                <a:latin typeface="Microsoft YaHei"/>
                <a:ea typeface="Microsoft YaHei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Microsoft YaHei"/>
                <a:ea typeface="Microsoft YaHei"/>
              </a:rPr>
              <a:t>商业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</dc:creator>
  <dc:description/>
  <dc:language>en-US</dc:language>
  <cp:lastModifiedBy>Jeff</cp:lastModifiedBy>
  <dcterms:modified xsi:type="dcterms:W3CDTF">2014-06-24T08:22:52Z</dcterms:modified>
  <cp:revision>16</cp:revision>
  <dc:subject/>
  <dc:title>幻灯片 1</dc:title>
</cp:coreProperties>
</file>