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53.png" ContentType="image/png"/>
  <Override PartName="/ppt/media/image6.png" ContentType="image/png"/>
  <Override PartName="/ppt/media/image18.png" ContentType="image/png"/>
  <Override PartName="/ppt/media/type.wav" ContentType="audio/x-wav"/>
  <Override PartName="/ppt/media/image8.gif" ContentType="image/gif"/>
  <Override PartName="/ppt/media/image11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DRIVEBY.WAV" ContentType="audio/x-wav"/>
  <Override PartName="/ppt/media/image35.jpeg" ContentType="image/jpeg"/>
  <Override PartName="/ppt/media/image1.jpeg" ContentType="image/jpeg"/>
  <Override PartName="/ppt/media/image39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54.png" ContentType="image/png"/>
  <Override PartName="/ppt/media/image55.gif" ContentType="image/gif"/>
  <Override PartName="/ppt/media/image21.jpeg" ContentType="image/jpeg"/>
  <Override PartName="/ppt/media/chimes.wav" ContentType="audio/x-wav"/>
  <Override PartName="/ppt/media/applause.wav" ContentType="audio/x-wav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2.gif" ContentType="image/gif"/>
  <Override PartName="/ppt/media/drumroll.wav" ContentType="audio/x-wav"/>
  <Override PartName="/ppt/media/image24.jpeg" ContentType="image/jpeg"/>
  <Override PartName="/ppt/media/image26.jpeg" ContentType="image/jpeg"/>
  <Override PartName="/ppt/media/image42.png" ContentType="image/png"/>
  <Override PartName="/ppt/media/image17.png" ContentType="image/png"/>
  <Override PartName="/ppt/media/image5.jpeg" ContentType="image/jpeg"/>
  <Override PartName="/ppt/media/image7.gif" ContentType="image/gif"/>
  <Override PartName="/ppt/media/image29.jpeg" ContentType="image/jpeg"/>
  <Override PartName="/ppt/media/image12.jpeg" ContentType="image/jpeg"/>
  <Override PartName="/ppt/media/image52.jpeg" ContentType="image/jpeg"/>
  <Override PartName="/ppt/media/image10.gif" ContentType="image/gif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image30.jpeg" ContentType="image/jpeg"/>
  <Override PartName="/ppt/media/image31.gif" ContentType="image/gif"/>
  <Override PartName="/ppt/media/image33.gif" ContentType="image/gif"/>
  <Override PartName="/ppt/media/image34.jpeg" ContentType="image/jpeg"/>
  <Override PartName="/ppt/media/image37.png" ContentType="image/png"/>
  <Override PartName="/ppt/media/image36.jpeg" ContentType="image/jpeg"/>
  <Override PartName="/ppt/media/image38.jpeg" ContentType="image/jpeg"/>
  <Override PartName="/ppt/media/image41.wmf" ContentType="image/x-wmf"/>
  <Override PartName="/ppt/media/image43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9.gif" ContentType="image/gif"/>
  <Override PartName="/ppt/media/image4.jpeg" ContentType="image/jpeg"/>
  <Override PartName="/ppt/media/image5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D7E-AA73-4ABF-A95E-F76024AF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AD0-7DBA-4DAC-A958-282F678C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A0AED-9C72-428D-86FC-A1448F46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C0E58-1876-4228-895C-14F2662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A23A0-0A53-4060-8DDD-F0B5C1BD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0843A-CE01-46EF-86E9-D7F6D116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A9042-D9E6-447C-B199-51079EC1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32800-8E0B-4A73-9429-4E6435E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13790-E3EA-4E19-B001-4EAA863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40A0D-F5A7-44FA-B28E-DA744850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F48AF-EFB1-40BC-8DEE-6E54B530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8E1-D4B4-4325-883A-5D0C767B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352-5DE3-40B2-A270-D4A4C823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AF84-09FA-430D-9EEF-25F4943B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84C6-2694-4D53-91C4-4B4D53B6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717A-4C44-4CD7-8426-C83651EE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3D61-4A94-410C-8CA5-EFB75AA7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5245-3D3E-481A-BF12-5C9ECAEA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8024-95EA-40D2-B649-8E58ADC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C054-BDC0-4BD2-90EE-AF6F24FB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BF0-12EE-452D-B95C-B28C1C50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93DE-4C56-4D22-93ED-57AF58D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06B3-8F70-4DAD-B709-45D13540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1CBD-28D8-4BAB-969E-79F40808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6A1D-4604-4468-AE1B-95A9E494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42CE-C6F7-4F8C-8C17-06D3C7BF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C7936-0B7F-4FEF-8B20-AB6D3025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17E2-9B78-4620-924F-A84669CC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212A-13A3-469B-A3CB-EB90B3AC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9083-79DF-4374-A39B-9F21C3C1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1AED9-488B-4394-990A-058CAE92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527-A669-4B96-8CFC-982B8719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9263-5E01-446A-B056-BDDDFEE5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2E32-BB66-4E04-93F9-25C76EC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5901-3681-4101-9748-EE24658B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49E8-F7D9-43B7-AF8A-16B18FC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958E-9975-444B-AA7E-C1591173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4AD1-C242-4B6D-8BC1-5B87A40E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334E-0237-4532-A38F-DBC47465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55208-3FB7-40BD-8728-2A6A6708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2BA1D-2824-4A39-8B2A-253C47E3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C96A-2D85-41B2-9E89-B45D79D0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5EF-733A-4E11-BA31-F45BE639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3F4F5-5309-45B8-B4B8-F334BEE7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7583-8767-434C-98F1-FD06B570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2D79-E5C0-45E2-9992-E968D9AC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52C73-1AB1-4B75-BE7F-49AE57E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78E0-CAD5-4B41-8C68-E0C9DE0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8CFC8-5192-4BE7-9767-DD825449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2498-7B7D-457F-89E6-23C02BD3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B215-1E56-4B6B-989E-CB9E5E34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19A5A-9C2A-464D-8BCA-CAD7CBB6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AA82F-0D48-4D47-8A93-0605F102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306-AC75-44DE-8AC6-3CB40622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0E202-CE38-4A11-B709-6107D700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AF4E6-FE71-4966-9ABA-7769CF04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4B20E-B4F8-452B-A194-95F8DD3A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5C5E-BB4D-4129-8D39-14DF0AC5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952C5-3A11-4349-A419-0819DCBB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2DC52-ECF9-4E0C-9D69-AF864070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5ECE-17B0-41CC-B0A3-6F28A63F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27955-CE9C-4733-A863-C250AB3B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10F3-6BDB-4E24-9AE0-8873EED5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D9643-2B35-41E1-8061-85FB3521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ABE-0C85-4472-8985-D8585A49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85C93-8881-4BEF-A0BE-2F2D9827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A1742-042F-4205-8DAB-269B287C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CC8B-D3A9-44CE-B8DB-B8F1E928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DD606-D797-4274-96A4-6035D61A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92582-DD45-4521-85E7-D57C787F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7EAF-1A0E-4332-B632-1E93E1F6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825A4-D4A5-42ED-9E36-9767CEB1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6ADD-7217-479C-94B3-694A390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B9FCA-24F9-4B7E-82FF-3C25668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3FDF-72E9-4E64-90DC-AD63501D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F0A-04A7-44DF-A949-D0BC2785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D705C-8E70-4154-87BF-D74525DE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1F80B-CDAB-4BFE-A9A9-060F1E18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0E8B-D6F9-4E0B-8788-49C1CF63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55B61-CEB8-4257-A23F-BF79DB08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39765-9A26-420F-92C3-9C6E95EF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05796-D599-4E76-892D-2E11D0D2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30149-D6F9-4F66-95CC-E1D1EF89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EDDD3-89DC-4990-8E9E-A6D3053C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3BF9A-EDD9-40B0-A0FB-7388E7E7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B4ECC-415D-48A6-8AE5-F28520D7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667-16F8-4FFF-A7F4-D47CDFB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0AF08-A042-4A36-9AEE-5D9BA1B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99630-A0D6-415F-AC6F-5A4D37D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2512D-C98E-40D6-B442-14A7EB45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6A55F-5EC8-4874-A79E-A7B4A782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EE043-9B4B-4AB0-89F9-4A844D92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3A361-674F-4F9B-AC90-725B9E8D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03225-7641-428A-8EFF-C36F1907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36AD9-E0B9-496D-BDB3-AEC93A1D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B8328-92CB-4220-A3E1-9E8AFCC7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A68D3-D302-41E1-88E8-1CB4C3A8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0E8-D9A2-455A-8344-012B8000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41165-A750-4EDE-8A2A-66878F25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C3347-AAAE-44FC-AE49-F1C201E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82B49-8F5C-48F1-9C3E-A0D58D0B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9608-C914-4B17-9C43-F51E62DF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EFF30-772D-4A02-B608-A369622E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651CF-FEB3-4061-9594-B8DB79B2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08E30-5C3B-4F5F-B2CA-E737AA3B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EBEFD-B122-443F-B2BC-59E57445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993CA-F952-46DC-A01E-2E7B463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B4F0A-569D-4B54-B2B0-2BA87A7A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7394-434A-4ED6-AB24-CC1F69FF9F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7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A4C6-E54F-473A-90A5-8E610C035A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051B-FE86-4604-AB13-13A4CC0150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24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13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16860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04C0-B588-481E-BB74-C46A63941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285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775A-36EF-45D4-8581-7ABF510C68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E57B-5FB5-4973-8D58-807FFA244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D736-CE4D-4EF6-AE69-E5B61867C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43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45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45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C142-3AA2-44EE-9075-36431866FC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52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54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56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57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EA97-5152-43ED-BA93-41165622D1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1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" Target="slide52.xml"/><Relationship Id="rId7" Type="http://schemas.openxmlformats.org/officeDocument/2006/relationships/slide" Target="slide52.xml"/><Relationship Id="rId8" Type="http://schemas.openxmlformats.org/officeDocument/2006/relationships/slide" Target="slide52.xml"/><Relationship Id="rId9" Type="http://schemas.openxmlformats.org/officeDocument/2006/relationships/slide" Target="slide52.xml"/><Relationship Id="rId10" Type="http://schemas.openxmlformats.org/officeDocument/2006/relationships/slide" Target="slide7.xml"/><Relationship Id="rId11" Type="http://schemas.openxmlformats.org/officeDocument/2006/relationships/image" Target="../media/image31.gif"/><Relationship Id="rId1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16.xml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8.jpeg"/><Relationship Id="rId3" Type="http://schemas.openxmlformats.org/officeDocument/2006/relationships/image" Target="../media/image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7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2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1835280" y="5300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广州市花都区新华街第七小学  李光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556000" y="692280"/>
            <a:ext cx="4176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9.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草船借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11200" y="1117440"/>
            <a:ext cx="83995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篇课文是根据我国著名长篇历史小说《三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演义》第四十六回的相关内容改编的。这部小说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是三国时期魏、蜀、吴的故事，书中塑造的曹操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孙权、刘备、诸葛亮、张飞、关羽等人物形象，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喻户晓。书中的许多故事，如，“桃园三结义” “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顾茅庐” “火烧赤壁” “空城计”，广为流传。作者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末明初的罗贯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50920" y="8366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这篇课文讲的是我国著名长篇历史小说《三国演义》中的一个故事。故事发生在东汉末年，当时曹操刚刚打败刘备，又派兵进攻孙权。于是刘备和孙权联合起来抵抗曹操。刘备派诸葛亮到孙权那里帮助作战。孙权手下大将周瑜妒忌诸葛亮的才干，设下圈套，假意让他负责赶造十万支箭，企图以造不成箭违误军令的借口加以陷害，于是就发生了这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340000" y="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Sylfaen"/>
                <a:ea typeface="黑体"/>
              </a:rPr>
              <a:t>介绍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835280" cy="11527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6732720" y="570708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116000" y="213372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                   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北魏（曹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    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打败                                 攻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西蜀（刘备）              联合                  东吴（周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3399"/>
                </a:solidFill>
                <a:latin typeface="Sylfaen"/>
                <a:ea typeface="黑体"/>
              </a:rPr>
              <a:t>（诸葛亮）      派诸葛亮                      （鲁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834920" y="2492280"/>
            <a:ext cx="1873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003640" y="2565360"/>
            <a:ext cx="1800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3640" y="4653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556000" y="692280"/>
            <a:ext cx="396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介绍三国形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624852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6659640" y="549360"/>
            <a:ext cx="2303280" cy="230328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4"/>
          <a:stretch/>
        </p:blipFill>
        <p:spPr>
          <a:xfrm>
            <a:off x="0" y="4437000"/>
            <a:ext cx="2303640" cy="230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5410080"/>
            <a:ext cx="1752480" cy="7318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5"/>
          <a:stretch/>
        </p:blipFill>
        <p:spPr>
          <a:xfrm>
            <a:off x="2057400" y="3962520"/>
            <a:ext cx="974880" cy="126504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6"/>
          <a:stretch/>
        </p:blipFill>
        <p:spPr>
          <a:xfrm>
            <a:off x="4267080" y="4038480"/>
            <a:ext cx="860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 txBox="1"/>
          <p:nvPr/>
        </p:nvSpPr>
        <p:spPr>
          <a:xfrm>
            <a:off x="2362320" y="289548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长江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3" name=""/>
          <p:cNvSpPr/>
          <p:nvPr/>
        </p:nvSpPr>
        <p:spPr>
          <a:xfrm>
            <a:off x="3124080" y="4419720"/>
            <a:ext cx="28195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8153280" y="-360"/>
            <a:ext cx="0" cy="12193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157960" y="304920"/>
            <a:ext cx="7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0880" y="16765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696080" y="5029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36232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24680" y="5638680"/>
            <a:ext cx="609840" cy="609840"/>
          </a:xfrm>
          <a:custGeom>
            <a:avLst/>
            <a:gdLst>
              <a:gd name="textAreaLeft" fmla="*/ 0 w 609840"/>
              <a:gd name="textAreaRight" fmla="*/ 610200 w 609840"/>
              <a:gd name="textAreaTop" fmla="*/ 78840 h 609840"/>
              <a:gd name="textAreaBottom" fmla="*/ 531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2362320" cy="1989000"/>
          </a:xfrm>
          <a:prstGeom prst="rect">
            <a:avLst/>
          </a:prstGeom>
          <a:ln w="0">
            <a:noFill/>
          </a:ln>
        </p:spPr>
      </p:pic>
      <p:grpSp>
        <p:nvGrpSpPr>
          <p:cNvPr id="691" name=""/>
          <p:cNvGrpSpPr/>
          <p:nvPr/>
        </p:nvGrpSpPr>
        <p:grpSpPr>
          <a:xfrm>
            <a:off x="0" y="3352680"/>
            <a:ext cx="1828800" cy="609480"/>
            <a:chOff x="0" y="3352680"/>
            <a:chExt cx="1828800" cy="609480"/>
          </a:xfrm>
        </p:grpSpPr>
        <p:pic>
          <p:nvPicPr>
            <p:cNvPr id="692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533160" cy="26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3" name=""/>
            <p:cNvGrpSpPr/>
            <p:nvPr/>
          </p:nvGrpSpPr>
          <p:grpSpPr>
            <a:xfrm>
              <a:off x="431640" y="3468600"/>
              <a:ext cx="1397160" cy="493560"/>
              <a:chOff x="431640" y="3468600"/>
              <a:chExt cx="1397160" cy="493560"/>
            </a:xfrm>
          </p:grpSpPr>
          <p:pic>
            <p:nvPicPr>
              <p:cNvPr id="6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1640" y="3468600"/>
                <a:ext cx="53352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3280" y="3584520"/>
                <a:ext cx="533520" cy="26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95280" y="3700800"/>
                <a:ext cx="533520" cy="26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79280" y="476280"/>
            <a:ext cx="84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Sylfaen"/>
                <a:ea typeface="楷体_GB2312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95280" y="1557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1ad9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41ad98"/>
                </a:solidFill>
                <a:latin typeface="楷体_GB2312"/>
                <a:ea typeface="楷体_GB2312"/>
              </a:rPr>
              <a:t>文中写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34920" y="2708280"/>
            <a:ext cx="2016000" cy="2889360"/>
            <a:chOff x="34920" y="2708280"/>
            <a:chExt cx="2016000" cy="2889360"/>
          </a:xfrm>
        </p:grpSpPr>
        <p:pic>
          <p:nvPicPr>
            <p:cNvPr id="700" name="" descr=""/>
            <p:cNvPicPr/>
            <p:nvPr/>
          </p:nvPicPr>
          <p:blipFill>
            <a:blip r:embed="rId1"/>
            <a:stretch/>
          </p:blipFill>
          <p:spPr>
            <a:xfrm>
              <a:off x="34920" y="2708280"/>
              <a:ext cx="201600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468360" y="52293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ff3399"/>
                  </a:solidFill>
                  <a:latin typeface="Arial"/>
                </a:rPr>
                <a:t>周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124000" y="2708280"/>
            <a:ext cx="2214720" cy="2889360"/>
            <a:chOff x="2124000" y="2708280"/>
            <a:chExt cx="2214720" cy="2889360"/>
          </a:xfrm>
        </p:grpSpPr>
        <p:sp>
          <p:nvSpPr>
            <p:cNvPr id="703" name=""/>
            <p:cNvSpPr/>
            <p:nvPr/>
          </p:nvSpPr>
          <p:spPr>
            <a:xfrm>
              <a:off x="2916000" y="522936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99"/>
                  </a:solidFill>
                  <a:latin typeface="Arial"/>
                </a:rPr>
                <a:t>诸葛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" descr=""/>
            <p:cNvPicPr/>
            <p:nvPr/>
          </p:nvPicPr>
          <p:blipFill>
            <a:blip r:embed="rId2"/>
            <a:stretch/>
          </p:blipFill>
          <p:spPr>
            <a:xfrm>
              <a:off x="2124000" y="2708280"/>
              <a:ext cx="2214720" cy="235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5" name=""/>
          <p:cNvGrpSpPr/>
          <p:nvPr/>
        </p:nvGrpSpPr>
        <p:grpSpPr>
          <a:xfrm>
            <a:off x="4356000" y="2708280"/>
            <a:ext cx="2303640" cy="2882880"/>
            <a:chOff x="4356000" y="2708280"/>
            <a:chExt cx="2303640" cy="2882880"/>
          </a:xfrm>
        </p:grpSpPr>
        <p:sp>
          <p:nvSpPr>
            <p:cNvPr id="706" name=""/>
            <p:cNvSpPr/>
            <p:nvPr/>
          </p:nvSpPr>
          <p:spPr>
            <a:xfrm>
              <a:off x="5437080" y="52228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99"/>
                  </a:solidFill>
                  <a:latin typeface="Arial"/>
                </a:rPr>
                <a:t>鲁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7" name="" descr=""/>
            <p:cNvPicPr/>
            <p:nvPr/>
          </p:nvPicPr>
          <p:blipFill>
            <a:blip r:embed="rId3"/>
            <a:stretch/>
          </p:blipFill>
          <p:spPr>
            <a:xfrm>
              <a:off x="4356000" y="2708280"/>
              <a:ext cx="2303640" cy="23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"/>
          <p:cNvGrpSpPr/>
          <p:nvPr/>
        </p:nvGrpSpPr>
        <p:grpSpPr>
          <a:xfrm>
            <a:off x="6732720" y="2708280"/>
            <a:ext cx="2340000" cy="2889360"/>
            <a:chOff x="6732720" y="2708280"/>
            <a:chExt cx="2340000" cy="2889360"/>
          </a:xfrm>
        </p:grpSpPr>
        <p:pic>
          <p:nvPicPr>
            <p:cNvPr id="709" name="" descr=""/>
            <p:cNvPicPr/>
            <p:nvPr/>
          </p:nvPicPr>
          <p:blipFill>
            <a:blip r:embed="rId4"/>
            <a:stretch/>
          </p:blipFill>
          <p:spPr>
            <a:xfrm>
              <a:off x="6732720" y="2708280"/>
              <a:ext cx="234000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452000" y="5229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99"/>
                  </a:solidFill>
                  <a:latin typeface="Arial"/>
                </a:rPr>
                <a:t>曹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0" y="0"/>
            <a:ext cx="9251280" cy="6857640"/>
            <a:chOff x="0" y="0"/>
            <a:chExt cx="9251280" cy="6857640"/>
          </a:xfrm>
        </p:grpSpPr>
        <p:pic>
          <p:nvPicPr>
            <p:cNvPr id="712" name="" descr=""/>
            <p:cNvPicPr/>
            <p:nvPr/>
          </p:nvPicPr>
          <p:blipFill>
            <a:blip r:embed="rId2"/>
            <a:srcRect l="1549" t="14062" r="740" b="14613"/>
            <a:stretch/>
          </p:blipFill>
          <p:spPr>
            <a:xfrm>
              <a:off x="0" y="0"/>
              <a:ext cx="915372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7113240" y="378360"/>
              <a:ext cx="213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诸葛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2808360" cy="28242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2916360" y="692280"/>
            <a:ext cx="594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诸葛亮</a:t>
            </a:r>
            <a:r>
              <a:rPr b="0" lang="zh-CN" sz="2400" spc="-1" strike="noStrike">
                <a:solidFill>
                  <a:srgbClr val="ccccff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字孔明，琅琊</a:t>
            </a:r>
            <a:r>
              <a:rPr b="1" lang="zh-CN" sz="1800" spc="-1" strike="noStrike">
                <a:solidFill>
                  <a:srgbClr val="3333cc"/>
                </a:solidFill>
                <a:latin typeface="华文新魏"/>
                <a:ea typeface="华文新魏"/>
              </a:rPr>
              <a:t>（</a:t>
            </a:r>
            <a:r>
              <a:rPr b="1" lang="zh-CN" sz="1800" spc="-1" strike="noStrike">
                <a:solidFill>
                  <a:srgbClr val="3333cc"/>
                </a:solidFill>
                <a:latin typeface="华文新魏"/>
                <a:ea typeface="华文新魏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á</a:t>
            </a:r>
            <a:r>
              <a:rPr b="1" lang="zh-CN" sz="1800" spc="-1" strike="noStrike">
                <a:solidFill>
                  <a:srgbClr val="3333cc"/>
                </a:solidFill>
                <a:latin typeface="华文新魏"/>
                <a:ea typeface="华文新魏"/>
              </a:rPr>
              <a:t>ngy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á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阳都（今山东沂南）人。三国蜀汉政治家、军事家。东汉末，隐居邓县隆中（今湖北襄阳西），留心世事，被称为“卧龙”。建安十二年，刘备三顾茅庐，他向刘备提出占据荆（今湖南、湖北）、益（今四川）两州，谋取西南各族统治者的支持，联合孙权，对抗曹操，统一全国的建议，即所谓“隆中对”。从此成为刘备的主要谋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18" name="" descr=""/>
            <p:cNvPicPr/>
            <p:nvPr/>
          </p:nvPicPr>
          <p:blipFill>
            <a:blip r:embed="rId1"/>
            <a:srcRect l="2525" t="14757" r="604" b="14180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102240" y="254520"/>
              <a:ext cx="198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周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3851280" y="765000"/>
            <a:ext cx="4681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周瑜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：历史上的周瑜“性度恢廓”，谦让服人，有“雅量高致”。刘备称他“文武筹略，万人之英”。孙权则赞他有“王佐之资”。但在《三国演义》中，周瑜成了诸葛亮的垫底人物。写周瑜，是为了抬高诸葛亮。因此，《三国演义》中的周瑜气量狭小，智谋也总是逊诸葛亮一筹，根本不像苏轼所歌颂的周瑜“雄姿英发，羽扇纶巾，谈笑间，樯橹灰飞烟灭”，的“千古风流人物”，成了《三国演义》中蒙受最大冤屈的人物。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299700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</a:rPr>
              <a:t>草船借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</a:rPr>
              <a:t>【解释】运用智谋，凭借他人的人力或财力来达到自己的目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</a:rPr>
              <a:t>【用法】作宾语、定语；指借他人的力量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52800" y="3061440"/>
            <a:ext cx="4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7928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rcRect l="1344" t="15623" r="1297" b="14298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595440" y="244080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鲁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3708000" y="691920"/>
            <a:ext cx="50403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鲁肃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：历史上的鲁肃“虽在军阵，手不释卷”，“思度宏远”，“有过人之明”。他初见孙权，就提出了建国方针：鼎足江东，北拒曹操，待机剿除黄祖，进发刘表，竟长江而有之，然后建号称帝以图天下。这与诸葛亮的《隆中对》有相似之处。曹操大军南征荆州时，孙权部属都主降，唯独鲁肃主张抗曹，劝孙权召回周瑜，共商战守大计。赤壁战后，他又力主扶刘抗曹。在东吴历史上，鲁肃实为诸葛亮式人物，孙权对他也极为欣赏。吴国的建立和发展基本上是按照鲁肃提出的政略、战略方针进行的。但在《三国演义》中，鲁肃成了诸葛亮与周瑜两人智斗的牺牲品，被愚弄、受欺侮的典型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11472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30" name="" descr=""/>
            <p:cNvPicPr/>
            <p:nvPr/>
          </p:nvPicPr>
          <p:blipFill>
            <a:blip r:embed="rId1"/>
            <a:srcRect l="5118" t="14698" r="462" b="14528"/>
            <a:stretch/>
          </p:blipFill>
          <p:spPr>
            <a:xfrm>
              <a:off x="0" y="0"/>
              <a:ext cx="90288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7133760" y="381240"/>
              <a:ext cx="20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曹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468360" y="33336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读读课文，分析人物关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1040" y="2708280"/>
            <a:ext cx="127764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神机妙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948400" y="2492280"/>
            <a:ext cx="1277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借造箭加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844720" y="177156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周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8360" y="14842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732720" y="1700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844720" y="5091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诸葛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948360" y="5084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曹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292720" y="479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借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2640000">
            <a:off x="1475640" y="4868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依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8900000">
            <a:off x="1547640" y="23475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挫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8960000">
            <a:off x="5077080" y="2923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打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8900000">
            <a:off x="5580360" y="357120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帮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0" y="5445000"/>
            <a:ext cx="2305080" cy="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924360" y="2131920"/>
            <a:ext cx="2881080" cy="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1620720" y="4292280"/>
            <a:ext cx="1152720" cy="107964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620720" y="2347920"/>
            <a:ext cx="1297080" cy="12952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564000" y="2492280"/>
            <a:ext cx="0" cy="259236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429080" y="2347560"/>
            <a:ext cx="2879640" cy="287964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213080" y="2276280"/>
            <a:ext cx="2880000" cy="2879640"/>
          </a:xfrm>
          <a:prstGeom prst="line">
            <a:avLst/>
          </a:prstGeom>
          <a:ln w="25560">
            <a:solidFill>
              <a:srgbClr val="3366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自由朗读要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自读课文，要求读准字音，读通课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篇课文是按什么顺序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课文写了哪几个人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文主要讲了一件什么事？它的     起因、经过、结果分别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何将课文划分段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300640"/>
            <a:ext cx="1800360" cy="142416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395280" y="620640"/>
            <a:ext cx="849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妒忌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ù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j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ì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姓曹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á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o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都督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甘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g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ā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愿受罚         姓鲁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l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ǔ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迟延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á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幔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m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à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子  私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s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水寨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zh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à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i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擂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l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é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i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鼓   呐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喊支援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yu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á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n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丞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ch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é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ng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相瑕不掩瑜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ú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弓弩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ú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6300720" y="551664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>
            <a:hlinkClick r:id="rId1" action="ppaction://hlinksldjump"/>
          </p:cNvPr>
          <p:cNvSpPr/>
          <p:nvPr/>
        </p:nvSpPr>
        <p:spPr>
          <a:xfrm>
            <a:off x="1187280" y="25653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诸葛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>
            <a:hlinkClick r:id="rId2" action="ppaction://hlinksldjump"/>
          </p:cNvPr>
          <p:cNvSpPr/>
          <p:nvPr/>
        </p:nvSpPr>
        <p:spPr>
          <a:xfrm>
            <a:off x="1066680" y="3824280"/>
            <a:ext cx="14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妒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 action="ppaction://hlinksldjump"/>
          </p:cNvPr>
          <p:cNvSpPr/>
          <p:nvPr/>
        </p:nvSpPr>
        <p:spPr>
          <a:xfrm>
            <a:off x="1042920" y="515772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惩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>
            <a:hlinkClick r:id="rId4" action="ppaction://hlinksldjump"/>
          </p:cNvPr>
          <p:cNvSpPr/>
          <p:nvPr/>
        </p:nvSpPr>
        <p:spPr>
          <a:xfrm>
            <a:off x="373392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水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5" action="ppaction://hlinksldjump"/>
          </p:cNvPr>
          <p:cNvSpPr/>
          <p:nvPr/>
        </p:nvSpPr>
        <p:spPr>
          <a:xfrm>
            <a:off x="3733920" y="3824280"/>
            <a:ext cx="144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擂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>
            <a:hlinkClick r:id="rId6" action="ppaction://hlinksldjump"/>
          </p:cNvPr>
          <p:cNvSpPr/>
          <p:nvPr/>
        </p:nvSpPr>
        <p:spPr>
          <a:xfrm>
            <a:off x="3733920" y="51195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呐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rId7" action="ppaction://hlinksldjump"/>
          </p:cNvPr>
          <p:cNvSpPr/>
          <p:nvPr/>
        </p:nvSpPr>
        <p:spPr>
          <a:xfrm>
            <a:off x="5867280" y="2637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丞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>
            <a:hlinkClick r:id="rId8" action="ppaction://hlinksldjump"/>
          </p:cNvPr>
          <p:cNvSpPr/>
          <p:nvPr/>
        </p:nvSpPr>
        <p:spPr>
          <a:xfrm>
            <a:off x="5867280" y="3824280"/>
            <a:ext cx="14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都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>
            <a:hlinkClick r:id="rId9" action="ppaction://hlinksldjump"/>
          </p:cNvPr>
          <p:cNvSpPr/>
          <p:nvPr/>
        </p:nvSpPr>
        <p:spPr>
          <a:xfrm>
            <a:off x="5867280" y="511956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神机妙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164360" y="189000"/>
            <a:ext cx="1800360" cy="1423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 txBox="1"/>
          <p:nvPr/>
        </p:nvSpPr>
        <p:spPr>
          <a:xfrm>
            <a:off x="2484360" y="549360"/>
            <a:ext cx="38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词语学习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8425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ù jì      cáo        dū     gān    lǔ  mǎng       yá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妒忌   曹操  都督  甘心  鲁 莽      迟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àn      sī        zhài    léi       nà     yuán    ché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幔子   私自  水寨  擂鼓  呐喊   支援  丞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推却  探听  调度  弓弩手  军令状   自有妙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饮酒取乐  顺风顺水  神机妙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50920" y="148428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妒忌：对才能、名誉、地位或境遇等比自己好的人心怀怨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9280" y="4581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神机妙算：惊人的机智，巧妙的谋划，形容有预见性，善于估计客观情势，决定策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800360" cy="14238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 txBox="1"/>
          <p:nvPr/>
        </p:nvSpPr>
        <p:spPr>
          <a:xfrm>
            <a:off x="324000" y="189000"/>
            <a:ext cx="331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理解词语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3" name=""/>
          <p:cNvSpPr/>
          <p:nvPr/>
        </p:nvSpPr>
        <p:spPr>
          <a:xfrm>
            <a:off x="324000" y="2565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推却：拒绝，推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0920" y="328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军令状：接受军令后的保证书，表示如不能完成任务，愿依军法治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2743200" y="685800"/>
            <a:ext cx="396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多音字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590920" y="2362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581280" y="19051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050"/>
                </a:lnTo>
                <a:cubicBezTo>
                  <a:pt x="10800" y="10950"/>
                  <a:pt x="5400" y="11850"/>
                  <a:pt x="0" y="11850"/>
                </a:cubicBezTo>
                <a:cubicBezTo>
                  <a:pt x="5400" y="11850"/>
                  <a:pt x="10800" y="12750"/>
                  <a:pt x="10800" y="136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962520" y="190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éi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擂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30481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èi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打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04920" y="4724280"/>
            <a:ext cx="7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066680" y="4267080"/>
            <a:ext cx="152640" cy="1752840"/>
          </a:xfrm>
          <a:custGeom>
            <a:avLst/>
            <a:gdLst>
              <a:gd name="textAreaLeft" fmla="*/ 97560 w 152640"/>
              <a:gd name="textAreaRight" fmla="*/ 153000 w 15264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48320" y="4724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4191120"/>
            <a:ext cx="228600" cy="1904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295280" y="4267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iáo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调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295280" y="53341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iào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调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867280" y="41148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iàng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丞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67280" y="53341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iāng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相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04920" y="0"/>
            <a:ext cx="2361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提问题</a:t>
            </a:r>
            <a:endParaRPr b="1" i="1" lang="en-US" sz="96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9" name=""/>
          <p:cNvSpPr/>
          <p:nvPr/>
        </p:nvSpPr>
        <p:spPr>
          <a:xfrm>
            <a:off x="1066680" y="1447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谁是怎样利用草船借箭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066680" y="2362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他为什么要借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43000" y="335268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他为借箭做了那些准备工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066680" y="45720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借箭的结果怎样？这些箭他怎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回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50920" y="1736640"/>
            <a:ext cx="84247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才干  —（      ）   推却—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惩罚—（        ）   吩咐—（    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791" name="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才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979640" y="2421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处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92720" y="1808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推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609480" y="3429000"/>
            <a:ext cx="3124440" cy="1066680"/>
            <a:chOff x="609480" y="3429000"/>
            <a:chExt cx="3124440" cy="1066680"/>
          </a:xfrm>
        </p:grpSpPr>
        <p:sp>
          <p:nvSpPr>
            <p:cNvPr id="797" name=""/>
            <p:cNvSpPr/>
            <p:nvPr/>
          </p:nvSpPr>
          <p:spPr>
            <a:xfrm>
              <a:off x="609480" y="342900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3581280"/>
              <a:ext cx="281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50920" y="515772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惩罚—（      ）   齐全—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秘密—（      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050920" y="5157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奖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515772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短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940360" y="2421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867280" y="2492280"/>
            <a:ext cx="21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叮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029320" y="5838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公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087960" y="5776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826920" y="260280"/>
            <a:ext cx="684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从课文中找出一个最能说明中心的词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1828800"/>
            <a:ext cx="9144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神机妙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神机：灵巧的心思达到神奇的程度；妙：巧妙；算：谋划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人的机智，巧妙的谋划。形容有预见性，善于判断情势，决策高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468360" y="76500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1.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读读课文，分析人物关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1040" y="2708280"/>
            <a:ext cx="127764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神机妙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48400" y="2492280"/>
            <a:ext cx="1277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借造箭加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844720" y="177156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周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48360" y="14842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732720" y="1700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44720" y="5091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诸葛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948360" y="5084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曹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292720" y="479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借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2640000">
            <a:off x="1475640" y="4868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依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rot="18900000">
            <a:off x="1547640" y="234756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挫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960000">
            <a:off x="5077080" y="29239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打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8900000">
            <a:off x="5580360" y="357120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帮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572000" y="5445000"/>
            <a:ext cx="2305080" cy="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24360" y="2131920"/>
            <a:ext cx="2881080" cy="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1620720" y="4292280"/>
            <a:ext cx="1152720" cy="107964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1620720" y="2347920"/>
            <a:ext cx="1297080" cy="129528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564000" y="2492280"/>
            <a:ext cx="0" cy="259236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429080" y="2347560"/>
            <a:ext cx="2879640" cy="287964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213080" y="2276280"/>
            <a:ext cx="2880000" cy="2879640"/>
          </a:xfrm>
          <a:prstGeom prst="line">
            <a:avLst/>
          </a:prstGeom>
          <a:ln w="25560">
            <a:solidFill>
              <a:srgbClr val="3366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250920" y="907920"/>
            <a:ext cx="85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文中找出“草船借箭”的起因，经过和结果，各在哪几个自然段讲到的？除此还讲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 rot="21591000">
            <a:off x="847080" y="3347640"/>
            <a:ext cx="11552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Sylfaen"/>
                <a:ea typeface="楷体_GB2312"/>
              </a:rPr>
              <a:t>按事情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050920" y="3429000"/>
            <a:ext cx="457200" cy="2133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627280" y="321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起因（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1—2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27280" y="3860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准备（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3—5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627280" y="4627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经过（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6—9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627280" y="530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结果（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5076720" y="436572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3"/>
          <a:stretch/>
        </p:blipFill>
        <p:spPr>
          <a:xfrm>
            <a:off x="6732720" y="350028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4"/>
          <a:stretch/>
        </p:blipFill>
        <p:spPr>
          <a:xfrm>
            <a:off x="7667640" y="407664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5"/>
          <a:stretch/>
        </p:blipFill>
        <p:spPr>
          <a:xfrm>
            <a:off x="7380360" y="472428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6"/>
          <a:stretch/>
        </p:blipFill>
        <p:spPr>
          <a:xfrm>
            <a:off x="6227640" y="501336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7"/>
          <a:stretch/>
        </p:blipFill>
        <p:spPr>
          <a:xfrm>
            <a:off x="4643280" y="5373720"/>
            <a:ext cx="865440" cy="8650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95280" y="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Sylfaen"/>
                <a:ea typeface="黑体"/>
              </a:rPr>
              <a:t>整体感知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6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3"/>
          <p:cNvSpPr/>
          <p:nvPr/>
        </p:nvSpPr>
        <p:spPr>
          <a:xfrm>
            <a:off x="0" y="6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第一段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66ff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—</a:t>
            </a:r>
            <a:r>
              <a:rPr b="1" lang="en-US" sz="3200" spc="-1" strike="noStrike">
                <a:solidFill>
                  <a:srgbClr val="0066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自然段）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讲周瑜妒忌诸葛亮的才干，用十天造十万支箭的任务为难诸葛亮，诸葛亮接受任务并保证三天造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第四段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最后一个自然段）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诸葛亮如期交箭，周瑜自叹不如。小结：按照事情的发展顺序分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40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第三段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66ff"/>
                </a:solidFill>
                <a:latin typeface="隶书"/>
                <a:ea typeface="隶书"/>
              </a:rPr>
              <a:t>6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—</a:t>
            </a:r>
            <a:r>
              <a:rPr b="1" lang="en-US" sz="3200" spc="-1" strike="noStrike">
                <a:solidFill>
                  <a:srgbClr val="0066ff"/>
                </a:solidFill>
                <a:latin typeface="隶书"/>
                <a:ea typeface="隶书"/>
              </a:rPr>
              <a:t>9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自然段）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诸葛亮利用草船向曹操借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220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第二段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66ff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—</a:t>
            </a:r>
            <a:r>
              <a:rPr b="1" lang="en-US" sz="3200" spc="-1" strike="noStrike">
                <a:solidFill>
                  <a:srgbClr val="0066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自然段）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周瑜不给造箭材料进一步陷害诸葛亮，诸葛亮不要造箭材料，巧妙地做好借箭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95280" y="1125360"/>
            <a:ext cx="8372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瑜很（           ）诸葛亮的才干，用（           　　　　        ）来为难诸葛亮。这是草船借箭的（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诸葛亮用（                    ）的妙计来对付周瑜的暗算，这是草船借箭的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诸葛亮如期（             ），周瑜的阴谋（　　），这是草船借箭的（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68760" y="1841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妒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558800" y="2344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造十万支箭的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74240" y="277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起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517560" y="3497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草船借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24640" y="4002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737520" y="4721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交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576800" y="529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466320" y="5226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484360" y="260280"/>
            <a:ext cx="396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理清事情的前因后果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24000" y="47628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故事起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68360" y="1628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　　　　周瑜借战事紧急，请诸葛亮在十天之内造好十万支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5280" y="32464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　　　　周瑜因妒忌诸葛亮的才干想加害于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39640" y="162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表面起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39640" y="32194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实际起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8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332000" y="1268280"/>
            <a:ext cx="79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故事经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627280" y="148428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诸葛亮借助鲁肃的帮助，施妙计用草船向曹操“借箭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95280" y="765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故事结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68360" y="220500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　　　　诸葛亮神机妙算，周密布置，如期交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68360" y="375120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　　　　挫败了周瑜加害自己的阴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1280" y="22114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表面结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11280" y="37242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实际结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>
            <a:hlinkClick r:id="rId1" action="ppaction://hlinksldjump"/>
          </p:cNvPr>
          <p:cNvSpPr/>
          <p:nvPr/>
        </p:nvSpPr>
        <p:spPr>
          <a:xfrm>
            <a:off x="1476360" y="1492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默读起因部分，请你思考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39640" y="234936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ylfaen"/>
              </a:rPr>
              <a:t>         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1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周瑜是怎样“请”诸葛亮商议军事的？他的真正目的是什么，从哪儿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         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2</a:t>
            </a:r>
            <a:r>
              <a:rPr b="1" lang="zh-CN" sz="3600" spc="-1" strike="noStrike">
                <a:solidFill>
                  <a:srgbClr val="6666ff"/>
                </a:solidFill>
                <a:latin typeface="Sylfaen"/>
              </a:rPr>
              <a:t>、诸葛亮为什么不揭穿他，反而接受赶造十万枝箭的任务，并且立下军令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260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默读故事起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5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20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20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611280" y="83664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4" name=""/>
          <p:cNvSpPr/>
          <p:nvPr/>
        </p:nvSpPr>
        <p:spPr>
          <a:xfrm>
            <a:off x="755640" y="2205000"/>
            <a:ext cx="792000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Sylfaen"/>
                <a:ea typeface="隶书"/>
              </a:rPr>
              <a:t>知识目标：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1.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学会本课的生字新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                                  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2.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了解故事的起因，经过，结果，学习分清事情的前因后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Sylfaen"/>
                <a:ea typeface="隶书"/>
              </a:rPr>
              <a:t>能力目标：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3.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学习通过人物的语言描写刻画人物的写作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Sylfaen"/>
                <a:ea typeface="隶书"/>
              </a:rPr>
              <a:t>情感目标：</a:t>
            </a:r>
            <a:r>
              <a:rPr b="0" lang="zh-CN" sz="2400" spc="-1" strike="noStrike">
                <a:solidFill>
                  <a:srgbClr val="000000"/>
                </a:solidFill>
                <a:latin typeface="Sylfaen"/>
                <a:ea typeface="黑体"/>
              </a:rPr>
              <a:t>   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4.</a:t>
            </a:r>
            <a:r>
              <a:rPr b="0" lang="zh-CN" sz="2800" spc="-1" strike="noStrike">
                <a:solidFill>
                  <a:srgbClr val="ffcc66"/>
                </a:solidFill>
                <a:latin typeface="Sylfaen"/>
                <a:ea typeface="黑体"/>
              </a:rPr>
              <a:t>体会诸葛亮的神机妙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4"/>
          <a:stretch/>
        </p:blipFill>
        <p:spPr>
          <a:xfrm>
            <a:off x="7308720" y="2602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5"/>
          <a:stretch/>
        </p:blipFill>
        <p:spPr>
          <a:xfrm>
            <a:off x="7238880" y="6237360"/>
            <a:ext cx="19051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561960" y="942840"/>
            <a:ext cx="8172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们就要跟曹军交战。水上交战，用什么兵器最好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?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用弓箭最好。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对，先生跟我想的一样。现在军中缺箭，想请先生负责赶造十万支。这是公事，希望先生不要推却。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都督委托，当然照办。不知道这十万支箭什么时候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33440" y="765000"/>
            <a:ext cx="845964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十天造得好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既然就要交战，十天造好，必然误了大事。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先生预计几天可以造好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只要三天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军情紧急，可不能开玩笑。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怎么敢跟都督开玩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愿意立下军令状，三天造不好，甘受惩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476360" y="5589720"/>
            <a:ext cx="568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在对话时，各自是怎样想的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395280" y="907920"/>
            <a:ext cx="8437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填词：试探 心中暗喜 威胁 迫不及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明知故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周瑜（明知故问）；“我们就要跟曹军交战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周瑜（        ）说：“对，先生跟我想的一样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周瑜（　　　　）说：“十天造的好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周瑜（　　　　）说：“先生预计几天可以造好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周瑜（　　　　）说：“军情紧急，可不能开玩笑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829880" y="227664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Sylfaen"/>
                <a:ea typeface="黑体"/>
              </a:rPr>
              <a:t>心中暗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829880" y="292428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Sylfaen"/>
                <a:ea typeface="黑体"/>
              </a:rPr>
              <a:t>迫不及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922400" y="34290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  <a:ea typeface="黑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Sylfaen"/>
                <a:ea typeface="黑体"/>
              </a:rPr>
              <a:t>试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900080" y="407664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Sylfaen"/>
                <a:ea typeface="黑体"/>
              </a:rPr>
              <a:t>威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97000" y="3762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析人物的心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11280" y="5084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周瑜是一个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                      人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19640" y="5013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黑体"/>
              </a:rPr>
              <a:t>步步紧逼、险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324000" y="765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析人物的心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58920" y="2133720"/>
            <a:ext cx="878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诸葛亮（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脱口而出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）：“用弓箭最好。”　　　　　　　　　　　　　诸葛亮（　　　　）说：“都督委托，当然办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诸葛亮（　　　　）说：“既然就要交战，十天造好，　　　　　　　　　　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必然误了大事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诸葛亮（　　　　）说：“只要三天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诸葛亮（　　　　）说：“…我愿立军令状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2840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Sylfaen"/>
                <a:ea typeface="黑体"/>
              </a:rPr>
              <a:t>胸有成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22840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Sylfaen"/>
                <a:ea typeface="黑体"/>
              </a:rPr>
              <a:t>态度坚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83680" y="306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Sylfaen"/>
                <a:ea typeface="黑体"/>
              </a:rPr>
              <a:t>将计就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166480" y="256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Sylfaen"/>
                <a:ea typeface="黑体"/>
              </a:rPr>
              <a:t>笑了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24000" y="1413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填词：将计就计 态度坚决 笑了笑 胸有成竹  脱口而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0920" y="5373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诸葛亮是一个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                      人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132000" y="522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黑体"/>
              </a:rPr>
              <a:t>胸有成竹、有胆有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2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20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2000" fill="hold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 fill="hold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2000" fill="hold"/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2000" fill="hold"/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2000" fill="hold"/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79280" y="62064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默读起因部分，请你思考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39640" y="1844640"/>
            <a:ext cx="828036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lfae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Sylfaen"/>
                <a:ea typeface="楷体_GB2312"/>
              </a:rPr>
              <a:t>、周瑜是怎样“请”诸葛亮商议军事的？他的真正目的是什么，从哪儿看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周瑜嫉妒诸葛亮的才能，意欲加害诸葛亮，于是以共商军事，作战急需用箭为名，暗里是设下陷阱，假借“公事”逼迫诸葛亮承担造箭任务。从周瑜不动声色的话中反映出他的险恶用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9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C -0.00798 0.00231 -0.01632 0.00301 -0.02413 0.00648 C -0.02743 0.00949 -0.03073 0.01227 -0.03385 0.01528 C -0.03611 0.01736 -0.04028 0.02153 -0.04028 0.02153 C -0.04566 0.03194 -0.04132 0.02685 -0.0533 0.03032 C -0.0658 0.03379 -0.07778 0.03981 -0.09028 0.04305 C -0.09653 0.04861 -0.10069 0.04977 -0.10816 0.05162 C -0.10972 0.05301 -0.11111 0.05486 -0.11285 0.05602 C -0.11441 0.05694 -0.11632 0.05694 -0.11771 0.0581 C -0.12274 0.06203 -0.13229 0.07106 -0.13229 0.07106 C -0.13559 0.08472 -0.13194 0.07616 -0.15 0.07963 C -0.17639 0.08472 -0.20208 0.08842 -0.22899 0.09051 C -0.24305 0.09166 -0.25694 0.0919 -0.27101 0.09259 C -0.31215 0.0993 -0.29878 0.09815 -0.37743 0.08819 C -0.39774 0.08565 -0.41476 0.07222 -0.43385 0.06666 C -0.45035 0.06203 -0.47691 0.05741 -0.49514 0.05393 C -0.52708 0.0419 -0.55503 0.03565 -0.58871 0.03241 C -0.62344 0.03356 -0.65226 0.03657 -0.68559 0.04097 C -0.70173 0.04629 -0.71771 0.05278 -0.73385 0.0581 C -0.74618 0.06643 -0.76059 0.06805 -0.77413 0.07106 C -0.78715 0.06875 -0.79896 0.06967 -0.80972 0.06041 C -0.79635 0.04838 -0.81701 0.06574 -0.78559 0.05162 C -0.78542 0.05162 -0.76371 0.03541 -0.76285 0.03449 C -0.74427 0.03657 -0.72656 0.04166 -0.70816 0.04537 C -0.70486 0.04676 -0.70173 0.04861 -0.69844 0.04953 C -0.69149 0.05139 -0.67743 0.05393 -0.67743 0.05393 C -0.66892 0.05764 -0.66007 0.05879 -0.65156 0.0625 C -0.64288 0.0662 -0.63055 0.07014 -0.62257 0.07546 C -0.61649 0.07963 -0.61927 0.07986 -0.61285 0.08194 C -0.60625 0.08403 -0.59479 0.08518 -0.58871 0.08611 C -0.56389 0.09977 -0.54114 0.10301 -0.51458 0.10555 C -0.47378 0.11597 -0.41285 0.11088 -0.37257 0.11203 C -0.31684 0.11759 -0.26302 0.10486 -0.20816 0.09907 C -0.20121 0.09676 -0.19392 0.09606 -0.18715 0.09259 C -0.18524 0.09166 -0.1842 0.08912 -0.18229 0.08819 C -0.17812 0.08611 -0.17378 0.08541 -0.16944 0.08403 C -0.16146 0.0787 -0.15347 0.07523 -0.14514 0.07106 C -0.13524 0.0662 -0.12639 0.05926 -0.11614 0.05602 C -0.11285 0.05324 -0.10816 0.05208 -0.10642 0.04745 C -0.10538 0.04467 -0.10521 0.04074 -0.1033 0.03889 C -0.10052 0.03611 -0.0967 0.03634 -0.09358 0.03449 C -0.09184 0.03356 -0.0901 0.03194 -0.08871 0.03032 C -0.07951 0.01991 -0.07795 0.00741 -0.06614 0.00231 C -0.05798 -0.00486 -0.05069 -0.00903 -0.04201 -0.01505 C -0.03507 -0.01435 -0.02795 -0.01435 -0.02101 -0.01273 C -0.0191 -0.01227 -0.01788 -0.00949 -0.01614 -0.00857 C -0.01302 -0.00672 -0.00955 -0.00625 -0.00642 -0.00417 C -0.00434 -0.00278 -0.00208 -0.00139 1.38889E-006 4.81481E-006 C 0.00104 0.00208 0.00156 0.00486 0.00313 0.00648 C 0.00452 0.00787 0.00677 0.00717 0.00799 0.00879 C 0.01181 0.01389 0.01771 0.02592 0.01771 0.02592 C 0.02031 0.0368 0.01771 0.03171 0.02899 0.03657 C 0.03316 0.03842 0.04184 0.04097 0.04184 0.04097 C 0.04913 0.04745 0.05764 0.04953 0.06615 0.05162 C 0.07309 0.05023 0.08056 0.05116 0.08715 0.04745 C 0.09219 0.04467 0.08646 0.03194 0.08542 0.03032 C 0.07952 0.02222 0.0717 0.02083 0.06615 0.01296 E">
                                      <p:cBhvr>
                                        <p:cTn id="916" dur="5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2000" fill="hold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2000" fill="hold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77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诸葛亮为什么不揭穿他，反而接受赶造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万枝箭的任务，并且立下军令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4500720" y="53737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3564000" y="53737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395280" y="3645000"/>
            <a:ext cx="84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一方面诸葛亮顾全大局，为了维护蜀、吴联盟和战胜曹操的十万大军，所以不和周瑜计较。另一方面诸葛亮对于向曹操借箭的计划早就成竹在胸，所以他欣然地立下了周瑜想置他于死地的“军令状”，表现出诸葛亮的足智多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47400" y="219852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诸葛亮识破了周瑜的计划，但他不顾个人恩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国家利益为重，为水战胜利考虑，才答应三天造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支箭，并且愿意立下军令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1" dur="5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6" dur="500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>
            <a:hlinkClick r:id="rId1" action="ppaction://hlinksldjump"/>
          </p:cNvPr>
          <p:cNvSpPr/>
          <p:nvPr/>
        </p:nvSpPr>
        <p:spPr>
          <a:xfrm>
            <a:off x="1371600" y="1851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自读经过部分，请你思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62120" y="2797200"/>
            <a:ext cx="72388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为什么诸葛亮直到第三天四更才去开船借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他怎么知道三天之内必有大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谁能复述借箭的经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1714680"/>
          </a:xfrm>
          <a:prstGeom prst="rect">
            <a:avLst/>
          </a:prstGeom>
          <a:ln w="0">
            <a:noFill/>
          </a:ln>
        </p:spPr>
      </p:pic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读故事经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380880" y="38088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说说借箭经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315200" y="5943600"/>
            <a:ext cx="152388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连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867280" y="4495680"/>
            <a:ext cx="236232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靠近曹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495680" y="3200400"/>
            <a:ext cx="2362320" cy="70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字摆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934320" y="1905120"/>
            <a:ext cx="220968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擂鼓呐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52880" y="1981080"/>
            <a:ext cx="121932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362320" y="1905120"/>
            <a:ext cx="2133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调转船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28600" y="1905120"/>
            <a:ext cx="160668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受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495680" y="6019920"/>
            <a:ext cx="213372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谢箭回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 flipV="1">
            <a:off x="7314840" y="533376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6172200" y="2666520"/>
            <a:ext cx="15238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6095880" y="388584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914400" y="2590920"/>
            <a:ext cx="4267080" cy="3504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6156000" y="227664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1835280" y="2205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 flipV="1">
            <a:off x="4500360" y="2340000"/>
            <a:ext cx="502920" cy="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" descr=""/>
          <p:cNvPicPr/>
          <p:nvPr/>
        </p:nvPicPr>
        <p:blipFill>
          <a:blip r:embed="rId2"/>
          <a:srcRect l="1160" t="14298" r="1549" b="14639"/>
          <a:stretch/>
        </p:blipFill>
        <p:spPr>
          <a:xfrm>
            <a:off x="2124000" y="3213000"/>
            <a:ext cx="4753080" cy="2776680"/>
          </a:xfrm>
          <a:prstGeom prst="rect">
            <a:avLst/>
          </a:prstGeom>
          <a:ln w="0">
            <a:noFill/>
          </a:ln>
        </p:spPr>
      </p:pic>
      <p:grpSp>
        <p:nvGrpSpPr>
          <p:cNvPr id="927" name=""/>
          <p:cNvGrpSpPr/>
          <p:nvPr/>
        </p:nvGrpSpPr>
        <p:grpSpPr>
          <a:xfrm>
            <a:off x="561960" y="981000"/>
            <a:ext cx="8402760" cy="2104920"/>
            <a:chOff x="561960" y="981000"/>
            <a:chExt cx="8402760" cy="2104920"/>
          </a:xfrm>
        </p:grpSpPr>
        <p:sp>
          <p:nvSpPr>
            <p:cNvPr id="928" name=""/>
            <p:cNvSpPr/>
            <p:nvPr/>
          </p:nvSpPr>
          <p:spPr>
            <a:xfrm>
              <a:off x="561960" y="981000"/>
              <a:ext cx="840276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“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借给我二十条船，每条船上要三十名军士。船用青布幔子遮起来，还要一千多个草把子，排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船的两边。我自有妙用。第三天管保有十万支箭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201160" y="256536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611280" y="6237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借箭所做的准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3049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借箭的准备工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62120" y="1523880"/>
            <a:ext cx="75438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、二十条船，每条船三十名军士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62120" y="3505320"/>
            <a:ext cx="746748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、船用青布幔子遮起来，还要一千多个草靶子，排在船的两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4360" y="13622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我国四大名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84360" y="2403360"/>
            <a:ext cx="51829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三国演义     罗贯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水浒传       施耐庵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红楼梦       曹雪芹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西游记       吴承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335480" y="-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252360" y="5668920"/>
            <a:ext cx="9144000" cy="11890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情景导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4,-1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8153280" y="5638680"/>
            <a:ext cx="99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　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诸葛亮吩咐把二十条船用绳索连接起来，朝北岸开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55640" y="2852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诸葛亮为什么要把船连接起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050920" y="4076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为了增大受箭面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74560" y="907920"/>
            <a:ext cx="8197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时候大雾漫天，江上连面对面都看不清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····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下令把船头朝西，船尾朝东，一字摆开，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叫船上的军士一边擂鼓，一边大声呐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rcRect l="2383" t="15335" r="1759" b="15190"/>
          <a:stretch/>
        </p:blipFill>
        <p:spPr>
          <a:xfrm>
            <a:off x="4572000" y="314172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4"/>
          <a:stretch/>
        </p:blipFill>
        <p:spPr>
          <a:xfrm>
            <a:off x="0" y="3068640"/>
            <a:ext cx="4500720" cy="364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rcRect l="2383" t="15335" r="1759" b="15190"/>
          <a:stretch/>
        </p:blipFill>
        <p:spPr>
          <a:xfrm>
            <a:off x="250920" y="3573360"/>
            <a:ext cx="8424720" cy="302112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498160" cy="309744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826920" y="2349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字摆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042920" y="57340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边擂鼓，一边大声呐喊。（虚张声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324000" y="33336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　　“这时候大雾漫天，江上连面对面都看不清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84360" y="2565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　　诸葛亮为什么选择大雾漫天的时候去借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835280" y="42210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为了使敌人不明真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228600" y="22860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这时候大雾漫天，江上连面对面都看不清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0880" y="220968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场大雾，哪些人看到了？他们看到这场大雾，心情会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90720" y="396252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80415"/>
                </a:solidFill>
                <a:latin typeface="Times New Roman"/>
                <a:ea typeface="楷体_GB2312"/>
              </a:rPr>
              <a:t>假如你是鲁肃，怎么读这个句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80415"/>
                </a:solidFill>
                <a:latin typeface="Times New Roman"/>
                <a:ea typeface="楷体_GB2312"/>
              </a:rPr>
              <a:t>假如你是诸葛亮，怎么读这个句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80415"/>
                </a:solidFill>
                <a:latin typeface="Times New Roman"/>
                <a:ea typeface="楷体_GB2312"/>
              </a:rPr>
              <a:t>假如你是曹操，怎么读这个句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077320" y="5867280"/>
            <a:ext cx="761760" cy="6098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250920" y="476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　　“诸葛亮下令……，又叫船上的军士一边擂鼓，一边大声呐喊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63640" y="2852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诸葛亮为什么下令军士擂鼓呐喊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71640" y="393372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为了制造进攻的假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MediaPlayer1"/>
          <p:cNvGraphicFramePr/>
          <p:nvPr/>
        </p:nvGraphicFramePr>
        <p:xfrm>
          <a:off x="9396360" y="4869000"/>
          <a:ext cx="50472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9" name="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6360" y="4869000"/>
                    <a:ext cx="504720" cy="57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4572000" y="3840120"/>
            <a:ext cx="4572000" cy="301788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5003640" cy="307656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2138400" y="32004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许多草船连成一排受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8458200" y="6324480"/>
            <a:ext cx="457200" cy="304920"/>
          </a:xfrm>
          <a:custGeom>
            <a:avLst/>
            <a:gdLst>
              <a:gd name="textAreaLeft" fmla="*/ 76320 w 457200"/>
              <a:gd name="textAreaRight" fmla="*/ 38124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6975" y="5400"/>
                </a:lnTo>
                <a:lnTo>
                  <a:pt x="5400" y="5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6975" y="16200"/>
                </a:lnTo>
                <a:lnTo>
                  <a:pt x="26975" y="5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6975" y="16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375" h="21600">
                <a:moveTo>
                  <a:pt x="14177" y="10800"/>
                </a:moveTo>
                <a:lnTo>
                  <a:pt x="20212" y="6775"/>
                </a:lnTo>
                <a:lnTo>
                  <a:pt x="20212" y="14825"/>
                </a:lnTo>
                <a:close/>
              </a:path>
              <a:path fill="darken" w="32375" h="21600">
                <a:moveTo>
                  <a:pt x="12162" y="6775"/>
                </a:moveTo>
                <a:lnTo>
                  <a:pt x="13117" y="6775"/>
                </a:lnTo>
                <a:lnTo>
                  <a:pt x="13117" y="14825"/>
                </a:lnTo>
                <a:lnTo>
                  <a:pt x="12162" y="1482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03756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905120" y="61722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许多草船连成一排受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" descr=""/>
          <p:cNvPicPr/>
          <p:nvPr/>
        </p:nvPicPr>
        <p:blipFill>
          <a:blip r:embed="rId1"/>
          <a:srcRect l="3339" t="3333" r="2502" b="33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8229600" y="5867280"/>
            <a:ext cx="914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Times New Roman"/>
              </a:rPr>
              <a:t>日积月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三国的歇后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草船借箭——满载而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张飞吃豆芽——小菜一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周瑜打黄盖——一个愿打一个愿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张飞吃秤砣——铁了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孔明借东风——巧用天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东吴招亲——赔了夫人又折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2556000" y="5589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诸葛亮鲁肃在船内饮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971640" y="404640"/>
            <a:ext cx="7200360" cy="5065920"/>
            <a:chOff x="971640" y="404640"/>
            <a:chExt cx="7200360" cy="5065920"/>
          </a:xfrm>
        </p:grpSpPr>
        <p:pic>
          <p:nvPicPr>
            <p:cNvPr id="970" name="" descr=""/>
            <p:cNvPicPr/>
            <p:nvPr/>
          </p:nvPicPr>
          <p:blipFill>
            <a:blip r:embed="rId1"/>
            <a:stretch/>
          </p:blipFill>
          <p:spPr>
            <a:xfrm>
              <a:off x="971640" y="1557360"/>
              <a:ext cx="720036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 txBox="1"/>
            <p:nvPr/>
          </p:nvSpPr>
          <p:spPr>
            <a:xfrm>
              <a:off x="2891880" y="404640"/>
              <a:ext cx="3403440" cy="81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草船借箭</a:t>
              </a:r>
              <a:endPara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755640" y="15573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诸葛亮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着说：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雾这样大，曹操一定不敢派兵出来。我们只管饮酒去了，天亮了就回去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95280" y="3429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诸葛亮说的话对不对？找一找有关句子来说明。这又读懂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曹操听到鼓声和呐喊声，就下令说：“江上雾很大，敌人忽然来攻，我们看不清虚实，不要轻易出动。只叫弓弩手朝他们射箭，不让他们近前。”他派人去旱寨调来六千名弓弩手，到江边支援水军。一万多名弓弩手一齐朝江中放箭，箭好像下雨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380360" y="6237360"/>
            <a:ext cx="287280" cy="216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228600" y="38088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诸葛亮笑着说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:“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雾这样大，曹操一定不敢派兵出来。我们只管饮酒取乐，天亮了就回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55640" y="304812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80415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680415"/>
                </a:solidFill>
                <a:latin typeface="隶书"/>
                <a:ea typeface="隶书"/>
              </a:rPr>
              <a:t>本文中写诸葛亮说话的地方有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11</a:t>
            </a:r>
            <a:r>
              <a:rPr b="0" lang="zh-CN" sz="4000" spc="-1" strike="noStrike">
                <a:solidFill>
                  <a:srgbClr val="680415"/>
                </a:solidFill>
                <a:latin typeface="隶书"/>
                <a:ea typeface="隶书"/>
              </a:rPr>
              <a:t>处，但只有这个地方写诸葛亮的笑。你们说，诸葛亮笑谁？他算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543800" y="5867280"/>
            <a:ext cx="990720" cy="457200"/>
          </a:xfrm>
          <a:prstGeom prst="cloudCallout">
            <a:avLst>
              <a:gd name="adj1" fmla="val 9615"/>
              <a:gd name="adj2" fmla="val 14340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611280" y="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领悟诸葛亮的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95280" y="620640"/>
            <a:ext cx="8064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诸葛亮的笑很有深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是在笑曹操，因为他太了解曹操了。这是讽刺的笑、轻蔑的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是在笑鲁肃，笑他忠厚老实，不知底细，是宽厚友善的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是在笑周瑜，笑周瑜计策落空，拿他无可奈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是自信的笑、胜利的笑，笑出了英雄本色。从诸葛亮的“笑”中，可以看出他胸有成竹，神机妙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95280" y="907920"/>
            <a:ext cx="8332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诸葛亮又下令把船掉过来，船头朝东，船尾朝西，仍旧擂鼓呐喊，逼近曹军水寨受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rcRect l="1969" t="15020" r="1160" b="15190"/>
          <a:stretch/>
        </p:blipFill>
        <p:spPr>
          <a:xfrm>
            <a:off x="4427640" y="299736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179280" y="270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诸葛亮为什么要这样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24000" y="3933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样既能两面受箭，又可保持船体平衡，也便于箭满后顺风顺水返还，省去掉头的时间。足见诸葛亮的过人智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95280" y="907920"/>
            <a:ext cx="8332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曹操知道上了当，可是这边的船顺风顺水，已经驶出二十多里，要追也来不及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rcRect l="1969" t="15020" r="1160" b="15190"/>
          <a:stretch/>
        </p:blipFill>
        <p:spPr>
          <a:xfrm>
            <a:off x="4427640" y="299736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179280" y="270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顺风顺水”说明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4000" y="3933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显示了诸葛亮丰富的天文、地理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501336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课文还有哪个地方显示诸葛亮精通天文、气象，预测准确的句子？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第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7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节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685800" y="255600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Sylfae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草船借箭的结果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时周瑜的心里是什么滋味？为什么长叹一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哪里看出周瑜的沮丧、惭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>
            <a:hlinkClick r:id="rId1" action="ppaction://hlinksldjump"/>
          </p:cNvPr>
          <p:cNvSpPr/>
          <p:nvPr/>
        </p:nvSpPr>
        <p:spPr>
          <a:xfrm>
            <a:off x="1371600" y="179064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自读结果部分，请思考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2"/>
          <a:stretch/>
        </p:blipFill>
        <p:spPr>
          <a:xfrm>
            <a:off x="0" y="5013360"/>
            <a:ext cx="2916360" cy="184464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自读故事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100"/>
                            </p:stCondLst>
                            <p:childTnLst>
                              <p:par>
                                <p:cTn id="1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468360" y="1052640"/>
            <a:ext cx="83329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周瑜长叹一声，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                 ，我真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上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2"/>
          <a:srcRect l="2362" t="13799" r="1459" b="15190"/>
          <a:stretch/>
        </p:blipFill>
        <p:spPr>
          <a:xfrm>
            <a:off x="1176480" y="2567160"/>
            <a:ext cx="5483160" cy="32382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5506920" y="12398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机妙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3809880" y="533520"/>
            <a:ext cx="44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诸葛亮巧妙安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971800" y="1600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妙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青布幔子遮船，曹军看不清虚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971800" y="2209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妙：</a:t>
            </a: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草靶子排在船两边，吓唬曹营军士，还可以保护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971800" y="3124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妙：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二十只船一字排开，两面受箭，面积大。保证了借箭的数量，保持了船的平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4197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四妙：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二十只船来去顺风顺水，曹军望船兴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71800" y="54100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五妙：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船上军士擂鼓呐喊，虚张声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848720" y="5334120"/>
            <a:ext cx="1295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"/>
          <a:srcRect l="1890" t="0" r="44325" b="0"/>
          <a:stretch/>
        </p:blipFill>
        <p:spPr>
          <a:xfrm>
            <a:off x="76320" y="1600200"/>
            <a:ext cx="2895480" cy="44197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3048120" y="1447920"/>
            <a:ext cx="9144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971800" y="3124080"/>
            <a:ext cx="9907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8153280" y="320040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81000" y="2011320"/>
            <a:ext cx="69757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歇后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的鹅毛扇 —— 神秘莫测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三气周瑜 —— 略施小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借箭 —— 有借无还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用兵 —— 神出鬼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哭周瑜 —— 假戏真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268360" y="1181160"/>
            <a:ext cx="50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关诸葛亮的歇后语和成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WordArt 3"/>
          <p:cNvSpPr txBox="1"/>
          <p:nvPr/>
        </p:nvSpPr>
        <p:spPr>
          <a:xfrm>
            <a:off x="2895480" y="380880"/>
            <a:ext cx="326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诸葛亮神机妙算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1042920" y="1197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知天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8"/>
          <p:cNvSpPr/>
          <p:nvPr/>
        </p:nvSpPr>
        <p:spPr>
          <a:xfrm>
            <a:off x="0" y="19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第一天，不见诸葛亮有什么动静；第二天，仍然不见诸葛亮有什么动静；直到第三天四更时候，诸葛亮秘密地把鲁肃请到船里。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9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这时候大雾漫天，江上连面对面都看不清。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0"/>
          <p:cNvSpPr/>
          <p:nvPr/>
        </p:nvSpPr>
        <p:spPr>
          <a:xfrm>
            <a:off x="826920" y="3860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体会：诸葛亮早在三天前就已经算准了这场大雾。表现出诸葛亮的胸有成竹、从容不迫和神机妙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0" y="67464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-360" y="1844280"/>
            <a:ext cx="87850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◎“这时候大雾漫天，江上连面对面都看不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场大雾，诸葛亮和鲁肃都看到了，请大家体会体会，鲁肃和诸葛亮看到这场大雾各自会是怎样的心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鲁肃会感到很吃惊；而诸葛亮则暗自高兴，因为这场大雾是他在三天前就已料到的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◎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天，不见诸葛亮有什么动静；第二天，仍不见诸葛亮有什么动静；直到第三天四更的时候，诸葛亮秘密把鲁肃请到船里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564000" y="692280"/>
            <a:ext cx="1871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知天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763640" y="112536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哪儿看出他上知天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WordArt 2"/>
          <p:cNvSpPr txBox="1"/>
          <p:nvPr/>
        </p:nvSpPr>
        <p:spPr>
          <a:xfrm>
            <a:off x="2895480" y="380880"/>
            <a:ext cx="326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诸葛亮神机妙算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4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懂地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0" y="220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天还没亮，船已经靠近曹军的水寨。诸葛亮下令把船头朝西，船尾朝东，一字儿摆开，又叫船上的军士一边擂鼓，一边大声呐喊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5"/>
          <p:cNvSpPr/>
          <p:nvPr/>
        </p:nvSpPr>
        <p:spPr>
          <a:xfrm>
            <a:off x="0" y="511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隶书"/>
              </a:rPr>
              <a:t>诸葛亮又下令把船掉过来，船头朝东，船尾朝西，仍然擂鼓呐喊，逼近曹军水寨受箭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6"/>
          <p:cNvSpPr/>
          <p:nvPr/>
        </p:nvSpPr>
        <p:spPr>
          <a:xfrm>
            <a:off x="684360" y="4005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体会：诸葛亮考虑周密，算准借箭的位置，并且进行了巧妙的安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1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5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5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1"/>
          <a:stretch/>
        </p:blipFill>
        <p:spPr>
          <a:xfrm>
            <a:off x="0" y="96372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3564000" y="692280"/>
            <a:ext cx="2303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3.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懂地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52360" y="1413000"/>
            <a:ext cx="889164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◎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諸葛亮吩咐把二十条船用绳索连接起来，朝北岸开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◎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还没有亮，船已经靠近曹军的水寨。诸葛亮下令把船头朝西，船尾朝东，一字儿摆开，又叫船上的军士一边擂鼓，一边大声呐喊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◎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诸葛亮又下令把船掉过头，船头朝东，船尾朝西，仍然擂鼓呐喊，逼近曹军水寨去受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：诸葛亮为什么要先船头朝西，船尾朝东，再船头朝东，船尾朝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468360" y="90792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宋体"/>
              </a:rPr>
              <a:t>大雾漫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66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0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3635280" y="1484280"/>
            <a:ext cx="2376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4.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识人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50920" y="2781360"/>
            <a:ext cx="842472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识曹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诸葛亮笑着说：“雾这么大，曹操一定不敢派兵出来。我们只管饮酒取乐，天亮了就回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句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诸葛亮笑着说：“雾这么大，曹操不敢派兵出来。我们只管饮酒取乐，天亮了就回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275560" y="1989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儿看出他算准了曹操不会派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WordArt 2"/>
          <p:cNvSpPr txBox="1"/>
          <p:nvPr/>
        </p:nvSpPr>
        <p:spPr>
          <a:xfrm>
            <a:off x="2771640" y="260280"/>
            <a:ext cx="3267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诸葛亮神机妙算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识人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◎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曹操听到鼓声和呐喊声，就下令说：“江上雾很大，敌人忽然来攻，我们看不清虚实，不要轻易出动。只叫弓弩手朝他们射箭，不让他们近前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202560" y="4005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曹操：谨慎多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11280" y="1816200"/>
            <a:ext cx="792144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识鲁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诸葛亮明明知道周瑜暗藏杀机，鲁肃又是周瑜的心腹，为何还要请鲁肃帮忙？他不怕鲁肃向周瑜告密吗？请你认真思考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0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5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5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2" dur="5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468360" y="907920"/>
            <a:ext cx="2174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读句子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4" name=""/>
          <p:cNvSpPr/>
          <p:nvPr/>
        </p:nvSpPr>
        <p:spPr>
          <a:xfrm>
            <a:off x="1066680" y="4210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66680" y="1716120"/>
            <a:ext cx="7315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幼圆"/>
              </a:rPr>
              <a:t>      “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幼圆"/>
              </a:rPr>
              <a:t>鲁肃答应了。他不知道诸葛亮借了船有什么用，回来报告周瑜，果然不提借船的事，只说诸葛亮不用竹子、翎毛、胶漆这些材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幼圆"/>
              </a:rPr>
              <a:t>思考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幼圆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幼圆"/>
              </a:rPr>
              <a:t>从这句话你了解鲁肃的为人是怎么样的吗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幼圆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忠厚守信、顾全大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0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6" dur="20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360360" y="71424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5.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计划周密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7315200" y="5734080"/>
            <a:ext cx="1523880" cy="703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连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867280" y="4292640"/>
            <a:ext cx="2362320" cy="703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靠近曹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356000" y="2997360"/>
            <a:ext cx="2362320" cy="703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字摆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934320" y="1773360"/>
            <a:ext cx="22096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擂鼓呐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08680" y="1773360"/>
            <a:ext cx="12189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362320" y="1773360"/>
            <a:ext cx="213336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调转船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28600" y="1773360"/>
            <a:ext cx="17524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受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495680" y="5805360"/>
            <a:ext cx="2133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谢箭回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 flipV="1">
            <a:off x="7314840" y="5084640"/>
            <a:ext cx="6094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6172200" y="2491920"/>
            <a:ext cx="15238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 flipV="1">
            <a:off x="6095880" y="371592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914400" y="2421000"/>
            <a:ext cx="4267080" cy="3504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6248520" y="22860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676520" y="220968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4266720" y="22860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900000" y="1125360"/>
            <a:ext cx="741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草船借箭 —— 满载而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斩马谡 —— 不念旧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诸葛亮焚香弹琴 —— 故弄玄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成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草船借箭        三顾茅庐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事俱备，只欠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7468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周瑜长叹一声，说：“诸葛亮神机妙算，我真比不上他</a:t>
            </a: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600200" y="27432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周瑜到底哪些地方比不上诸葛亮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4" name=""/>
          <p:cNvGraphicFramePr/>
          <p:nvPr/>
        </p:nvGraphicFramePr>
        <p:xfrm>
          <a:off x="1066680" y="3809880"/>
          <a:ext cx="6246720" cy="1966680"/>
        </p:xfrm>
        <a:graphic>
          <a:graphicData uri="http://schemas.openxmlformats.org/drawingml/2006/table">
            <a:tbl>
              <a:tblPr/>
              <a:tblGrid>
                <a:gridCol w="1375560"/>
                <a:gridCol w="2405520"/>
                <a:gridCol w="2465640"/>
              </a:tblGrid>
              <a:tr h="42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诸葛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周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智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借”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造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胸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宽厚待人 把握全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心胸狭窄 嫉贤妒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才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运筹帷幄 神机妙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20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-152280" y="2590920"/>
            <a:ext cx="3068640" cy="1676160"/>
          </a:xfrm>
          <a:custGeom>
            <a:avLst/>
            <a:gdLst>
              <a:gd name="textAreaLeft" fmla="*/ 383400 w 3068640"/>
              <a:gd name="textAreaRight" fmla="*/ 2685240 w 3068640"/>
              <a:gd name="textAreaTop" fmla="*/ 419040 h 1676160"/>
              <a:gd name="textAreaBottom" fmla="*/ 12571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9b5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船借箭成功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90720" cy="14479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2411280" y="1557360"/>
            <a:ext cx="5986440" cy="838080"/>
          </a:xfrm>
          <a:custGeom>
            <a:avLst/>
            <a:gdLst>
              <a:gd name="textAreaLeft" fmla="*/ 1366560 w 5986440"/>
              <a:gd name="textAreaRight" fmla="*/ 4619880 w 598644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晓地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3"/>
          <a:stretch/>
        </p:blipFill>
        <p:spPr>
          <a:xfrm>
            <a:off x="1295280" y="4572000"/>
            <a:ext cx="990720" cy="144792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5"/>
          <a:stretch/>
        </p:blipFill>
        <p:spPr>
          <a:xfrm>
            <a:off x="8153280" y="54100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2916360" y="3068640"/>
            <a:ext cx="5803920" cy="838080"/>
          </a:xfrm>
          <a:custGeom>
            <a:avLst/>
            <a:gdLst>
              <a:gd name="textAreaLeft" fmla="*/ 1324800 w 5803920"/>
              <a:gd name="textAreaRight" fmla="*/ 4479120 w 580392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考虑周全，安排巧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843280" y="4343400"/>
            <a:ext cx="5767200" cy="838080"/>
          </a:xfrm>
          <a:custGeom>
            <a:avLst/>
            <a:gdLst>
              <a:gd name="textAreaLeft" fmla="*/ 1316520 w 5767200"/>
              <a:gd name="textAreaRight" fmla="*/ 4450680 w 57672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胆略，擅长识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700360" y="5734080"/>
            <a:ext cx="5875200" cy="838080"/>
          </a:xfrm>
          <a:custGeom>
            <a:avLst/>
            <a:gdLst>
              <a:gd name="textAreaLeft" fmla="*/ 1341000 w 5875200"/>
              <a:gd name="textAreaRight" fmla="*/ 4534200 w 58752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心胸宽广，顾全大局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16360" y="228600"/>
            <a:ext cx="5618160" cy="838080"/>
          </a:xfrm>
          <a:custGeom>
            <a:avLst/>
            <a:gdLst>
              <a:gd name="textAreaLeft" fmla="*/ 1282320 w 5618160"/>
              <a:gd name="textAreaRight" fmla="*/ 4335840 w 561816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通天文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熟悉气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6"/>
          <a:stretch/>
        </p:blipFill>
        <p:spPr>
          <a:xfrm>
            <a:off x="1828800" y="4648320"/>
            <a:ext cx="99072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诸葛亮能成功“借”到箭的原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诸葛亮成功有四个原因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①熟悉气象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预测出三天之内必有大雾，归来时顺风顺水，曹军来不及追赶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②熟知地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能于大雾中把船停在受箭的最佳位置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③擅长识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鲁肃的忠厚。知道他不会泄露借船的机密，深知曹操生性多疑，料定他不敢在没有弄清虚实的情况下轻易出击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④谋划周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计巧妙，充分利用了各种有利条件。如安排草船，精心伪装，利用大雾，归来时顺风顺水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 Box 2"/>
          <p:cNvSpPr/>
          <p:nvPr/>
        </p:nvSpPr>
        <p:spPr>
          <a:xfrm>
            <a:off x="1297080" y="685800"/>
            <a:ext cx="53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请你概括人物的性格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3"/>
          <p:cNvSpPr/>
          <p:nvPr/>
        </p:nvSpPr>
        <p:spPr>
          <a:xfrm>
            <a:off x="0" y="4844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曹操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生性多疑，不睹虚实，不敢轻易出击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4"/>
          <p:cNvSpPr/>
          <p:nvPr/>
        </p:nvSpPr>
        <p:spPr>
          <a:xfrm>
            <a:off x="0" y="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写法：人物性格鲜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1268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周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心胸狭窄，凶狠狡诈，妒能忌贤，不顾抗曹大局，一心想刁难，加害诸葛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261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诸葛亮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顾全大局，豁达大度，足智多谋、才华卓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400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鲁肃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3600" spc="-1" strike="noStrike">
                <a:solidFill>
                  <a:srgbClr val="33cc33"/>
                </a:solidFill>
                <a:latin typeface="隶书"/>
                <a:ea typeface="隶书"/>
              </a:rPr>
              <a:t>忠厚老实，顾全大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5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5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2843280" y="1484280"/>
            <a:ext cx="32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Sylfaen"/>
                <a:ea typeface="黑体"/>
              </a:rPr>
              <a:t>草船借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258920" y="2349360"/>
            <a:ext cx="6842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接受任务          诸葛亮              有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借箭准备                                    有胆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草船借箭         神机妙算           有肚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如期交箭                                    有计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                                                 </a:t>
            </a:r>
            <a:r>
              <a:rPr b="0" lang="zh-CN" sz="3200" spc="-1" strike="noStrike">
                <a:solidFill>
                  <a:srgbClr val="6600ff"/>
                </a:solidFill>
                <a:latin typeface="Sylfaen"/>
                <a:ea typeface="黑体"/>
              </a:rPr>
              <a:t>知人善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987640" y="2565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916360" y="3429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059280" y="407628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987640" y="407664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5508720" y="2636640"/>
            <a:ext cx="11509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5508720" y="3428640"/>
            <a:ext cx="1150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508720" y="4005360"/>
            <a:ext cx="1079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508720" y="3933720"/>
            <a:ext cx="792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643280" y="2852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26028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5580000" y="400536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9" dur="5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4" dur="20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7" dur="2000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0" dur="2000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3" dur="2000"/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6" dur="2000"/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684360" y="620640"/>
            <a:ext cx="55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Sylfaen"/>
                <a:ea typeface="黑体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55640" y="4149720"/>
            <a:ext cx="78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草船借箭”中的“借”字可以换成什么字呢？为什么课文用借而不用其它字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26920" y="1989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设想一下当诸葛亮归来时与周瑜相见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周瑜会怎么说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诸葛亮又会怎么说呢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0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9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4" dur="20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9" dur="5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Box 3"/>
          <p:cNvSpPr/>
          <p:nvPr/>
        </p:nvSpPr>
        <p:spPr>
          <a:xfrm>
            <a:off x="0" y="8366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课题中的“借”换成“取”“骗”“偷”行不行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0" y="191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从“太阳出来了，雾还没有散。这时候，船两边的草把子上都插满了箭。诸葛亮吩咐军士们齐声高喊：”谢谢曹丞相的箭！”看出，用“借”好，因为骗箭不用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525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用“借箭”更能突出诸葛亮的足智多谋，如果用“骗”，作者就不是赞美诸葛亮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414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联系“火烧赤壁”来看，也应用“借”，因为火烧赤壁时，诸葛亮把箭都还给曹操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234000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117440" y="305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413080" y="1197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95280" y="40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学习表达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39640" y="1413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语言描写又叫对话描写。好的语言描写，能直接表现出人物的思想、品质、作风、身份和个性特征，给读者“闻其言，见其人”的感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234000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17440" y="305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413080" y="1197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95280" y="40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学习表达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50920" y="1341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本文运用人物的语言表现人物的心里，展开矛盾冲突，因而人物形象鲜明。如第一自然段，周瑜妒忌诸葛亮的才干，试图用短期内造十万支箭的阴谋刁难诸葛亮，双方经过一番“舌战”，形象的刻画出：周瑜面善心毒，胸藏杀机，为自己的计谋得逞而喜形于色；诸葛亮料事如神，将计就计，不露声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2" dur="indefinite" restart="never" nodeType="tmRoot">
          <p:childTnLst>
            <p:seq>
              <p:cTn id="1723" dur="indefinite" nodeType="mainSeq">
                <p:childTnLst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234000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117440" y="305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413080" y="1197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95280" y="40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学习表达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39640" y="1413000"/>
            <a:ext cx="806472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那么，怎样进行语言描写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语言描写要能显示人物性格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语言描写要能表现人物的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言描写的形式要灵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语言描写要符合人物的身份、年龄、职业特点及文化修养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7c80"/>
                </a:solidFill>
                <a:latin typeface="Times New Roman"/>
              </a:rPr>
              <a:t>日积月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关于三国的成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望梅止渴          味同鸡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士别三日当刮目相看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手不释卷          老马识途        自有妙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神机妙算          心甘情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684360" y="728640"/>
            <a:ext cx="304560" cy="5181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34000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rot="10800000">
            <a:off x="7236000" y="691920"/>
            <a:ext cx="576000" cy="51814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117440" y="305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963480" y="2349360"/>
            <a:ext cx="1886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机妙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智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11600" y="21787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草船借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981880" y="3860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识地理—顺水行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117440" y="1916280"/>
            <a:ext cx="89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—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413080" y="1197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36800" y="907920"/>
            <a:ext cx="9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起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964240" y="2060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鲁肃—借助帮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055320" y="76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嫉妒：设计陷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227640" y="69228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79640" y="2997360"/>
            <a:ext cx="287280" cy="11570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215720" y="3357720"/>
            <a:ext cx="6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10600" y="2852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晓天象—以雾为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83896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知曹操—逼寨受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187280" y="479736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5084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叹息—我不如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2340000" y="2637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117440" y="305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413080" y="1197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987640" y="54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24000" y="234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运用语言描写反映同学的某个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练笔：闻其声如见其人——对话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选择一次人物对话进行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上医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病了。爸爸妈妈上班去了，姥姥年纪大。我的身上滚烫，在昏沉中听见姥姥和同院赵伯伯的对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大妈，他爸不在家，您年纪大，我背孩子上医院吧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怎么行，您还得上班呀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没关系，今天我调休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可您家里也有一大堆事呀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哎呀，别说啦，孩子发着高烧呢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老赵，您老帮忙干这干那的，叫我怎么感谢您呀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唉，大妈，不要客气嘛，远亲不如近邻呀！住在一个院就是一家人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好，咱们一块去！您真是好人啊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读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一次，爸爸买了一本《陈玉成的故事》，全书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1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页，我只花几小时就看完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晚上，爸爸回来问：“这么快，全看完了？”“全看完了。”我说。“都看懂了？”爸爸又问。“都懂！”我又回答。“喏，这个‘惶惶不可终日’是什么意思？”爸爸随手把书翻开。我答不上。爸爸又问我几处。我又答不上。爸爸摇了摇头说：“你呀你，看书囫囵吞枣的，有什么好处？得想个方法，把读书习惯改一改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8:02:27Z</dcterms:created>
  <dc:creator>zhangjuanjuan</dc:creator>
  <dc:description/>
  <dc:language>en-US</dc:language>
  <cp:lastModifiedBy>User</cp:lastModifiedBy>
  <dcterms:modified xsi:type="dcterms:W3CDTF">2015-05-08T03:00:39Z</dcterms:modified>
  <cp:revision>151</cp:revision>
  <dc:subject/>
  <dc:title>幻灯片 1</dc:title>
</cp:coreProperties>
</file>