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06A-D53F-4B92-8E10-6334EF2B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3B9-6E45-4AE1-A120-B9B73083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DFE4-BC34-4637-8433-1C983072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34413-EE34-45DF-B7CF-2BF7E846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C5829-62FC-4BE3-9BE7-3F4227D6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5088D-B772-4A58-9DBA-A4BC41DC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8A805-9950-4882-9057-6EB3C11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FDF53-1CA0-4EF8-BFA5-6B1E9131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0BB58-5D23-4DF3-8429-616E50DF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1B5C6-CAC3-4472-89FC-2F1D9A85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0AD70-8DCD-42A3-BFBA-D5252BB5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2C005-311A-4D6D-88A4-12B81E28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3E2-AC65-4407-8C81-6CAF6F3F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C3DC3-34AC-4A4A-B1CC-AE608CF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328C8-4133-422C-8733-6A76F11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2088D-CAD6-43C3-8FC4-EE5B5C1B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8B5C9-774D-454C-9452-6CB73D79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49029-D303-478D-A9E4-BD84296C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CD6F3-026F-4B72-9B64-2E14216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E29B6-4FFC-4A76-B44A-DE3D5A5F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60BA5-2E0A-478C-A6B1-267A5D5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F4686-5AC2-48ED-99C6-EAF7672D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6A096-00C5-402D-9FE1-1EBD4296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3DC-A2B0-4FD7-BACF-CCDF8B58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35248-F566-49FA-84EE-E0D1D1EA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962A-C486-4E12-8B4C-3C3003E1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8422-6893-4837-9A3F-2AB1866C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7C00-D260-4785-9DCB-E97D35A5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D264-6D49-4E6D-B552-2E15D854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BEDA-2F3A-4F5A-9799-BA8E7848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F078-CFDD-49B0-90DB-AA451A8F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37D1-31F4-448D-B846-1EAAC46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E0C-D833-4043-A243-A0273AF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6AED-F7C7-47CE-AF92-B13F19F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1432-877F-4E0E-B69A-C3967EAD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041F-CEA9-4F83-8639-E8F48617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7D3C-A4B7-4CCC-B78E-3C7723A7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8548-3C12-40B8-B45B-AC8E5542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8AB8-23D1-42C7-AA86-7216655C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07FC-38EE-405D-8DC9-2A52B8A6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EB80-5BB1-4A1F-81A7-68E5EA88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BD37-BD25-4C38-B587-BC6CDF4E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CC08-C823-4124-94E3-672E38AF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CF4-B444-4271-A717-83BBD124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F8D3-0F31-4FC9-95A7-C0CD1F81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DC0F-3FE8-45E9-A786-397D2C02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F96C-69DE-4BA5-9517-DA20CD39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1F086-7203-4A81-8776-76A0FBFF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9A49-1F2F-42B2-81F2-D553FCB5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4B5A-B835-4E03-AE99-B6FFECC7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25B6-429E-4B7C-A731-BE4E4CD5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CDD00-01FE-45D9-9A5A-9D820A6B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A8592-F79C-46DE-A475-C6A819FB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5DBAA-991A-41B5-8D2D-55F76DF4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F9D-3A34-45E5-B746-697D63E9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A359-18BF-4D0D-8D18-C1364348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674B-2C61-4765-8066-2F8AD6FE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5C4E-0C8D-4A92-ABEB-61FC5484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C8B8-6574-4828-AED3-5CAF657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06FE-8D46-4568-A121-4B0A183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144A-7E71-4B5C-828F-F966ADB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E098-C368-4BD8-A465-938B426E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76086-1E1E-42C6-9D38-89C5BB7E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D83C-3F03-42C7-B1AE-610EDEF8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D82FE-3206-4100-BB36-DFAE7917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EC7-CC57-4486-9838-1B4C735D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C66B0-AC17-4CE0-9BB8-06CA85E8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79289-81D0-4C08-8BF4-A426DC22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ED879-24C3-4440-B02D-FE7C2FCC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F6FA-3C5A-42CA-A956-ADDA0A7E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8999-A863-40B4-81E8-32720DBA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A7F48-C2A4-441F-B578-1B9CCDE8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8708D-D1A4-478B-9200-CA385E1F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151FD-7CE8-42FA-9D57-F4233056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8B65-9D08-495C-A797-53B8A788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AC50-5E34-4E27-A049-A4F4D120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91F-6734-4411-A5B5-6D9EC7EA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920F-4118-4FE6-A8C3-95D72014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69A6C-33E1-44BD-8ECB-AF0F6AEC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4203-8AF0-4754-AC74-C3DC4314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7AFDA-CFF2-4587-8514-D8545DFF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9BB3-2188-4602-8F99-BA56D62F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82D0B-98BE-455A-9858-A28A147B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6114C-5FFB-46AC-A57E-C8DC609E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C7AFE-E407-444F-A3E7-888D3EE2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EFA9C-8C3F-4AA9-BDAA-5826F19B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39343-EED5-45E5-8FB7-71E3CA26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EAE-98EB-4133-AA23-7C96A2CF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76E43-C562-4392-AF35-45382A1A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8F968-A4A5-44B9-A301-52F6F00A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5BB25-F6B8-4E2A-96F2-F800F5E1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D9FF4-C234-45BC-8B19-3E10A83B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FA858-14F7-4464-89DF-0407706A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0AA59-B099-4AA7-A24C-2FC8C87E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1FB06-C8E8-44E3-990D-93643BDF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7DC3A-1DE3-4272-AF06-04B9CC91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16182-1DF8-4652-9EC2-6C4EF00B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79F22-6BD8-4266-8AC0-34DEC34C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FC6-9CAA-4C30-82C0-F1621B36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8D0D7-8310-42ED-800A-BD26BD2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9C65C-451D-457C-8AF3-1A861B7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42D4-2057-420B-A564-6340D7B5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1096C-A1A2-44BC-90FD-403FB07C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FB0B4-0EC5-4C9A-986A-2016DF90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AFA27-3230-4C9E-B939-43CAE2E4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58F00-E8B0-42A3-AF16-10D2673A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17AB2-7E4E-4032-8E0C-5E61B77B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FD11E-6AA3-46F3-B065-D5375CF3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45421-DEFE-4CB5-9A03-38960C1E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0D3-1971-4099-B010-000AE7B2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AD779-8775-4DD9-BE72-B729D9B6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A27E0-5E44-4641-BCA1-F9E761EB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09C8-146E-4897-8547-CF741499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747C7-1AB7-42D6-B93D-5DF75F45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91267-040F-42D7-A8E2-9097D64C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1469-A6A5-41B2-A564-5CFD0F27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94E45-F10B-4C94-8D36-9037EA90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2638B-1A12-4F51-A20A-F99A8F99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D9C1A-1724-459E-AFFA-494A665E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46611-30CA-490D-B27A-0ACF67A5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0B24-9247-429F-8E22-64ECDB4068B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F471-D217-40B3-996C-39283BF2A1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A857-79DD-4C33-935F-9DC35ACD153C}" type="datetime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E9FB-495F-435B-8F61-FC7353C90BD9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42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516-98A1-4A66-845B-6B910A48F17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0F4E-90E3-4003-87A9-DFB3EDD0400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49C-F67C-4016-A5EE-D0780AA94B1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7DEA-58ED-4336-A1BA-8088660DDE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733C-7451-44D8-A6CD-A2541B2BAFA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772A-971A-4D90-B304-60BD6037CB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4628-BE74-4732-AE8B-DCAFB5F51FD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2E56-6EF0-43C3-A6CB-F9137DA23E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DD0D-F21A-4ED9-BF20-35B02495F7E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1FA1-A111-41FD-B9BF-93A452A3C0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53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46D2-9C23-4F53-9281-102DAA4588E1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5D3D-8C29-447B-A091-81A12F0B61B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53FA-71E3-4926-B850-34A06125C7B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46CA-1A70-4E31-AA82-AAF5127F6E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1BDA-AECC-4677-883B-777C1DB722C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F25E-7FF9-4590-AAF4-8AF7ED9457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7"/>
          <p:cNvSpPr/>
          <p:nvPr/>
        </p:nvSpPr>
        <p:spPr>
          <a:xfrm>
            <a:off x="285840" y="0"/>
            <a:ext cx="763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Edwardian Script ITC"/>
                <a:ea typeface="方正舒体"/>
              </a:rPr>
              <a:t>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Edwardian Script ITC"/>
                <a:ea typeface="方正舒体"/>
              </a:rPr>
              <a:t>那就是白杨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Edwardian Script ITC"/>
                <a:ea typeface="方正舒体"/>
              </a:rPr>
              <a:t>西北极普通的一种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Edwardian Script ITC"/>
                <a:ea typeface="方正舒体"/>
              </a:rPr>
              <a:t>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Edwardian Script ITC"/>
                <a:ea typeface="方正舒体"/>
              </a:rPr>
              <a:t>然而实在是不平凡的一种树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/>
          <p:cNvSpPr/>
          <p:nvPr/>
        </p:nvSpPr>
        <p:spPr>
          <a:xfrm>
            <a:off x="428760" y="1785960"/>
            <a:ext cx="843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572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7572"/>
                </a:solidFill>
                <a:latin typeface="Arial"/>
                <a:ea typeface="宋体"/>
              </a:rPr>
              <a:t>文题为“白杨礼赞”，那么作者对白杨树的赞美主要体现在哪个词汇上？请从文中找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00040" y="3429000"/>
            <a:ext cx="843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572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7572"/>
                </a:solidFill>
                <a:latin typeface="Arial"/>
                <a:ea typeface="宋体"/>
              </a:rPr>
              <a:t>作者三次提到白杨树的“极普通”，四次提到它的“不平凡”。你知道它的“极普通”和“不平凡”分别体现在哪儿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1325880" y="1844640"/>
            <a:ext cx="5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424160" y="285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1332000" y="3789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1332000" y="4724280"/>
            <a:ext cx="6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82880" y="2060640"/>
            <a:ext cx="8506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形态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1042920" y="2060640"/>
            <a:ext cx="289080" cy="3097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2592000" y="18874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笔直  丈把高    无旁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2050920" y="2852640"/>
            <a:ext cx="67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笔直  向上  靠拢  成为一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2877480" y="3789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宽大  片片向上  没有斜生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2050920" y="472428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光滑  有晕圈   淡青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900000" y="189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2344680" y="2602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白杨树的外部形态为什么不平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568160" y="765000"/>
            <a:ext cx="489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力       争       上       游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2639160" y="5373720"/>
            <a:ext cx="48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倔强挺立 向上发展 不折不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7"/>
          <p:cNvSpPr/>
          <p:nvPr/>
        </p:nvSpPr>
        <p:spPr>
          <a:xfrm>
            <a:off x="7596360" y="2133720"/>
            <a:ext cx="71280" cy="3095640"/>
          </a:xfrm>
          <a:custGeom>
            <a:avLst/>
            <a:gdLst>
              <a:gd name="textAreaLeft" fmla="*/ 0 w 71280"/>
              <a:gd name="textAreaRight" fmla="*/ 25560 w 7128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7888680" y="246348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宋体"/>
              </a:rPr>
              <a:t>不平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950760" y="390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2540160" y="4762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白杨树有怎样的内在气质？用了怎样的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80720" y="3114720"/>
            <a:ext cx="3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1477800" y="442764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6156360" y="1052640"/>
            <a:ext cx="2448000" cy="896760"/>
          </a:xfrm>
          <a:prstGeom prst="wedgeRectCallout">
            <a:avLst>
              <a:gd name="adj1" fmla="val -51231"/>
              <a:gd name="adj2" fmla="val 9124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6883920" y="119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伟丈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 flipV="1">
            <a:off x="2916360" y="2203920"/>
            <a:ext cx="3241440" cy="2808360"/>
          </a:xfrm>
          <a:prstGeom prst="wedgeRoundRectCallout">
            <a:avLst>
              <a:gd name="adj1" fmla="val 42504"/>
              <a:gd name="adj2" fmla="val 7884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3526200" y="2443320"/>
            <a:ext cx="218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伟岸 正直 朴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严肃  坚强不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温和  靠紧团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挺拔  力求上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4"/>
          <p:cNvSpPr/>
          <p:nvPr/>
        </p:nvSpPr>
        <p:spPr>
          <a:xfrm>
            <a:off x="250920" y="1052640"/>
            <a:ext cx="2449440" cy="936360"/>
          </a:xfrm>
          <a:prstGeom prst="wedgeEllipseCallout">
            <a:avLst>
              <a:gd name="adj1" fmla="val 19671"/>
              <a:gd name="adj2" fmla="val 110171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250920" y="2492280"/>
            <a:ext cx="2448000" cy="2449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684360" y="907920"/>
            <a:ext cx="17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华文彩云"/>
              </a:rPr>
              <a:t>好女子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6372360" y="2349360"/>
            <a:ext cx="2232000" cy="25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农民 哨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 意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1"/>
          <p:cNvSpPr/>
          <p:nvPr/>
        </p:nvSpPr>
        <p:spPr>
          <a:xfrm>
            <a:off x="3587400" y="112536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拟人  对比衬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2"/>
          <p:cNvSpPr/>
          <p:nvPr/>
        </p:nvSpPr>
        <p:spPr>
          <a:xfrm>
            <a:off x="3840120" y="1577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欲扬先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3"/>
          <p:cNvSpPr/>
          <p:nvPr/>
        </p:nvSpPr>
        <p:spPr>
          <a:xfrm>
            <a:off x="2843280" y="1557360"/>
            <a:ext cx="3097080" cy="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1537200" y="56610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排比   反问   层层递进   气势充沛   酣畅淋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6"/>
          <p:cNvSpPr/>
          <p:nvPr/>
        </p:nvSpPr>
        <p:spPr>
          <a:xfrm>
            <a:off x="506520" y="2637000"/>
            <a:ext cx="19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婆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屈曲盘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3000" y="3567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重点阅读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7-9</a:t>
            </a: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段，深入理解白杨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85840" y="1213920"/>
            <a:ext cx="85406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找出第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段中排比句与反问句，划出表示意思递进的关键字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内容占位符 2"/>
          <p:cNvSpPr/>
          <p:nvPr/>
        </p:nvSpPr>
        <p:spPr>
          <a:xfrm>
            <a:off x="285840" y="2786040"/>
            <a:ext cx="85406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本段连用排比句与反问句，其作用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内容占位符 2"/>
          <p:cNvSpPr/>
          <p:nvPr/>
        </p:nvSpPr>
        <p:spPr>
          <a:xfrm>
            <a:off x="285840" y="4000680"/>
            <a:ext cx="85406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否定白杨树是“好女子”，却肯定它是树中的“伟丈夫”，这是何种写法？其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603360" y="642600"/>
            <a:ext cx="854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根据对此部分的理解，说说白杨树与楠木的象征意义分别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内容占位符 2"/>
          <p:cNvSpPr/>
          <p:nvPr/>
        </p:nvSpPr>
        <p:spPr>
          <a:xfrm>
            <a:off x="714240" y="2500200"/>
            <a:ext cx="854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那也直挺秀颀的”是在赞美楠木吗？如若不是，这是何种写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内容占位符 2"/>
          <p:cNvSpPr/>
          <p:nvPr/>
        </p:nvSpPr>
        <p:spPr>
          <a:xfrm>
            <a:off x="714240" y="4429080"/>
            <a:ext cx="854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将白杨与楠木的形象进行对比，作者意图何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1890360" y="4572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从全文看主要用了什么样的表现手法？作者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样具体的揭示出白杨树的不平凡即礼赞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960120" y="2781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华文中宋"/>
              </a:rPr>
              <a:t>白杨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1058040" y="521496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楠   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2916360" y="1484280"/>
            <a:ext cx="3600360" cy="3313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不但象征了北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农民，尤其象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今天我们民族解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斗争中所不可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朴质、坚强、力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上进的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2916360" y="5516640"/>
            <a:ext cx="3600360" cy="647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国民党反动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5"/>
          <p:cNvSpPr/>
          <p:nvPr/>
        </p:nvSpPr>
        <p:spPr>
          <a:xfrm>
            <a:off x="2268360" y="3141720"/>
            <a:ext cx="5050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6"/>
          <p:cNvSpPr/>
          <p:nvPr/>
        </p:nvSpPr>
        <p:spPr>
          <a:xfrm>
            <a:off x="2268360" y="5877000"/>
            <a:ext cx="5050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1223640" y="429264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对  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8"/>
          <p:cNvSpPr/>
          <p:nvPr/>
        </p:nvSpPr>
        <p:spPr>
          <a:xfrm>
            <a:off x="1547640" y="3645000"/>
            <a:ext cx="0" cy="187164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9"/>
          <p:cNvSpPr/>
          <p:nvPr/>
        </p:nvSpPr>
        <p:spPr>
          <a:xfrm>
            <a:off x="7236000" y="1773360"/>
            <a:ext cx="1081080" cy="2592360"/>
          </a:xfrm>
          <a:prstGeom prst="wedgeRectCallout">
            <a:avLst>
              <a:gd name="adj1" fmla="val -110203"/>
              <a:gd name="adj2" fmla="val 4277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7426440" y="1943280"/>
            <a:ext cx="733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2"/>
          <p:cNvSpPr/>
          <p:nvPr/>
        </p:nvSpPr>
        <p:spPr>
          <a:xfrm>
            <a:off x="7359480" y="182556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点明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2223720" y="3571920"/>
            <a:ext cx="6069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象         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252360" y="1828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2008800" y="785880"/>
            <a:ext cx="54504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3300"/>
                </a:solidFill>
                <a:latin typeface="Arial"/>
                <a:ea typeface="黑体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全文以白杨树的“不平凡”，为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索，从白杨树的生长环境、外部形态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内在气质，由远及近、由表及里地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写白杨树的不平凡，具体形象地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示出白杨树的象征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11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品读语言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57120" y="1714680"/>
            <a:ext cx="8540640" cy="6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课文第二部分写高原的目的是什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内容占位符 2"/>
          <p:cNvSpPr/>
          <p:nvPr/>
        </p:nvSpPr>
        <p:spPr>
          <a:xfrm>
            <a:off x="285840" y="2643120"/>
            <a:ext cx="86439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讨论并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交代白杨树的生长环境，衬托它傲然挺立的形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暗写陕甘宁边区这个抗日根据地，为后文揭示象征意义作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603000" y="714240"/>
            <a:ext cx="768348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体会划线动词的表达效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内容占位符 2"/>
          <p:cNvSpPr/>
          <p:nvPr/>
        </p:nvSpPr>
        <p:spPr>
          <a:xfrm>
            <a:off x="642960" y="1357200"/>
            <a:ext cx="76834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汽车在望不到边际的高原上奔驰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扑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入你的视野的，是黄绿错综的一条大毡子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714240" y="31431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时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来的感想也许是“雄壮”，也许是“伟大”，诸如此类的形容词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2396520" y="464328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它的皮光滑而有银色的晕圈，微微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泛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出淡青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714240" y="2143080"/>
            <a:ext cx="78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1d2e"/>
                </a:solidFill>
                <a:latin typeface="Arial"/>
                <a:ea typeface="宋体"/>
              </a:rPr>
              <a:t>“</a:t>
            </a:r>
            <a:r>
              <a:rPr b="0" lang="zh-CN" sz="2000" spc="-1" strike="noStrike">
                <a:solidFill>
                  <a:srgbClr val="001d2e"/>
                </a:solidFill>
                <a:latin typeface="Arial"/>
                <a:ea typeface="宋体"/>
              </a:rPr>
              <a:t>扑”与“奔”照应，写出了迎面而来的情景，形象而准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1d2e"/>
                </a:solidFill>
                <a:latin typeface="Arial"/>
                <a:ea typeface="宋体"/>
              </a:rPr>
              <a:t>准确地表现了“奔驰的汽车速度之快；也反映了黄土高原的辽阔平坦一望无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42960" y="392904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1d2e"/>
                </a:solidFill>
                <a:latin typeface="Arial"/>
                <a:ea typeface="宋体"/>
              </a:rPr>
              <a:t>使用“涌”，说明感想很多，瞬间形成，有的也许还未经过仔细考虑，就不由自主地喷涌而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2428200" y="5143680"/>
            <a:ext cx="40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1d2e"/>
                </a:solidFill>
                <a:latin typeface="Arial"/>
                <a:ea typeface="宋体"/>
              </a:rPr>
              <a:t>“</a:t>
            </a:r>
            <a:r>
              <a:rPr b="0" lang="zh-CN" sz="2000" spc="-1" strike="noStrike">
                <a:solidFill>
                  <a:srgbClr val="001d2e"/>
                </a:solidFill>
                <a:latin typeface="Arial"/>
                <a:ea typeface="宋体"/>
              </a:rPr>
              <a:t>泛”，富有动感，生动地表现了白杨树旺盛的生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761760" y="0"/>
            <a:ext cx="79221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题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   </a:t>
            </a:r>
            <a:r>
              <a:rPr b="0" lang="zh-CN" sz="3200" spc="-1" strike="noStrike">
                <a:solidFill>
                  <a:srgbClr val="005856"/>
                </a:solidFill>
                <a:latin typeface="华文行楷"/>
                <a:ea typeface="华文行楷"/>
              </a:rPr>
              <a:t>通过白杨树这一艺术形象，歌颂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856"/>
                </a:solidFill>
                <a:latin typeface="华文行楷"/>
                <a:ea typeface="华文行楷"/>
              </a:rPr>
              <a:t>国共产党领导下的广大军民保卫祖国的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856"/>
                </a:solidFill>
                <a:latin typeface="华文行楷"/>
                <a:ea typeface="华文行楷"/>
              </a:rPr>
              <a:t>雄形象，歌颂了朴质、坚强、团结向上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856"/>
                </a:solidFill>
                <a:latin typeface="华文行楷"/>
                <a:ea typeface="华文行楷"/>
              </a:rPr>
              <a:t>精神和意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表现手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005856"/>
                </a:solidFill>
                <a:latin typeface="华文行楷"/>
                <a:ea typeface="华文行楷"/>
              </a:rPr>
              <a:t>象征、对比、衬托、欲扬先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修辞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856"/>
                </a:solidFill>
                <a:latin typeface="华文行楷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005856"/>
                </a:solidFill>
                <a:latin typeface="华文行楷"/>
                <a:ea typeface="华文行楷"/>
              </a:rPr>
              <a:t>排比、反问、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005856"/>
                </a:solidFill>
                <a:latin typeface="华文行楷"/>
                <a:ea typeface="华文行楷"/>
              </a:rPr>
              <a:t>准确、凝练、变化多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1e7"/>
            </a:gs>
            <a:gs pos="100000">
              <a:srgbClr val="e7eb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3"/>
          <p:cNvSpPr/>
          <p:nvPr/>
        </p:nvSpPr>
        <p:spPr>
          <a:xfrm>
            <a:off x="0" y="5943600"/>
            <a:ext cx="56386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7" descr="http://img.pop-photo.com.cn/myspace/image/2010/08/0/23/54/235438_1882204491.jpg"/>
          <p:cNvPicPr/>
          <p:nvPr/>
        </p:nvPicPr>
        <p:blipFill>
          <a:blip r:embed="rId1"/>
          <a:stretch/>
        </p:blipFill>
        <p:spPr>
          <a:xfrm>
            <a:off x="0" y="0"/>
            <a:ext cx="472932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5"/>
          <p:cNvSpPr/>
          <p:nvPr/>
        </p:nvSpPr>
        <p:spPr>
          <a:xfrm>
            <a:off x="6096240" y="857160"/>
            <a:ext cx="2192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隶书"/>
                <a:ea typeface="隶书"/>
              </a:rPr>
              <a:t>那是力争上游的一种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隶书"/>
                <a:ea typeface="隶书"/>
              </a:rPr>
              <a:t>笔直的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隶书"/>
                <a:ea typeface="隶书"/>
              </a:rPr>
              <a:t>笔直的枝</a:t>
            </a:r>
            <a:r>
              <a:rPr b="0" lang="zh-CN" sz="6000" spc="-1" strike="noStrike">
                <a:solidFill>
                  <a:srgbClr val="c00000"/>
                </a:solidFill>
                <a:latin typeface="隶书"/>
                <a:ea typeface="隶书"/>
              </a:rPr>
              <a:t>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要点归纳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字词及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第</a:t>
            </a:r>
            <a:r>
              <a:rPr b="0" lang="en-US" sz="32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7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3" action="ppaction://hlinksldjump"/>
              </a:rPr>
              <a:t>段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每位同学必须掌握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白杨树的象征意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文中运用到的表现手法及其作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段重点语句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499760"/>
            <a:ext cx="85406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它没有婆娑的姿态，没有屈曲盘旋的虬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但是它伟岸，正直，朴质，严肃，也不缺乏温和，更不用提它的坚强不屈与挺拔，它是树中的伟丈夫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难道你又不更远一点想到，这样枝枝叶叶靠紧团结，力求上进的白杨树，宛然象征了今天在华北平原纵横决荡，用血写出新中国历史的那种精神和意志</a:t>
            </a:r>
            <a:r>
              <a:rPr b="0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7"/>
          <p:cNvSpPr/>
          <p:nvPr/>
        </p:nvSpPr>
        <p:spPr>
          <a:xfrm>
            <a:off x="1023840" y="895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1239840" y="895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3"/>
          <p:cNvSpPr/>
          <p:nvPr/>
        </p:nvSpPr>
        <p:spPr>
          <a:xfrm>
            <a:off x="571680" y="42876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Arial"/>
                <a:ea typeface="华文行楷"/>
              </a:rPr>
              <a:t>拓展延伸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4"/>
          <p:cNvSpPr/>
          <p:nvPr/>
        </p:nvSpPr>
        <p:spPr>
          <a:xfrm>
            <a:off x="21420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请运用联想与想象，说说下列事物的象征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15" descr="u=66057976,3040820372&amp;fm=0&amp;gp=18"/>
          <p:cNvPicPr/>
          <p:nvPr/>
        </p:nvPicPr>
        <p:blipFill>
          <a:blip r:embed="rId2"/>
          <a:stretch/>
        </p:blipFill>
        <p:spPr>
          <a:xfrm>
            <a:off x="214200" y="2571840"/>
            <a:ext cx="2903760" cy="25002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6" descr="u=1741795700,813364019&amp;fm=0&amp;gp=16"/>
          <p:cNvPicPr/>
          <p:nvPr/>
        </p:nvPicPr>
        <p:blipFill>
          <a:blip r:embed="rId3"/>
          <a:stretch/>
        </p:blipFill>
        <p:spPr>
          <a:xfrm>
            <a:off x="3143160" y="3857760"/>
            <a:ext cx="2908440" cy="23112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7" descr="u=2879775088,1475530578&amp;fm=0&amp;gp=24"/>
          <p:cNvPicPr/>
          <p:nvPr/>
        </p:nvPicPr>
        <p:blipFill>
          <a:blip r:embed="rId4"/>
          <a:stretch/>
        </p:blipFill>
        <p:spPr>
          <a:xfrm>
            <a:off x="5986440" y="2428920"/>
            <a:ext cx="3068640" cy="26431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8"/>
          <p:cNvSpPr/>
          <p:nvPr/>
        </p:nvSpPr>
        <p:spPr>
          <a:xfrm>
            <a:off x="1782360" y="18572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格式：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由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想到了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象征了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3690720" y="3215160"/>
            <a:ext cx="374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方正姚体"/>
              </a:rPr>
              <a:t>它的皮光滑而有银色的晕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方正姚体"/>
              </a:rPr>
              <a:t>微微泛出淡青色。</a:t>
            </a:r>
            <a:r>
              <a:rPr b="0" lang="zh-CN" sz="3600" spc="-1" strike="noStrike">
                <a:solidFill>
                  <a:srgbClr val="ff0066"/>
                </a:solidFill>
                <a:latin typeface="方正姚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1619280" y="260280"/>
            <a:ext cx="595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229040" y="214200"/>
            <a:ext cx="304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Arial"/>
                <a:ea typeface="华文中宋"/>
              </a:rPr>
              <a:t>这就是白杨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Arial"/>
                <a:ea typeface="华文中宋"/>
              </a:rPr>
              <a:t>西北极普通的一种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Arial"/>
                <a:ea typeface="华文中宋"/>
              </a:rPr>
              <a:t>然而决不是平凡的树！</a:t>
            </a:r>
            <a:r>
              <a:rPr b="0" lang="zh-CN" sz="3600" spc="-1" strike="noStrike">
                <a:solidFill>
                  <a:srgbClr val="00206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3"/>
          <p:cNvSpPr txBox="1"/>
          <p:nvPr/>
        </p:nvSpPr>
        <p:spPr>
          <a:xfrm rot="21451800">
            <a:off x="622440" y="588600"/>
            <a:ext cx="748800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白杨礼赞</a:t>
            </a:r>
            <a:endParaRPr b="1" i="1" lang="en-US" sz="36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3735000" y="3429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7878de"/>
                </a:solidFill>
                <a:latin typeface="Arial"/>
                <a:ea typeface="华文行楷"/>
              </a:rPr>
              <a:t>茅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4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2590920" y="4572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茅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1896—1981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原名沈德鸿，字雁冰，浙江省桐乡县人，茅盾是笔名，著名作家、社会活动家。担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小说月报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编，并与郑振铎、叶圣陶等发起组织文学研究会。著有长篇小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子夜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短篇小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林家铺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春蚕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散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白杨礼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304920" y="380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09600" y="1434960"/>
            <a:ext cx="2317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u=4241395060,688023943&amp;fm=0&amp;gp=18"/>
          <p:cNvPicPr/>
          <p:nvPr/>
        </p:nvPicPr>
        <p:blipFill>
          <a:blip r:embed="rId2"/>
          <a:stretch/>
        </p:blipFill>
        <p:spPr>
          <a:xfrm>
            <a:off x="181080" y="1292400"/>
            <a:ext cx="3232080" cy="48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066680" y="304920"/>
            <a:ext cx="3048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2286000" y="-983304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39640" y="3333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00"/>
                </a:solidFill>
                <a:latin typeface="Arial"/>
                <a:ea typeface="新宋体"/>
              </a:rPr>
              <a:t> </a:t>
            </a:r>
            <a:r>
              <a:rPr b="1" i="1" lang="zh-CN" sz="4800" spc="-1" strike="noStrike">
                <a:solidFill>
                  <a:srgbClr val="003300"/>
                </a:solidFill>
                <a:latin typeface="华文行楷"/>
                <a:ea typeface="新宋体"/>
              </a:rPr>
              <a:t>背 景 介 绍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-750960" y="1122480"/>
            <a:ext cx="9893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  <a:ea typeface="宋体"/>
              </a:rPr>
              <a:t>1940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年前后，延安抗日根据地人民在中国共产党的领导下，团结一致，顽强战斗，多次粉碎敌伪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扫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。这一年，茅盾应朱德同志之邀来到延安。他耳闻目睹延安抗日军民的生活和革命精神，从根据地人民身上看到中华民族远大的前途。当他在西北高原上看到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参天耸立、不折不挠地对抗着西北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的白杨树时，他似乎找到了一种感情的寄托，对白杨产生了特殊的情感。他把对中国共产党、对抗日根据地军民的深挚感情全部倾注在白杨树身上了。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白杨礼赞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应运而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3005280" y="2602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给下面划线的词语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754920" y="1413000"/>
            <a:ext cx="607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恹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倔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婆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3566160" y="1413000"/>
            <a:ext cx="700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秀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6153480" y="1413000"/>
            <a:ext cx="103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边无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坦荡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478880" y="1413000"/>
            <a:ext cx="140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juéj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ós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4429800" y="1413000"/>
            <a:ext cx="775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7803720" y="1413000"/>
            <a:ext cx="95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i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子          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圈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婆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枝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木            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妙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得                   无边无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坦荡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睡                   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斜出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强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纵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5:57:44Z</dcterms:created>
  <dc:creator>wuzili</dc:creator>
  <dc:description/>
  <cp:keywords/>
  <dc:language>en-US</dc:language>
  <cp:lastModifiedBy>微软中国</cp:lastModifiedBy>
  <cp:lastPrinted>1899-12-30T00:00:00Z</cp:lastPrinted>
  <dcterms:modified xsi:type="dcterms:W3CDTF">2013-02-28T00:08:56Z</dcterms:modified>
  <cp:revision>96</cp:revision>
  <dc:subject/>
  <dc:title>幻灯片 1</dc:title>
</cp:coreProperties>
</file>