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4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A8F-0A86-4253-873F-BE6716A0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7B71-874C-4AFB-B72C-53263FFD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5A1-1349-4DB1-ACFA-5F64288E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02F-FB7A-4848-9475-992E5867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63F-5961-4C5F-B9B8-A8C43904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A881-EED4-4238-A6EC-644FB2C9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C70-6C8A-4E5A-BCD4-F385E3A0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88C2-1594-4ADF-B9EA-2FCB5AB3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61D0-8D5E-4741-91C4-9FDF7324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EFC8-D0DF-4F0A-AC97-B981554A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826B-6282-4C8B-BDB4-7E5AC4B6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AD6-52E2-4BC3-8084-B068E78C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2EDF-8750-4C16-862C-73AE4BAF27AA}" type="slidenum">
              <a:rPr b="0" lang="zh-CN" sz="1400" spc="-1" strike="noStrike">
                <a:solidFill>
                  <a:srgbClr val="007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6027840"/>
            <a:ext cx="17287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btlxdlsq_xie.exe" TargetMode="External"/><Relationship Id="rId3" Type="http://schemas.openxmlformats.org/officeDocument/2006/relationships/hyperlink" Target="file:///btlxdlsq_zao.exe" TargetMode="External"/><Relationship Id="rId4" Type="http://schemas.openxmlformats.org/officeDocument/2006/relationships/image" Target="../media/image13.png"/><Relationship Id="rId5" Type="http://schemas.openxmlformats.org/officeDocument/2006/relationships/hyperlink" Target="file:///btlxdlsq_wei.exe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826920" y="2133720"/>
            <a:ext cx="7272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把铁路修到拉萨去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2771640" cy="56844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2700360" y="-316080"/>
            <a:ext cx="6911640" cy="4249080"/>
            <a:chOff x="2700360" y="-316080"/>
            <a:chExt cx="6911640" cy="4249080"/>
          </a:xfrm>
        </p:grpSpPr>
        <p:sp>
          <p:nvSpPr>
            <p:cNvPr id="88" name=""/>
            <p:cNvSpPr/>
            <p:nvPr/>
          </p:nvSpPr>
          <p:spPr>
            <a:xfrm>
              <a:off x="2700360" y="-316080"/>
              <a:ext cx="6911640" cy="4249080"/>
            </a:xfrm>
            <a:prstGeom prst="cloudCallout">
              <a:avLst>
                <a:gd name="adj1" fmla="val -66777"/>
                <a:gd name="adj2" fmla="val 54828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08840" y="-150120"/>
              <a:ext cx="6202800" cy="18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    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03500"/>
                  </a:solidFill>
                  <a:latin typeface="楷体_GB2312"/>
                  <a:ea typeface="楷体_GB2312"/>
                </a:rPr>
                <a:t>朗读课文，说说青藏铁路是一条什么样的铁路。</a:t>
              </a:r>
              <a:r>
                <a:rPr b="0" lang="zh-CN" sz="40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 </a:t>
              </a:r>
              <a:endParaRPr b="0" lang="en-US" sz="40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0" y="3303720"/>
            <a:ext cx="2666880" cy="3554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810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①</a:t>
            </a: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把铁路修到拉萨去</a:t>
            </a: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!</a:t>
            </a:r>
            <a:r>
              <a:rPr b="1" lang="zh-CN" sz="40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找找看</a:t>
            </a:r>
            <a:r>
              <a:rPr b="1" lang="zh-CN" sz="40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这句话在文中出现了几次</a:t>
            </a:r>
            <a:r>
              <a:rPr b="1" lang="zh-CN" sz="40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有什么作用</a:t>
            </a:r>
            <a:r>
              <a:rPr b="1" lang="zh-CN" sz="40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?)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65360"/>
            <a:ext cx="8893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这句话既是课文的题目，又在文中一咏三叹，反复出现了四次。这个简短有力的句子，铿锵有力，掷地有声，既是筑路大军的誓词，也是作者行文的线索。</a:t>
            </a: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27640" y="333360"/>
            <a:ext cx="1944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74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品 析</a:t>
            </a:r>
            <a:endParaRPr b="0" lang="en-US" sz="3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90792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②</a:t>
            </a:r>
            <a:r>
              <a:rPr b="1" lang="zh-CN" sz="3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一条长长的“铁龙”，从柴达木盆地深处的工业新城格尔木起步，跨过巍峨的昆仑山，将通过这里，越过“世界屋脊”青藏高原，到达雪域圣城──拉萨。这就是西部大开发的标志性工程青藏铁路，这就是造福广大人民的青藏铁路。</a:t>
            </a:r>
            <a:r>
              <a:rPr b="0" lang="zh-CN" sz="3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01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建设青藏铁路是党中央和国务院在新世纪之初作出的战略决策，是西部大开发的标志性工程，对加快东西部沟通往来和青藏两省区的经济、社会发展，增进民族团结，造福各族人民具有重要意义。</a:t>
            </a: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74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品 析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810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③</a:t>
            </a: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难怪一些西方媒体预言：中国人要在这样不良的地质上打隧道，是根本不可能的事</a:t>
            </a: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! 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328464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根本不可能”意思是这样的隧道绝无打通的希望。这句话强调了工程艰巨、要求很高、难度很大，衬托出了西部建设者们的勇敢、实干与创新精神。 </a:t>
            </a:r>
            <a:endParaRPr b="0" lang="en-US" sz="3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298764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74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品 析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0792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④</a:t>
            </a:r>
            <a:r>
              <a:rPr b="1" lang="zh-CN" sz="3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风火山，这座万年冰山露出了狰狞的面目，给筑路大军来一个下马威</a:t>
            </a:r>
            <a:r>
              <a:rPr b="1" lang="zh-CN" sz="3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!</a:t>
            </a:r>
            <a:endParaRPr b="0" lang="en-US" sz="3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708280"/>
            <a:ext cx="9468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狰狞”，面目凶恶的样子。“下马威”一开始就向对方显示威势。文中指刚开工时，就遇到控制温度的难题：温度太低，混凝土无法凝固；增温则洞壁遇热融化，造成洞壁塌滑。这些困难，都属于世界级难题。</a:t>
            </a: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252360" y="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74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品 析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74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探 究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1341360"/>
            <a:ext cx="8316720" cy="5256000"/>
            <a:chOff x="0" y="1341360"/>
            <a:chExt cx="8316720" cy="52560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0" y="1341360"/>
              <a:ext cx="8316720" cy="52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64280" y="1751040"/>
              <a:ext cx="6975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仔细朗读课文，说说在修建青藏铁路时遇到哪些困难，建设者又是怎样克服这些困难的？</a:t>
              </a:r>
              <a:r>
                <a:rPr b="0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</a:t>
              </a:r>
              <a:endParaRPr b="0" lang="en-US" sz="3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9720360" cy="7345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277" dur="indefinite" restart="never" nodeType="tmRoot">
          <p:childTnLst>
            <p:seq>
              <p:cTn id="27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2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03280" y="33336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填 空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2492280"/>
            <a:ext cx="8893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七（ ）八（ ）     不（ ）而（ ）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（ ）空（ ）里     杯水（ ）（ ）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废（ ）忘（ ）     （ ）以（ ）日</a:t>
            </a:r>
            <a:r>
              <a:rPr b="0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733320" cy="98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9400" cy="44928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2060640"/>
            <a:ext cx="9143640" cy="4797000"/>
            <a:chOff x="0" y="2060640"/>
            <a:chExt cx="9143640" cy="4797000"/>
          </a:xfrm>
        </p:grpSpPr>
        <p:sp>
          <p:nvSpPr>
            <p:cNvPr id="114" name=""/>
            <p:cNvSpPr/>
            <p:nvPr/>
          </p:nvSpPr>
          <p:spPr>
            <a:xfrm>
              <a:off x="0" y="2060640"/>
              <a:ext cx="9143640" cy="4797000"/>
            </a:xfrm>
            <a:prstGeom prst="horizontalScroll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5200" y="2659680"/>
              <a:ext cx="85780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这单元我们学习的课文都是与西部相关的，你对西部了解吗？收集西部大开发的相关信息、西部的少数民族与风情等。</a:t>
              </a:r>
              <a:r>
                <a:rPr b="0" lang="zh-CN" sz="36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 </a:t>
              </a:r>
              <a:endParaRPr b="0" lang="en-US" sz="3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050920" y="1125360"/>
            <a:ext cx="460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语文与生活</a:t>
            </a:r>
            <a:r>
              <a:rPr b="0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765000"/>
            <a:ext cx="1368360" cy="1128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908000" y="2637000"/>
            <a:ext cx="4751640" cy="1854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16360" y="5851440"/>
            <a:ext cx="33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拉 萨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4680000" cy="5445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5516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16360" y="5759280"/>
            <a:ext cx="25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拉 萨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522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694400" y="0"/>
            <a:ext cx="444960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4508640"/>
            <a:ext cx="360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青藏铁路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-138240"/>
            <a:ext cx="8748720" cy="4175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814920" y="2951280"/>
            <a:ext cx="5329080" cy="3906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013360"/>
            <a:ext cx="424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青藏铁路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0" t="0" r="1932" b="8566"/>
          <a:stretch/>
        </p:blipFill>
        <p:spPr>
          <a:xfrm>
            <a:off x="3492360" y="3191040"/>
            <a:ext cx="5904000" cy="3666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252360" y="-243000"/>
            <a:ext cx="6553080" cy="4251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8100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你知道这条通向美丽的拉萨铁路是怎样修建的吗？西方媒体对此曾有怎样的预言</a:t>
            </a:r>
            <a:r>
              <a:rPr b="1" lang="zh-CN" sz="54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? </a:t>
            </a:r>
            <a:endParaRPr b="0" lang="en-US" sz="5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372360" y="4437000"/>
            <a:ext cx="2303280" cy="2130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91440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400"/>
                </a:solidFill>
                <a:latin typeface="Times New Roman"/>
              </a:rPr>
              <a:t>一些西方媒体预言：中国人要在这样不良的地质上打隧道，是</a:t>
            </a:r>
            <a:r>
              <a:rPr b="1" lang="zh-CN" sz="6000" spc="-1" strike="noStrike">
                <a:solidFill>
                  <a:srgbClr val="e03500"/>
                </a:solidFill>
                <a:latin typeface="Times New Roman"/>
              </a:rPr>
              <a:t>根本不可能</a:t>
            </a:r>
            <a:r>
              <a:rPr b="1" lang="zh-CN" sz="6000" spc="-1" strike="noStrike">
                <a:solidFill>
                  <a:srgbClr val="007400"/>
                </a:solidFill>
                <a:latin typeface="Times New Roman"/>
              </a:rPr>
              <a:t>的事</a:t>
            </a:r>
            <a:r>
              <a:rPr b="1" lang="zh-CN" sz="6000" spc="-1" strike="noStrike">
                <a:solidFill>
                  <a:srgbClr val="007400"/>
                </a:solidFill>
                <a:latin typeface="Times New Roman"/>
              </a:rPr>
              <a:t>! </a:t>
            </a:r>
            <a:endParaRPr b="0" lang="en-US" sz="6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03280" y="3284640"/>
            <a:ext cx="15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yāo ráo</a:t>
            </a:r>
            <a:r>
              <a:rPr b="0" lang="zh-CN" sz="2600" spc="-1" strike="noStrike">
                <a:solidFill>
                  <a:srgbClr val="0074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3645000"/>
            <a:ext cx="151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7400"/>
                </a:solidFill>
                <a:uFillTx/>
                <a:latin typeface="楷体_GB2312"/>
                <a:ea typeface="楷体_GB2312"/>
              </a:rPr>
              <a:t>妖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</a:t>
            </a:r>
            <a:r>
              <a:rPr b="1" lang="zh-CN" sz="2600" spc="-1" strike="noStrike" u="sng">
                <a:solidFill>
                  <a:srgbClr val="007400"/>
                </a:solidFill>
                <a:uFillTx/>
                <a:latin typeface="楷体_GB2312"/>
                <a:ea typeface="楷体_GB2312"/>
              </a:rPr>
              <a:t>娆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49800" y="3659040"/>
            <a:ext cx="107928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机</a:t>
            </a:r>
            <a:r>
              <a:rPr b="0" lang="zh-CN" sz="26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2"/>
              </a:rPr>
              <a:t>械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3298680"/>
            <a:ext cx="93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xiè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3645000"/>
            <a:ext cx="100836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开</a:t>
            </a:r>
            <a:r>
              <a:rPr b="0" lang="zh-CN" sz="26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3"/>
              </a:rPr>
              <a:t>凿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1280" y="3284640"/>
            <a:ext cx="86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záo</a:t>
            </a:r>
            <a:r>
              <a:rPr b="0" lang="zh-CN" sz="2600" spc="-1" strike="noStrike">
                <a:solidFill>
                  <a:srgbClr val="0074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49440" y="4638600"/>
            <a:ext cx="93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7400"/>
                </a:solidFill>
                <a:uFillTx/>
                <a:latin typeface="楷体_GB2312"/>
                <a:ea typeface="楷体_GB2312"/>
              </a:rPr>
              <a:t>媒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体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76360" y="4294080"/>
            <a:ext cx="100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méi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32000" y="4638600"/>
            <a:ext cx="187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7400"/>
                </a:solidFill>
                <a:uFillTx/>
                <a:latin typeface="楷体_GB2312"/>
                <a:ea typeface="楷体_GB2312"/>
              </a:rPr>
              <a:t>狰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 u="sng">
                <a:solidFill>
                  <a:srgbClr val="007400"/>
                </a:solidFill>
                <a:uFillTx/>
                <a:latin typeface="楷体_GB2312"/>
                <a:ea typeface="楷体_GB2312"/>
              </a:rPr>
              <a:t>狞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4294080"/>
            <a:ext cx="208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zhēn</a:t>
            </a:r>
            <a:r>
              <a:rPr b="1" lang="zh-CN" sz="2200" spc="-1" strike="noStrike">
                <a:solidFill>
                  <a:srgbClr val="007400"/>
                </a:solidFill>
                <a:latin typeface="Century Gothic"/>
              </a:rPr>
              <a:t>g</a:t>
            </a: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 nín</a:t>
            </a:r>
            <a:r>
              <a:rPr b="1" lang="zh-CN" sz="2200" spc="-1" strike="noStrike">
                <a:solidFill>
                  <a:srgbClr val="007400"/>
                </a:solidFill>
                <a:latin typeface="Century Gothic"/>
              </a:rPr>
              <a:t>g</a:t>
            </a: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620640"/>
            <a:ext cx="35290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认一认，读一读： </a:t>
            </a:r>
            <a:endParaRPr b="0" lang="en-US" sz="3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68360" y="981000"/>
            <a:ext cx="797040" cy="1193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292720" y="466884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7400"/>
                </a:solidFill>
                <a:uFillTx/>
                <a:latin typeface="楷体_GB2312"/>
                <a:ea typeface="楷体_GB2312"/>
              </a:rPr>
              <a:t>逞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凶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4324320"/>
            <a:ext cx="12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chěn</a:t>
            </a:r>
            <a:r>
              <a:rPr b="1" lang="zh-CN" sz="2200" spc="-1" strike="noStrike">
                <a:solidFill>
                  <a:srgbClr val="007400"/>
                </a:solidFill>
                <a:latin typeface="Century Gothic"/>
              </a:rPr>
              <a:t>g</a:t>
            </a:r>
            <a:r>
              <a:rPr b="0" lang="zh-CN" sz="2600" spc="-1" strike="noStrike">
                <a:solidFill>
                  <a:srgbClr val="0074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4720" y="3645000"/>
            <a:ext cx="115092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5"/>
              </a:rPr>
              <a:t>巍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 u="sng">
                <a:solidFill>
                  <a:srgbClr val="007400"/>
                </a:solidFill>
                <a:uFillTx/>
                <a:latin typeface="楷体_GB2312"/>
                <a:ea typeface="楷体_GB2312"/>
              </a:rPr>
              <a:t>峨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88000" y="3284640"/>
            <a:ext cx="118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wēi é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653000"/>
            <a:ext cx="93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撕</a:t>
            </a:r>
            <a:r>
              <a:rPr b="1" lang="zh-CN" sz="2600" spc="-1" strike="noStrike" u="sng">
                <a:solidFill>
                  <a:srgbClr val="007400"/>
                </a:solidFill>
                <a:uFillTx/>
                <a:latin typeface="楷体_GB2312"/>
                <a:ea typeface="楷体_GB2312"/>
              </a:rPr>
              <a:t>扯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93080" y="430848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chě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8360" y="5661000"/>
            <a:ext cx="93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7400"/>
                </a:solidFill>
                <a:uFillTx/>
                <a:latin typeface="楷体_GB2312"/>
                <a:ea typeface="楷体_GB2312"/>
              </a:rPr>
              <a:t>效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率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5300640"/>
            <a:ext cx="865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xiào</a:t>
            </a:r>
            <a:r>
              <a:rPr b="0" lang="zh-CN" sz="2600" spc="-1" strike="noStrike">
                <a:solidFill>
                  <a:srgbClr val="0074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566100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杯水车</a:t>
            </a:r>
            <a:r>
              <a:rPr b="1" lang="zh-CN" sz="2600" spc="-1" strike="noStrike" u="sng">
                <a:solidFill>
                  <a:srgbClr val="007400"/>
                </a:solidFill>
                <a:uFillTx/>
                <a:latin typeface="楷体_GB2312"/>
                <a:ea typeface="楷体_GB2312"/>
              </a:rPr>
              <a:t>薪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3440" y="5300640"/>
            <a:ext cx="79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xīn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0360" y="5676840"/>
            <a:ext cx="187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废</a:t>
            </a:r>
            <a:r>
              <a:rPr b="1" lang="zh-CN" sz="2600" spc="-1" strike="noStrike" u="sng">
                <a:solidFill>
                  <a:srgbClr val="007400"/>
                </a:solidFill>
                <a:uFillTx/>
                <a:latin typeface="楷体_GB2312"/>
                <a:ea typeface="楷体_GB2312"/>
              </a:rPr>
              <a:t>寝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忘食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56360" y="530064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宋体"/>
              </a:rPr>
              <a:t>qǐn</a:t>
            </a:r>
            <a:r>
              <a:rPr b="0" lang="zh-CN" sz="2600" spc="-1" strike="noStrike">
                <a:solidFill>
                  <a:srgbClr val="0074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16286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银装素裹：素，没有染色的。裹，包，缠。从上到下没有一点彩色，非常素洁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七零八落：形容零散稀疏的样子。特指原来又多又整齐的东西现在零散了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不翼而飞：形容东西突然丢失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劈头盖脸：从正前方正对着头和脸劈下来、盖下来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杯水车薪：比喻无济于事，解决不了问题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废寝忘食：顾不上吃饭，忘记了睡觉。形容勤奋专心。</a:t>
            </a:r>
            <a:r>
              <a:rPr b="0" lang="zh-CN" sz="3200" spc="-1" strike="noStrike">
                <a:solidFill>
                  <a:srgbClr val="e035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836640"/>
            <a:ext cx="2950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理解词语</a:t>
            </a:r>
            <a:r>
              <a:rPr b="0" lang="zh-CN" sz="3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790560" cy="961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6:37:53Z</dcterms:created>
  <dc:creator>fqun</dc:creator>
  <dc:description/>
  <dc:language>en-US</dc:language>
  <cp:lastModifiedBy>USER</cp:lastModifiedBy>
  <dcterms:modified xsi:type="dcterms:W3CDTF">2012-02-20T06:28:06Z</dcterms:modified>
  <cp:revision>254</cp:revision>
  <dc:subject/>
  <dc:title>PowerPoint 演示文稿</dc:title>
</cp:coreProperties>
</file>