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63A-1A1A-4B2A-B181-46D323BC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6AE-3DEB-410A-BA57-9412C3DC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427-A650-4F98-8B87-20D5AD92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DA0-7F4F-4088-ACA4-19E96FA0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506-2634-44EA-B43D-6C11EE10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EEB0-CC04-4287-AFA7-A4F75F3E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A93-C23D-426D-B38A-56984CDC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50E-D16E-4E72-AD09-A709AEC1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BE6-C3E3-44D0-B4FD-99A38ECB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3FA-36AD-42D1-B4F9-6170FFD6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E22-6BE2-4342-B4C9-CADD4545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A32-DCFF-4FC4-B598-519F311A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6593-E2A9-482C-9CB4-8F4D3723D1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6120" y="7462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波尔多 住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88040" y="3289320"/>
            <a:ext cx="17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雷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库哈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4160" y="457524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波尔多市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法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720" y="150984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son  à  Borde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386064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  Koolha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94160" y="5011560"/>
            <a:ext cx="26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ordeau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105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74960" y="3270240"/>
            <a:ext cx="5334120" cy="3543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2720" y="126828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一层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像是一个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洞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是一系列从山体中挖出来的洞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在此进行家庭中最为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隐私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的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4480" y="2060640"/>
            <a:ext cx="40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二层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像三明治一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夹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在中间 作为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起居室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是一间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玻璃屋子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一半在外面 一半在里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840" y="285264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三层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是夫妇与孩子们的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卧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0240" y="4138560"/>
            <a:ext cx="297072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一个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3m×5m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的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电梯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贯穿于三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之间使男主人可以方便的到达每个角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有一道独立的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“墙”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靠近电梯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划分每一个房子。这道墙上有男主人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要的所有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   ——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书 艺术品 酒窖里的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113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168280" cy="2932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82880" y="1341360"/>
            <a:ext cx="1941480" cy="295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753240" y="1341360"/>
            <a:ext cx="1851120" cy="2951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6200" y="4468680"/>
            <a:ext cx="203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一层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电视房  厨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浴室  酒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电梯间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7920" y="4468680"/>
            <a:ext cx="193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二层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起居室  书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餐厅  电梯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伸缩性储藏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10480" y="4508640"/>
            <a:ext cx="193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三层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主卧室  儿童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电梯间 平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122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805200"/>
            <a:ext cx="5292720" cy="3052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780000" y="101520"/>
            <a:ext cx="5238720" cy="3543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50120" y="170028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立面表达反映内部空间使用要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7680" y="2392200"/>
            <a:ext cx="254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材料造成的虚实变化与内部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用空间功能一一对应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5600" y="3823200"/>
            <a:ext cx="454680" cy="29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上    到    下    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33280" y="57531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磨砂玻璃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半虚半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27280" y="508464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玻璃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9920" y="429264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混凝土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4365720"/>
            <a:ext cx="216000" cy="1871640"/>
          </a:xfrm>
          <a:prstGeom prst="upArrow">
            <a:avLst>
              <a:gd name="adj1" fmla="val 50000"/>
              <a:gd name="adj2" fmla="val 2166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2200" y="48560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西南立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2200" y="6369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东北立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136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4086000" cy="3068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3960720" cy="3867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354680" y="1711440"/>
            <a:ext cx="249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采用了水平而非垂直的线条，层层叠加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第三层混凝土体块向外悬挑，使得整个建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以一种温和态度迎向山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15400" y="5200560"/>
            <a:ext cx="278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悬挑使视野更加开阔，也能更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的迎合地形与环境联系更紧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143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3933720"/>
            <a:ext cx="3743280" cy="280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836720" y="907920"/>
            <a:ext cx="4248000" cy="2878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403280" y="3933720"/>
            <a:ext cx="3745080" cy="2806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6256440" y="115920"/>
            <a:ext cx="2779560" cy="3708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9760" y="214920"/>
            <a:ext cx="667080" cy="75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这个升降机是房子的核心，上面安装着主人的书桌，整个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台安置在一根精良的钢柱顶端，由埋在底层下面的机器驱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151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4753080" cy="3562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3505320" cy="3562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60160" y="20606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流动工作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157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507320" y="152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492360" y="404640"/>
            <a:ext cx="5426280" cy="2073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358880" y="2519280"/>
            <a:ext cx="373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范斯沃斯住宅：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以大片的玻璃取代了阻隔视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的墙面，强调自然采光与良好的视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75480" y="4719600"/>
            <a:ext cx="2120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朗香教堂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：混凝土体块上大小不一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不规则开洞，利用光线制造宗教的神秘意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165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6462720" cy="3771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982240" y="1450800"/>
            <a:ext cx="498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上述两种开窗方式在波尔多住宅中均有所体现，因使用需要与使用性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的不同，不同空间采取不同的方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170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240000" cy="1660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79280" y="5533920"/>
            <a:ext cx="3772080" cy="1324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148360" y="5543640"/>
            <a:ext cx="3638520" cy="1314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148360" y="333360"/>
            <a:ext cx="3168720" cy="1635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1400" y="2276640"/>
            <a:ext cx="18205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“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动态”的洞：当人们在当前层运动时，这些孔洞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人们提供了一些可与外界交流的视野范围的一些片段。它们被安置和定位在所有流线的轴线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并且这些孔洞的高度也随着人的身高和运动状态的不同而不同。（孔洞高度大致有三类：站立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成年人，站立的孩童，“轮椅上的男主人”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相对的”孔洞：这些孔洞将许多特殊的、明确的、固定的点（床、写字台、水池、浴缸）与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线能捕捉到的最近的室外景观区域联系起来，它们先被定位在从眼到墙的最短路径上，然后再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行部分调整以使视线能通过某些障碍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有启迪作用的孔洞：从同一固定的、特殊的点（床、写字台、水池、浴缸），设计师沿着水平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向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360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度内挑选了一些显著的视点或视觉元素。这些孔洞被定位在与这些视觉因素最主要的方向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平行的位置，然后再进行调整，以适应人在不同状态下的不同视线高度（站立的成年人、站立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孩童、坐着的和躺着的……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178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35640" y="115920"/>
            <a:ext cx="4500360" cy="3375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859280" y="4869000"/>
            <a:ext cx="41022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39640" y="1413000"/>
            <a:ext cx="3408480" cy="2409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704320" y="4253040"/>
            <a:ext cx="58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建筑顶层是混凝土结构物在一端由大捆黑色束柱支撑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另一端由一个安装在屋顶钢梁上的悬吊秤锤来平衡，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一结构设计在保证建筑结构安全性的同时，也传达出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一种自身的不稳定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05040" cy="3962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4437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雷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库哈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21040" y="-303120"/>
            <a:ext cx="60696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出生于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荷兰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鹿特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3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57440" y="765000"/>
            <a:ext cx="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03080" y="719640"/>
            <a:ext cx="48528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岁 迁居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印度尼西亚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雅加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33336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38960" y="416520"/>
            <a:ext cx="54612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岁 回到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荷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3040" y="187200"/>
            <a:ext cx="454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2360" y="512748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lha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55400" y="981000"/>
            <a:ext cx="2810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岁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成为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《海牙邮报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记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同时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从事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电影剧本创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11640" y="2637000"/>
            <a:ext cx="3171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岁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在伦敦的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建筑协会学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7240" y="299736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建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，之后前往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美国康奈尔大学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学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36880" y="4437000"/>
            <a:ext cx="33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975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在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伦敦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创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OMA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事务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43440" y="5516640"/>
            <a:ext cx="26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获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普利策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建筑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185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1928520" cy="6070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4243320"/>
            <a:ext cx="4319640" cy="2614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4753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191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151440" y="27082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谢   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9240" y="56268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代表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63520" y="1089000"/>
            <a:ext cx="25390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法国国家图书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98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康索现代艺术中心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992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波尔多住宅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西雅图图书馆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999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CCTV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大楼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002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81960" y="620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建 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47960" y="3764520"/>
            <a:ext cx="4546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著 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5760" y="3970080"/>
            <a:ext cx="127764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错乱的纽约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Ｓ   Ｍ    Ｌ    ＸＬ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52720" y="3068640"/>
            <a:ext cx="6191280" cy="39625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69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843200" y="1185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“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做与你的期望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相反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的事情吧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98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“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我不再想要一个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简单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的房子了。我想要一个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复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的，因为房子将能够定义我的世界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4005360"/>
            <a:ext cx="230220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这座住宅的主人是一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夫妇。男主人遭遇一场车祸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劫后余生，但他后半生将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轮椅上度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他们希望新房子能够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丈夫从他们过去呆过的老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子和古旧城市的种种不便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解放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出来，并能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重新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他的生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75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84720" y="244440"/>
            <a:ext cx="3059280" cy="2176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09240" y="1700280"/>
            <a:ext cx="12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位于波尔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市郊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一个能俯瞰全市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小山坡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108000" y="2762280"/>
            <a:ext cx="6105600" cy="4095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084720" y="2544840"/>
            <a:ext cx="3059280" cy="2036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084720" y="4729320"/>
            <a:ext cx="30592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83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87640" y="274644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36960" y="1125360"/>
            <a:ext cx="6934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底层有两个入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一个入口可以通过一条如洞穴般的通道通往二层室外的屋顶平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这个通道是用混凝土模具浇注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第二个入口进入了大的开敞式平面布置的空间，包括厨房和端头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用餐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88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58920" y="1320840"/>
            <a:ext cx="78850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92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3128760" cy="4176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356000" y="44280"/>
            <a:ext cx="4788000" cy="3095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9120" y="836640"/>
            <a:ext cx="30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地面由不太光滑的铝板覆盖，使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从三面玻璃墙射进来的光线更加明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巨大的圆柱体，是旋转楼梯，同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承担者结构的支撑作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84920" y="260280"/>
            <a:ext cx="2714040" cy="834480"/>
            <a:chOff x="484920" y="260280"/>
            <a:chExt cx="2714040" cy="834480"/>
          </a:xfrm>
        </p:grpSpPr>
        <p:sp>
          <p:nvSpPr>
            <p:cNvPr id="99" name=""/>
            <p:cNvSpPr/>
            <p:nvPr/>
          </p:nvSpPr>
          <p:spPr>
            <a:xfrm>
              <a:off x="484920" y="260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波尔多住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47600" y="514080"/>
              <a:ext cx="215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Maison  à  Bordea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987640" y="2736720"/>
            <a:ext cx="6095880" cy="407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6200" y="1341360"/>
            <a:ext cx="2737080" cy="1995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81880" y="1197000"/>
            <a:ext cx="40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顶层由混凝土墙体构成，呈现出暗淡的棕色，墙面只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了一系列的圆形孔洞，保持的神秘感与私密性。而这些开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的位置与不同楼层不同空间的使用有着非常密切的联系，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间的品质因这些孔洞的位置与方向的不同而有所改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2:53:57Z</dcterms:created>
  <dc:creator>Suda</dc:creator>
  <dc:description/>
  <dc:language>en-US</dc:language>
  <cp:lastModifiedBy>Suda</cp:lastModifiedBy>
  <dcterms:modified xsi:type="dcterms:W3CDTF">2011-12-29T23:35:46Z</dcterms:modified>
  <cp:revision>11</cp:revision>
  <dc:subject/>
  <dc:title>幻灯片 1</dc:title>
</cp:coreProperties>
</file>