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gif" ContentType="image/gif"/>
  <Override PartName="/ppt/media/image11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C50-6ADF-4E1E-B80B-BF03BA63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595-D7C8-495B-AAEE-87C6908B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142-52C6-482D-B0C8-41C2F7E0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90F-73CA-443C-9F96-8F99164E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F11-6DA5-4470-B9AC-760CECD6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33C-0D88-4F52-BDF8-8F26A1F9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9FD-9B3A-40FE-8E64-BA2F9CD9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3FE-7FBC-4577-A321-CEFA9D0D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814-926D-48F4-A427-A0749D10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D8F-194C-4794-9722-5EB34C1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55F-672C-4A57-98D3-10AA820E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8CC-FD37-4CC0-9724-CC4F67E6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A54E-58AB-4FC1-97BA-B5651E1C4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2"/>
          <p:cNvGrpSpPr/>
          <p:nvPr/>
        </p:nvGrpSpPr>
        <p:grpSpPr>
          <a:xfrm>
            <a:off x="0" y="0"/>
            <a:ext cx="9143640" cy="5790960"/>
            <a:chOff x="0" y="0"/>
            <a:chExt cx="9143640" cy="5790960"/>
          </a:xfrm>
        </p:grpSpPr>
        <p:pic>
          <p:nvPicPr>
            <p:cNvPr id="43" name="Picture 15" descr="200671120440642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914364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AutoShape 20"/>
            <p:cNvSpPr/>
            <p:nvPr/>
          </p:nvSpPr>
          <p:spPr>
            <a:xfrm>
              <a:off x="6958800" y="3425400"/>
              <a:ext cx="2184840" cy="2202120"/>
            </a:xfrm>
            <a:prstGeom prst="wedgeEllipseCallout">
              <a:avLst>
                <a:gd name="adj1" fmla="val -73226"/>
                <a:gd name="adj2" fmla="val -486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18" descr="ma2_004"/>
            <p:cNvPicPr/>
            <p:nvPr/>
          </p:nvPicPr>
          <p:blipFill>
            <a:blip r:embed="rId11"/>
            <a:stretch/>
          </p:blipFill>
          <p:spPr>
            <a:xfrm>
              <a:off x="7282800" y="3833640"/>
              <a:ext cx="145656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WordArt 16"/>
          <p:cNvSpPr txBox="1"/>
          <p:nvPr/>
        </p:nvSpPr>
        <p:spPr>
          <a:xfrm>
            <a:off x="1995480" y="507960"/>
            <a:ext cx="5638680" cy="32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别饿坏了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那匹马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" name="WordArt 23"/>
          <p:cNvSpPr txBox="1"/>
          <p:nvPr/>
        </p:nvSpPr>
        <p:spPr>
          <a:xfrm>
            <a:off x="1676520" y="5627520"/>
            <a:ext cx="59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课标版小学语文六年级上册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父    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5867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书页中分明多了几张毛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晚上，父亲对我说：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打你不为别的事，都像你这样白看书，人家怎么过日子？搬运队的马车夫需要马草，你可以扯马草换钱。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父亲</a:t>
            </a:r>
            <a:r>
              <a:rPr b="1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1" name="AutoShape 9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91504"/>
                <a:gd name="adj2" fmla="val 5163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语言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7080" y="5105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碧  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仿宋"/>
              </a:rPr>
              <a:t>姑娘接过我的马草，提进了里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碧云</a:t>
            </a:r>
            <a:r>
              <a:rPr b="1" lang="en-US" sz="3600" spc="-1" strike="noStrike">
                <a:solidFill>
                  <a:srgbClr val="006600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善解人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7" name="AutoShape 7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119069"/>
                <a:gd name="adj2" fmla="val -1863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动作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780109963x0902007-fm02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124080" y="32000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几次写到了“别饿坏了那匹马”，其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200400" y="19810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探讨问题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2" name="Picture 5" descr="ma2_004"/>
          <p:cNvPicPr/>
          <p:nvPr/>
        </p:nvPicPr>
        <p:blipFill>
          <a:blip r:embed="rId3"/>
          <a:stretch/>
        </p:blipFill>
        <p:spPr>
          <a:xfrm>
            <a:off x="7543800" y="5334120"/>
            <a:ext cx="12952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它在文中出现了三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一次是“我”把马草卖给残疾青年，离开书摊时，青年嘱咐“我”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次是青年看见“我”背着马草走向书摊时，吩咐妹妹碧云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三次是“我”对青年说的话。“我”担心误了喂马时间而饿着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609480" y="2209680"/>
            <a:ext cx="468360" cy="2619360"/>
            <a:chOff x="609480" y="2209680"/>
            <a:chExt cx="468360" cy="2619360"/>
          </a:xfrm>
        </p:grpSpPr>
        <p:pic>
          <p:nvPicPr>
            <p:cNvPr id="106" name="Picture 4" descr="01a"/>
            <p:cNvPicPr/>
            <p:nvPr/>
          </p:nvPicPr>
          <p:blipFill>
            <a:blip r:embed="rId3"/>
            <a:stretch/>
          </p:blipFill>
          <p:spPr>
            <a:xfrm>
              <a:off x="609480" y="2209680"/>
              <a:ext cx="4395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5" descr="01a"/>
            <p:cNvPicPr/>
            <p:nvPr/>
          </p:nvPicPr>
          <p:blipFill>
            <a:blip r:embed="rId4"/>
            <a:stretch/>
          </p:blipFill>
          <p:spPr>
            <a:xfrm>
              <a:off x="609480" y="3276360"/>
              <a:ext cx="4683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6" descr="01a"/>
            <p:cNvPicPr/>
            <p:nvPr/>
          </p:nvPicPr>
          <p:blipFill>
            <a:blip r:embed="rId5"/>
            <a:stretch/>
          </p:blipFill>
          <p:spPr>
            <a:xfrm>
              <a:off x="609480" y="4343400"/>
              <a:ext cx="4665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WordArt 8"/>
          <p:cNvSpPr txBox="1"/>
          <p:nvPr/>
        </p:nvSpPr>
        <p:spPr>
          <a:xfrm>
            <a:off x="4419720" y="5791320"/>
            <a:ext cx="3047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善意的谎言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宋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别饿坏了那匹马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67053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既是课文的题目，也是推动故事发生的关键句。文章用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贯穿全文，起到了层层推进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20067112044064202"/>
          <p:cNvPicPr/>
          <p:nvPr/>
        </p:nvPicPr>
        <p:blipFill>
          <a:blip r:embed="rId3"/>
          <a:stretch/>
        </p:blipFill>
        <p:spPr>
          <a:xfrm>
            <a:off x="2057400" y="4648320"/>
            <a:ext cx="1752480" cy="1800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6"/>
          <p:cNvSpPr/>
          <p:nvPr/>
        </p:nvSpPr>
        <p:spPr>
          <a:xfrm>
            <a:off x="4876920" y="4572000"/>
            <a:ext cx="3124080" cy="1828800"/>
          </a:xfrm>
          <a:prstGeom prst="wedgeEllipseCallout">
            <a:avLst>
              <a:gd name="adj1" fmla="val -79930"/>
              <a:gd name="adj2" fmla="val -4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ma2_004"/>
          <p:cNvPicPr/>
          <p:nvPr/>
        </p:nvPicPr>
        <p:blipFill>
          <a:blip r:embed="rId4"/>
          <a:stretch/>
        </p:blipFill>
        <p:spPr>
          <a:xfrm>
            <a:off x="5486400" y="48769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52320" y="1066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拓展训练：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推开了木板房的门，真相终于大白。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站在那一堆枯黄的马草前，脑海中也许会浮现出一幕幕往事；耳畔也许还会回响着守摊的残疾青年说过的每一句话；也许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…</a:t>
            </a:r>
            <a:r>
              <a:rPr b="0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在这一刻都会想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请发挥你的想象，把它写下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1-4"/>
          <p:cNvPicPr/>
          <p:nvPr/>
        </p:nvPicPr>
        <p:blipFill>
          <a:blip r:embed="rId3"/>
          <a:stretch/>
        </p:blipFill>
        <p:spPr>
          <a:xfrm>
            <a:off x="7543800" y="5029200"/>
            <a:ext cx="1295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36828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826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刻骨铭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毛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一如既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瞥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尴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971800" y="1282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形容记忆深刻，永远不忘。多用于对别人的感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71800" y="2273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口语，就是面值一角的人民币纸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048120" y="2806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8120" y="334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跟过去完全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048120" y="3873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一眼看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048120" y="44067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处境困难，不好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8654"/>
          <p:cNvPicPr/>
          <p:nvPr/>
        </p:nvPicPr>
        <p:blipFill>
          <a:blip r:embed="rId2"/>
          <a:stretch/>
        </p:blipFill>
        <p:spPr>
          <a:xfrm>
            <a:off x="7315200" y="44830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课文主要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20067112044064202"/>
          <p:cNvPicPr/>
          <p:nvPr/>
        </p:nvPicPr>
        <p:blipFill>
          <a:blip r:embed="rId2"/>
          <a:stretch/>
        </p:blipFill>
        <p:spPr>
          <a:xfrm>
            <a:off x="762120" y="1600200"/>
            <a:ext cx="1752480" cy="172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8654"/>
          <p:cNvPicPr/>
          <p:nvPr/>
        </p:nvPicPr>
        <p:blipFill>
          <a:blip r:embed="rId3"/>
          <a:stretch/>
        </p:blipFill>
        <p:spPr>
          <a:xfrm>
            <a:off x="7238880" y="51814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主要写了酷爱读书的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在失去看书机会时，摆书摊的残疾青年谎称家中有马，买下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的马草，让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得以继续看书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0067112044064201"/>
          <p:cNvPicPr/>
          <p:nvPr/>
        </p:nvPicPr>
        <p:blipFill>
          <a:blip r:embed="rId2"/>
          <a:stretch/>
        </p:blipFill>
        <p:spPr>
          <a:xfrm>
            <a:off x="533520" y="12952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8654"/>
          <p:cNvPicPr/>
          <p:nvPr/>
        </p:nvPicPr>
        <p:blipFill>
          <a:blip r:embed="rId3"/>
          <a:stretch/>
        </p:blipFill>
        <p:spPr>
          <a:xfrm>
            <a:off x="7467480" y="5562720"/>
            <a:ext cx="10479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文中出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这些人物分别有什么样的性格特点呢？请从文中找出有关的内容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1828800" y="22096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速读课文，回答问题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7" name="Picture 8" descr="Gif0405_136"/>
          <p:cNvPicPr/>
          <p:nvPr/>
        </p:nvPicPr>
        <p:blipFill>
          <a:blip r:embed="rId2"/>
          <a:stretch/>
        </p:blipFill>
        <p:spPr>
          <a:xfrm>
            <a:off x="6781680" y="121932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52320" y="9140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残疾青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51424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依然宽厚地对我一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瞥见轮椅上的他正定定地看着我，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坐下慢慢看吧！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说着指了指身旁的一只小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别打孩子！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年轻人竭力想从轮椅上挣扎起来阻止我父亲，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孩子看书不是坏事。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0067112044064201"/>
          <p:cNvPicPr/>
          <p:nvPr/>
        </p:nvPicPr>
        <p:blipFill>
          <a:blip r:embed="rId2"/>
          <a:stretch/>
        </p:blipFill>
        <p:spPr>
          <a:xfrm>
            <a:off x="457200" y="685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"/>
          <p:cNvSpPr/>
          <p:nvPr/>
        </p:nvSpPr>
        <p:spPr>
          <a:xfrm>
            <a:off x="380880" y="1447920"/>
            <a:ext cx="1524240" cy="2057400"/>
          </a:xfrm>
          <a:prstGeom prst="wedgeRoundRectCallout">
            <a:avLst>
              <a:gd name="adj1" fmla="val 74166"/>
              <a:gd name="adj2" fmla="val -425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0932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先是一愣，继而眼睛一亮，笑着对我说：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过来，让我看看你的马草。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认真地看过马草后，冲里屋叫道：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碧云，你出来一下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别别别</a:t>
            </a:r>
            <a:r>
              <a:rPr b="1" lang="en-US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……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急了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碧云！碧云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用双手拼命摇着轮椅，想挡住我的路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你放下！等碧云来拿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回来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在身后喊道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那马会踢伤你的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残疾青年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宽厚、善良、善解人意，用心良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3352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语言、动作、神态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7339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80720" y="1599840"/>
            <a:ext cx="54104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上小学五年级那年，学校不远处的书摊是我放学后流连忘返的地方。可是更多的时候，手无分文的我只能装作选书的样子，偷看几则小故事，然后溜之大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攥着马草换来的毛票，我立即奔向书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”</a:t>
            </a: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喜爱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0067112044064202"/>
          <p:cNvPicPr/>
          <p:nvPr/>
        </p:nvPicPr>
        <p:blipFill>
          <a:blip r:embed="rId3"/>
          <a:stretch/>
        </p:blipFill>
        <p:spPr>
          <a:xfrm>
            <a:off x="380880" y="1371600"/>
            <a:ext cx="16909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10"/>
          <p:cNvGrpSpPr/>
          <p:nvPr/>
        </p:nvGrpSpPr>
        <p:grpSpPr>
          <a:xfrm>
            <a:off x="7620120" y="1295280"/>
            <a:ext cx="838080" cy="2362320"/>
            <a:chOff x="7620120" y="1295280"/>
            <a:chExt cx="838080" cy="2362320"/>
          </a:xfrm>
        </p:grpSpPr>
        <p:sp>
          <p:nvSpPr>
            <p:cNvPr id="80" name="AutoShape 11"/>
            <p:cNvSpPr/>
            <p:nvPr/>
          </p:nvSpPr>
          <p:spPr>
            <a:xfrm>
              <a:off x="7620120" y="1295280"/>
              <a:ext cx="838080" cy="2362320"/>
            </a:xfrm>
            <a:prstGeom prst="wedgeRoundRectCallout">
              <a:avLst>
                <a:gd name="adj1" fmla="val -60037"/>
                <a:gd name="adj2" fmla="val 6223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2"/>
            <p:cNvSpPr/>
            <p:nvPr/>
          </p:nvSpPr>
          <p:spPr>
            <a:xfrm>
              <a:off x="7696080" y="1371600"/>
              <a:ext cx="68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动作描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/>
          <p:cNvSpPr/>
          <p:nvPr/>
        </p:nvSpPr>
        <p:spPr>
          <a:xfrm>
            <a:off x="5105520" y="1295280"/>
            <a:ext cx="2971800" cy="914400"/>
          </a:xfrm>
          <a:prstGeom prst="wedgeRoundRectCallout">
            <a:avLst>
              <a:gd name="adj1" fmla="val -68856"/>
              <a:gd name="adj2" fmla="val 96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6560" y="13712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是迟了！我已经走进他家的后院，看见了一堆枯蔫焦黄的马草──这些日子我卖给他的所有的马草！那匹马呢？那匹香甜地吃着我的马草的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523880" y="4800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这段话通过两个感叹句、两个问句写出了“我”见到马草后的震惊与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5-28T15:01:56Z</dcterms:modified>
  <cp:revision>2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