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ADB-85A5-4158-B75B-BAFDDCE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152-3990-40FC-B47E-9A7BFB7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4DD-FA71-41FA-8503-78207A9D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069-B8B3-4232-9EC8-D54E7C8F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3648-BEB4-446A-8A13-990D9B0A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A289-9349-47DB-8DA6-E4E6DA2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8173-4E07-42A8-A734-51B127AC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DAEE-D9D0-4BFC-9065-EB144A9A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E75-2E56-49C6-B50E-7C7985F8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D5AB-E150-45E0-8A09-8676852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2D6-AA58-47F5-BDAB-FB6F1D3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CD7-625E-4455-95D4-83CFDD00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BA9-642E-4D09-9C9B-2540A11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E25C-01C9-4E8F-AFA7-B1BC349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5F0B-FDF4-4851-BC75-A9F8FD0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1837-7A62-4270-BAA3-FD58271E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4D6-5A30-4396-B438-7B130DE8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C97-9411-49D4-8B57-44EF2A00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C7C-4110-4536-9673-C44DC50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B78-E6BA-4644-96EC-62B60CF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D65-3EE2-440B-89F7-FF32F1E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9DD-A4EB-4AFC-857E-8BB9745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BC2-BA9B-43F7-89A6-68B6437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94B-F5C4-4B5F-B498-E58683B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E9E-0256-45D3-B4B5-B7C0408E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C26-EA1F-4817-83A2-46E09558DEA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7a77"/>
                </a:solidFill>
                <a:latin typeface="Arial"/>
              </a:rPr>
              <a:t>别董大</a:t>
            </a:r>
            <a:endParaRPr b="0" lang="en-US" sz="1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4000" y="501336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zls.mp3" descr=""/>
          <p:cNvPicPr/>
          <p:nvPr/>
        </p:nvPicPr>
        <p:blipFill>
          <a:blip r:embed="rId1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8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9a3f"/>
                </a:solidFill>
                <a:latin typeface="Arial"/>
              </a:rPr>
              <a:t>学诗三部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142120" cy="38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读诗题 知作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抓字眼 解诗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诵诗句 悟诗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3708360" y="1892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Picture 4" descr="638368723384"/>
          <p:cNvPicPr/>
          <p:nvPr/>
        </p:nvPicPr>
        <p:blipFill>
          <a:blip r:embed="rId1"/>
          <a:stretch/>
        </p:blipFill>
        <p:spPr>
          <a:xfrm>
            <a:off x="3124080" y="990720"/>
            <a:ext cx="3670560" cy="545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95280" y="1844640"/>
            <a:ext cx="27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适 ，唐代著名边塞诗人，青年时代仕途失意，高适送别董大，也可能正是诗人失意的时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603840" y="327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732720" y="1844640"/>
            <a:ext cx="241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董庭兰，是玄宗时代的著名琴手，他善古琴，但当时盛行胡乐，受到冷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619280" y="2349360"/>
            <a:ext cx="533412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千里黄云白日曛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北风吹雁雪纷纷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莫愁前路无知己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天下谁人不识君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37680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别 董 大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781440" y="1557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高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35640" y="1773360"/>
            <a:ext cx="93672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f418"/>
                </a:solidFill>
                <a:latin typeface="Times New Roman"/>
              </a:rPr>
              <a:t>xū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59640" y="1628640"/>
            <a:ext cx="230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日落时的余光，曛黄，黄昏的意思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别 董 大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7724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19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千里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黄云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白日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曛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北风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吹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雪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纷纷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莫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前路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无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知己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天下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谁人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不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识君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zls.mp3" descr=""/>
          <p:cNvPicPr/>
          <p:nvPr/>
        </p:nvPicPr>
        <p:blipFill>
          <a:blip r:embed="rId1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Picture 4" descr="1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8188200" y="260280"/>
            <a:ext cx="7336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932360" y="83664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211640" y="765000"/>
            <a:ext cx="49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别 董 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千里黄云白日曛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北风吹雁雪纷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莫愁前路无知己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天下谁人不识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Track_04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Track_054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9364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9344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Picture 4" descr="638368723384"/>
          <p:cNvPicPr/>
          <p:nvPr/>
        </p:nvPicPr>
        <p:blipFill>
          <a:blip r:embed="rId2"/>
          <a:stretch/>
        </p:blipFill>
        <p:spPr>
          <a:xfrm>
            <a:off x="826920" y="836640"/>
            <a:ext cx="3745080" cy="5545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4932360" y="2492280"/>
            <a:ext cx="352728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川为静其波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鸟亦罢其鸣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隶书"/>
              </a:rPr>
              <a:t>李颀的长诗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隶书"/>
              </a:rPr>
              <a:t>听董大弹胡笳声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隶书"/>
              </a:rPr>
              <a:t>》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胡笳十八拍 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胡笳十八拍 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185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185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别 董 大</a:t>
            </a:r>
            <a:br>
              <a:rPr sz="6600"/>
            </a:b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千里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黄云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白日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曛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北风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吹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雪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纷纷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莫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前路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无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知己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天下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谁人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不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识君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zls.mp3" descr=""/>
          <p:cNvPicPr/>
          <p:nvPr/>
        </p:nvPicPr>
        <p:blipFill>
          <a:blip r:embed="rId1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3071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0:59:01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6-15T15:48:02Z</dcterms:modified>
  <cp:revision>83</cp:revision>
  <dc:subject>第一PPT模板网-WWW.1PPT.COM</dc:subject>
  <dc:title>第一PPT模板网-WWW.1PPT.COM</dc:title>
</cp:coreProperties>
</file>