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gif" ContentType="image/gif"/>
  <Override PartName="/ppt/media/image9.gif" ContentType="image/gif"/>
  <Override PartName="/ppt/media/image7.gif" ContentType="image/gif"/>
  <Override PartName="/ppt/media/image11.png" ContentType="image/png"/>
  <Override PartName="/ppt/media/camera.wav" ContentType="audio/x-wav"/>
  <Override PartName="/ppt/media/image17.gif" ContentType="image/gif"/>
  <Override PartName="/ppt/media/image6.png" ContentType="image/png"/>
  <Override PartName="/ppt/media/image18.gif" ContentType="image/gif"/>
  <Override PartName="/ppt/media/image16.gif" ContentType="image/gif"/>
  <Override PartName="/ppt/media/image2.jpeg" ContentType="image/jpeg"/>
  <Override PartName="/ppt/media/image20.png" ContentType="image/png"/>
  <Override PartName="/ppt/media/image15.gif" ContentType="image/gif"/>
  <Override PartName="/ppt/media/image3.jpeg" ContentType="image/jpeg"/>
  <Override PartName="/ppt/media/image14.gif" ContentType="image/gif"/>
  <Override PartName="/ppt/media/image13.gif" ContentType="image/gif"/>
  <Override PartName="/ppt/media/image4.jpeg" ContentType="image/jpeg"/>
  <Override PartName="/ppt/media/image19.wmf" ContentType="image/x-wmf"/>
  <Override PartName="/ppt/media/image8.gif" ContentType="image/gif"/>
  <Override PartName="/ppt/media/image1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55D-7298-4D81-AEC9-074A2CBC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D47-A7DE-42DA-B838-9CD395F9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725-4BFD-4621-A076-17F97024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8B1-E65D-453F-AE37-B18461FD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5A88-CABD-4CAC-92D7-8F659C17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3665-A461-43D1-B4D0-93E72827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C218-3624-4F18-B4F3-602AD056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047B-A27C-4D0E-B5EF-21B5B92C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909A-B3C6-474F-8CDF-EE45AFCF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9D3E-2756-422F-9029-44063211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9CB8-02DA-4BB2-BDB3-5E65795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BF7-6261-4FAF-9C42-F62B7B2D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8550-4137-4F71-A018-EEC478B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88E0-C81C-4CA2-A288-979806E6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B246-E395-4F3E-8505-F45DB772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F4B4-8A86-4688-8EEE-721C9818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527D-A766-42CA-A3D5-F75E80A5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B7D-6A39-441E-BA9A-5C6E37F4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1A3-5D1C-424D-A1A0-EC6C3524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8BA-6FA6-4171-A808-FFC2E513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92F-CB39-4D86-9492-DCF16F5D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0CC-9D71-43C3-9B04-013B5F3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67D-C711-48A1-B8E4-71C3A9B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DE3-9BC8-403E-96D2-B70DF0F8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525E-E697-4E2A-B8ED-B308D7FE7B3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EE5-F2BC-4CC1-BFFC-9DCA25D8C30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9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6.gif"/><Relationship Id="rId3" Type="http://schemas.openxmlformats.org/officeDocument/2006/relationships/slide" Target="slide18.xml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36865;&#21035;--&#22478;&#21335;&#26087;&#20107;.r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.gif"/><Relationship Id="rId3" Type="http://schemas.openxmlformats.org/officeDocument/2006/relationships/slide" Target="slide11.xml"/><Relationship Id="rId4" Type="http://schemas.openxmlformats.org/officeDocument/2006/relationships/image" Target="../media/image8.gif"/><Relationship Id="rId5" Type="http://schemas.openxmlformats.org/officeDocument/2006/relationships/slide" Target="slide14.xml"/><Relationship Id="rId6" Type="http://schemas.openxmlformats.org/officeDocument/2006/relationships/image" Target="../media/image9.gif"/><Relationship Id="rId7" Type="http://schemas.openxmlformats.org/officeDocument/2006/relationships/slide" Target="slide15.xml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1752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爸爸的花儿落了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38098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660033"/>
                </a:solidFill>
                <a:latin typeface="Times New Roman"/>
                <a:ea typeface="隶书"/>
              </a:rPr>
              <a:t>林海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320040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鼓励孩子要坚强，无论什么困难的事，只要硬着头皮去做，就闯过去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很重感情，他听到弟弟被日本人害死的消息，便急得吐血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特别爱花，每天下班回来，第一件事就是浇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371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66"/>
                </a:solidFill>
                <a:uFillTx/>
                <a:latin typeface="仿宋_GB2312"/>
                <a:ea typeface="仿宋_GB2312"/>
              </a:rPr>
              <a:t>从全文看，爸爸是个怎样的人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48000" y="2286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爸爸表面上很严厉，实际上却充满爱心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480" y="0"/>
            <a:ext cx="762012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1880" y="6095880"/>
            <a:ext cx="6098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1981080"/>
            <a:ext cx="8610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66"/>
                </a:solidFill>
                <a:latin typeface="Times New Roman"/>
                <a:ea typeface="楷体_GB2312"/>
              </a:rPr>
              <a:t>文章题目为“爸爸的花儿落了”，与题目相映，文章也多处写到花，如开头由衣襟上的夹竹桃引出爸爸生病住院，结尾用“垂落的夹竹桃”回应前文，点出爸爸已不在人间，中间还写了爸爸的爱花，可以看出“花”是作为              贯穿小说始末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57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cc"/>
                </a:solidFill>
                <a:uFillTx/>
                <a:latin typeface="仿宋_GB2312"/>
                <a:ea typeface="仿宋_GB2312"/>
              </a:rPr>
              <a:t>“</a:t>
            </a:r>
            <a:r>
              <a:rPr b="1" lang="zh-CN" sz="4000" spc="-1" strike="noStrike" u="sng">
                <a:solidFill>
                  <a:srgbClr val="cc00cc"/>
                </a:solidFill>
                <a:uFillTx/>
                <a:latin typeface="仿宋_GB2312"/>
                <a:ea typeface="仿宋_GB2312"/>
              </a:rPr>
              <a:t>花”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在全文中出现过几次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   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它结构中起怎样的作用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315200" y="5105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线索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38088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3300"/>
                </a:solidFill>
                <a:uFillTx/>
                <a:latin typeface="Times New Roman"/>
                <a:ea typeface="隶书"/>
              </a:rPr>
              <a:t>贯穿全文的线索“花”以外，还有什么呢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990720" y="2590920"/>
            <a:ext cx="48765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ff00"/>
                    </a:gs>
                    <a:gs pos="100000">
                      <a:srgbClr val="66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毕业典礼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ff00"/>
                  </a:gs>
                  <a:gs pos="100000">
                    <a:srgbClr val="66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爸爸没有参加“我”的毕业典礼，“我”想起昨天在医院看望爸爸的情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1905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”想起爸爸逼“我”上学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2590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”想起院里的花今年都没有上肥，而爸爸平时最喜爱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4343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毕业典礼上“我”认识到自己已经长大了，想起过去爸爸让单独去汇钱的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5943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爸爸的花儿落了，“我”也长大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62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（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-12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051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-3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590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2-3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、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-5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943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、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4-6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毕业典礼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3657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毕业典礼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52578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毕业典礼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59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66"/>
                </a:solidFill>
                <a:uFillTx/>
                <a:latin typeface="仿宋_GB2312"/>
                <a:ea typeface="仿宋_GB2312"/>
              </a:rPr>
              <a:t>文中哪些写的是眼前事，哪些是回忆过去的事，回忆的事情是怎样引出的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60020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衣襟上的夹竹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28954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038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医院探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057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彩云"/>
              </a:rPr>
              <a:t>眼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38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彩云"/>
              </a:rPr>
              <a:t>回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57200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探病时的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541008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5867280"/>
            <a:ext cx="2819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六年前赖床受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1600200"/>
            <a:ext cx="23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礼堂钟声响了，爸爸不能来，不能料理花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2971800"/>
            <a:ext cx="0" cy="1066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4038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爸爸爱花的情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16002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韩主任讲话，我们唱骊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2971800"/>
            <a:ext cx="0" cy="1066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4038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  <a:ea typeface="楷体_GB2312"/>
              </a:rPr>
              <a:t>爸爸要她闯练，叫她到银行汇款给日本的陈叔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160020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毕业典礼回来，看见零落的花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72400" y="2971800"/>
            <a:ext cx="4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楷体_GB2312"/>
              </a:rPr>
              <a:t>意识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3809880"/>
            <a:ext cx="17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cc"/>
                </a:solidFill>
                <a:latin typeface="Tahoma"/>
                <a:ea typeface="楷体_GB2312"/>
              </a:rPr>
              <a:t>自己已经长大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10480" y="6340320"/>
            <a:ext cx="533520" cy="517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4800600"/>
            <a:ext cx="6858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插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20574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  <a:ea typeface="隶书"/>
              </a:rPr>
              <a:t>重点表达了爸爸对女儿的深情和盼望女儿长大、懂事的情感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73320" y="76212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66"/>
                </a:solidFill>
                <a:uFillTx/>
                <a:latin typeface="仿宋_GB2312"/>
                <a:ea typeface="仿宋_GB2312"/>
              </a:rPr>
              <a:t>文章表达了爸爸对女儿怎样的感情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2286000" cy="1415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6098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175248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对爸爸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逼“我”去上学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的回忆表明了爸爸怎样的态度和情感？对“我”的成长有什么影响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 “</a:t>
            </a:r>
            <a:r>
              <a:rPr b="1" lang="zh-CN" sz="32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我”是不是真正感觉到自己长大了？从哪些地方看出来的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3400" y="380880"/>
            <a:ext cx="22104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研讨与练习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7524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4648320"/>
            <a:ext cx="6858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仿宋_GB2312"/>
              </a:rPr>
              <a:t>对爸爸逼“我”去上学的回忆表明了爸爸怎样的态度和情感？对“我”的成长有什么影响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600200"/>
            <a:ext cx="8305920" cy="25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爸爸对“我”要求很严格，希望“我”从小就能养成好的习惯，但是他表面的严厉中又有无限的关爱，关心自己的冷暖和苦乐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爸爸的爱使“我”意识到不能懒惰，要处处严格要求自己，为“我”以后的成长上了很好的一课。</a:t>
            </a:r>
            <a:r>
              <a:rPr b="1" lang="zh-CN" sz="4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仿宋_GB2312"/>
                <a:ea typeface="仿宋_GB2312"/>
              </a:rPr>
              <a:t>“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仿宋_GB2312"/>
                <a:ea typeface="仿宋_GB2312"/>
              </a:rPr>
              <a:t>我”是不是真正感觉到自己长大了？从哪些地方看出来的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1828800"/>
            <a:ext cx="74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的。“我”得知爸爸不行了，首先意识到</a:t>
            </a:r>
            <a:r>
              <a:rPr b="1" lang="zh-CN" sz="40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“这里就数我最大了，我是小小的大人”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然后就对老高说话，而且是</a:t>
            </a:r>
            <a:r>
              <a:rPr b="1" lang="zh-CN" sz="40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“从来没有过这样的镇定，这样的安静”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最后在心里默念</a:t>
            </a:r>
            <a:r>
              <a:rPr b="1" lang="zh-CN" sz="40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“我已不再是小孩子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zh-CN" sz="37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" y="106668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隶书"/>
              </a:rPr>
              <a:t>简单归纳一下“我”</a:t>
            </a:r>
            <a:r>
              <a:rPr b="1" lang="zh-CN" sz="4800" spc="-1" strike="noStrike" u="sng">
                <a:solidFill>
                  <a:srgbClr val="99ff33"/>
                </a:solidFill>
                <a:uFillTx/>
                <a:latin typeface="Times New Roman"/>
                <a:ea typeface="隶书"/>
              </a:rPr>
              <a:t>成长的历程</a:t>
            </a: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362320"/>
            <a:ext cx="8305560" cy="314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”在爸爸的</a:t>
            </a: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管教</a:t>
            </a:r>
            <a:r>
              <a:rPr b="1" i="1" lang="zh-CN" sz="3600" spc="-1" strike="noStrike">
                <a:solidFill>
                  <a:srgbClr val="ffffb7"/>
                </a:solidFill>
                <a:latin typeface="楷体_GB2312"/>
                <a:ea typeface="楷体_GB2312"/>
              </a:rPr>
              <a:t>下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服了懒惰的毛病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爸爸的</a:t>
            </a: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励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有了挑战困难的信心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勇气，在爸爸话语的</a:t>
            </a: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激励</a:t>
            </a: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最终以成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姿态镇定地面对爸爸去世的噩耗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191120" cy="5790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19720" y="83808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林海音（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1918—2001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），原名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林含英，小名英子，原籍台湾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苗栗县。父母曾东渡日本经商。生于日本大阪，不久即返台，因父亲不甘在日寇铁蹄下生活，举家迁居北京，林海音即在北京长大，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年回到故乡台湾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91440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华文隶书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隶书"/>
              </a:rPr>
              <a:t>《城南旧事》描写了一个小姑娘长大的历程，小说的主人公英子在经历了一系列人生的遭遇和挫折后，告别了动荡的童年。而当我们每一个人走到这一天时，都会产生一种复杂情感，既想成为一个大人，又不愿长大，你们有这种心情吗？说说看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105520" y="4800600"/>
            <a:ext cx="4038480" cy="2057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522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ff66"/>
                </a:solidFill>
                <a:latin typeface="Tahoma"/>
                <a:ea typeface="楷体_GB2312"/>
              </a:rPr>
              <a:t>体验与反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8380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ahoma"/>
                <a:ea typeface="楷体_GB2312"/>
              </a:rPr>
              <a:t>课文中还有什么情节引起你的阅读兴趣？谈谈体会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352680"/>
            <a:ext cx="868680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ahoma"/>
                <a:ea typeface="楷体_GB2312"/>
              </a:rPr>
              <a:t>你有没有类似“我”赖床的经历，你的父亲如何处理的？说给大家听听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638680" y="4343400"/>
            <a:ext cx="3048120" cy="2262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1447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体裁：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自传体短篇小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4382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主旨：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本文记叙“我”的童年往事：父亲对“我”的期望与教诲，以及父亲的去世令“我”成长起來，抒发“我”对父亲的无限怀念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00400" y="380880"/>
            <a:ext cx="2133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总结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35772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0" y="121932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曾任記者、編辑、后从事文艺创作。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她的创作丰富，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</a:rPr>
              <a:t>代表作有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楷体_GB2312"/>
              </a:rPr>
              <a:t>散文集《两地》《芸窗夜读》；短篇小说集《城南旧事》《烛心》；长篇小说《春风》《晓云》；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广播剧集《薇薇的周记》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楷体_GB2312"/>
              </a:rPr>
              <a:t>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12760" y="554040"/>
            <a:ext cx="8702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夏天过去，秋天过去，冬天又来了，骆驼队又来了，但是童年却一去不还。冬阳底下学骆驼咀嚼的傻事，我也不会再做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是，是多么想念童年住在北京场面的那些景色和人物啊！我对自己说，把它们写下来吧，让实际的童年过去，心灵的童年永存下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这样，我写了一本《城南旧事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默默地想，慢慢地写。看见冬阳下的骆驼队走过来，听见缓慢悦耳的铃声，童年重临于我的心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1544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079160" y="15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《城南旧事》电影剧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4520" y="6095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sө_x0002_"/>
              </a:rPr>
              <a:t>英子和爸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76520" y="53352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华文彩云"/>
                <a:ea typeface="华文彩云"/>
              </a:rPr>
              <a:t>检 查 预 习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765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鸡毛</a:t>
            </a: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仿宋_GB2312"/>
              </a:rPr>
              <a:t>掸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5146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咻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玉</a:t>
            </a: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仿宋_GB2312"/>
              </a:rPr>
              <a:t>簪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4956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仿宋_GB2312"/>
              </a:rPr>
              <a:t>骊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6765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肿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25909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叮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5812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恐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4572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仿宋_GB2312"/>
              </a:rPr>
              <a:t>花</a:t>
            </a: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仿宋_GB2312"/>
              </a:rPr>
              <a:t>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676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d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ǎ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5146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xiū xi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35053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zā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572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l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167652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zhǒng zhà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5909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dīng zh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6576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kǒng j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9720" y="4495680"/>
            <a:ext cx="8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p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47880" y="54100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挪</a:t>
            </a:r>
            <a:r>
              <a:rPr b="1" lang="zh-CN" sz="44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窝儿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32080" y="5410080"/>
            <a:ext cx="11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nu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1080" y="541008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耻</a:t>
            </a:r>
            <a:r>
              <a:rPr b="1" lang="zh-CN" sz="44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05960" y="5410080"/>
            <a:ext cx="9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ch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762120"/>
            <a:ext cx="8702640" cy="5104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9ff66"/>
                </a:solidFill>
                <a:uFillTx/>
                <a:latin typeface="隶书"/>
                <a:ea typeface="隶书"/>
                <a:hlinkClick r:id="rId1"/>
              </a:rPr>
              <a:t>《骊歌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长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古道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芳草碧连天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晚风拂柳笛声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夕阳山外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之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之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知交半零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壶浊酒尽余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今宵别梦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长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古道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芳草碧连天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君此去几时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来时莫徘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之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海之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知交半零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生难得是欢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唯有别离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5335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ahoma"/>
                <a:ea typeface="楷体_GB2312"/>
              </a:rPr>
              <a:t>题目含义——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335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隶书"/>
              </a:rPr>
              <a:t>一语“</a:t>
            </a:r>
            <a:r>
              <a:rPr b="1" lang="zh-CN" sz="5400" spc="-1" strike="noStrike">
                <a:solidFill>
                  <a:srgbClr val="800080"/>
                </a:solidFill>
                <a:latin typeface="Tahoma"/>
                <a:ea typeface="隶书"/>
              </a:rPr>
              <a:t>双关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隶书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98108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ahoma"/>
                <a:ea typeface="隶书"/>
              </a:rPr>
              <a:t>实指——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21337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ahoma"/>
                <a:ea typeface="楷体_GB2312"/>
              </a:rPr>
              <a:t>爸爸种的夹竹桃的败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4290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隶书"/>
              </a:rPr>
              <a:t>象征——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5812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ahoma"/>
                <a:ea typeface="楷体_GB2312"/>
              </a:rPr>
              <a:t>天性爱花的爸爸的辞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48006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ahoma"/>
                <a:ea typeface="隶书"/>
              </a:rPr>
              <a:t>含而不露、哀而不伤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38088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ahoma"/>
                <a:ea typeface="隶书"/>
              </a:rPr>
              <a:t>自由朗读课文，并思考问题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3716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从全文看，爸爸是个怎样的人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56520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2286000"/>
            <a:ext cx="59544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3352680"/>
            <a:ext cx="579240" cy="609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7200" y="5334120"/>
            <a:ext cx="6588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13280" y="228600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 “</a:t>
            </a:r>
            <a:r>
              <a:rPr b="1" lang="zh-CN" sz="40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花”在全文结构中起怎样的作用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3276720"/>
            <a:ext cx="725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文中哪些写的是眼前事，哪些是回忆过去的事，回忆的事情是怎样引出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53341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文章表达了爸爸对女儿怎样的感情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01-22T08:10:14Z</dcterms:modified>
  <cp:revision>82</cp:revision>
  <dc:subject/>
  <dc:title>PowerPoint Presentation</dc:title>
</cp:coreProperties>
</file>