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7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8.gif" ContentType="image/gif"/>
  <Override PartName="/ppt/media/image48.jpeg" ContentType="image/jpeg"/>
  <Override PartName="/ppt/media/image47.jpeg" ContentType="image/jpeg"/>
  <Override PartName="/ppt/media/image46.jpeg" ContentType="image/jpeg"/>
  <Override PartName="/ppt/media/image58.png" ContentType="image/png"/>
  <Override PartName="/ppt/media/image45.jpeg" ContentType="image/jpeg"/>
  <Override PartName="/ppt/media/image36.jpeg" ContentType="image/jpeg"/>
  <Override PartName="/ppt/media/image2.jpeg" ContentType="image/jpeg"/>
  <Override PartName="/ppt/media/image64.gif" ContentType="image/gif"/>
  <Override PartName="/ppt/media/image23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66.jpeg" ContentType="image/jpeg"/>
  <Override PartName="/ppt/media/image41.jpeg" ContentType="image/jpeg"/>
  <Override PartName="/ppt/media/image63.gif" ContentType="image/gif"/>
  <Override PartName="/ppt/media/image65.jpeg" ContentType="image/jpeg"/>
  <Override PartName="/ppt/media/image39.jpeg" ContentType="image/jpeg"/>
  <Override PartName="/ppt/media/carbrake.wav" ContentType="audio/x-wav"/>
  <Override PartName="/ppt/media/chimes.wav" ContentType="audio/x-wav"/>
  <Override PartName="/ppt/media/image17.jpeg" ContentType="image/jpeg"/>
  <Override PartName="/ppt/media/image35.jpeg" ContentType="image/jpeg"/>
  <Override PartName="/ppt/media/image1.jpeg" ContentType="image/jpeg"/>
  <Override PartName="/ppt/media/image21.jpeg" ContentType="image/jpeg"/>
  <Override PartName="/ppt/media/image62.gif" ContentType="image/gif"/>
  <Override PartName="/ppt/media/image22.jpeg" ContentType="image/jpeg"/>
  <Override PartName="/ppt/media/image25.jpeg" ContentType="image/jpeg"/>
  <Override PartName="/ppt/media/image3.png" ContentType="image/png"/>
  <Override PartName="/ppt/media/image61.jpeg" ContentType="image/jpeg"/>
  <Override PartName="/ppt/media/image60.jpeg" ContentType="image/jpeg"/>
  <Override PartName="/ppt/media/image37.jpeg" ContentType="image/jpeg"/>
  <Override PartName="/ppt/media/drumroll.wav" ContentType="audio/x-wav"/>
  <Override PartName="/ppt/media/image33.jpeg" ContentType="image/jpeg"/>
  <Override PartName="/ppt/media/image24.jpeg" ContentType="image/jpeg"/>
  <Override PartName="/ppt/media/image19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42.jpeg" ContentType="image/jpeg"/>
  <Override PartName="/ppt/media/image59.jpeg" ContentType="image/jpeg"/>
  <Override PartName="/ppt/media/image6.png" ContentType="image/png"/>
  <Override PartName="/ppt/media/image4.png" ContentType="image/png"/>
  <Override PartName="/ppt/media/image7.jpeg" ContentType="image/jpeg"/>
  <Override PartName="/ppt/media/image38.jpeg" ContentType="image/jpeg"/>
  <Override PartName="/ppt/media/glass.wav" ContentType="audio/x-wav"/>
  <Override PartName="/ppt/media/image18.jpeg" ContentType="image/jpeg"/>
  <Override PartName="/ppt/media/type.wav" ContentType="audio/x-wav"/>
  <Override PartName="/ppt/media/image10.jpeg" ContentType="image/jpeg"/>
  <Override PartName="/ppt/media/image27.jpeg" ContentType="image/jpeg"/>
  <Override PartName="/ppt/media/image50.jpeg" ContentType="image/jpeg"/>
  <Override PartName="/ppt/media/applause.wav" ContentType="audio/x-wav"/>
  <Override PartName="/ppt/media/image43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4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1CE3-7A67-481E-B8DA-E70982C9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037-E82B-4F29-929D-F1184A2D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83C4-7844-4C88-8699-A1C26999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D87-DAB9-4D0F-9587-EBA94CBB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B7F7-39EC-48FD-A7C7-89D82DC4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97DD-35A9-4AEF-AA61-2E2F7555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BC57-8823-4A11-B70F-073AD611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D070-9350-4F07-A2D4-2D0125BD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2F6-EA2A-4392-82D1-079647D8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31B-827E-4BB4-B8FF-414D8793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C9F-D965-412B-B980-1C9FEA8F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9BBD-975D-4B0E-9060-0AB53AF7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6BBB-E992-44C3-B576-A0F81A446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jpeg"/><Relationship Id="rId4" Type="http://schemas.openxmlformats.org/officeDocument/2006/relationships/image" Target="../media/image4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4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gi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gif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4.xml"/><Relationship Id="rId3" Type="http://schemas.openxmlformats.org/officeDocument/2006/relationships/image" Target="../media/image64.gif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image" Target="../media/image4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20680" y="0"/>
            <a:ext cx="2903400" cy="4038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943600" y="20574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腰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55846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陕北的安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9144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楷体_GB2312"/>
              </a:rPr>
              <a:t>你们知道这是什么鼓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4114800"/>
            <a:ext cx="5943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楷体_GB2312"/>
              </a:rPr>
              <a:t>你们知道中国的“腰鼓之乡”是哪里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2438280"/>
            <a:ext cx="12956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6019920"/>
            <a:ext cx="14475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594640" y="6537240"/>
            <a:ext cx="397080" cy="22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75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75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sf_200661516423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他们的身后是一片高粱地。他们朴实得就像那片高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15000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5632560"/>
            <a:ext cx="9144000" cy="12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咝溜溜的南风吹动了高粱叶子，也吹动了他们的衣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292720" y="0"/>
            <a:ext cx="3851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他们的神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沉稳而安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20070213092803483" descr=""/>
          <p:cNvPicPr/>
          <p:nvPr/>
        </p:nvPicPr>
        <p:blipFill>
          <a:blip r:embed="rId2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紧贴在他们身体一侧的腰鼓，呆呆的，似乎从来不曾响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20081181600334" descr="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407_s_121837535056_s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964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560" y="-316080"/>
            <a:ext cx="576108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黑体"/>
                <a:ea typeface="黑体"/>
              </a:rPr>
              <a:t>但是：</a:t>
            </a:r>
            <a:r>
              <a:rPr b="0" lang="en-US" sz="9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br>
              <a:rPr sz="9600"/>
            </a:br>
            <a:r>
              <a:rPr b="0" lang="en-US" sz="9600" spc="-1" strike="noStrike">
                <a:solidFill>
                  <a:srgbClr val="ff0000"/>
                </a:solidFill>
                <a:latin typeface="黑体"/>
                <a:ea typeface="黑体"/>
              </a:rPr>
              <a:t>   看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-252360" y="0"/>
            <a:ext cx="957744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一捶起来就发狠了，忘情了，没命了！百十个斜背腰鼓的后生，如百十块被强震不断击起的石头，狂舞在你的面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28975025929cb97935a80f55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5a3118098973799bd0581b5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356000" y="333360"/>
            <a:ext cx="51134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骤雨一样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   </a:t>
            </a:r>
            <a:r>
              <a:rPr b="1" lang="en-US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是急促的鼓点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200793113812850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076360" y="836280"/>
            <a:ext cx="4248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方正舒体"/>
                <a:ea typeface="方正舒体"/>
              </a:rPr>
              <a:t>旋风一样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方正舒体"/>
                <a:ea typeface="方正舒体"/>
              </a:rPr>
              <a:t>是飞扬的流苏；</a:t>
            </a:r>
            <a:r>
              <a:rPr b="1" lang="en-US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4f2d22f8fae0b416d8f9fd5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-360" y="5489640"/>
            <a:ext cx="7669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华文行楷"/>
                <a:ea typeface="华文行楷"/>
              </a:rPr>
              <a:t>乱蛙一样，是蹦跳的脚步；</a:t>
            </a:r>
            <a:r>
              <a:rPr b="1" lang="en-US" sz="4800" spc="-1" strike="noStrike">
                <a:solidFill>
                  <a:srgbClr val="ffff00"/>
                </a:solidFill>
                <a:latin typeface="方正舒体"/>
                <a:ea typeface="方正舒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71_1297_42b7bd755758da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028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行楷"/>
                <a:ea typeface="华文行楷"/>
              </a:rPr>
              <a:t>火花一样，是闪射的瞳</a:t>
            </a: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(tóng)</a:t>
            </a:r>
            <a:r>
              <a:rPr b="1" lang="en-US" sz="4000" spc="-1" strike="noStrike">
                <a:solidFill>
                  <a:srgbClr val="333399"/>
                </a:solidFill>
                <a:latin typeface="华文行楷"/>
                <a:ea typeface="华文行楷"/>
              </a:rPr>
              <a:t>仁；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006-12-29-15-10-2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63640" y="1413000"/>
            <a:ext cx="5832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  <a:ea typeface="华文行楷"/>
              </a:rPr>
              <a:t>安塞腰鼓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92360" y="3429000"/>
            <a:ext cx="2303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刘成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200805071159223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42591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斗虎一样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是强健的风姿</a:t>
            </a:r>
            <a:r>
              <a:rPr b="1" lang="en-US" sz="4800" spc="-1" strike="noStrike">
                <a:solidFill>
                  <a:srgbClr val="ffff00"/>
                </a:solidFill>
                <a:latin typeface="方正舒体"/>
                <a:ea typeface="方正舒体"/>
              </a:rPr>
              <a:t>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8200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黄土高原上，爆出一场多么壮阔、多么豪放、多么火烈的舞蹈哇——安塞腰鼓！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1a72c7f472794877dcc4745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252720" y="5373360"/>
            <a:ext cx="9396360" cy="1484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这腰鼓，使冰冷的空气立即变得燥热了，使恬</a:t>
            </a: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(tián)</a:t>
            </a: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静的阳光立即变得飞溅了，使困倦的世界立即变得亢</a:t>
            </a: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(kàng)</a:t>
            </a: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奋了。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200711518311491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11280" y="3789360"/>
            <a:ext cx="8316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Arial"/>
                <a:ea typeface="华文行楷"/>
              </a:rPr>
              <a:t>使人想起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  <a:ea typeface="华文行楷"/>
              </a:rPr>
              <a:t>         </a:t>
            </a:r>
            <a:r>
              <a:rPr b="1" lang="en-US" sz="4400" spc="-1" strike="noStrike">
                <a:solidFill>
                  <a:srgbClr val="dddddd"/>
                </a:solidFill>
                <a:latin typeface="Arial"/>
                <a:ea typeface="华文行楷"/>
              </a:rPr>
              <a:t>落日照大旗，马鸣风萧萧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2007591819378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820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华文行楷"/>
              </a:rPr>
              <a:t>使人想起：千里的雷声万里的闪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g200602212258224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360" y="4652640"/>
            <a:ext cx="763272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使人想起：晦（</a:t>
            </a:r>
            <a:r>
              <a:rPr b="1" lang="en-US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huì</a:t>
            </a:r>
            <a:r>
              <a:rPr b="1" lang="en-US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）暗了又明晰、明晰了又晦暗、尔后最终永远明晰了的大彻大悟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a54b864aee08a33a08f7ef5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5273280"/>
            <a:ext cx="9144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楷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容不得束缚，容不得羁绊 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jī bàn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，容不得闭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是挣脱了、冲破了、撞开了的那么一股劲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49236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华文新魏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华文新魏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10345_200706221651522" descr=""/>
          <p:cNvPicPr/>
          <p:nvPr/>
        </p:nvPicPr>
        <p:blipFill>
          <a:blip r:embed="rId2"/>
          <a:stretch/>
        </p:blipFill>
        <p:spPr>
          <a:xfrm>
            <a:off x="349236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m116029455825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7640" y="4292640"/>
            <a:ext cx="8434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百十个腰鼓发出的沉重响声，碰撞在四野长着酸枣树的山崖上，山崖蓦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(mò)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然变成牛皮鼓面了，只听见隆隆，隆隆，隆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830ec2d3286cd2d359bf75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181080" y="0"/>
            <a:ext cx="885672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百十个腰鼓发出的沉重响声，碰撞在遗落了一切冗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(rǒng)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杂的观众的心上，观众的心也蓦然变成牛皮鼓面了，也是隆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隆隆，隆隆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92720" y="371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图片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47533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Arial"/>
                <a:ea typeface="黑体"/>
              </a:rPr>
              <a:t>隆隆隆隆的豪壮的抒情，隆隆隆隆的严峻的思索，隆隆隆隆的犁间翻起的杂着草根的土浪，隆隆隆隆的阵痛的发生和排解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yaogu02" descr="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10345_200706221651523" descr=""/>
          <p:cNvPicPr/>
          <p:nvPr/>
        </p:nvPicPr>
        <p:blipFill>
          <a:blip r:embed="rId2"/>
          <a:stretch/>
        </p:blipFill>
        <p:spPr>
          <a:xfrm>
            <a:off x="3527280" y="0"/>
            <a:ext cx="561672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0"/>
            <a:ext cx="349236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华文新魏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华文新魏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d9b660ec34bf863e63d09f5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后生们的胳膊、腿、全身，有力地搏击着，急速地搏击着，大起大落地搏击着。它震撼着你，烧灼着你，威逼着你。它使你从来没有如此鲜明地感受到生命的存在、活跃、和强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它使你惊异于那农民衣着包裹着的躯体，那消化红豆角角老南瓜的躯体，居然可以释放出那么奇伟磅礴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ng bó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的能量！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eye872010310192120920" descr=""/>
          <p:cNvPicPr/>
          <p:nvPr/>
        </p:nvPicPr>
        <p:blipFill>
          <a:blip r:embed="rId2"/>
          <a:stretch/>
        </p:blipFill>
        <p:spPr>
          <a:xfrm>
            <a:off x="2556000" y="0"/>
            <a:ext cx="65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108360" y="5516640"/>
            <a:ext cx="943308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黄土高原啊，你生养了这些元气淋漓的后生；也只有你，才能承受如此惊心动魄的捶击！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5589360"/>
            <a:ext cx="8748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华文隶书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华文隶书"/>
              </a:rPr>
              <a:t>多水的江南是易碎的玻璃，在那儿，打不得这样的腰鼓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338462648ae39de9f636545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黑体"/>
                <a:ea typeface="黑体"/>
              </a:rPr>
              <a:t>除了黄土高原，哪里再有这么厚这么厚的土层啊！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327672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好一个黄土高原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好一个安塞腰鼓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10345_200706221651524" descr=""/>
          <p:cNvPicPr/>
          <p:nvPr/>
        </p:nvPicPr>
        <p:blipFill>
          <a:blip r:embed="rId2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11Z9605c330345b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7345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  <a:ea typeface="华文新魏"/>
              </a:rPr>
              <a:t>每一个舞姿都充满了力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11Z9605c61035149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868480" y="259920"/>
            <a:ext cx="6275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华文新魏"/>
              </a:rPr>
              <a:t>每一个舞姿都呼呼作响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189000"/>
            <a:ext cx="849780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华文中宋"/>
              </a:rPr>
              <a:t>安塞腰鼓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产生于距延安四十公里处的安塞县，是产生于北方黄土高原的一种民间艺术，充满原始和浓郁的乡土气息。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它是黄土高原的产物，其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粗犷、雄浑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的风格与当地的自然环境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地理风貌、民风民情浑然一体 。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安塞腰鼓表演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可由几人或上千人一同进行，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磅礴的气势，精湛的表现力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令人陶醉，被称为“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天下第一鼓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”。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源远流长，风格独特，融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舞蹈、音乐、武术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于一体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具有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队行多变、刚劲、豪放的特点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。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１９９６年，安塞县被国家文化部命名为“中国腰鼓之乡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11Z9605cT03EN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华文新魏"/>
              </a:rPr>
              <a:t>每一个舞姿都是光与影的匆匆变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11Z9605493Z33364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820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华文新魏"/>
                <a:ea typeface="华文新魏"/>
              </a:rPr>
              <a:t>  </a:t>
            </a:r>
            <a:r>
              <a:rPr b="1" lang="en-US" sz="4400" spc="-1" strike="noStrike">
                <a:solidFill>
                  <a:srgbClr val="ffff99"/>
                </a:solidFill>
                <a:latin typeface="华文新魏"/>
                <a:ea typeface="华文新魏"/>
              </a:rPr>
              <a:t>每一个舞姿都使人颤栗在浓烈的艺术享受中，使人叹为观止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6ba5b5d983bde4f038012f5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黑体"/>
                <a:ea typeface="黑体"/>
              </a:rPr>
              <a:t>好一个痛快了山河、蓬勃了想象力的安塞腰鼓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20051593816757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愈捶愈烈！形体成了沉重而又纷飞的思绪！</a:t>
            </a:r>
            <a:r>
              <a:rPr b="1" lang="en-US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42560" y="-360"/>
            <a:ext cx="720108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愈捶愈烈！思绪中不存任何隐秘！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4" descr="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d9b660ec34bf863e63d09f5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99"/>
                </a:solidFill>
                <a:latin typeface="华文新魏"/>
                <a:ea typeface="华文新魏"/>
              </a:rPr>
              <a:t>愈捶愈烈！痛苦和欢乐，生活和梦幻，摆脱和追求，都在这舞姿和鼓点中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655d9082b11a35bb0df4d25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932360" y="333000"/>
            <a:ext cx="28432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华文新魏"/>
              </a:rPr>
              <a:t>交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20071181156194428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363640" y="404280"/>
            <a:ext cx="2087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r>
              <a:rPr b="1" lang="en-US" sz="6000" spc="-1" strike="noStrike">
                <a:solidFill>
                  <a:srgbClr val="ff0066"/>
                </a:solidFill>
                <a:latin typeface="华文行楷"/>
                <a:ea typeface="华文行楷"/>
              </a:rPr>
              <a:t>旋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2007122010220010220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867280" y="404640"/>
            <a:ext cx="327672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华文行楷"/>
                <a:ea typeface="华文行楷"/>
              </a:rPr>
              <a:t>凝聚</a:t>
            </a:r>
            <a:r>
              <a:rPr b="1" lang="en-US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20071220102146217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003640" y="404280"/>
            <a:ext cx="360072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奔突！</a:t>
            </a:r>
            <a:r>
              <a:rPr b="1" lang="en-US" sz="6000" spc="-1" strike="noStrike">
                <a:solidFill>
                  <a:srgbClr val="006666"/>
                </a:solidFill>
                <a:latin typeface="华文行楷"/>
                <a:ea typeface="华文行楷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40000"/>
                </a:solidFill>
                <a:latin typeface="Arial"/>
              </a:rPr>
              <a:t>一、预习检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807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读准字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理解词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200515935398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316480" y="549000"/>
            <a:ext cx="382752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华文行楷"/>
              </a:rPr>
              <a:t>辐射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xin_28010319105307870456" descr=""/>
          <p:cNvPicPr/>
          <p:nvPr/>
        </p:nvPicPr>
        <p:blipFill>
          <a:blip r:embed="rId2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975280" y="836280"/>
            <a:ext cx="3168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翻飞</a:t>
            </a:r>
            <a:r>
              <a:rPr b="1" lang="en-US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3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866920" y="620280"/>
            <a:ext cx="3024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  <a:ea typeface="华文行楷"/>
              </a:rPr>
              <a:t>升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017eb63e36a52c2471cf6c5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907640" y="1125360"/>
            <a:ext cx="56912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人，成了茫茫一片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声，成了茫茫一片…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582d839ba422caa8c9eaf435" descr=""/>
          <p:cNvPicPr/>
          <p:nvPr/>
        </p:nvPicPr>
        <p:blipFill>
          <a:blip r:embed="rId2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-73080" y="333360"/>
            <a:ext cx="867744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当它戛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jiá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）然而止的时候，世界出奇的寂静，以致使人感到对她十分陌生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0f5f2b723952ac058601b03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-108360" y="4652640"/>
            <a:ext cx="66596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简直像来到另一个星球。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耳畔是一声渺远的鸡啼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24000" y="0"/>
            <a:ext cx="8351640" cy="147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看完图片，完成下列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、理解课文结构，完成下列填空</a:t>
            </a:r>
            <a:r>
              <a:rPr b="1" lang="en-US" sz="36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356400" y="2492280"/>
            <a:ext cx="139932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安塞腰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32000" y="191628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)1-4:</a:t>
            </a: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打鼓前的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32000" y="2349360"/>
            <a:ext cx="75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二</a:t>
            </a: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)5-27:</a:t>
            </a: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　隆隆隆隆的腰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285264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5-13</a:t>
            </a: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：宏伟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95640" y="3500280"/>
            <a:ext cx="48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4-17</a:t>
            </a: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：雄壮的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5640" y="422100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8-22</a:t>
            </a: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：击鼓的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95640" y="4797360"/>
            <a:ext cx="48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23-27</a:t>
            </a: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：奇丽的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530064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三</a:t>
            </a: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)28-30</a:t>
            </a: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：结束后的（　　）</a:t>
            </a:r>
            <a:r>
              <a:rPr b="1" lang="en-US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　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2205000"/>
            <a:ext cx="431640" cy="3529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04"/>
                </a:lnTo>
                <a:cubicBezTo>
                  <a:pt x="10800" y="9404"/>
                  <a:pt x="5400" y="10304"/>
                  <a:pt x="0" y="10304"/>
                </a:cubicBezTo>
                <a:cubicBezTo>
                  <a:pt x="5400" y="10304"/>
                  <a:pt x="10800" y="11204"/>
                  <a:pt x="10800" y="1210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5280" y="2852640"/>
            <a:ext cx="360360" cy="2160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89"/>
                </a:lnTo>
                <a:cubicBezTo>
                  <a:pt x="10800" y="10089"/>
                  <a:pt x="5400" y="10989"/>
                  <a:pt x="0" y="10989"/>
                </a:cubicBezTo>
                <a:cubicBezTo>
                  <a:pt x="5400" y="10989"/>
                  <a:pt x="10800" y="11889"/>
                  <a:pt x="10800" y="1278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27640" y="1773360"/>
            <a:ext cx="151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安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88000" y="350028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响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88000" y="4149720"/>
            <a:ext cx="13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后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03640" y="5373720"/>
            <a:ext cx="17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寂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88000" y="479736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舞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59280" y="2924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方正楷体简体"/>
                <a:ea typeface="方正楷体简体"/>
              </a:rPr>
              <a:t>场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56000" y="2924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35640" y="1773360"/>
            <a:ext cx="18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较慢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32720" y="1773360"/>
            <a:ext cx="23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沉稳有力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234936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较快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80360" y="2349360"/>
            <a:ext cx="175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高昂激越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27640" y="537372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舒缓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466200"/>
            <a:ext cx="9144000" cy="31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用“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华文新魏"/>
                <a:ea typeface="华文新魏"/>
              </a:rPr>
              <a:t>           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的安塞腰鼓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对安塞腰鼓进行评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（注：可填词、短语、句子，可选用文中的内容）</a:t>
            </a:r>
            <a:r>
              <a:rPr b="0" lang="en-US" sz="44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  </a:t>
            </a:r>
            <a:r>
              <a:rPr b="0" lang="en-US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3573360"/>
            <a:ext cx="85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0000"/>
                </a:solidFill>
                <a:latin typeface="黑体"/>
                <a:ea typeface="黑体"/>
              </a:rPr>
              <a:t>参考答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   “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壮阔”“豪放”“火烈”“有力”“惊心动魄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   “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容不得束缚，容不得羁绊，容不得闭塞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540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微软雅黑"/>
              </a:rPr>
              <a:t>3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微软雅黑"/>
              </a:rPr>
              <a:t>、喜闻乐见谈感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</a:t>
            </a:r>
            <a:r>
              <a:rPr b="1" lang="en-US" sz="3200" spc="-1" strike="noStrike">
                <a:solidFill>
                  <a:srgbClr val="003366"/>
                </a:solidFill>
                <a:latin typeface="微软雅黑"/>
                <a:ea typeface="微软雅黑"/>
              </a:rPr>
              <a:t>1</a:t>
            </a:r>
            <a:r>
              <a:rPr b="1" lang="en-US" sz="3200" spc="-1" strike="noStrike">
                <a:solidFill>
                  <a:srgbClr val="003366"/>
                </a:solidFill>
                <a:latin typeface="微软雅黑"/>
                <a:ea typeface="微软雅黑"/>
              </a:rPr>
              <a:t>、安塞腰鼓的总体特征是什么？（用原文中的三个连续的词语回答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壮阔   豪放    火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</a:t>
            </a:r>
            <a:r>
              <a:rPr b="1" lang="en-US" sz="3200" spc="-1" strike="noStrike">
                <a:solidFill>
                  <a:srgbClr val="003366"/>
                </a:solidFill>
                <a:latin typeface="微软雅黑"/>
                <a:ea typeface="微软雅黑"/>
              </a:rPr>
              <a:t>2</a:t>
            </a:r>
            <a:r>
              <a:rPr b="1" lang="en-US" sz="3200" spc="-1" strike="noStrike">
                <a:solidFill>
                  <a:srgbClr val="003366"/>
                </a:solidFill>
                <a:latin typeface="微软雅黑"/>
                <a:ea typeface="微软雅黑"/>
              </a:rPr>
              <a:t>、简单说说安塞腰鼓给了你什么样的感受？ （可以用自己的话说，也可以用原文中的话说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生命的强健刚劲  旺盛的生命力  强大的力量  气势宏大  气势磅礴等等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137124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40000"/>
                </a:solidFill>
                <a:latin typeface="Arial"/>
                <a:ea typeface="楷体_GB2312"/>
              </a:rPr>
              <a:t>三、分组朗读</a:t>
            </a:r>
            <a:r>
              <a:rPr b="0" i="1" lang="en-US" sz="4800" spc="-1" strike="noStrike">
                <a:solidFill>
                  <a:srgbClr val="f40000"/>
                </a:solidFill>
                <a:latin typeface="Arial"/>
                <a:ea typeface="长城楷体"/>
              </a:rPr>
              <a:t>——</a:t>
            </a:r>
            <a:br>
              <a:rPr sz="4800"/>
            </a:br>
            <a:r>
              <a:rPr b="0" i="1" lang="en-US" sz="4400" spc="-1" strike="noStrike">
                <a:solidFill>
                  <a:srgbClr val="009999"/>
                </a:solidFill>
                <a:latin typeface="Arial"/>
                <a:ea typeface="长城楷体"/>
              </a:rPr>
              <a:t>寻美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16000" y="2873520"/>
            <a:ext cx="738504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分组朗读，进行寻找美点比赛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作者从不同侧面、不同角度展示安塞腰鼓的美，试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我发现了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美，你看（听）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句式来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533520"/>
            <a:ext cx="1371600" cy="1357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594640" y="6537240"/>
            <a:ext cx="397080" cy="2224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986600" y="6537240"/>
            <a:ext cx="395280" cy="2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30600" y="1308240"/>
            <a:ext cx="729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亢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晦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羁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冗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1268280"/>
            <a:ext cx="729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磅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颤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铿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蓦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20640" y="1447920"/>
            <a:ext cx="127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烧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戛然而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82080" y="1295280"/>
            <a:ext cx="132228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jī bà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ǒ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8840" y="1295280"/>
            <a:ext cx="2198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áng b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zhàn l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ēng qiā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981000"/>
            <a:ext cx="255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  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zhu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ji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u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b2271" descr=""/>
          <p:cNvPicPr/>
          <p:nvPr/>
        </p:nvPicPr>
        <p:blipFill>
          <a:blip r:embed="rId2"/>
          <a:stretch/>
        </p:blipFill>
        <p:spPr>
          <a:xfrm>
            <a:off x="7308720" y="5102280"/>
            <a:ext cx="1621080" cy="1755720"/>
          </a:xfrm>
          <a:prstGeom prst="rect">
            <a:avLst/>
          </a:prstGeom>
          <a:ln w="0">
            <a:noFill/>
          </a:ln>
        </p:spPr>
      </p:pic>
      <p:pic>
        <p:nvPicPr>
          <p:cNvPr id="64" name="F746364291A98EF347A71C2E7A659D2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5057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例：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蓄势待发的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后生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你看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他们身后是一片高梁地。他们朴实得就像那片高梁。咝溜溜的南风吹动了高梁叶子，也吹动了他们的衣衫。他们的神情沉稳而安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6920" y="2637000"/>
            <a:ext cx="7561440" cy="4221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 advTm="29000">
    <p:randomBar dir="ver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5002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440" y="3789360"/>
            <a:ext cx="845820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楷体_GB2312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火烈的舞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场面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你看，百十个斜背响鼓的后生，如百十块被强震不断击起的石头，狂舞在你的面前。骤雨一样，是急促的鼓点；旋风一样，是飞扬的流苏；乱蛙一样，是蹦跳的脚步；火花一样，是闪射的瞳仁；斗虎一样，是强健的风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3789360"/>
            <a:ext cx="1255680" cy="792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黑体"/>
              </a:rPr>
              <a:t>示 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94640" y="6537240"/>
            <a:ext cx="397080" cy="2224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986600" y="6537240"/>
            <a:ext cx="395280" cy="222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11280" y="2409840"/>
            <a:ext cx="82785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华文中宋"/>
                <a:ea typeface="华文中宋"/>
              </a:rPr>
              <a:t>激越的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鼓声</a:t>
            </a: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美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你听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华文中宋"/>
                <a:ea typeface="华文中宋"/>
              </a:rPr>
              <a:t>百十个腰鼓发出的沉重响声，碰撞在四野长着酸枣树的山崖上，山崖蓦然变成牛皮鼓面了，只听见隆隆，隆隆，隆隆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971640" y="0"/>
            <a:ext cx="7632720" cy="22766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105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华文中宋"/>
                <a:ea typeface="华文中宋"/>
              </a:rPr>
              <a:t>变幻的舞姿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美，你看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华文中宋"/>
                <a:ea typeface="华文中宋"/>
              </a:rPr>
              <a:t>每一个舞姿都充满了力量。每一个舞姿都呼呼作响。每一个舞姿都是光和影的匆匆变幻，每一个舞姿都使人颤栗在浓烈的艺术享受中，使人叹为观止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0" y="3429000"/>
            <a:ext cx="91440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69228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en-US" sz="4400" spc="-1" strike="noStrike" u="sng">
                <a:solidFill>
                  <a:srgbClr val="000099"/>
                </a:solidFill>
                <a:uFillTx/>
                <a:latin typeface="华文中宋"/>
                <a:ea typeface="华文中宋"/>
              </a:rPr>
              <a:t>击鼓的后生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美，你看</a:t>
            </a:r>
            <a:r>
              <a:rPr b="1" lang="en-US" sz="4400" spc="-1" strike="noStrike" u="sng">
                <a:solidFill>
                  <a:srgbClr val="000099"/>
                </a:solidFill>
                <a:uFillTx/>
                <a:latin typeface="华文中宋"/>
                <a:ea typeface="华文中宋"/>
              </a:rPr>
              <a:t>他们的胳膊、腿、全身，有力地搏击着，疾速地搏击着，大起大落地搏击着。它使你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3514680"/>
            <a:ext cx="9144000" cy="2793960"/>
          </a:xfrm>
          <a:prstGeom prst="rect">
            <a:avLst/>
          </a:prstGeom>
          <a:ln w="0">
            <a:noFill/>
          </a:ln>
        </p:spPr>
      </p:pic>
      <p:pic>
        <p:nvPicPr>
          <p:cNvPr id="214" name="3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0" y="3716280"/>
            <a:ext cx="914400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218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四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微软雅黑"/>
              </a:rPr>
              <a:t>含英咀华赏美点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3360" y="1413000"/>
            <a:ext cx="85406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文好词佳句俯拾皆是。既适合声情并茂地</a:t>
            </a:r>
            <a:r>
              <a:rPr b="1" i="1" lang="en-US" sz="3200" spc="-1" strike="noStrike">
                <a:solidFill>
                  <a:srgbClr val="003366"/>
                </a:solidFill>
                <a:latin typeface="微软雅黑"/>
                <a:ea typeface="微软雅黑"/>
              </a:rPr>
              <a:t>朗读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又适合有滋有味地</a:t>
            </a:r>
            <a:r>
              <a:rPr b="1" i="1" lang="en-US" sz="3200" spc="-1" strike="noStrike">
                <a:solidFill>
                  <a:srgbClr val="003366"/>
                </a:solidFill>
                <a:latin typeface="微软雅黑"/>
                <a:ea typeface="微软雅黑"/>
              </a:rPr>
              <a:t>赏析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选择你喜欢的句段做有感情的朗读，然后做美点赏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句式：我喜欢朗读第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然段（朗读），因为它用＿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修辞手法（或者其他手法）表现（达）出了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微软雅黑"/>
                <a:ea typeface="微软雅黑"/>
              </a:rPr>
              <a:t>赏析角度提示：修辞、短句、叠词、文章结构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50920" y="1314000"/>
            <a:ext cx="854064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一捶起来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发狠了，忘情了，没命了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百十个斜背响鼓的后生，如百十块被强震不断击起的石头，狂舞在你的面前。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骤雨一样，是急促的鼓点；旋风一样，是飞扬的流苏；乱蛙一样，是蹦跳的脚步；火花一样，是闪射的瞳仁；斗虎一样，是强健的风姿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黄土高原上，爆出一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多么壮阔、多么豪放、多么火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的舞蹈哇——安塞腰鼓！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333360"/>
            <a:ext cx="25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品读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b2927" descr=""/>
          <p:cNvPicPr/>
          <p:nvPr/>
        </p:nvPicPr>
        <p:blipFill>
          <a:blip r:embed="rId2"/>
          <a:stretch/>
        </p:blipFill>
        <p:spPr>
          <a:xfrm>
            <a:off x="7308720" y="260280"/>
            <a:ext cx="1095480" cy="1143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68360" y="5013360"/>
            <a:ext cx="8209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Arial"/>
              </a:rPr>
              <a:t>★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这一段，综合运用排比、比喻、反复，形象具体地写出了舞蹈场面的壮美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突出了安塞腰鼓壮阔、豪放、火烈的特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297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品读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89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百十个腰鼓发出的沉重响声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只听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隆隆，隆隆，隆隆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。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百十个腰鼓发出的沉重响声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也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隆隆，隆隆，隆隆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隆隆隆隆的豪壮的抒情，隆隆隆隆的严峻的思索，隆隆隆隆的犁间翻起的杂着草根的土浪，隆隆隆隆的阵痛的发生和排解……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14-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4797360"/>
            <a:ext cx="849780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叠词的运用，反复和排比的综合运用，表现出“安塞腰鼓”气吞河山的场面和震撼人心的力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52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品读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8930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愈捶愈烈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形体成了沉重而又纷飞的思绪！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愈捶愈烈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思绪中不存任何隐秘！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愈捶愈烈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痛苦和欢乐，生活和梦幻，摆脱和追求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都在这舞姿和鼓点中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交织！旋转！凝聚！奔突！辐射！翻飞！升华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人，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成了茫茫一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；声，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成了茫茫一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5-27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4365720"/>
            <a:ext cx="8497800" cy="550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综合交错运用了排比和反复两种修辞手法，使文章语句铿锵，气势强劲，将安塞腰鼓所表现出的力与美推到极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b2926" descr=""/>
          <p:cNvPicPr/>
          <p:nvPr/>
        </p:nvPicPr>
        <p:blipFill>
          <a:blip r:embed="rId2"/>
          <a:stretch/>
        </p:blipFill>
        <p:spPr>
          <a:xfrm>
            <a:off x="7667640" y="260280"/>
            <a:ext cx="1079640" cy="11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2105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找出全文中感情最炽烈、音调最高亢的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26080" y="2637000"/>
            <a:ext cx="225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明确：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 “好一个安塞腰鼓！”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   间隔反复四次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9280" y="928800"/>
            <a:ext cx="89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大彻大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惊心动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叹为观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戛然而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4360" y="1916280"/>
            <a:ext cx="26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幼圆"/>
              </a:rPr>
              <a:t>彻底领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84360" y="2924280"/>
            <a:ext cx="568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幼圆"/>
              </a:rPr>
              <a:t>形容感染力极强，动人心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84360" y="3789360"/>
            <a:ext cx="58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幼圆"/>
              </a:rPr>
              <a:t>赞美看到的事物好到了极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84360" y="4797360"/>
            <a:ext cx="338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幼圆"/>
              </a:rPr>
              <a:t>声音突然中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43280" y="836640"/>
            <a:ext cx="286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幼圆"/>
              </a:rPr>
              <a:t>理解词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609480" y="380880"/>
            <a:ext cx="754380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——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一个安塞腰鼓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    ——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一个安塞腰鼓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    ——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一个黄土高原！好一个安塞腰鼓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    ——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一个痛快了山河、蓬勃了想像力的安塞腰鼓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990720" y="441972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好”包含着什么？或者说作者想要歌颂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68360" y="1557360"/>
            <a:ext cx="86756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本文运用得最多的修辞方法是什么</a:t>
            </a:r>
            <a:r>
              <a:rPr b="1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?</a:t>
            </a:r>
            <a:r>
              <a:rPr b="1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试举例说明这样的写法对表现文章的思想感情所起的作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8360" y="353880"/>
            <a:ext cx="23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形式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50920" y="3141720"/>
            <a:ext cx="867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“</a:t>
            </a: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狂舞在你的面前，骤雨一样，是急促的鼓点；旋风一样，是飞扬的流苏；乱蛙一样，是蹦跳的脚步；火花一样，是闪射的瞳仁；斗虎一样，是强健的风姿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1197000"/>
            <a:ext cx="8507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“</a:t>
            </a: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锤起来就发狠了，忘情了，没命了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44120" y="260280"/>
            <a:ext cx="30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⑴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句内部的排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47520" y="2205000"/>
            <a:ext cx="365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⑵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句与句之间的排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134136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使人想起：落日照大旗，马鸣风潇潇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使人想起：千里的雷声万里的闪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使人想起：晦暗了又明晰、明晰了又晦暗、而后最终永远明晰了的大彻大悟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9280" y="3789360"/>
            <a:ext cx="8964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些排比句使文章气势恢宏，语气连贯，节奏明快，语句铿锵，能表达出强烈的思想感情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61640" y="304920"/>
            <a:ext cx="347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⑶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段与段之间的排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24000" y="836640"/>
            <a:ext cx="8820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ec3908"/>
                </a:solidFill>
                <a:latin typeface="Times New Roman"/>
              </a:rPr>
              <a:t>铿锵的短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　　课文多用短句来表现内容。如一群茂腾腾的后生，间接的表现了年轻生命的热烈奔放：忘情了，没命了，有力的表现了生命沸腾、力量喷涌不可遏止的情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ec3908"/>
                </a:solidFill>
                <a:latin typeface="Times New Roman"/>
              </a:rPr>
              <a:t>多样的修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本文大量运用排比、比喻、反复等修辞手法，气势磅礴，酣畅淋漓、生动形象。如“使人想起……”“愈捶愈烈……”都是一连用三个排比段落，犹如江河一泻千里，不可遏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8159760" cy="581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五、体会本文的写作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小按钮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6172200"/>
            <a:ext cx="685800" cy="343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125360"/>
            <a:ext cx="77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ec3908"/>
                </a:solidFill>
                <a:latin typeface="Arial"/>
              </a:rPr>
              <a:t>疾猛的节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课文自始至终，一直保持着快速的节奏。一个排比接 一个排比，一个高潮接一个高潮，不让人有半点喘息的机会。快节奏使得内容表达得更热烈更激荡，充分表现了生命和力量喷薄而出的神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523880" y="1676520"/>
            <a:ext cx="2438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骤雨一样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是急促的鼓点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旋风一样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是飞扬的流苏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乱蛙一样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是蹦跳的脚步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火花一样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是闪射的瞳仁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斗虎一样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是强健的风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5105520" y="0"/>
            <a:ext cx="4038480" cy="66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愈捶愈烈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形体成了沉重而又纷飞的思绪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愈捶愈烈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思绪中不存任何隐秘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愈捶愈烈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痛苦和欢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生活和梦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摆脱和追求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都在这舞姿和鼓点中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交织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旋转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凝聚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奔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辐射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翻飞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升华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380880" y="380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改变文章的形式阅读，品味中语言的节奏美、诗意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36720" y="283680"/>
            <a:ext cx="6480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微软雅黑"/>
              </a:rPr>
              <a:t>六、钻之弥深做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2071440"/>
            <a:ext cx="835164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微软雅黑"/>
              </a:rPr>
              <a:t>深入研读课文，看看你对课文内容还有哪些疑问？提出来大家共同探讨解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微软雅黑"/>
              </a:rPr>
              <a:t>西部是贫穷落后的象征，作者为什么还要赞美它？并且要赞美西北的汉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微软雅黑"/>
              </a:rPr>
              <a:t>主旨探究：作者写安塞腰鼓有什么意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924680" cy="23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找出揭示安塞腰鼓文化内涵和生命意识的一句话：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79320" y="2421000"/>
            <a:ext cx="7925040" cy="33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容不得束缚，容不得羁绊，容不得闭塞。是挣脱了、冲破了、撞开了的那么一股劲！”</a:t>
            </a:r>
            <a:br>
              <a:rPr sz="4000"/>
            </a:br>
            <a:r>
              <a:rPr b="1" i="1" lang="en-US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课文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3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这篇文章歌颂了什么？（主题）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作者通过安塞腰鼓想要表达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7240" y="1846440"/>
            <a:ext cx="7855200" cy="12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歌颂了生命和力量——由西北汉子热情奔放的腰鼓表现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357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▲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表现要冲破束缚、阻碍的强烈渴望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贫瘠的黄土地、困倦的生活，生活在这里的人们，物质上、精神上受到太多的压抑、羁绊。安塞腰鼓，表现了挣脱、冲破、撞开这一切束缚的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5a3118098973799bd0581b5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二、看读课文   体味文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6440" y="5445000"/>
            <a:ext cx="8871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听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声情并茂的朗读，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看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气壮山河的视频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想想用哪些词语来概括这些场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-1684440"/>
            <a:ext cx="864864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74872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文中说“多水的江南是易碎的玻璃，在那儿，打不得这样的腰鼓”，请你想想，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提示：腰鼓特点、黄土高原特点、江南特点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腰鼓壮阔、豪放、火烈，它孕育于黄土高原，是粗犷充沛的原始生命力的宣泄，它奇伟磅礴、不加雕饰的风格与高原的雄浑、厚重、朴实相匹配。而江南秀润美丽，但粗犷厚重不足，承受不了这样粗犷的艺术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7885080" y="6207120"/>
            <a:ext cx="574560" cy="369720"/>
          </a:xfrm>
          <a:custGeom>
            <a:avLst/>
            <a:gdLst>
              <a:gd name="textAreaLeft" fmla="*/ 23760 w 574560"/>
              <a:gd name="textAreaRight" fmla="*/ 550800 w 574560"/>
              <a:gd name="textAreaTop" fmla="*/ 23760 h 369720"/>
              <a:gd name="textAreaBottom" fmla="*/ 345960 h 369720"/>
            </a:gdLst>
            <a:ahLst/>
            <a:rect l="textAreaLeft" t="textAreaTop" r="textAreaRight" b="textAreaBottom"/>
            <a:pathLst>
              <a:path w="33556" h="21600">
                <a:moveTo>
                  <a:pt x="0" y="0"/>
                </a:moveTo>
                <a:lnTo>
                  <a:pt x="33556" y="0"/>
                </a:lnTo>
                <a:lnTo>
                  <a:pt x="33556" y="21600"/>
                </a:lnTo>
                <a:lnTo>
                  <a:pt x="0" y="21600"/>
                </a:lnTo>
                <a:close/>
              </a:path>
              <a:path fill="lightenLess" w="33556" h="21600">
                <a:moveTo>
                  <a:pt x="0" y="0"/>
                </a:moveTo>
                <a:lnTo>
                  <a:pt x="33556" y="0"/>
                </a:lnTo>
                <a:lnTo>
                  <a:pt x="32156" y="1400"/>
                </a:lnTo>
                <a:lnTo>
                  <a:pt x="1400" y="1400"/>
                </a:lnTo>
                <a:close/>
              </a:path>
              <a:path fill="darken" w="33556" h="21600">
                <a:moveTo>
                  <a:pt x="33556" y="0"/>
                </a:moveTo>
                <a:lnTo>
                  <a:pt x="33556" y="21600"/>
                </a:lnTo>
                <a:lnTo>
                  <a:pt x="32156" y="20200"/>
                </a:lnTo>
                <a:lnTo>
                  <a:pt x="32156" y="1400"/>
                </a:lnTo>
                <a:close/>
              </a:path>
              <a:path fill="darkenLess" w="33556" h="21600">
                <a:moveTo>
                  <a:pt x="3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56" y="20200"/>
                </a:lnTo>
                <a:close/>
              </a:path>
              <a:path fill="lighten" w="3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56" h="21600">
                <a:moveTo>
                  <a:pt x="9771" y="3794"/>
                </a:moveTo>
                <a:lnTo>
                  <a:pt x="23784" y="10800"/>
                </a:lnTo>
                <a:lnTo>
                  <a:pt x="9771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文章最后说：“简直像来到另一个星球。耳畔是一声渺远的鸡啼。”这样表达的好处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0000" y="4005360"/>
            <a:ext cx="8244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71640" y="650880"/>
            <a:ext cx="741672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previousslide"/>
          </p:cNvPr>
          <p:cNvSpPr/>
          <p:nvPr/>
        </p:nvSpPr>
        <p:spPr>
          <a:xfrm>
            <a:off x="8244000" y="6021360"/>
            <a:ext cx="360360" cy="4636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63680"/>
              <a:gd name="textAreaBottom" fmla="*/ 440640 h 463680"/>
            </a:gdLst>
            <a:ahLst/>
            <a:rect l="textAreaLeft" t="textAreaTop" r="textAreaRight" b="textAreaBottom"/>
            <a:pathLst>
              <a:path w="21600" h="27787">
                <a:moveTo>
                  <a:pt x="0" y="0"/>
                </a:moveTo>
                <a:lnTo>
                  <a:pt x="21600" y="0"/>
                </a:lnTo>
                <a:lnTo>
                  <a:pt x="21600" y="27787"/>
                </a:lnTo>
                <a:lnTo>
                  <a:pt x="0" y="27787"/>
                </a:lnTo>
                <a:close/>
              </a:path>
              <a:path fill="lightenLess" w="21600" h="277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87">
                <a:moveTo>
                  <a:pt x="21600" y="0"/>
                </a:moveTo>
                <a:lnTo>
                  <a:pt x="21600" y="27787"/>
                </a:lnTo>
                <a:lnTo>
                  <a:pt x="20200" y="26387"/>
                </a:lnTo>
                <a:lnTo>
                  <a:pt x="20200" y="1400"/>
                </a:lnTo>
                <a:close/>
              </a:path>
              <a:path fill="darkenLess" w="21600" h="27787">
                <a:moveTo>
                  <a:pt x="21600" y="27787"/>
                </a:moveTo>
                <a:lnTo>
                  <a:pt x="0" y="27787"/>
                </a:lnTo>
                <a:lnTo>
                  <a:pt x="1400" y="26387"/>
                </a:lnTo>
                <a:lnTo>
                  <a:pt x="20200" y="26387"/>
                </a:lnTo>
                <a:close/>
              </a:path>
              <a:path fill="lighten" w="21600" h="27787">
                <a:moveTo>
                  <a:pt x="0" y="277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87"/>
                </a:lnTo>
                <a:close/>
              </a:path>
              <a:path fill="darken" w="21600" h="27787">
                <a:moveTo>
                  <a:pt x="3794" y="13893"/>
                </a:moveTo>
                <a:lnTo>
                  <a:pt x="17806" y="6887"/>
                </a:lnTo>
                <a:lnTo>
                  <a:pt x="17806" y="209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1268280"/>
            <a:ext cx="7848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40000"/>
                </a:solidFill>
                <a:latin typeface="Arial"/>
                <a:ea typeface="宋体"/>
              </a:rPr>
              <a:t>以动衬静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4800" spc="-1" strike="noStrike">
                <a:solidFill>
                  <a:srgbClr val="f40000"/>
                </a:solidFill>
                <a:latin typeface="Arial"/>
                <a:ea typeface="宋体"/>
              </a:rPr>
              <a:t>衬托出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鼓声停后，世界的寂静与高原的辽阔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900000" y="1844640"/>
            <a:ext cx="7483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背读文中的雅词、美句、精段，归纳积累本课所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利用本节课所涉及到的修辞手法，描述一个场面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260280"/>
            <a:ext cx="446544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七、作业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40132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仿照例句句式，完成句子。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这腰鼓，使冰冷的空气立即变得燥热起来，</a:t>
            </a:r>
            <a:r>
              <a:rPr b="1" lang="en-US" sz="3200" spc="-1" strike="noStrike" u="sng">
                <a:solidFill>
                  <a:srgbClr val="f40000"/>
                </a:solidFill>
                <a:uFillTx/>
                <a:latin typeface="Arial"/>
                <a:ea typeface="楷体_GB2312"/>
              </a:rPr>
              <a:t>使恬静的阳光立即变得飞溅了，使困倦的世界立即变得亢奋了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27640" y="2492280"/>
            <a:ext cx="448128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仿句：这（鼓声、笛声、琴声、歌声等），使————，使—————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7689960" y="830160"/>
            <a:ext cx="1377720" cy="15210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914040" y="1332000"/>
            <a:ext cx="5791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66"/>
              </a:solidFill>
              <a:latin typeface="Arial"/>
              <a:ea typeface="长城楷体"/>
            </a:endParaRPr>
          </a:p>
        </p:txBody>
      </p:sp>
      <p:pic>
        <p:nvPicPr>
          <p:cNvPr id="27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94640" y="6537240"/>
            <a:ext cx="397080" cy="2224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986600" y="6537240"/>
            <a:ext cx="395280" cy="2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523880" y="1676520"/>
            <a:ext cx="2438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骤雨一样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是急促的鼓点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旋风一样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是飞扬的流苏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乱蛙一样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是蹦跳的脚步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火花一样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是闪射的瞳仁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斗虎一样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是强健的风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5105520" y="907920"/>
            <a:ext cx="40384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春雨一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是谆谆的告诫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是细心的爱抚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阳光一样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是高大的身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380880" y="380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仿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个聋哑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他们在舞台上尽情挥洒，他们在残缺中追求完美，在无声中激荡生命。他们在娇媚中自强，在寂静中呐喊，在沉默中奋起，他们震撼着全中国、震撼着全世界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好一群聋哑人！好一个千手观音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她使人想起：破土而出的新芽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她使人想起：凌寒独自开的腊梅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她使人想起：长青不老的松柏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二十一个聋哑人站成排，手一伸一缩，让人目不暇接。那优美的舞姿犹如孔雀开屏，让人沉醉其中；那壮观的场面犹如“神六”升天，让人激动不已；那整齐的动作犹如电脑合成，让人无法相信；好厉害的聋哑人，好厉害的“千手观音”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一群茂腾腾的后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000C72523748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14:10:43Z</dcterms:created>
  <dc:creator>jjhz111</dc:creator>
  <dc:description/>
  <dc:language>en-US</dc:language>
  <cp:lastModifiedBy>USER</cp:lastModifiedBy>
  <dcterms:modified xsi:type="dcterms:W3CDTF">2013-04-23T03:04:37Z</dcterms:modified>
  <cp:revision>48</cp:revision>
  <dc:subject/>
  <dc:title>幻灯片 1</dc:title>
</cp:coreProperties>
</file>