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7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55.xml.rels" ContentType="application/vnd.openxmlformats-package.relationships+xml"/>
  <Override PartName="/ppt/notesSlides/notesSlide55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6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10.wmf" ContentType="image/x-wmf"/>
  <Override PartName="/ppt/media/image36.png" ContentType="image/png"/>
  <Override PartName="/ppt/media/image35.png" ContentType="image/png"/>
  <Override PartName="/ppt/media/image5.png" ContentType="image/png"/>
  <Override PartName="/ppt/media/image17.png" ContentType="image/png"/>
  <Override PartName="/ppt/media/image28.png" ContentType="image/png"/>
  <Override PartName="/ppt/media/image29.png" ContentType="image/png"/>
  <Override PartName="/ppt/media/image31.png" ContentType="image/png"/>
  <Override PartName="/ppt/media/image15.png" ContentType="image/png"/>
  <Override PartName="/ppt/media/image16.png" ContentType="image/png"/>
  <Override PartName="/ppt/media/image25.png" ContentType="image/png"/>
  <Override PartName="/ppt/media/image62.png" ContentType="image/png"/>
  <Override PartName="/ppt/media/image64.png" ContentType="image/png"/>
  <Override PartName="/ppt/media/image27.png" ContentType="image/png"/>
  <Override PartName="/ppt/media/image4.wmf" ContentType="image/x-wmf"/>
  <Override PartName="/ppt/media/image59.png" ContentType="image/png"/>
  <Override PartName="/ppt/media/image22.png" ContentType="image/png"/>
  <Override PartName="/ppt/media/image24.png" ContentType="image/png"/>
  <Override PartName="/ppt/media/image61.png" ContentType="image/png"/>
  <Override PartName="/ppt/media/image63.png" ContentType="image/png"/>
  <Override PartName="/ppt/media/image26.png" ContentType="image/png"/>
  <Override PartName="/ppt/media/image3.wmf" ContentType="image/x-wmf"/>
  <Override PartName="/ppt/media/image58.png" ContentType="image/png"/>
  <Override PartName="/ppt/media/image21.png" ContentType="image/png"/>
  <Override PartName="/ppt/media/image60.png" ContentType="image/png"/>
  <Override PartName="/ppt/media/image6.png" ContentType="image/png"/>
  <Override PartName="/ppt/media/image18.png" ContentType="image/png"/>
  <Override PartName="/ppt/media/image23.png" ContentType="image/png"/>
  <Override PartName="/ppt/media/image57.png" ContentType="image/png"/>
  <Override PartName="/ppt/media/image20.png" ContentType="image/png"/>
  <Override PartName="/ppt/media/image32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2.png" ContentType="image/png"/>
  <Override PartName="/ppt/media/image14.png" ContentType="image/png"/>
  <Override PartName="/ppt/media/image9.wmf" ContentType="image/x-wmf"/>
  <Override PartName="/ppt/media/image41.png" ContentType="image/png"/>
  <Override PartName="/ppt/media/image8.wmf" ContentType="image/x-wmf"/>
  <Override PartName="/ppt/media/image40.png" ContentType="image/png"/>
  <Override PartName="/ppt/media/image1.png" ContentType="image/png"/>
  <Override PartName="/ppt/media/image13.png" ContentType="image/png"/>
  <Override PartName="/ppt/media/image30.png" ContentType="image/png"/>
  <Override PartName="/ppt/media/image33.png" ContentType="image/png"/>
  <Override PartName="/ppt/media/image34.png" ContentType="image/png"/>
  <Override PartName="/ppt/media/image38.png" ContentType="image/png"/>
  <Override PartName="/ppt/media/image39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7.png" ContentType="image/png"/>
  <Override PartName="/ppt/media/image50.png" ContentType="image/png"/>
  <Override PartName="/ppt/media/image51.png" ContentType="image/png"/>
  <Override PartName="/ppt/media/image52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07.xml.rels" ContentType="application/vnd.openxmlformats-package.relationships+xml"/>
  <Override PartName="/ppt/slides/_rels/slide92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52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93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9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104.xml" ContentType="application/vnd.openxmlformats-officedocument.presentationml.slide+xml"/>
  <Override PartName="/ppt/slides/slide96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87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  <p:sldId id="348" r:id="rId97"/>
    <p:sldId id="349" r:id="rId98"/>
    <p:sldId id="350" r:id="rId99"/>
    <p:sldId id="351" r:id="rId100"/>
    <p:sldId id="352" r:id="rId101"/>
    <p:sldId id="353" r:id="rId102"/>
    <p:sldId id="354" r:id="rId103"/>
    <p:sldId id="355" r:id="rId104"/>
    <p:sldId id="356" r:id="rId105"/>
    <p:sldId id="357" r:id="rId106"/>
    <p:sldId id="358" r:id="rId107"/>
    <p:sldId id="359" r:id="rId108"/>
    <p:sldId id="360" r:id="rId109"/>
    <p:sldId id="361" r:id="rId110"/>
    <p:sldId id="362" r:id="rId111"/>
    <p:sldId id="363" r:id="rId112"/>
  </p:sldIdLst>
  <p:sldSz cx="10080625" cy="64801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slide" Target="slides/slide93.xml"/><Relationship Id="rId98" Type="http://schemas.openxmlformats.org/officeDocument/2006/relationships/slide" Target="slides/slide94.xml"/><Relationship Id="rId99" Type="http://schemas.openxmlformats.org/officeDocument/2006/relationships/slide" Target="slides/slide95.xml"/><Relationship Id="rId100" Type="http://schemas.openxmlformats.org/officeDocument/2006/relationships/slide" Target="slides/slide96.xml"/><Relationship Id="rId101" Type="http://schemas.openxmlformats.org/officeDocument/2006/relationships/slide" Target="slides/slide97.xml"/><Relationship Id="rId102" Type="http://schemas.openxmlformats.org/officeDocument/2006/relationships/slide" Target="slides/slide98.xml"/><Relationship Id="rId103" Type="http://schemas.openxmlformats.org/officeDocument/2006/relationships/slide" Target="slides/slide99.xml"/><Relationship Id="rId104" Type="http://schemas.openxmlformats.org/officeDocument/2006/relationships/slide" Target="slides/slide100.xml"/><Relationship Id="rId105" Type="http://schemas.openxmlformats.org/officeDocument/2006/relationships/slide" Target="slides/slide101.xml"/><Relationship Id="rId106" Type="http://schemas.openxmlformats.org/officeDocument/2006/relationships/slide" Target="slides/slide102.xml"/><Relationship Id="rId107" Type="http://schemas.openxmlformats.org/officeDocument/2006/relationships/slide" Target="slides/slide103.xml"/><Relationship Id="rId108" Type="http://schemas.openxmlformats.org/officeDocument/2006/relationships/slide" Target="slides/slide104.xml"/><Relationship Id="rId109" Type="http://schemas.openxmlformats.org/officeDocument/2006/relationships/slide" Target="slides/slide105.xml"/><Relationship Id="rId110" Type="http://schemas.openxmlformats.org/officeDocument/2006/relationships/slide" Target="slides/slide106.xml"/><Relationship Id="rId111" Type="http://schemas.openxmlformats.org/officeDocument/2006/relationships/slide" Target="slides/slide107.xml"/><Relationship Id="rId112" Type="http://schemas.openxmlformats.org/officeDocument/2006/relationships/slide" Target="slides/slide108.xml"/><Relationship Id="rId1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762120" y="685440"/>
            <a:ext cx="533376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40186" dir="1096358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Comic Sans MS"/>
              </a:rPr>
              <a:t>Click to move the slide</a:t>
            </a:r>
            <a:endParaRPr b="1" i="1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4CE8B-0D37-46ED-A9B6-026DCB94F08E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762120" y="685800"/>
            <a:ext cx="5333760" cy="342900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演示内容：建立空数据库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chool.md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利用模版建立：订单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.m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sldImg"/>
          </p:nvPr>
        </p:nvSpPr>
        <p:spPr>
          <a:xfrm>
            <a:off x="762120" y="685800"/>
            <a:ext cx="5333760" cy="3429000"/>
          </a:xfrm>
          <a:prstGeom prst="rect">
            <a:avLst/>
          </a:prstGeom>
          <a:ln w="0">
            <a:noFill/>
          </a:ln>
        </p:spPr>
      </p:sp>
      <p:sp>
        <p:nvSpPr>
          <p:cNvPr id="10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演示内容：打开前面建立的空数据库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chool.md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建立数据表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urse(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课程表）——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个字段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id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nam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credi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（学分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sldImg"/>
          </p:nvPr>
        </p:nvSpPr>
        <p:spPr>
          <a:xfrm>
            <a:off x="762120" y="685800"/>
            <a:ext cx="5333760" cy="3429000"/>
          </a:xfrm>
          <a:prstGeom prst="rect">
            <a:avLst/>
          </a:prstGeom>
          <a:ln w="0">
            <a:noFill/>
          </a:ln>
        </p:spPr>
      </p:sp>
      <p:sp>
        <p:nvSpPr>
          <p:cNvPr id="10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演示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内容：在数据表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uden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中插入新记录（“插入”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|”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新记录”菜单命令）——注意：分别插入一条学号</a:t>
            </a:r>
            <a:br>
              <a:rPr sz="1200"/>
            </a:b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  为空和与其它记录学号重复的记录。观察结果…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演示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内容：对数据表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uden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设置有效性规则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ex——  =‘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男’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or =‘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女’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等号也可以省去）</a:t>
            </a:r>
            <a:br>
              <a:rPr sz="1200"/>
            </a:b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尝试修改已有记录的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ex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字段的值，观察结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对数据表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ea_cours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设置有效性规则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s_ter_id(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学期号）只能取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~10——  Between 1 And 10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（或者　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gt;=1  and  &lt;=10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尝试修改已有记录的该字段的值，观察结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sldImg"/>
          </p:nvPr>
        </p:nvSpPr>
        <p:spPr>
          <a:xfrm>
            <a:off x="762120" y="685800"/>
            <a:ext cx="5333760" cy="3429000"/>
          </a:xfrm>
          <a:prstGeom prst="rect">
            <a:avLst/>
          </a:prstGeom>
          <a:ln w="0">
            <a:noFill/>
          </a:ln>
        </p:spPr>
      </p:sp>
      <p:sp>
        <p:nvSpPr>
          <p:cNvPr id="10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演示内容：对已经建好的查询，运行它，察看结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删除原有查询，重新演示建立过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4F5E2-FDC0-4704-ACFB-BAFAAA25F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1360" y="86760"/>
            <a:ext cx="83296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73200" y="856800"/>
            <a:ext cx="84852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73200" y="3452760"/>
            <a:ext cx="84852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E3760-189A-4848-9E2C-1A29DEDDB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41360" y="86760"/>
            <a:ext cx="83296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73200" y="856800"/>
            <a:ext cx="414072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21280" y="856800"/>
            <a:ext cx="414072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73200" y="3452760"/>
            <a:ext cx="414072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21280" y="3452760"/>
            <a:ext cx="414072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B531F-E306-417F-A6EC-A662FD982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41360" y="86760"/>
            <a:ext cx="83296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73200" y="856800"/>
            <a:ext cx="273204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542400" y="856800"/>
            <a:ext cx="273204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411240" y="856800"/>
            <a:ext cx="273204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73200" y="3452760"/>
            <a:ext cx="273204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542400" y="3452760"/>
            <a:ext cx="273204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411240" y="3452760"/>
            <a:ext cx="273204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F4062-207A-4203-8092-18E2B679D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CF2B0-9C24-44A2-8F6E-8EE1B988A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41360" y="86760"/>
            <a:ext cx="83296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73200" y="856800"/>
            <a:ext cx="8485200" cy="496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DD9FB-AA20-437A-A778-089FEFF59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41360" y="86760"/>
            <a:ext cx="83296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73200" y="856800"/>
            <a:ext cx="84852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D1147-A840-4CF5-992A-D5AD373F0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41360" y="86760"/>
            <a:ext cx="83296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73200" y="856800"/>
            <a:ext cx="414072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021280" y="856800"/>
            <a:ext cx="414072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E2B22-02E3-4928-AB20-C2A8A9EF1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41360" y="86760"/>
            <a:ext cx="83296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D76AD-BAF0-4775-ABD7-A08F392C9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41360" y="280800"/>
            <a:ext cx="8329680" cy="236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DA57B-2F27-4E2A-BF00-C7D276D4C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41360" y="86760"/>
            <a:ext cx="83296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73200" y="856800"/>
            <a:ext cx="414072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021280" y="856800"/>
            <a:ext cx="414072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73200" y="3452760"/>
            <a:ext cx="414072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E506A-8A0A-49A1-B77D-D67AD8A35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41360" y="86760"/>
            <a:ext cx="83296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73200" y="856800"/>
            <a:ext cx="8485200" cy="496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12C36-3AC3-4D95-8B47-FE77E1DA3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41360" y="86760"/>
            <a:ext cx="83296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73200" y="856800"/>
            <a:ext cx="414072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021280" y="856800"/>
            <a:ext cx="414072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021280" y="3452760"/>
            <a:ext cx="414072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BD4B4-9281-4478-9CD2-7A4C03E34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41360" y="86760"/>
            <a:ext cx="83296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73200" y="856800"/>
            <a:ext cx="414072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021280" y="856800"/>
            <a:ext cx="414072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73200" y="3452760"/>
            <a:ext cx="84852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EE900-4A17-4C9F-8929-C68F67EB2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41360" y="86760"/>
            <a:ext cx="83296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73200" y="856800"/>
            <a:ext cx="84852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73200" y="3452760"/>
            <a:ext cx="84852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2AD01-A397-4B0E-8ABA-C075D745A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41360" y="86760"/>
            <a:ext cx="83296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73200" y="856800"/>
            <a:ext cx="414072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021280" y="856800"/>
            <a:ext cx="414072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73200" y="3452760"/>
            <a:ext cx="414072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5021280" y="3452760"/>
            <a:ext cx="414072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48B8A-C5C9-49DD-88D8-6CA426F35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1360" y="86760"/>
            <a:ext cx="83296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73200" y="856800"/>
            <a:ext cx="273204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542400" y="856800"/>
            <a:ext cx="273204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411240" y="856800"/>
            <a:ext cx="273204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73200" y="3452760"/>
            <a:ext cx="273204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542400" y="3452760"/>
            <a:ext cx="273204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411240" y="3452760"/>
            <a:ext cx="273204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06180-51FB-46C6-8D56-F5AFA115A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41360" y="86760"/>
            <a:ext cx="83296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73200" y="856800"/>
            <a:ext cx="84852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F54D3-0F3F-4446-B66B-EF1E8D76F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1360" y="86760"/>
            <a:ext cx="83296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73200" y="856800"/>
            <a:ext cx="414072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21280" y="856800"/>
            <a:ext cx="414072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278F6-6229-4504-A517-D91B8856F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41360" y="86760"/>
            <a:ext cx="83296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7FE22-8512-4586-A47D-78C1AD23C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41360" y="280800"/>
            <a:ext cx="8329680" cy="236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18F27-D894-4894-B012-860AECD47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41360" y="86760"/>
            <a:ext cx="83296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73200" y="856800"/>
            <a:ext cx="414072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21280" y="856800"/>
            <a:ext cx="414072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73200" y="3452760"/>
            <a:ext cx="414072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E6964-D240-4906-869C-4DB6FACF1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41360" y="86760"/>
            <a:ext cx="83296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73200" y="856800"/>
            <a:ext cx="414072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21280" y="856800"/>
            <a:ext cx="414072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21280" y="3452760"/>
            <a:ext cx="414072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CE0BA-A3D6-4799-BC91-0F345D9E6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41360" y="86760"/>
            <a:ext cx="83296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73200" y="856800"/>
            <a:ext cx="414072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21280" y="856800"/>
            <a:ext cx="414072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73200" y="3452760"/>
            <a:ext cx="84852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C7B7D-88A1-4DDE-9F47-241487182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7754600">
            <a:off x="8666640" y="-178560"/>
            <a:ext cx="1096920" cy="22986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41360" y="280800"/>
            <a:ext cx="83296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1" i="1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73200" y="856800"/>
            <a:ext cx="84852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Comic Sans MS"/>
              </a:rPr>
              <a:t>Click to edit the outline text format</a:t>
            </a:r>
            <a:endParaRPr b="1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Comic Sans MS"/>
              </a:rPr>
              <a:t>Second Outline Level</a:t>
            </a:r>
            <a:endParaRPr b="1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Comic Sans MS"/>
              </a:rPr>
              <a:t>Third Outline Level</a:t>
            </a:r>
            <a:endParaRPr b="1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Comic Sans MS"/>
              </a:rPr>
              <a:t>Fourth Outline Level</a:t>
            </a:r>
            <a:endParaRPr b="1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99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Comic Sans MS"/>
              </a:rPr>
              <a:t>Fifth Outline Level</a:t>
            </a:r>
            <a:endParaRPr b="1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Comic Sans MS"/>
              </a:rPr>
              <a:t>Sixth Outline Level</a:t>
            </a:r>
            <a:endParaRPr b="1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Comic Sans MS"/>
              </a:rPr>
              <a:t>Seventh Outline Level</a:t>
            </a:r>
            <a:endParaRPr b="1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2720" y="5903640"/>
            <a:ext cx="20988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919680" y="5903640"/>
            <a:ext cx="319248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05560" y="5903640"/>
            <a:ext cx="210024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F3F83-40D7-483B-A641-75A529A3BF5C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7767800">
            <a:off x="8741160" y="-173880"/>
            <a:ext cx="1101960" cy="2313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8983800" y="-78120"/>
            <a:ext cx="639720" cy="17478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0" y="5303880"/>
            <a:ext cx="1223640" cy="1175760"/>
            <a:chOff x="0" y="5303880"/>
            <a:chExt cx="1223640" cy="1175760"/>
          </a:xfrm>
        </p:grpSpPr>
        <p:sp>
          <p:nvSpPr>
            <p:cNvPr id="9" name=""/>
            <p:cNvSpPr/>
            <p:nvPr/>
          </p:nvSpPr>
          <p:spPr>
            <a:xfrm>
              <a:off x="20520" y="5326200"/>
              <a:ext cx="1185480" cy="97200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107360" y="5441760"/>
              <a:ext cx="77040" cy="19296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6200" y="5729040"/>
              <a:ext cx="862560" cy="6141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35000" y="5780160"/>
              <a:ext cx="571680" cy="56016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22720" y="5366520"/>
              <a:ext cx="146880" cy="18108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692640" y="6311880"/>
              <a:ext cx="82440" cy="16776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43240" y="5478840"/>
              <a:ext cx="209880" cy="57348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721800" y="5453640"/>
              <a:ext cx="396000" cy="26028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72240" y="5607720"/>
              <a:ext cx="169560" cy="10044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0" y="5303880"/>
              <a:ext cx="1223640" cy="1167840"/>
              <a:chOff x="0" y="5303880"/>
              <a:chExt cx="1223640" cy="116784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537840" y="5411520"/>
                <a:ext cx="596520" cy="1060200"/>
                <a:chOff x="537840" y="5411520"/>
                <a:chExt cx="596520" cy="106020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537840" y="5448960"/>
                  <a:ext cx="171000" cy="12996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686880" y="6272640"/>
                  <a:ext cx="124920" cy="19908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087560" y="5411520"/>
                  <a:ext cx="46800" cy="1749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77040" y="5666040"/>
                <a:ext cx="647640" cy="37440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277560" y="5896800"/>
                <a:ext cx="265680" cy="22176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609480" y="5588280"/>
                <a:ext cx="116280" cy="3560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0" y="5303880"/>
                <a:ext cx="1223640" cy="1015200"/>
                <a:chOff x="0" y="5303880"/>
                <a:chExt cx="1223640" cy="10152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722880" y="6139440"/>
                  <a:ext cx="81720" cy="12996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0" y="5659920"/>
                  <a:ext cx="916560" cy="6591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09800" y="5723280"/>
                  <a:ext cx="87120" cy="24984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483480" y="5303880"/>
                  <a:ext cx="350640" cy="88956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623880" y="5543280"/>
                  <a:ext cx="104400" cy="37764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351360" y="5513400"/>
                  <a:ext cx="212040" cy="20232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711000" y="5375880"/>
                  <a:ext cx="512640" cy="31716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775080" y="5477400"/>
                  <a:ext cx="266400" cy="12888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9569520" y="2000160"/>
            <a:ext cx="425160" cy="4070160"/>
            <a:chOff x="9569520" y="2000160"/>
            <a:chExt cx="425160" cy="4070160"/>
          </a:xfrm>
        </p:grpSpPr>
        <p:sp>
          <p:nvSpPr>
            <p:cNvPr id="36" name=""/>
            <p:cNvSpPr/>
            <p:nvPr/>
          </p:nvSpPr>
          <p:spPr>
            <a:xfrm flipH="1">
              <a:off x="9569520" y="3930120"/>
              <a:ext cx="358560" cy="214020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9636120" y="2000160"/>
              <a:ext cx="358560" cy="24490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935480" y="-43560"/>
            <a:ext cx="2612160" cy="2046600"/>
            <a:chOff x="7935480" y="-43560"/>
            <a:chExt cx="2612160" cy="2046600"/>
          </a:xfrm>
        </p:grpSpPr>
        <p:grpSp>
          <p:nvGrpSpPr>
            <p:cNvPr id="39" name=""/>
            <p:cNvGrpSpPr/>
            <p:nvPr/>
          </p:nvGrpSpPr>
          <p:grpSpPr>
            <a:xfrm>
              <a:off x="7935480" y="-43560"/>
              <a:ext cx="2612160" cy="2046600"/>
              <a:chOff x="7935480" y="-43560"/>
              <a:chExt cx="2612160" cy="2046600"/>
            </a:xfrm>
          </p:grpSpPr>
          <p:sp>
            <p:nvSpPr>
              <p:cNvPr id="40" name=""/>
              <p:cNvSpPr/>
              <p:nvPr/>
            </p:nvSpPr>
            <p:spPr>
              <a:xfrm rot="17746200">
                <a:off x="9672480" y="1514880"/>
                <a:ext cx="92880" cy="5040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935480" y="-43560"/>
                <a:ext cx="2612160" cy="2046600"/>
                <a:chOff x="7935480" y="-43560"/>
                <a:chExt cx="2612160" cy="2046600"/>
              </a:xfrm>
            </p:grpSpPr>
            <p:sp>
              <p:nvSpPr>
                <p:cNvPr id="42" name=""/>
                <p:cNvSpPr/>
                <p:nvPr/>
              </p:nvSpPr>
              <p:spPr>
                <a:xfrm rot="17746200">
                  <a:off x="8562600" y="188280"/>
                  <a:ext cx="229320" cy="21888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7746200">
                  <a:off x="8839440" y="479160"/>
                  <a:ext cx="403560" cy="76608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7746200">
                  <a:off x="8562240" y="219960"/>
                  <a:ext cx="757440" cy="15714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7746200">
                  <a:off x="8672760" y="-195840"/>
                  <a:ext cx="1137240" cy="235152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7746200">
                  <a:off x="9376560" y="1286640"/>
                  <a:ext cx="253440" cy="2134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7746200">
                  <a:off x="9277560" y="1162080"/>
                  <a:ext cx="271800" cy="2520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7746200">
                  <a:off x="8641800" y="378720"/>
                  <a:ext cx="271440" cy="25740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7746200">
                  <a:off x="8557920" y="291960"/>
                  <a:ext cx="268200" cy="24120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8366400" y="284760"/>
              <a:ext cx="100800" cy="126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2320" y="12600"/>
            <a:ext cx="9807480" cy="64058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12720" y="1428840"/>
            <a:ext cx="7056720" cy="21477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1" i="1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755640" y="5903640"/>
            <a:ext cx="210024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444840" y="5903640"/>
            <a:ext cx="319104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7224840" y="5903640"/>
            <a:ext cx="210024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29C94-9EA3-4A00-BF11-A7442012EC65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216000" y="222120"/>
            <a:ext cx="4174200" cy="1679400"/>
            <a:chOff x="216000" y="222120"/>
            <a:chExt cx="4174200" cy="1679400"/>
          </a:xfrm>
        </p:grpSpPr>
        <p:sp>
          <p:nvSpPr>
            <p:cNvPr id="93" name=""/>
            <p:cNvSpPr/>
            <p:nvPr/>
          </p:nvSpPr>
          <p:spPr>
            <a:xfrm>
              <a:off x="310680" y="265320"/>
              <a:ext cx="3936240" cy="152496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91240" y="391320"/>
              <a:ext cx="3925800" cy="151020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0160" y="515880"/>
              <a:ext cx="2603520" cy="137808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216000" y="222120"/>
              <a:ext cx="4174200" cy="1621080"/>
              <a:chOff x="216000" y="222120"/>
              <a:chExt cx="4174200" cy="1621080"/>
            </a:xfrm>
          </p:grpSpPr>
          <p:sp>
            <p:nvSpPr>
              <p:cNvPr id="97" name=""/>
              <p:cNvSpPr/>
              <p:nvPr/>
            </p:nvSpPr>
            <p:spPr>
              <a:xfrm>
                <a:off x="3508560" y="1400760"/>
                <a:ext cx="370800" cy="32040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16000" y="222120"/>
                <a:ext cx="4174200" cy="162108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67720" y="236880"/>
                <a:ext cx="2949480" cy="920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16400" y="376200"/>
                <a:ext cx="397080" cy="61452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481040" y="803880"/>
                <a:ext cx="1208520" cy="54576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8640000" y="4059360"/>
            <a:ext cx="992520" cy="1137960"/>
            <a:chOff x="8640000" y="4059360"/>
            <a:chExt cx="992520" cy="1137960"/>
          </a:xfrm>
        </p:grpSpPr>
        <p:sp>
          <p:nvSpPr>
            <p:cNvPr id="103" name=""/>
            <p:cNvSpPr/>
            <p:nvPr/>
          </p:nvSpPr>
          <p:spPr>
            <a:xfrm rot="7320000">
              <a:off x="8669160" y="4367160"/>
              <a:ext cx="945000" cy="5126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8641800" y="4346640"/>
              <a:ext cx="941760" cy="50760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8800920" y="4334760"/>
              <a:ext cx="624960" cy="4640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8640000" y="4059360"/>
              <a:ext cx="992520" cy="1137960"/>
              <a:chOff x="8640000" y="4059360"/>
              <a:chExt cx="992520" cy="11379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8735400" y="4777200"/>
                <a:ext cx="88560" cy="10656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8634960" y="4356000"/>
                <a:ext cx="1001880" cy="5443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916840" y="4473360"/>
                <a:ext cx="709200" cy="30780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9394560" y="4294800"/>
                <a:ext cx="94320" cy="20664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9012960" y="4485960"/>
                <a:ext cx="289800" cy="18144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93600" y="4776840"/>
            <a:ext cx="7504200" cy="6872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494240" y="1824120"/>
            <a:ext cx="979560" cy="36036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504000" y="1516320"/>
            <a:ext cx="9071640" cy="37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mic Sans MS"/>
              </a:rPr>
              <a:t>Click to edit the outline text format</a:t>
            </a:r>
            <a:endParaRPr b="1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mic Sans MS"/>
              </a:rPr>
              <a:t>Second Outline Level</a:t>
            </a:r>
            <a:endParaRPr b="1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99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omic Sans MS"/>
              </a:rPr>
              <a:t>Third Outline Level</a:t>
            </a:r>
            <a:endParaRPr b="1" lang="en-US" sz="2400" spc="-1" strike="noStrike">
              <a:solidFill>
                <a:srgbClr val="000099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99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omic Sans MS"/>
              </a:rPr>
              <a:t>Fourth Outline Level</a:t>
            </a:r>
            <a:endParaRPr b="1" lang="en-US" sz="2000" spc="-1" strike="noStrike">
              <a:solidFill>
                <a:srgbClr val="000099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99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omic Sans MS"/>
              </a:rPr>
              <a:t>Fifth Outline Level</a:t>
            </a:r>
            <a:endParaRPr b="1" lang="en-US" sz="2000" spc="-1" strike="noStrike">
              <a:solidFill>
                <a:srgbClr val="000099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omic Sans MS"/>
              </a:rPr>
              <a:t>Sixth Outline Level</a:t>
            </a:r>
            <a:endParaRPr b="1" lang="en-US" sz="2000" spc="-1" strike="noStrike">
              <a:solidFill>
                <a:srgbClr val="000099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omic Sans MS"/>
              </a:rPr>
              <a:t>Seventh Outline Level</a:t>
            </a:r>
            <a:endParaRPr b="1" lang="en-US" sz="2000" spc="-1" strike="noStrike">
              <a:solidFill>
                <a:srgbClr val="000099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25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image" Target="../media/image44.png"/><Relationship Id="rId5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46.png"/><Relationship Id="rId3" Type="http://schemas.openxmlformats.org/officeDocument/2006/relationships/image" Target="../media/image47.png"/><Relationship Id="rId4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image" Target="../media/image50.png"/><Relationship Id="rId5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25.png"/><Relationship Id="rId3" Type="http://schemas.openxmlformats.org/officeDocument/2006/relationships/image" Target="../media/image52.png"/><Relationship Id="rId4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53.png"/><Relationship Id="rId3" Type="http://schemas.openxmlformats.org/officeDocument/2006/relationships/image" Target="../media/image54.png"/><Relationship Id="rId4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55.png"/><Relationship Id="rId3" Type="http://schemas.openxmlformats.org/officeDocument/2006/relationships/image" Target="../media/image56.png"/><Relationship Id="rId4" Type="http://schemas.openxmlformats.org/officeDocument/2006/relationships/image" Target="../media/image57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8.png"/><Relationship Id="rId3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0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1.png"/><Relationship Id="rId3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2.png"/><Relationship Id="rId3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4.png"/><Relationship Id="rId3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512720" y="1428840"/>
            <a:ext cx="7056720" cy="21477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6600" spc="-1" strike="noStrike">
                <a:solidFill>
                  <a:srgbClr val="ff0000"/>
                </a:solidFill>
                <a:latin typeface="Comic Sans MS"/>
              </a:rPr>
              <a:t>数据库基础</a:t>
            </a:r>
            <a:endParaRPr b="1" i="1" lang="en-US" sz="6600" spc="-1" strike="noStrike">
              <a:solidFill>
                <a:srgbClr val="ff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41360" y="86760"/>
            <a:ext cx="83296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zh-CN" sz="4000" spc="-1" strike="noStrike">
              <a:solidFill>
                <a:srgbClr val="ff0000"/>
              </a:solidFill>
              <a:latin typeface="Comic Sans MS"/>
              <a:ea typeface="宋体"/>
            </a:endParaRPr>
          </a:p>
        </p:txBody>
      </p:sp>
      <p:sp>
        <p:nvSpPr>
          <p:cNvPr id="244" name=""/>
          <p:cNvSpPr/>
          <p:nvPr/>
        </p:nvSpPr>
        <p:spPr>
          <a:xfrm>
            <a:off x="1847880" y="476280"/>
            <a:ext cx="798048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ff0000"/>
                </a:solidFill>
                <a:latin typeface="Comic Sans MS"/>
                <a:ea typeface="宋体"/>
              </a:rPr>
              <a:t>数据库的基本概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85640" y="1743120"/>
            <a:ext cx="6856560" cy="4014720"/>
          </a:xfrm>
          <a:prstGeom prst="roundRect">
            <a:avLst>
              <a:gd name="adj" fmla="val 10889"/>
            </a:avLst>
          </a:prstGeom>
          <a:gradFill rotWithShape="0">
            <a:gsLst>
              <a:gs pos="0">
                <a:srgbClr val="dddddd"/>
              </a:gs>
              <a:gs pos="50000">
                <a:srgbClr val="ededed"/>
              </a:gs>
              <a:gs pos="100000">
                <a:srgbClr val="dddddd"/>
              </a:gs>
            </a:gsLst>
            <a:lin ang="13500000"/>
          </a:gradFill>
          <a:ln w="38160">
            <a:solidFill>
              <a:srgbClr val="ffffff"/>
            </a:solidFill>
            <a:miter/>
          </a:ln>
          <a:effectLst>
            <a:outerShdw dist="134955" dir="292711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25320" y="1879560"/>
            <a:ext cx="1479600" cy="965160"/>
          </a:xfrm>
          <a:prstGeom prst="roundRect">
            <a:avLst>
              <a:gd name="adj" fmla="val 11921"/>
            </a:avLst>
          </a:prstGeom>
          <a:gradFill rotWithShape="0">
            <a:gsLst>
              <a:gs pos="0">
                <a:srgbClr val="5c5c5c"/>
              </a:gs>
              <a:gs pos="100000">
                <a:srgbClr val="000000"/>
              </a:gs>
            </a:gsLst>
            <a:lin ang="54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700200" y="1941480"/>
            <a:ext cx="604800" cy="482760"/>
          </a:xfrm>
          <a:custGeom>
            <a:avLst/>
            <a:gdLst/>
            <a:ahLst/>
            <a:rect l="l" t="t" r="r" b="b"/>
            <a:pathLst>
              <a:path w="596" h="598">
                <a:moveTo>
                  <a:pt x="118" y="0"/>
                </a:moveTo>
                <a:cubicBezTo>
                  <a:pt x="53" y="0"/>
                  <a:pt x="0" y="53"/>
                  <a:pt x="0" y="118"/>
                </a:cubicBezTo>
                <a:lnTo>
                  <a:pt x="0" y="589"/>
                </a:lnTo>
                <a:cubicBezTo>
                  <a:pt x="27" y="598"/>
                  <a:pt x="12" y="309"/>
                  <a:pt x="161" y="174"/>
                </a:cubicBezTo>
                <a:cubicBezTo>
                  <a:pt x="310" y="39"/>
                  <a:pt x="596" y="29"/>
                  <a:pt x="589" y="0"/>
                </a:cubicBezTo>
                <a:lnTo>
                  <a:pt x="118" y="0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8282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54200" y="1941480"/>
            <a:ext cx="134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数据库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系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163600" y="1933560"/>
            <a:ext cx="660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DataBase System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DBS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是指引入了数据库的计算机系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673200" y="3065400"/>
            <a:ext cx="5398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一般由数据库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(DB)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数据库管理系统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(DBMS)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及其开发工具）、应用系统、数据库管理员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(DBA)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组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6072120" y="2900520"/>
            <a:ext cx="3905280" cy="319068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/>
          <p:nvPr/>
        </p:nvSpPr>
        <p:spPr>
          <a:xfrm>
            <a:off x="1849320" y="4811760"/>
            <a:ext cx="405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DBMS</a:t>
            </a: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是数据库系统的核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3" dur="8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8,-64,105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2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4" dur="8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8,-64,105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2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5" dur="8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41360" y="86760"/>
            <a:ext cx="83296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673200" y="856800"/>
            <a:ext cx="84852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Comic Sans MS"/>
              </a:rPr>
              <a:t>开课计划表（选课代码、课程班级、课程编号、教师编号、时间）</a:t>
            </a:r>
            <a:endParaRPr b="1" lang="en-US" sz="24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Comic Sans MS"/>
              </a:rPr>
              <a:t>说明：</a:t>
            </a:r>
            <a:endParaRPr b="1" lang="en-US" sz="24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Comic Sans MS"/>
              </a:rPr>
              <a:t>主键字段是选课代码，数字类型，整型，不允许空白字符串</a:t>
            </a:r>
            <a:endParaRPr b="1" lang="en-US" sz="24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Comic Sans MS"/>
              </a:rPr>
              <a:t>课程班级，文本型，长度为</a:t>
            </a:r>
            <a:r>
              <a:rPr b="1" lang="zh-CN" sz="2400" spc="-1" strike="noStrike">
                <a:solidFill>
                  <a:srgbClr val="000099"/>
                </a:solidFill>
                <a:latin typeface="Comic Sans MS"/>
              </a:rPr>
              <a:t>20</a:t>
            </a:r>
            <a:r>
              <a:rPr b="1" lang="zh-CN" sz="2400" spc="-1" strike="noStrike">
                <a:solidFill>
                  <a:srgbClr val="000099"/>
                </a:solidFill>
                <a:latin typeface="Comic Sans MS"/>
              </a:rPr>
              <a:t>，必添字段，不允许空白字符串</a:t>
            </a:r>
            <a:endParaRPr b="1" lang="en-US" sz="24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Comic Sans MS"/>
              </a:rPr>
              <a:t>课程编号，数字类型，长度为</a:t>
            </a:r>
            <a:r>
              <a:rPr b="1" lang="zh-CN" sz="2400" spc="-1" strike="noStrike">
                <a:solidFill>
                  <a:srgbClr val="000099"/>
                </a:solidFill>
                <a:latin typeface="Comic Sans MS"/>
              </a:rPr>
              <a:t>4</a:t>
            </a:r>
            <a:r>
              <a:rPr b="1" lang="zh-CN" sz="2400" spc="-1" strike="noStrike">
                <a:solidFill>
                  <a:srgbClr val="000099"/>
                </a:solidFill>
                <a:latin typeface="Comic Sans MS"/>
              </a:rPr>
              <a:t>，必添字段，不允许空白字符串</a:t>
            </a:r>
            <a:endParaRPr b="1" lang="en-US" sz="24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Comic Sans MS"/>
              </a:rPr>
              <a:t>教师编号，数字类型，长度为</a:t>
            </a:r>
            <a:r>
              <a:rPr b="1" lang="zh-CN" sz="2400" spc="-1" strike="noStrike">
                <a:solidFill>
                  <a:srgbClr val="000099"/>
                </a:solidFill>
                <a:latin typeface="Comic Sans MS"/>
              </a:rPr>
              <a:t>5</a:t>
            </a:r>
            <a:r>
              <a:rPr b="1" lang="zh-CN" sz="2400" spc="-1" strike="noStrike">
                <a:solidFill>
                  <a:srgbClr val="000099"/>
                </a:solidFill>
                <a:latin typeface="Comic Sans MS"/>
              </a:rPr>
              <a:t>，必添字段，不允许空白字符串</a:t>
            </a:r>
            <a:endParaRPr b="1" lang="en-US" sz="24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Comic Sans MS"/>
              </a:rPr>
              <a:t>时间，日期</a:t>
            </a:r>
            <a:r>
              <a:rPr b="1" lang="zh-CN" sz="2400" spc="-1" strike="noStrike">
                <a:solidFill>
                  <a:srgbClr val="000099"/>
                </a:solidFill>
                <a:latin typeface="Comic Sans MS"/>
              </a:rPr>
              <a:t>/</a:t>
            </a:r>
            <a:r>
              <a:rPr b="1" lang="zh-CN" sz="2400" spc="-1" strike="noStrike">
                <a:solidFill>
                  <a:srgbClr val="000099"/>
                </a:solidFill>
                <a:latin typeface="Comic Sans MS"/>
              </a:rPr>
              <a:t>时间型，设置输入掩码使输出格式为</a:t>
            </a:r>
            <a:r>
              <a:rPr b="1" lang="zh-CN" sz="2400" spc="-1" strike="noStrike">
                <a:solidFill>
                  <a:srgbClr val="000099"/>
                </a:solidFill>
                <a:latin typeface="Comic Sans MS"/>
              </a:rPr>
              <a:t>08</a:t>
            </a:r>
            <a:r>
              <a:rPr b="1" lang="zh-CN" sz="2400" spc="-1" strike="noStrike">
                <a:solidFill>
                  <a:srgbClr val="000099"/>
                </a:solidFill>
                <a:latin typeface="Comic Sans MS"/>
              </a:rPr>
              <a:t>年</a:t>
            </a:r>
            <a:r>
              <a:rPr b="1" lang="zh-CN" sz="2400" spc="-1" strike="noStrike">
                <a:solidFill>
                  <a:srgbClr val="000099"/>
                </a:solidFill>
                <a:latin typeface="Comic Sans MS"/>
              </a:rPr>
              <a:t>3</a:t>
            </a:r>
            <a:r>
              <a:rPr b="1" lang="zh-CN" sz="2400" spc="-1" strike="noStrike">
                <a:solidFill>
                  <a:srgbClr val="000099"/>
                </a:solidFill>
                <a:latin typeface="Comic Sans MS"/>
              </a:rPr>
              <a:t>月</a:t>
            </a:r>
            <a:r>
              <a:rPr b="1" lang="zh-CN" sz="2400" spc="-1" strike="noStrike">
                <a:solidFill>
                  <a:srgbClr val="000099"/>
                </a:solidFill>
                <a:latin typeface="Comic Sans MS"/>
              </a:rPr>
              <a:t>2</a:t>
            </a:r>
            <a:r>
              <a:rPr b="1" lang="zh-CN" sz="2400" spc="-1" strike="noStrike">
                <a:solidFill>
                  <a:srgbClr val="000099"/>
                </a:solidFill>
                <a:latin typeface="Comic Sans MS"/>
              </a:rPr>
              <a:t>日星期</a:t>
            </a:r>
            <a:r>
              <a:rPr b="1" lang="zh-CN" sz="2400" spc="-1" strike="noStrike">
                <a:solidFill>
                  <a:srgbClr val="000099"/>
                </a:solidFill>
                <a:latin typeface="Comic Sans MS"/>
              </a:rPr>
              <a:t>5</a:t>
            </a:r>
            <a:endParaRPr b="1" lang="en-US" sz="24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/>
          </p:nvPr>
        </p:nvSpPr>
        <p:spPr>
          <a:xfrm>
            <a:off x="673200" y="856800"/>
            <a:ext cx="84852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Comic Sans MS"/>
              </a:rPr>
              <a:t>选课成绩表（选课代码、学号、平时成绩、考试成绩、总评成绩、成绩等级）</a:t>
            </a:r>
            <a:endParaRPr b="1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Comic Sans MS"/>
              </a:rPr>
              <a:t>说明：</a:t>
            </a:r>
            <a:endParaRPr b="1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Comic Sans MS"/>
              </a:rPr>
              <a:t>选课代码，数字类型，整型，必填字段</a:t>
            </a:r>
            <a:endParaRPr b="1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Comic Sans MS"/>
              </a:rPr>
              <a:t>学号，数字类型，整型，必填字段</a:t>
            </a:r>
            <a:endParaRPr b="1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Comic Sans MS"/>
              </a:rPr>
              <a:t>平时成绩，数字类型，单精度，小数位数</a:t>
            </a:r>
            <a:r>
              <a:rPr b="1" lang="zh-CN" sz="3200" spc="-1" strike="noStrike">
                <a:solidFill>
                  <a:srgbClr val="000099"/>
                </a:solidFill>
                <a:latin typeface="Comic Sans MS"/>
              </a:rPr>
              <a:t>2</a:t>
            </a:r>
            <a:endParaRPr b="1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Comic Sans MS"/>
              </a:rPr>
              <a:t>考试成绩，数字类型，单精度，小数位数</a:t>
            </a:r>
            <a:r>
              <a:rPr b="1" lang="zh-CN" sz="3200" spc="-1" strike="noStrike">
                <a:solidFill>
                  <a:srgbClr val="000099"/>
                </a:solidFill>
                <a:latin typeface="Comic Sans MS"/>
              </a:rPr>
              <a:t>2</a:t>
            </a:r>
            <a:r>
              <a:rPr b="1" lang="zh-CN" sz="3200" spc="-1" strike="noStrike">
                <a:solidFill>
                  <a:srgbClr val="000099"/>
                </a:solidFill>
                <a:latin typeface="Comic Sans MS"/>
              </a:rPr>
              <a:t>总评成绩，数字类型，单精度，小数位数</a:t>
            </a:r>
            <a:r>
              <a:rPr b="1" lang="zh-CN" sz="3200" spc="-1" strike="noStrike">
                <a:solidFill>
                  <a:srgbClr val="000099"/>
                </a:solidFill>
                <a:latin typeface="Comic Sans MS"/>
              </a:rPr>
              <a:t>2</a:t>
            </a:r>
            <a:r>
              <a:rPr b="1" lang="zh-CN" sz="3200" spc="-1" strike="noStrike">
                <a:solidFill>
                  <a:srgbClr val="000099"/>
                </a:solidFill>
                <a:latin typeface="Comic Sans MS"/>
              </a:rPr>
              <a:t>成绩等级，文本，长度为</a:t>
            </a:r>
            <a:r>
              <a:rPr b="1" lang="zh-CN" sz="3200" spc="-1" strike="noStrike">
                <a:solidFill>
                  <a:srgbClr val="000099"/>
                </a:solidFill>
                <a:latin typeface="Comic Sans MS"/>
              </a:rPr>
              <a:t>2</a:t>
            </a:r>
            <a:endParaRPr b="1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/>
          </p:nvPr>
        </p:nvSpPr>
        <p:spPr>
          <a:xfrm>
            <a:off x="647640" y="360360"/>
            <a:ext cx="84852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Comic Sans MS"/>
              </a:rPr>
              <a:t>学生表（学号、姓名、性别、电话）</a:t>
            </a:r>
            <a:endParaRPr b="1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Comic Sans MS"/>
              </a:rPr>
              <a:t>说明：</a:t>
            </a:r>
            <a:endParaRPr b="1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Comic Sans MS"/>
              </a:rPr>
              <a:t>学号，主键，数字类型，长度为</a:t>
            </a:r>
            <a:r>
              <a:rPr b="1" lang="zh-CN" sz="3200" spc="-1" strike="noStrike">
                <a:solidFill>
                  <a:srgbClr val="000099"/>
                </a:solidFill>
                <a:latin typeface="Comic Sans MS"/>
              </a:rPr>
              <a:t>5</a:t>
            </a:r>
            <a:r>
              <a:rPr b="1" lang="zh-CN" sz="3200" spc="-1" strike="noStrike">
                <a:solidFill>
                  <a:srgbClr val="000099"/>
                </a:solidFill>
                <a:latin typeface="Comic Sans MS"/>
              </a:rPr>
              <a:t>，必填字段</a:t>
            </a:r>
            <a:endParaRPr b="1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Comic Sans MS"/>
              </a:rPr>
              <a:t>姓名，文本类型，长度为</a:t>
            </a:r>
            <a:r>
              <a:rPr b="1" lang="zh-CN" sz="3200" spc="-1" strike="noStrike">
                <a:solidFill>
                  <a:srgbClr val="000099"/>
                </a:solidFill>
                <a:latin typeface="Comic Sans MS"/>
              </a:rPr>
              <a:t>20</a:t>
            </a:r>
            <a:r>
              <a:rPr b="1" lang="zh-CN" sz="3200" spc="-1" strike="noStrike">
                <a:solidFill>
                  <a:srgbClr val="000099"/>
                </a:solidFill>
                <a:latin typeface="Comic Sans MS"/>
              </a:rPr>
              <a:t>，必填字段，不允许为空</a:t>
            </a:r>
            <a:endParaRPr b="1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Comic Sans MS"/>
              </a:rPr>
              <a:t>性别，文本类型，长度为</a:t>
            </a:r>
            <a:r>
              <a:rPr b="1" lang="zh-CN" sz="3200" spc="-1" strike="noStrike">
                <a:solidFill>
                  <a:srgbClr val="000099"/>
                </a:solidFill>
                <a:latin typeface="Comic Sans MS"/>
              </a:rPr>
              <a:t>2</a:t>
            </a:r>
            <a:r>
              <a:rPr b="1" lang="zh-CN" sz="3200" spc="-1" strike="noStrike">
                <a:solidFill>
                  <a:srgbClr val="000099"/>
                </a:solidFill>
                <a:latin typeface="Comic Sans MS"/>
              </a:rPr>
              <a:t>，进行有效性规则的设定及有效性文本的设定，默认为男</a:t>
            </a:r>
            <a:endParaRPr b="1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Comic Sans MS"/>
              </a:rPr>
              <a:t>电话，文本型，长度为</a:t>
            </a:r>
            <a:r>
              <a:rPr b="1" lang="zh-CN" sz="3200" spc="-1" strike="noStrike">
                <a:solidFill>
                  <a:srgbClr val="000099"/>
                </a:solidFill>
                <a:latin typeface="Comic Sans MS"/>
              </a:rPr>
              <a:t>13</a:t>
            </a:r>
            <a:r>
              <a:rPr b="1" lang="zh-CN" sz="3200" spc="-1" strike="noStrike">
                <a:solidFill>
                  <a:srgbClr val="000099"/>
                </a:solidFill>
                <a:latin typeface="Comic Sans MS"/>
              </a:rPr>
              <a:t>，输入掩码属性定义为</a:t>
            </a:r>
            <a:r>
              <a:rPr b="1" lang="zh-CN" sz="3200" spc="-1" strike="noStrike">
                <a:solidFill>
                  <a:srgbClr val="000099"/>
                </a:solidFill>
                <a:latin typeface="Comic Sans MS"/>
              </a:rPr>
              <a:t>9000-90000000</a:t>
            </a:r>
            <a:r>
              <a:rPr b="1" lang="zh-CN" sz="3200" spc="-1" strike="noStrike">
                <a:solidFill>
                  <a:srgbClr val="000099"/>
                </a:solidFill>
                <a:latin typeface="Comic Sans MS"/>
              </a:rPr>
              <a:t>；</a:t>
            </a:r>
            <a:r>
              <a:rPr b="1" lang="zh-CN" sz="3200" spc="-1" strike="noStrike">
                <a:solidFill>
                  <a:srgbClr val="000099"/>
                </a:solidFill>
                <a:latin typeface="Comic Sans MS"/>
              </a:rPr>
              <a:t>0</a:t>
            </a:r>
            <a:r>
              <a:rPr b="1" lang="zh-CN" sz="3200" spc="-1" strike="noStrike">
                <a:solidFill>
                  <a:srgbClr val="000099"/>
                </a:solidFill>
                <a:latin typeface="Comic Sans MS"/>
              </a:rPr>
              <a:t>；</a:t>
            </a:r>
            <a:r>
              <a:rPr b="1" lang="zh-CN" sz="3200" spc="-1" strike="noStrike">
                <a:solidFill>
                  <a:srgbClr val="000099"/>
                </a:solidFill>
                <a:latin typeface="Comic Sans MS"/>
              </a:rPr>
              <a:t>#</a:t>
            </a:r>
            <a:endParaRPr b="1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/>
          </p:nvPr>
        </p:nvSpPr>
        <p:spPr>
          <a:xfrm>
            <a:off x="431640" y="431280"/>
            <a:ext cx="84852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教师表（教师编号、系部编号、姓名、性别、职称）</a:t>
            </a:r>
            <a:endParaRPr b="1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说明：</a:t>
            </a:r>
            <a:endParaRPr b="1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教师编号，数字类型，长度为</a:t>
            </a: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4</a:t>
            </a: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，主键，必填字段</a:t>
            </a:r>
            <a:endParaRPr b="1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系部编号，数字类型，整型，不允许为空</a:t>
            </a:r>
            <a:endParaRPr b="1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姓名，文本类型，长度</a:t>
            </a: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20</a:t>
            </a: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，不允许为空</a:t>
            </a:r>
            <a:endParaRPr b="1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性别，文本类型，长度</a:t>
            </a: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2</a:t>
            </a: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，默认为男，不允许为空</a:t>
            </a:r>
            <a:endParaRPr b="1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职称，文本类型，长度</a:t>
            </a: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8</a:t>
            </a:r>
            <a:endParaRPr b="1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/>
          </p:nvPr>
        </p:nvSpPr>
        <p:spPr>
          <a:xfrm>
            <a:off x="673200" y="856800"/>
            <a:ext cx="84852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Comic Sans MS"/>
              </a:rPr>
              <a:t>系部表（系部编号、系部名称、负责人、联系电话）</a:t>
            </a:r>
            <a:endParaRPr b="1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Comic Sans MS"/>
              </a:rPr>
              <a:t>说明：</a:t>
            </a:r>
            <a:endParaRPr b="1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Comic Sans MS"/>
              </a:rPr>
              <a:t>系部编号，数字类型，整型</a:t>
            </a:r>
            <a:endParaRPr b="1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Comic Sans MS"/>
              </a:rPr>
              <a:t>系部名称，文本类型，</a:t>
            </a:r>
            <a:r>
              <a:rPr b="1" lang="zh-CN" sz="3200" spc="-1" strike="noStrike">
                <a:solidFill>
                  <a:srgbClr val="000099"/>
                </a:solidFill>
                <a:latin typeface="Comic Sans MS"/>
              </a:rPr>
              <a:t>50</a:t>
            </a:r>
            <a:r>
              <a:rPr b="1" lang="zh-CN" sz="3200" spc="-1" strike="noStrike">
                <a:solidFill>
                  <a:srgbClr val="000099"/>
                </a:solidFill>
                <a:latin typeface="Comic Sans MS"/>
              </a:rPr>
              <a:t>，不允许为空</a:t>
            </a:r>
            <a:endParaRPr b="1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Comic Sans MS"/>
              </a:rPr>
              <a:t>负责人，文本类型，</a:t>
            </a:r>
            <a:r>
              <a:rPr b="1" lang="zh-CN" sz="3200" spc="-1" strike="noStrike">
                <a:solidFill>
                  <a:srgbClr val="000099"/>
                </a:solidFill>
                <a:latin typeface="Comic Sans MS"/>
              </a:rPr>
              <a:t>50</a:t>
            </a:r>
            <a:endParaRPr b="1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Comic Sans MS"/>
              </a:rPr>
              <a:t>联系电话，文本类型，长度</a:t>
            </a:r>
            <a:r>
              <a:rPr b="1" lang="zh-CN" sz="3200" spc="-1" strike="noStrike">
                <a:solidFill>
                  <a:srgbClr val="000099"/>
                </a:solidFill>
                <a:latin typeface="Comic Sans MS"/>
              </a:rPr>
              <a:t>11</a:t>
            </a:r>
            <a:endParaRPr b="1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41360" y="86760"/>
            <a:ext cx="83296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672840" y="856800"/>
            <a:ext cx="861516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操作要求：</a:t>
            </a:r>
            <a:endParaRPr b="1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mic Sans MS"/>
              </a:rPr>
              <a:t>①</a:t>
            </a: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立表结构后，立即输入</a:t>
            </a: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6</a:t>
            </a: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个记录的数据。</a:t>
            </a:r>
            <a:endParaRPr b="1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②</a:t>
            </a: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分别查看该表的结构和记录。</a:t>
            </a:r>
            <a:endParaRPr b="1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③</a:t>
            </a: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修改开课计划表的时间为，日月均以</a:t>
            </a: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2</a:t>
            </a: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位数字显示</a:t>
            </a:r>
            <a:endParaRPr b="1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④</a:t>
            </a: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建立相关表的关连关系</a:t>
            </a:r>
            <a:endParaRPr b="1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⑤</a:t>
            </a: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建立各种查询</a:t>
            </a:r>
            <a:endParaRPr b="1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Comic Sans MS"/>
              </a:rPr>
              <a:t>查询</a:t>
            </a:r>
            <a:r>
              <a:rPr b="1" lang="zh-CN" sz="2400" spc="-1" strike="noStrike">
                <a:solidFill>
                  <a:srgbClr val="000099"/>
                </a:solidFill>
                <a:latin typeface="Comic Sans MS"/>
              </a:rPr>
              <a:t>1</a:t>
            </a:r>
            <a:r>
              <a:rPr b="1" lang="zh-CN" sz="2400" spc="-1" strike="noStrike">
                <a:solidFill>
                  <a:srgbClr val="000099"/>
                </a:solidFill>
                <a:latin typeface="Comic Sans MS"/>
              </a:rPr>
              <a:t>：点击工具栏∑</a:t>
            </a: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，选择计数</a:t>
            </a:r>
            <a:endParaRPr b="1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Comic Sans MS"/>
              </a:rPr>
              <a:t>查询</a:t>
            </a:r>
            <a:r>
              <a:rPr b="1" lang="zh-CN" sz="2400" spc="-1" strike="noStrike">
                <a:solidFill>
                  <a:srgbClr val="000099"/>
                </a:solidFill>
                <a:latin typeface="Comic Sans MS"/>
              </a:rPr>
              <a:t>2</a:t>
            </a:r>
            <a:r>
              <a:rPr b="1" lang="zh-CN" sz="2400" spc="-1" strike="noStrike">
                <a:solidFill>
                  <a:srgbClr val="000099"/>
                </a:solidFill>
                <a:latin typeface="Comic Sans MS"/>
              </a:rPr>
              <a:t>：右击“条件”，选“生成器”，“操作符”，“比较”，“</a:t>
            </a:r>
            <a:r>
              <a:rPr b="1" lang="zh-CN" sz="2400" spc="-1" strike="noStrike">
                <a:solidFill>
                  <a:srgbClr val="000099"/>
                </a:solidFill>
                <a:latin typeface="Comic Sans MS"/>
              </a:rPr>
              <a:t>between”</a:t>
            </a:r>
            <a:endParaRPr b="1" lang="en-US" sz="24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Comic Sans MS"/>
              </a:rPr>
              <a:t>查询</a:t>
            </a:r>
            <a:r>
              <a:rPr b="1" lang="zh-CN" sz="2400" spc="-1" strike="noStrike">
                <a:solidFill>
                  <a:srgbClr val="000099"/>
                </a:solidFill>
                <a:latin typeface="Comic Sans MS"/>
              </a:rPr>
              <a:t>3</a:t>
            </a:r>
            <a:r>
              <a:rPr b="1" lang="zh-CN" sz="2400" spc="-1" strike="noStrike">
                <a:solidFill>
                  <a:srgbClr val="000099"/>
                </a:solidFill>
                <a:latin typeface="Comic Sans MS"/>
              </a:rPr>
              <a:t>：</a:t>
            </a:r>
            <a:endParaRPr b="1" lang="en-US" sz="2400" spc="-1" strike="noStrike">
              <a:solidFill>
                <a:srgbClr val="00009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441360" y="280800"/>
            <a:ext cx="83296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000000"/>
                </a:solidFill>
                <a:latin typeface="Comic Sans MS"/>
              </a:rPr>
              <a:t>查询总结</a:t>
            </a:r>
            <a:endParaRPr b="1" i="1" lang="en-US" sz="36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673200" y="856800"/>
            <a:ext cx="84852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Comic Sans MS"/>
              </a:rPr>
              <a:t>在对象下选择查询—新建—设计视图或简单查询向导（这两种都是选择查询）</a:t>
            </a:r>
            <a:endParaRPr b="1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Comic Sans MS"/>
              </a:rPr>
              <a:t>新建—交叉表查询向导</a:t>
            </a:r>
            <a:endParaRPr b="1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Comic Sans MS"/>
              </a:rPr>
              <a:t>新建—查找重复项查询向导（打开一个有重复项的表，例如表</a:t>
            </a:r>
            <a:r>
              <a:rPr b="1" lang="zh-CN" sz="3200" spc="-1" strike="noStrike">
                <a:solidFill>
                  <a:srgbClr val="000099"/>
                </a:solidFill>
                <a:latin typeface="Comic Sans MS"/>
              </a:rPr>
              <a:t>2</a:t>
            </a:r>
            <a:r>
              <a:rPr b="1" lang="zh-CN" sz="3200" spc="-1" strike="noStrike">
                <a:solidFill>
                  <a:srgbClr val="000099"/>
                </a:solidFill>
                <a:latin typeface="Comic Sans MS"/>
              </a:rPr>
              <a:t>，学号有重复，选择学号，则会给出学号重复的个数）</a:t>
            </a:r>
            <a:endParaRPr b="1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Comic Sans MS"/>
              </a:rPr>
              <a:t>新建—查找不匹配项查询向导（对两个表而言，例如都有学号，第一个表学号多于第二个表，则查询出第二个表中没有的学号）</a:t>
            </a:r>
            <a:endParaRPr b="1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41360" y="280800"/>
            <a:ext cx="83296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0000"/>
                </a:solidFill>
                <a:latin typeface="Comic Sans MS"/>
              </a:rPr>
              <a:t>窗体的使用</a:t>
            </a:r>
            <a:endParaRPr b="1" i="1" lang="en-US" sz="36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673200" y="856800"/>
            <a:ext cx="84852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Comic Sans MS"/>
              </a:rPr>
              <a:t>对象—窗体—新建—设计窗体（选择表，直接把相关字段托到窗体中—关闭保存即可）</a:t>
            </a:r>
            <a:endParaRPr b="1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Comic Sans MS"/>
              </a:rPr>
              <a:t>新建—窗体向导</a:t>
            </a:r>
            <a:endParaRPr b="1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Comic Sans MS"/>
              </a:rPr>
              <a:t>新建—自动创建窗体：纵栏式</a:t>
            </a:r>
            <a:endParaRPr b="1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Comic Sans MS"/>
              </a:rPr>
              <a:t>新建—自动创建窗体：表格式</a:t>
            </a:r>
            <a:endParaRPr b="1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Comic Sans MS"/>
              </a:rPr>
              <a:t>新建—自动创建窗体：数据表</a:t>
            </a:r>
            <a:endParaRPr b="1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Comic Sans MS"/>
              </a:rPr>
              <a:t>新建—自动窗体：数据透视表</a:t>
            </a:r>
            <a:endParaRPr b="1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441360" y="86760"/>
            <a:ext cx="83296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/>
          </p:nvPr>
        </p:nvSpPr>
        <p:spPr>
          <a:xfrm>
            <a:off x="673200" y="856800"/>
            <a:ext cx="84852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Comic Sans MS"/>
              </a:rPr>
              <a:t>练习：在“教学管理”数据库中有“教师表”，字段为：教师号、姓名、性别、学历、工作时间、政治面貌、职称、系别、联系电话。</a:t>
            </a:r>
            <a:endParaRPr b="1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Comic Sans MS"/>
              </a:rPr>
              <a:t>    </a:t>
            </a:r>
            <a:r>
              <a:rPr b="1" lang="zh-CN" sz="3200" spc="-1" strike="noStrike">
                <a:solidFill>
                  <a:srgbClr val="000099"/>
                </a:solidFill>
                <a:latin typeface="Comic Sans MS"/>
              </a:rPr>
              <a:t>另外还有一个“课程”表，字段为课程号、教师号、课程名称、学分、选课类型。</a:t>
            </a:r>
            <a:endParaRPr b="1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Comic Sans MS"/>
              </a:rPr>
              <a:t>创建两个表，建立关联，建立各种窗体</a:t>
            </a:r>
            <a:endParaRPr b="1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/>
          </p:nvPr>
        </p:nvSpPr>
        <p:spPr>
          <a:xfrm>
            <a:off x="647640" y="647280"/>
            <a:ext cx="84852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应用程序</a:t>
            </a:r>
            <a:endParaRPr b="1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利用</a:t>
            </a: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DBMS</a:t>
            </a: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开发的应用软件。</a:t>
            </a:r>
            <a:endParaRPr b="1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数据库管理员（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DBA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）</a:t>
            </a:r>
            <a:endParaRPr b="1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负责管理数据库资源；确定用户需求，设计、实现数据库；并负责维护和管理数据库。</a:t>
            </a:r>
            <a:endParaRPr b="1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99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隶书"/>
              </a:rPr>
              <a:t>数据库系统（</a:t>
            </a:r>
            <a:r>
              <a:rPr b="1" lang="zh-CN" sz="3200" spc="-1" strike="noStrike">
                <a:solidFill>
                  <a:srgbClr val="000099"/>
                </a:solidFill>
                <a:latin typeface="隶书"/>
              </a:rPr>
              <a:t>DBS</a:t>
            </a:r>
            <a:r>
              <a:rPr b="1" lang="zh-CN" sz="3200" spc="-1" strike="noStrike">
                <a:solidFill>
                  <a:srgbClr val="000099"/>
                </a:solidFill>
                <a:latin typeface="隶书"/>
              </a:rPr>
              <a:t>）</a:t>
            </a:r>
            <a:endParaRPr b="1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完整的数据库系统由硬件、数据库、数据库管理系统、操作系统、应用程序、数据库管理员等部分组成。</a:t>
            </a:r>
            <a:endParaRPr b="1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0"/>
            <a:ext cx="832968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ff0000"/>
                </a:solidFill>
                <a:latin typeface="Comic Sans MS"/>
                <a:ea typeface="隶书"/>
              </a:rPr>
              <a:t>数据库概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2087640" y="1008000"/>
            <a:ext cx="5181480" cy="4969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应用程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521080" y="1440000"/>
            <a:ext cx="4317840" cy="388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开发工具软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022560" y="1871640"/>
            <a:ext cx="3313080" cy="2808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数据库管理系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529080" y="2303640"/>
            <a:ext cx="2301840" cy="17287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操作系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959280" y="2735280"/>
            <a:ext cx="1439640" cy="6494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硬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6335640" y="2087640"/>
            <a:ext cx="1728720" cy="720720"/>
            <a:chOff x="6335640" y="2087640"/>
            <a:chExt cx="1728720" cy="720720"/>
          </a:xfrm>
        </p:grpSpPr>
        <p:sp>
          <p:nvSpPr>
            <p:cNvPr id="261" name=""/>
            <p:cNvSpPr/>
            <p:nvPr/>
          </p:nvSpPr>
          <p:spPr>
            <a:xfrm flipH="1" flipV="1">
              <a:off x="6335640" y="2087640"/>
              <a:ext cx="1728720" cy="72072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>
              <a:off x="6840360" y="2808360"/>
              <a:ext cx="1224000" cy="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3" name=""/>
          <p:cNvSpPr/>
          <p:nvPr/>
        </p:nvSpPr>
        <p:spPr>
          <a:xfrm flipH="1" flipV="1">
            <a:off x="7272000" y="4535280"/>
            <a:ext cx="1152360" cy="36036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Cloud"/>
          <p:cNvSpPr/>
          <p:nvPr/>
        </p:nvSpPr>
        <p:spPr>
          <a:xfrm>
            <a:off x="7993080" y="2394000"/>
            <a:ext cx="1440000" cy="917640"/>
          </a:xfrm>
          <a:prstGeom prst="pi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zh-CN" sz="1800" spc="-1" strike="noStrike">
                <a:solidFill>
                  <a:srgbClr val="000000"/>
                </a:solidFill>
                <a:latin typeface="Comic Sans MS"/>
              </a:rPr>
              <a:t>数据库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zh-CN" sz="1800" spc="-1" strike="noStrike">
                <a:solidFill>
                  <a:srgbClr val="000000"/>
                </a:solidFill>
                <a:latin typeface="Comic Sans MS"/>
              </a:rPr>
              <a:t>管理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Cloud"/>
          <p:cNvSpPr/>
          <p:nvPr/>
        </p:nvSpPr>
        <p:spPr>
          <a:xfrm>
            <a:off x="8353440" y="4392720"/>
            <a:ext cx="1295280" cy="825480"/>
          </a:xfrm>
          <a:prstGeom prst="pie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zh-CN" sz="1800" spc="-1" strike="noStrike">
                <a:solidFill>
                  <a:srgbClr val="000000"/>
                </a:solidFill>
                <a:latin typeface="Comic Sans MS"/>
              </a:rPr>
              <a:t>用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0" y="0"/>
            <a:ext cx="832968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ff0000"/>
                </a:solidFill>
                <a:latin typeface="Comic Sans MS"/>
                <a:ea typeface="隶书"/>
              </a:rPr>
              <a:t>数据库概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095640" y="382680"/>
            <a:ext cx="364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数据库系统（</a:t>
            </a: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DBS</a:t>
            </a:r>
            <a:r>
              <a:rPr b="1" lang="zh-CN" sz="1800" spc="-1" strike="noStrike">
                <a:solidFill>
                  <a:srgbClr val="000099"/>
                </a:solidFill>
                <a:latin typeface="Comic Sans MS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7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2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0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55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3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500"/>
                            </p:stCondLst>
                            <p:childTnLst>
                              <p:par>
                                <p:cTn id="1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0" y="576000"/>
            <a:ext cx="83296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Comic Sans MS"/>
              </a:rPr>
              <a:t>  </a:t>
            </a:r>
            <a:r>
              <a:rPr b="1" lang="zh-CN" sz="3600" spc="-1" strike="noStrike">
                <a:solidFill>
                  <a:srgbClr val="000099"/>
                </a:solidFill>
                <a:latin typeface="Comic Sans MS"/>
              </a:rPr>
              <a:t>三</a:t>
            </a:r>
            <a:r>
              <a:rPr b="1" lang="zh-CN" sz="3600" spc="-1" strike="noStrike">
                <a:solidFill>
                  <a:srgbClr val="000099"/>
                </a:solidFill>
                <a:latin typeface="Comic Sans MS"/>
              </a:rPr>
              <a:t>.</a:t>
            </a:r>
            <a:r>
              <a:rPr b="1" lang="zh-CN" sz="3600" spc="-1" strike="noStrike">
                <a:solidFill>
                  <a:srgbClr val="000099"/>
                </a:solidFill>
                <a:latin typeface="Comic Sans MS"/>
              </a:rPr>
              <a:t>数据库系统的体系结构</a:t>
            </a:r>
            <a:endParaRPr b="1" i="1" lang="en-US" sz="36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47640" y="1007640"/>
            <a:ext cx="84852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6600"/>
                </a:solidFill>
                <a:latin typeface="Comic Sans MS"/>
              </a:rPr>
              <a:t>   </a:t>
            </a:r>
            <a:r>
              <a:rPr b="1" lang="zh-CN" sz="3200" spc="-1" strike="noStrike">
                <a:solidFill>
                  <a:srgbClr val="cc6600"/>
                </a:solidFill>
                <a:latin typeface="Comic Sans MS"/>
              </a:rPr>
              <a:t>三级模式</a:t>
            </a:r>
            <a:endParaRPr b="1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(1) </a:t>
            </a: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模式</a:t>
            </a: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(</a:t>
            </a: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逻辑模式或概念模式</a:t>
            </a: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)</a:t>
            </a:r>
            <a:endParaRPr b="1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lvl="1" marL="7430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  </a:t>
            </a: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是对数据库中的全部数据的逻辑结构和特征的描述，不涉及数据的物理存储。</a:t>
            </a:r>
            <a:endParaRPr b="1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(2) </a:t>
            </a: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外模式</a:t>
            </a: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(</a:t>
            </a: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用户模式或子模式</a:t>
            </a: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)</a:t>
            </a:r>
            <a:endParaRPr b="1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lvl="1" marL="7430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  </a:t>
            </a: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该模式面向用户，是数据库用户看到的局部数据结构和特征的描述，是数据的局部逻辑结构。</a:t>
            </a:r>
            <a:endParaRPr b="1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(3) </a:t>
            </a: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内模式</a:t>
            </a: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(</a:t>
            </a: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存储模式</a:t>
            </a: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)</a:t>
            </a:r>
            <a:endParaRPr b="1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  </a:t>
            </a: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描述数据的物理结构、在存储介质上的存储方法和存取策略。 </a:t>
            </a:r>
            <a:endParaRPr b="1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70" name=""/>
          <p:cNvSpPr/>
          <p:nvPr/>
        </p:nvSpPr>
        <p:spPr>
          <a:xfrm>
            <a:off x="0" y="0"/>
            <a:ext cx="832968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0000"/>
                </a:solidFill>
                <a:latin typeface="Comic Sans MS"/>
                <a:ea typeface="隶书"/>
              </a:rPr>
              <a:t>数据库概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/>
          </p:nvPr>
        </p:nvSpPr>
        <p:spPr>
          <a:xfrm>
            <a:off x="360360" y="576360"/>
            <a:ext cx="84852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6600"/>
                </a:solidFill>
                <a:latin typeface="Comic Sans MS"/>
              </a:rPr>
              <a:t>二级映射</a:t>
            </a:r>
            <a:endParaRPr b="1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用于三级模式之间的转换。</a:t>
            </a:r>
            <a:endParaRPr b="1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lvl="1" marL="743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（</a:t>
            </a: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1</a:t>
            </a: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）外模式</a:t>
            </a: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/</a:t>
            </a: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模式映射    </a:t>
            </a:r>
            <a:endParaRPr b="1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定义外模式和概念模式之间的对应性，这一映射使得概念模式的改变不影响外模式和应用程序，从而达到了数据的逻辑独立性。</a:t>
            </a:r>
            <a:endParaRPr b="1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（</a:t>
            </a: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2</a:t>
            </a: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）模式</a:t>
            </a: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/</a:t>
            </a: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内模式映射    </a:t>
            </a:r>
            <a:endParaRPr b="1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定义概念模式和内模式之间的对应性，当存储结构改变即修改内模式时，只要相应改变模式</a:t>
            </a: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/</a:t>
            </a: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内模式映象，而模式尽量保存不变，从而达到了数据的物理独立性。</a:t>
            </a:r>
            <a:endParaRPr b="1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72" name=""/>
          <p:cNvSpPr/>
          <p:nvPr/>
        </p:nvSpPr>
        <p:spPr>
          <a:xfrm>
            <a:off x="0" y="0"/>
            <a:ext cx="832968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0000"/>
                </a:solidFill>
                <a:latin typeface="Comic Sans MS"/>
                <a:ea typeface="隶书"/>
              </a:rPr>
              <a:t>数据库概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41360" y="280800"/>
            <a:ext cx="83296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ff0000"/>
                </a:solidFill>
                <a:latin typeface="Comic Sans MS"/>
              </a:rPr>
              <a:t>数据库系统的体系结构</a:t>
            </a:r>
            <a:endParaRPr b="1" i="1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grpSp>
        <p:nvGrpSpPr>
          <p:cNvPr id="274" name=""/>
          <p:cNvGrpSpPr/>
          <p:nvPr/>
        </p:nvGrpSpPr>
        <p:grpSpPr>
          <a:xfrm>
            <a:off x="1440000" y="1224000"/>
            <a:ext cx="6984360" cy="4392360"/>
            <a:chOff x="1440000" y="1224000"/>
            <a:chExt cx="6984360" cy="4392360"/>
          </a:xfrm>
        </p:grpSpPr>
        <p:sp>
          <p:nvSpPr>
            <p:cNvPr id="275" name=""/>
            <p:cNvSpPr/>
            <p:nvPr/>
          </p:nvSpPr>
          <p:spPr>
            <a:xfrm>
              <a:off x="1871280" y="1224000"/>
              <a:ext cx="1008000" cy="36036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Comic Sans MS"/>
                </a:rPr>
                <a:t>应用</a:t>
              </a:r>
              <a:r>
                <a:rPr b="1" lang="zh-CN" sz="1800" spc="-1" strike="noStrike">
                  <a:solidFill>
                    <a:srgbClr val="ffffff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600360" y="1224000"/>
              <a:ext cx="1007640" cy="36036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Comic Sans MS"/>
                </a:rPr>
                <a:t>应用</a:t>
              </a:r>
              <a:r>
                <a:rPr b="1" lang="zh-CN" sz="1800" spc="-1" strike="noStrike">
                  <a:solidFill>
                    <a:srgbClr val="ffffff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400360" y="1224000"/>
              <a:ext cx="1007640" cy="36036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Comic Sans MS"/>
                </a:rPr>
                <a:t>应用</a:t>
              </a:r>
              <a:r>
                <a:rPr b="1" lang="zh-CN" sz="1800" spc="-1" strike="noStrike">
                  <a:solidFill>
                    <a:srgbClr val="ffffff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800000" y="2303280"/>
              <a:ext cx="1007640" cy="3603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cc"/>
                  </a:solidFill>
                  <a:latin typeface="Comic Sans MS"/>
                </a:rPr>
                <a:t>外模式</a:t>
              </a:r>
              <a:r>
                <a:rPr b="1" lang="zh-CN" sz="1800" spc="-1" strike="noStrike">
                  <a:solidFill>
                    <a:srgbClr val="ffffcc"/>
                  </a:solidFill>
                  <a:latin typeface="Comic Sans MS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392360" y="2232000"/>
              <a:ext cx="1007640" cy="3603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cc"/>
                  </a:solidFill>
                  <a:latin typeface="Comic Sans MS"/>
                </a:rPr>
                <a:t>外模式</a:t>
              </a:r>
              <a:r>
                <a:rPr b="1" lang="zh-CN" sz="1800" spc="-1" strike="noStrike">
                  <a:solidFill>
                    <a:srgbClr val="ffffcc"/>
                  </a:solidFill>
                  <a:latin typeface="Comic Sans MS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024000" y="3384360"/>
              <a:ext cx="1007640" cy="36036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99"/>
                  </a:solidFill>
                  <a:latin typeface="Comic Sans MS"/>
                </a:rPr>
                <a:t>模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095280" y="4319640"/>
              <a:ext cx="1007640" cy="360360"/>
            </a:xfrm>
            <a:prstGeom prst="rect">
              <a:avLst/>
            </a:prstGeom>
            <a:solidFill>
              <a:srgbClr val="703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99"/>
                  </a:solidFill>
                  <a:latin typeface="Comic Sans MS"/>
                </a:rPr>
                <a:t>内模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095280" y="5256000"/>
              <a:ext cx="1007640" cy="36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99"/>
                  </a:solidFill>
                  <a:latin typeface="Comic Sans MS"/>
                </a:rPr>
                <a:t>数据库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553080" y="5113080"/>
              <a:ext cx="1007640" cy="36036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omic Sans MS"/>
                </a:rPr>
                <a:t>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7416360" y="3240000"/>
              <a:ext cx="1008000" cy="36036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omic Sans MS"/>
                </a:rPr>
                <a:t>DBM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376360" y="1584360"/>
              <a:ext cx="0" cy="576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032000" y="1584360"/>
              <a:ext cx="720360" cy="5047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>
              <a:off x="5256000" y="1584360"/>
              <a:ext cx="576000" cy="5047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>
              <a:off x="3815640" y="2592360"/>
              <a:ext cx="1007640" cy="647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303280" y="2663640"/>
              <a:ext cx="1080720" cy="5763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600360" y="3744720"/>
              <a:ext cx="0" cy="432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600360" y="4680000"/>
              <a:ext cx="0" cy="431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 flipH="1" flipV="1">
              <a:off x="6279840" y="1584360"/>
              <a:ext cx="1150560" cy="1800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 flipH="1" flipV="1">
              <a:off x="5400000" y="2592360"/>
              <a:ext cx="2015640" cy="792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 flipH="1">
              <a:off x="4103280" y="3384360"/>
              <a:ext cx="33112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 flipH="1">
              <a:off x="4247640" y="3384360"/>
              <a:ext cx="3241080" cy="9367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 flipH="1">
              <a:off x="4248000" y="5256000"/>
              <a:ext cx="23047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 flipH="1">
              <a:off x="7128720" y="3384360"/>
              <a:ext cx="286920" cy="15843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2000" y="2592360"/>
              <a:ext cx="201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Comic Sans MS"/>
                </a:rPr>
                <a:t>外模式</a:t>
              </a:r>
              <a:r>
                <a:rPr b="1" lang="zh-CN" sz="1800" spc="-1" strike="noStrike">
                  <a:solidFill>
                    <a:srgbClr val="000000"/>
                  </a:solidFill>
                  <a:latin typeface="Comic Sans MS"/>
                </a:rPr>
                <a:t>/</a:t>
              </a:r>
              <a:r>
                <a:rPr b="1" lang="zh-CN" sz="1800" spc="-1" strike="noStrike">
                  <a:solidFill>
                    <a:srgbClr val="000000"/>
                  </a:solidFill>
                  <a:latin typeface="Comic Sans MS"/>
                </a:rPr>
                <a:t>模式映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440000" y="3816360"/>
              <a:ext cx="201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Comic Sans MS"/>
                </a:rPr>
                <a:t>模式</a:t>
              </a:r>
              <a:r>
                <a:rPr b="1" lang="zh-CN" sz="1800" spc="-1" strike="noStrike">
                  <a:solidFill>
                    <a:srgbClr val="000000"/>
                  </a:solidFill>
                  <a:latin typeface="Comic Sans MS"/>
                </a:rPr>
                <a:t>/</a:t>
              </a:r>
              <a:r>
                <a:rPr b="1" lang="zh-CN" sz="1800" spc="-1" strike="noStrike">
                  <a:solidFill>
                    <a:srgbClr val="000000"/>
                  </a:solidFill>
                  <a:latin typeface="Comic Sans MS"/>
                </a:rPr>
                <a:t>内模式映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41360" y="280800"/>
            <a:ext cx="83296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ff0000"/>
                </a:solidFill>
                <a:latin typeface="Comic Sans MS"/>
                <a:ea typeface="宋体"/>
              </a:rPr>
              <a:t> </a:t>
            </a:r>
            <a:r>
              <a:rPr b="1" i="1" lang="zh-CN" sz="4800" spc="-1" strike="noStrike">
                <a:solidFill>
                  <a:srgbClr val="ff0000"/>
                </a:solidFill>
                <a:latin typeface="Comic Sans MS"/>
                <a:ea typeface="宋体"/>
              </a:rPr>
              <a:t>数据模型</a:t>
            </a:r>
            <a:endParaRPr b="1" i="1" lang="en-US" sz="4800" spc="-1" strike="noStrike">
              <a:solidFill>
                <a:srgbClr val="ff0000"/>
              </a:solidFill>
              <a:latin typeface="Comic Sans MS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3691080" y="2556000"/>
            <a:ext cx="2460240" cy="579600"/>
            <a:chOff x="3691080" y="2556000"/>
            <a:chExt cx="2460240" cy="579600"/>
          </a:xfrm>
        </p:grpSpPr>
        <p:sp>
          <p:nvSpPr>
            <p:cNvPr id="302" name=""/>
            <p:cNvSpPr/>
            <p:nvPr/>
          </p:nvSpPr>
          <p:spPr>
            <a:xfrm>
              <a:off x="3691080" y="2556000"/>
              <a:ext cx="2460240" cy="5619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31c75"/>
                </a:gs>
                <a:gs pos="50000">
                  <a:srgbClr val="703dff"/>
                </a:gs>
                <a:gs pos="100000">
                  <a:srgbClr val="331c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254120" y="267588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</a:rPr>
                <a:t>概念数据模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4" name=""/>
          <p:cNvSpPr/>
          <p:nvPr/>
        </p:nvSpPr>
        <p:spPr>
          <a:xfrm>
            <a:off x="3056040" y="2351160"/>
            <a:ext cx="542880" cy="1846080"/>
          </a:xfrm>
          <a:prstGeom prst="leftArrow">
            <a:avLst>
              <a:gd name="adj1" fmla="val 65583"/>
              <a:gd name="adj2" fmla="val 65181"/>
            </a:avLst>
          </a:prstGeom>
          <a:gradFill rotWithShape="0">
            <a:gsLst>
              <a:gs pos="0">
                <a:srgbClr val="755400">
                  <a:alpha val="12156"/>
                </a:srgbClr>
              </a:gs>
              <a:gs pos="100000">
                <a:srgbClr val="ffb8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276120" y="1871640"/>
            <a:ext cx="2460240" cy="3019320"/>
            <a:chOff x="276120" y="1871640"/>
            <a:chExt cx="2460240" cy="3019320"/>
          </a:xfrm>
        </p:grpSpPr>
        <p:sp>
          <p:nvSpPr>
            <p:cNvPr id="306" name=""/>
            <p:cNvSpPr/>
            <p:nvPr/>
          </p:nvSpPr>
          <p:spPr>
            <a:xfrm>
              <a:off x="276120" y="1871640"/>
              <a:ext cx="2460240" cy="3019320"/>
            </a:xfrm>
            <a:custGeom>
              <a:avLst/>
              <a:gdLst>
                <a:gd name="textAreaLeft" fmla="*/ 119880 w 2460240"/>
                <a:gd name="textAreaRight" fmla="*/ 2340360 w 2460240"/>
                <a:gd name="textAreaTop" fmla="*/ 119880 h 3019320"/>
                <a:gd name="textAreaBottom" fmla="*/ 2899440 h 3019320"/>
              </a:gdLst>
              <a:ahLst/>
              <a:rect l="textAreaLeft" t="textAreaTop" r="textAreaRight" b="textAreaBottom"/>
              <a:pathLst>
                <a:path w="21600" h="26508">
                  <a:moveTo>
                    <a:pt x="3600" y="0"/>
                  </a:moveTo>
                  <a:arcTo wR="3600" hR="3600" stAng="16200000" swAng="-5400000"/>
                  <a:lnTo>
                    <a:pt x="0" y="22908"/>
                  </a:lnTo>
                  <a:arcTo wR="3600" hR="3600" stAng="10800000" swAng="-5400000"/>
                  <a:lnTo>
                    <a:pt x="18000" y="2650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56400" y="1993320"/>
              <a:ext cx="230076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1d3a"/>
                  </a:solidFill>
                  <a:latin typeface="Verdana"/>
                </a:rPr>
                <a:t>概念数据模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从用户的角度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强调对数据对象的基本表示和概括性描述 （包括数据及其联系）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不考虑计算机具体实现，与具体的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DBMS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无关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8" name=""/>
          <p:cNvSpPr/>
          <p:nvPr/>
        </p:nvSpPr>
        <p:spPr>
          <a:xfrm>
            <a:off x="6086520" y="2351160"/>
            <a:ext cx="541440" cy="1846080"/>
          </a:xfrm>
          <a:prstGeom prst="rightArrow">
            <a:avLst>
              <a:gd name="adj1" fmla="val 67750"/>
              <a:gd name="adj2" fmla="val 66167"/>
            </a:avLst>
          </a:prstGeom>
          <a:gradFill rotWithShape="0">
            <a:gsLst>
              <a:gs pos="0">
                <a:srgbClr val="ffb800"/>
              </a:gs>
              <a:gs pos="100000">
                <a:srgbClr val="755400">
                  <a:alpha val="12156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2022480" y="1335240"/>
            <a:ext cx="7303320" cy="566280"/>
            <a:chOff x="2022480" y="1335240"/>
            <a:chExt cx="7303320" cy="566280"/>
          </a:xfrm>
        </p:grpSpPr>
        <p:sp>
          <p:nvSpPr>
            <p:cNvPr id="310" name=""/>
            <p:cNvSpPr/>
            <p:nvPr/>
          </p:nvSpPr>
          <p:spPr>
            <a:xfrm>
              <a:off x="2022480" y="1335240"/>
              <a:ext cx="7303320" cy="547560"/>
            </a:xfrm>
            <a:prstGeom prst="can">
              <a:avLst>
                <a:gd name="adj" fmla="val 27865"/>
              </a:avLst>
            </a:prstGeom>
            <a:gradFill rotWithShape="0">
              <a:gsLst>
                <a:gs pos="0">
                  <a:srgbClr val="000000"/>
                </a:gs>
                <a:gs pos="50000">
                  <a:srgbClr val="0000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3775680" y="1411560"/>
              <a:ext cx="39783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ffff00"/>
                  </a:solidFill>
                  <a:latin typeface="Arial"/>
                  <a:ea typeface="楷体_GB2312"/>
                </a:rPr>
                <a:t>数据模型</a:t>
              </a:r>
              <a:r>
                <a:rPr b="1" lang="zh-CN" sz="2400" spc="-1" strike="noStrike">
                  <a:solidFill>
                    <a:srgbClr val="ffffff"/>
                  </a:solidFill>
                  <a:latin typeface="Arial"/>
                </a:rPr>
                <a:t>是对现实世界的数据特征的抽象描述</a:t>
              </a:r>
              <a:r>
                <a:rPr b="0" lang="zh-CN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2" name=""/>
          <p:cNvSpPr/>
          <p:nvPr/>
        </p:nvSpPr>
        <p:spPr>
          <a:xfrm>
            <a:off x="3929040" y="4129200"/>
            <a:ext cx="1789200" cy="471240"/>
          </a:xfrm>
          <a:prstGeom prst="downArrow">
            <a:avLst>
              <a:gd name="adj1" fmla="val 67093"/>
              <a:gd name="adj2" fmla="val 64051"/>
            </a:avLst>
          </a:prstGeom>
          <a:gradFill rotWithShape="0">
            <a:gsLst>
              <a:gs pos="0">
                <a:srgbClr val="fed15c">
                  <a:alpha val="12156"/>
                </a:srgbClr>
              </a:gs>
              <a:gs pos="100000">
                <a:srgbClr val="ffb8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3" name=""/>
          <p:cNvGrpSpPr/>
          <p:nvPr/>
        </p:nvGrpSpPr>
        <p:grpSpPr>
          <a:xfrm>
            <a:off x="3691080" y="3035160"/>
            <a:ext cx="2460240" cy="577800"/>
            <a:chOff x="3691080" y="3035160"/>
            <a:chExt cx="2460240" cy="577800"/>
          </a:xfrm>
        </p:grpSpPr>
        <p:sp>
          <p:nvSpPr>
            <p:cNvPr id="314" name=""/>
            <p:cNvSpPr/>
            <p:nvPr/>
          </p:nvSpPr>
          <p:spPr>
            <a:xfrm>
              <a:off x="3691080" y="3035160"/>
              <a:ext cx="2460240" cy="5619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31c75"/>
                </a:gs>
                <a:gs pos="50000">
                  <a:srgbClr val="703dff"/>
                </a:gs>
                <a:gs pos="100000">
                  <a:srgbClr val="331c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267800" y="315324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</a:rPr>
                <a:t>逻辑数据模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6" name=""/>
          <p:cNvGrpSpPr/>
          <p:nvPr/>
        </p:nvGrpSpPr>
        <p:grpSpPr>
          <a:xfrm>
            <a:off x="3691080" y="3513240"/>
            <a:ext cx="2460240" cy="561960"/>
            <a:chOff x="3691080" y="3513240"/>
            <a:chExt cx="2460240" cy="561960"/>
          </a:xfrm>
        </p:grpSpPr>
        <p:sp>
          <p:nvSpPr>
            <p:cNvPr id="317" name=""/>
            <p:cNvSpPr/>
            <p:nvPr/>
          </p:nvSpPr>
          <p:spPr>
            <a:xfrm>
              <a:off x="3691080" y="3513240"/>
              <a:ext cx="2460240" cy="5619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31c75"/>
                </a:gs>
                <a:gs pos="50000">
                  <a:srgbClr val="703dff"/>
                </a:gs>
                <a:gs pos="100000">
                  <a:srgbClr val="331c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267800" y="361332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</a:rPr>
                <a:t>物理数据模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9" name=""/>
          <p:cNvGrpSpPr/>
          <p:nvPr/>
        </p:nvGrpSpPr>
        <p:grpSpPr>
          <a:xfrm>
            <a:off x="6943680" y="1860480"/>
            <a:ext cx="2700000" cy="2805120"/>
            <a:chOff x="6943680" y="1860480"/>
            <a:chExt cx="2700000" cy="2805120"/>
          </a:xfrm>
        </p:grpSpPr>
        <p:sp>
          <p:nvSpPr>
            <p:cNvPr id="320" name=""/>
            <p:cNvSpPr/>
            <p:nvPr/>
          </p:nvSpPr>
          <p:spPr>
            <a:xfrm>
              <a:off x="6943680" y="1860480"/>
              <a:ext cx="2700000" cy="2805120"/>
            </a:xfrm>
            <a:custGeom>
              <a:avLst/>
              <a:gdLst>
                <a:gd name="textAreaLeft" fmla="*/ 131760 w 2700000"/>
                <a:gd name="textAreaRight" fmla="*/ 2568240 w 2700000"/>
                <a:gd name="textAreaTop" fmla="*/ 131760 h 2805120"/>
                <a:gd name="textAreaBottom" fmla="*/ 2673360 h 2805120"/>
              </a:gdLst>
              <a:ahLst/>
              <a:rect l="textAreaLeft" t="textAreaTop" r="textAreaRight" b="textAreaBottom"/>
              <a:pathLst>
                <a:path w="21600" h="22441">
                  <a:moveTo>
                    <a:pt x="3600" y="0"/>
                  </a:moveTo>
                  <a:arcTo wR="3600" hR="3600" stAng="16200000" swAng="-5400000"/>
                  <a:lnTo>
                    <a:pt x="0" y="18841"/>
                  </a:lnTo>
                  <a:arcTo wR="3600" hR="3600" stAng="10800000" swAng="-5400000"/>
                  <a:lnTo>
                    <a:pt x="18000" y="2244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7076520" y="1981800"/>
              <a:ext cx="246060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1d3a"/>
                  </a:solidFill>
                  <a:latin typeface="Verdana"/>
                </a:rPr>
                <a:t>逻辑数据模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从计算机（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DBMS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）的角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用于在数据库系统实现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概念数据模型要转化为逻辑数据模型，才能在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DBMS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中实现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2597040" y="4778280"/>
            <a:ext cx="4922640" cy="1560600"/>
            <a:chOff x="2597040" y="4778280"/>
            <a:chExt cx="4922640" cy="1560600"/>
          </a:xfrm>
        </p:grpSpPr>
        <p:sp>
          <p:nvSpPr>
            <p:cNvPr id="323" name=""/>
            <p:cNvSpPr/>
            <p:nvPr/>
          </p:nvSpPr>
          <p:spPr>
            <a:xfrm>
              <a:off x="2597040" y="4778280"/>
              <a:ext cx="4922640" cy="156060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817360" y="4830840"/>
              <a:ext cx="44445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1d3a"/>
                  </a:solidFill>
                  <a:latin typeface="Verdana"/>
                </a:rPr>
                <a:t>物理数据模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从计算机（存储介质 ）的角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每种逻辑数据模型在实现时，都有其对应的物理数据模型的支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3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99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04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09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14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19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4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936720" y="576000"/>
            <a:ext cx="83296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6600"/>
                </a:solidFill>
                <a:latin typeface="Comic Sans MS"/>
              </a:rPr>
              <a:t>数据模型</a:t>
            </a:r>
            <a:endParaRPr b="1" i="1" lang="en-US" sz="32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936720" y="1079640"/>
            <a:ext cx="84852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Comic Sans MS"/>
              </a:rPr>
              <a:t>概念数据模型</a:t>
            </a:r>
            <a:endParaRPr b="1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Comic Sans MS"/>
              </a:rPr>
              <a:t>概念数据模型用来建立信息世界的数据模型，强调语义表达，描述信息结构，是对现实世界的第一层抽象。</a:t>
            </a:r>
            <a:endParaRPr b="1" lang="en-US" sz="2400" spc="-1" strike="noStrike">
              <a:solidFill>
                <a:srgbClr val="000099"/>
              </a:solidFill>
              <a:latin typeface="Comic Sans MS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Comic Sans MS"/>
              </a:rPr>
              <a:t>1) </a:t>
            </a:r>
            <a:r>
              <a:rPr b="1" lang="zh-CN" sz="2400" spc="-1" strike="noStrike">
                <a:solidFill>
                  <a:srgbClr val="ff0000"/>
                </a:solidFill>
                <a:latin typeface="Comic Sans MS"/>
              </a:rPr>
              <a:t>实体</a:t>
            </a:r>
            <a:r>
              <a:rPr b="1" lang="zh-CN" sz="2400" spc="-1" strike="noStrike">
                <a:solidFill>
                  <a:srgbClr val="000099"/>
                </a:solidFill>
                <a:latin typeface="Comic Sans MS"/>
              </a:rPr>
              <a:t>：客观存在并且可以相互区别的事物</a:t>
            </a:r>
            <a:endParaRPr b="1" lang="en-US" sz="2400" spc="-1" strike="noStrike">
              <a:solidFill>
                <a:srgbClr val="000099"/>
              </a:solidFill>
              <a:latin typeface="Comic Sans MS"/>
            </a:endParaRPr>
          </a:p>
          <a:p>
            <a:pPr lvl="1" marL="743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Comic Sans MS"/>
              </a:rPr>
              <a:t>        </a:t>
            </a:r>
            <a:r>
              <a:rPr b="1" lang="zh-CN" sz="2400" spc="-1" strike="noStrike">
                <a:solidFill>
                  <a:srgbClr val="000099"/>
                </a:solidFill>
                <a:latin typeface="Comic Sans MS"/>
              </a:rPr>
              <a:t>可以是具体的事物，如一个学生</a:t>
            </a:r>
            <a:r>
              <a:rPr b="1" lang="zh-CN" sz="2400" spc="-1" strike="noStrike">
                <a:solidFill>
                  <a:srgbClr val="000099"/>
                </a:solidFill>
                <a:latin typeface="Comic Sans MS"/>
              </a:rPr>
              <a:t>,</a:t>
            </a:r>
            <a:r>
              <a:rPr b="1" lang="zh-CN" sz="2400" spc="-1" strike="noStrike">
                <a:solidFill>
                  <a:srgbClr val="000099"/>
                </a:solidFill>
                <a:latin typeface="Comic Sans MS"/>
              </a:rPr>
              <a:t>一本书</a:t>
            </a:r>
            <a:endParaRPr b="1" lang="en-US" sz="2400" spc="-1" strike="noStrike">
              <a:solidFill>
                <a:srgbClr val="000099"/>
              </a:solidFill>
              <a:latin typeface="Comic Sans MS"/>
            </a:endParaRPr>
          </a:p>
          <a:p>
            <a:pPr lvl="1" marL="743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Comic Sans MS"/>
              </a:rPr>
              <a:t>        </a:t>
            </a:r>
            <a:r>
              <a:rPr b="1" lang="zh-CN" sz="2400" spc="-1" strike="noStrike">
                <a:solidFill>
                  <a:srgbClr val="000099"/>
                </a:solidFill>
                <a:latin typeface="Comic Sans MS"/>
              </a:rPr>
              <a:t>也可以是抽象的事物</a:t>
            </a:r>
            <a:r>
              <a:rPr b="1" lang="zh-CN" sz="2400" spc="-1" strike="noStrike">
                <a:solidFill>
                  <a:srgbClr val="000099"/>
                </a:solidFill>
                <a:latin typeface="Comic Sans MS"/>
              </a:rPr>
              <a:t>,</a:t>
            </a:r>
            <a:r>
              <a:rPr b="1" lang="zh-CN" sz="2400" spc="-1" strike="noStrike">
                <a:solidFill>
                  <a:srgbClr val="000099"/>
                </a:solidFill>
                <a:latin typeface="Comic Sans MS"/>
              </a:rPr>
              <a:t>如一次考试</a:t>
            </a:r>
            <a:endParaRPr b="1" lang="en-US" sz="2400" spc="-1" strike="noStrike">
              <a:solidFill>
                <a:srgbClr val="000099"/>
              </a:solidFill>
              <a:latin typeface="Comic Sans MS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Comic Sans MS"/>
              </a:rPr>
              <a:t>2) </a:t>
            </a:r>
            <a:r>
              <a:rPr b="1" lang="zh-CN" sz="2400" spc="-1" strike="noStrike">
                <a:solidFill>
                  <a:srgbClr val="ff0000"/>
                </a:solidFill>
                <a:latin typeface="Comic Sans MS"/>
              </a:rPr>
              <a:t>实体的属性：</a:t>
            </a:r>
            <a:r>
              <a:rPr b="1" lang="zh-CN" sz="2400" spc="-1" strike="noStrike">
                <a:solidFill>
                  <a:srgbClr val="000099"/>
                </a:solidFill>
                <a:latin typeface="Comic Sans MS"/>
              </a:rPr>
              <a:t>用于描述实体的特性。</a:t>
            </a:r>
            <a:endParaRPr b="1" lang="en-US" sz="2400" spc="-1" strike="noStrike">
              <a:solidFill>
                <a:srgbClr val="000099"/>
              </a:solidFill>
              <a:latin typeface="Comic Sans MS"/>
            </a:endParaRPr>
          </a:p>
          <a:p>
            <a:pPr lvl="1" marL="743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Comic Sans MS"/>
              </a:rPr>
              <a:t>     </a:t>
            </a:r>
            <a:r>
              <a:rPr b="1" lang="zh-CN" sz="2400" spc="-1" strike="noStrike">
                <a:solidFill>
                  <a:srgbClr val="000099"/>
                </a:solidFill>
                <a:latin typeface="Comic Sans MS"/>
              </a:rPr>
              <a:t>如学生用学号、姓名、性别、年龄等</a:t>
            </a:r>
            <a:r>
              <a:rPr b="1" lang="zh-CN" sz="2400" spc="-1" strike="noStrike">
                <a:solidFill>
                  <a:srgbClr val="ff0000"/>
                </a:solidFill>
                <a:latin typeface="Comic Sans MS"/>
              </a:rPr>
              <a:t>属性</a:t>
            </a:r>
            <a:r>
              <a:rPr b="1" lang="zh-CN" sz="2400" spc="-1" strike="noStrike">
                <a:solidFill>
                  <a:srgbClr val="000099"/>
                </a:solidFill>
                <a:latin typeface="Comic Sans MS"/>
              </a:rPr>
              <a:t>描述</a:t>
            </a:r>
            <a:endParaRPr b="1" lang="en-US" sz="2400" spc="-1" strike="noStrike">
              <a:solidFill>
                <a:srgbClr val="000099"/>
              </a:solidFill>
              <a:latin typeface="Comic Sans MS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Comic Sans MS"/>
              </a:rPr>
              <a:t>3) </a:t>
            </a:r>
            <a:r>
              <a:rPr b="1" lang="zh-CN" sz="2400" spc="-1" strike="noStrike">
                <a:solidFill>
                  <a:srgbClr val="000099"/>
                </a:solidFill>
                <a:latin typeface="Comic Sans MS"/>
              </a:rPr>
              <a:t>一个实体是若干个属性值的集合。</a:t>
            </a:r>
            <a:endParaRPr b="1" lang="en-US" sz="2400" spc="-1" strike="noStrike">
              <a:solidFill>
                <a:srgbClr val="000099"/>
              </a:solidFill>
              <a:latin typeface="Comic Sans MS"/>
            </a:endParaRPr>
          </a:p>
          <a:p>
            <a:pPr lvl="1" marL="743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Comic Sans MS"/>
              </a:rPr>
              <a:t>     </a:t>
            </a:r>
            <a:r>
              <a:rPr b="1" lang="zh-CN" sz="2400" spc="-1" strike="noStrike">
                <a:solidFill>
                  <a:srgbClr val="000099"/>
                </a:solidFill>
                <a:latin typeface="Comic Sans MS"/>
              </a:rPr>
              <a:t>如一个特定的学生用学号、姓名、性别等</a:t>
            </a:r>
            <a:r>
              <a:rPr b="1" lang="zh-CN" sz="2400" spc="-1" strike="noStrike">
                <a:solidFill>
                  <a:srgbClr val="ff0000"/>
                </a:solidFill>
                <a:latin typeface="Comic Sans MS"/>
              </a:rPr>
              <a:t>属性值</a:t>
            </a:r>
            <a:r>
              <a:rPr b="1" lang="zh-CN" sz="2400" spc="-1" strike="noStrike">
                <a:solidFill>
                  <a:srgbClr val="000099"/>
                </a:solidFill>
                <a:latin typeface="Comic Sans MS"/>
              </a:rPr>
              <a:t>描述</a:t>
            </a:r>
            <a:endParaRPr b="1" lang="en-US" sz="2400" spc="-1" strike="noStrike">
              <a:solidFill>
                <a:srgbClr val="000099"/>
              </a:solidFill>
              <a:latin typeface="Comic Sans MS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Comic Sans MS"/>
              </a:rPr>
              <a:t>4) </a:t>
            </a:r>
            <a:r>
              <a:rPr b="1" lang="zh-CN" sz="2400" spc="-1" strike="noStrike">
                <a:solidFill>
                  <a:srgbClr val="ff0000"/>
                </a:solidFill>
                <a:latin typeface="Comic Sans MS"/>
              </a:rPr>
              <a:t>实体集：</a:t>
            </a:r>
            <a:r>
              <a:rPr b="1" lang="zh-CN" sz="2400" spc="-1" strike="noStrike">
                <a:solidFill>
                  <a:srgbClr val="000099"/>
                </a:solidFill>
                <a:latin typeface="Comic Sans MS"/>
              </a:rPr>
              <a:t>具有相同属性的实体的集合。</a:t>
            </a:r>
            <a:endParaRPr b="1" lang="en-US" sz="2400" spc="-1" strike="noStrike">
              <a:solidFill>
                <a:srgbClr val="000099"/>
              </a:solidFill>
              <a:latin typeface="Comic Sans MS"/>
            </a:endParaRPr>
          </a:p>
          <a:p>
            <a:pPr lvl="1" marL="743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Comic Sans MS"/>
              </a:rPr>
              <a:t>     </a:t>
            </a:r>
            <a:r>
              <a:rPr b="1" lang="zh-CN" sz="2400" spc="-1" strike="noStrike">
                <a:solidFill>
                  <a:srgbClr val="000099"/>
                </a:solidFill>
                <a:latin typeface="Comic Sans MS"/>
              </a:rPr>
              <a:t>如若干个学生实体的集合构成学生实体集</a:t>
            </a:r>
            <a:endParaRPr b="1" lang="en-US" sz="24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27" name=""/>
          <p:cNvSpPr/>
          <p:nvPr/>
        </p:nvSpPr>
        <p:spPr>
          <a:xfrm>
            <a:off x="0" y="0"/>
            <a:ext cx="832968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0000"/>
                </a:solidFill>
                <a:latin typeface="Comic Sans MS"/>
                <a:ea typeface="隶书"/>
              </a:rPr>
              <a:t>数据库概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31640" y="576000"/>
            <a:ext cx="83296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6600"/>
                </a:solidFill>
                <a:latin typeface="Comic Sans MS"/>
              </a:rPr>
              <a:t>实体集之间的联系</a:t>
            </a:r>
            <a:endParaRPr b="1" i="1" lang="en-US" sz="32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47640" y="1079640"/>
            <a:ext cx="84852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概念：两个实体集之间实体的对应关系称为联系</a:t>
            </a:r>
            <a:endParaRPr b="1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 algn="just"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Comic Sans MS"/>
              </a:rPr>
              <a:t>（</a:t>
            </a:r>
            <a:r>
              <a:rPr b="1" lang="zh-CN" sz="3200" spc="-1" strike="noStrike">
                <a:solidFill>
                  <a:srgbClr val="000099"/>
                </a:solidFill>
                <a:latin typeface="Comic Sans MS"/>
              </a:rPr>
              <a:t>1</a:t>
            </a:r>
            <a:r>
              <a:rPr b="1" lang="zh-CN" sz="3200" spc="-1" strike="noStrike">
                <a:solidFill>
                  <a:srgbClr val="000099"/>
                </a:solidFill>
                <a:latin typeface="Comic Sans MS"/>
              </a:rPr>
              <a:t>）一对一联系  </a:t>
            </a:r>
            <a:endParaRPr b="1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如果实体集</a:t>
            </a: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E1</a:t>
            </a: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中的每一个实体</a:t>
            </a:r>
            <a:r>
              <a:rPr b="1" lang="zh-CN" sz="2800" spc="-1" strike="noStrike">
                <a:solidFill>
                  <a:srgbClr val="ff0000"/>
                </a:solidFill>
                <a:latin typeface="Comic Sans MS"/>
              </a:rPr>
              <a:t>至多</a:t>
            </a: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和实体集</a:t>
            </a: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E2</a:t>
            </a: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中的</a:t>
            </a:r>
            <a:r>
              <a:rPr b="1" lang="zh-CN" sz="2800" spc="-1" strike="noStrike">
                <a:solidFill>
                  <a:srgbClr val="ff0000"/>
                </a:solidFill>
                <a:latin typeface="Comic Sans MS"/>
              </a:rPr>
              <a:t>一个</a:t>
            </a: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实体有联系，反之亦然，则称</a:t>
            </a: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E1</a:t>
            </a: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和</a:t>
            </a: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E2</a:t>
            </a: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是一对一的联系，表示为</a:t>
            </a: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1:1</a:t>
            </a: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。</a:t>
            </a:r>
            <a:endParaRPr b="1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lvl="1" marL="74304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例如</a:t>
            </a: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: </a:t>
            </a: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实体集校长和</a:t>
            </a:r>
            <a:endParaRPr b="1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实体集学校之间的</a:t>
            </a:r>
            <a:endParaRPr b="1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联系是一对一。</a:t>
            </a:r>
            <a:endParaRPr b="1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graphicFrame>
        <p:nvGraphicFramePr>
          <p:cNvPr id="330" name=""/>
          <p:cNvGraphicFramePr/>
          <p:nvPr/>
        </p:nvGraphicFramePr>
        <p:xfrm>
          <a:off x="5400720" y="3672000"/>
          <a:ext cx="3533760" cy="2408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00720" y="3672000"/>
                    <a:ext cx="3533760" cy="240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2" name=""/>
          <p:cNvSpPr/>
          <p:nvPr/>
        </p:nvSpPr>
        <p:spPr>
          <a:xfrm>
            <a:off x="0" y="0"/>
            <a:ext cx="832968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0000"/>
                </a:solidFill>
                <a:latin typeface="Comic Sans MS"/>
                <a:ea typeface="隶书"/>
              </a:rPr>
              <a:t>数据库概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41360" y="280800"/>
            <a:ext cx="83296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ff0000"/>
                </a:solidFill>
                <a:latin typeface="Arial"/>
              </a:rPr>
              <a:t>实体集之间的联系</a:t>
            </a:r>
            <a:endParaRPr b="1" i="1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792000" y="856800"/>
            <a:ext cx="84852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Comic Sans MS"/>
              </a:rPr>
              <a:t>2</a:t>
            </a:r>
            <a:r>
              <a:rPr b="1" lang="zh-CN" sz="3200" spc="-1" strike="noStrike">
                <a:solidFill>
                  <a:srgbClr val="000099"/>
                </a:solidFill>
                <a:latin typeface="Comic Sans MS"/>
              </a:rPr>
              <a:t>）一对多联系  </a:t>
            </a:r>
            <a:endParaRPr b="1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如果实体集</a:t>
            </a: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E1</a:t>
            </a: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中的每个实体与实体集</a:t>
            </a: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E2</a:t>
            </a: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中的</a:t>
            </a:r>
            <a:r>
              <a:rPr b="1" lang="zh-CN" sz="2800" spc="-1" strike="noStrike">
                <a:solidFill>
                  <a:srgbClr val="ff0000"/>
                </a:solidFill>
                <a:latin typeface="Comic Sans MS"/>
              </a:rPr>
              <a:t>任意个</a:t>
            </a: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实体有联系，而实体集</a:t>
            </a: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E2</a:t>
            </a: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中的每一个实体至多和实体集</a:t>
            </a: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E1</a:t>
            </a: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中的</a:t>
            </a:r>
            <a:r>
              <a:rPr b="1" lang="zh-CN" sz="2800" spc="-1" strike="noStrike">
                <a:solidFill>
                  <a:srgbClr val="ff0000"/>
                </a:solidFill>
                <a:latin typeface="Comic Sans MS"/>
              </a:rPr>
              <a:t>一个</a:t>
            </a: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实体有联系，则称</a:t>
            </a: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E1</a:t>
            </a: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和</a:t>
            </a: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E2</a:t>
            </a: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之间是一对多的联系，表示为</a:t>
            </a: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1:n</a:t>
            </a: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，</a:t>
            </a: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E1</a:t>
            </a: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称为一方，</a:t>
            </a: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E2</a:t>
            </a: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为多方。</a:t>
            </a:r>
            <a:endParaRPr b="1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例如，实体集学校和实</a:t>
            </a:r>
            <a:endParaRPr b="1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体集学生之间是一对多</a:t>
            </a:r>
            <a:endParaRPr b="1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的联系，一方是实体集</a:t>
            </a:r>
            <a:endParaRPr b="1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学校，多方是实体集学生</a:t>
            </a:r>
            <a:endParaRPr b="1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graphicFrame>
        <p:nvGraphicFramePr>
          <p:cNvPr id="335" name=""/>
          <p:cNvGraphicFramePr/>
          <p:nvPr/>
        </p:nvGraphicFramePr>
        <p:xfrm>
          <a:off x="5902200" y="3384720"/>
          <a:ext cx="3287880" cy="2587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02200" y="3384720"/>
                    <a:ext cx="3287880" cy="258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2968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0000"/>
                </a:solidFill>
                <a:latin typeface="Comic Sans MS"/>
              </a:rPr>
              <a:t>数据库概述</a:t>
            </a:r>
            <a:endParaRPr b="1" i="1" lang="en-US" sz="36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60360" y="502920"/>
            <a:ext cx="848520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Comic Sans MS"/>
              </a:rPr>
              <a:t>一</a:t>
            </a:r>
            <a:r>
              <a:rPr b="1" lang="zh-CN" sz="3200" spc="-1" strike="noStrike">
                <a:solidFill>
                  <a:srgbClr val="000099"/>
                </a:solidFill>
                <a:latin typeface="Comic Sans MS"/>
              </a:rPr>
              <a:t>.</a:t>
            </a:r>
            <a:r>
              <a:rPr b="1" lang="zh-CN" sz="3600" spc="-1" strike="noStrike">
                <a:solidFill>
                  <a:srgbClr val="000099"/>
                </a:solidFill>
                <a:latin typeface="Comic Sans MS"/>
              </a:rPr>
              <a:t>数据处理技术的发展</a:t>
            </a:r>
            <a:endParaRPr b="1" lang="en-US" sz="36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6600"/>
                </a:solidFill>
                <a:latin typeface="Comic Sans MS"/>
              </a:rPr>
              <a:t>手工管理阶段</a:t>
            </a:r>
            <a:endParaRPr b="1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rcRect l="9999" t="23334" r="15002" b="45007"/>
          <a:stretch/>
        </p:blipFill>
        <p:spPr>
          <a:xfrm>
            <a:off x="1547640" y="1879560"/>
            <a:ext cx="7307280" cy="216072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1468440" y="4260960"/>
            <a:ext cx="7939080" cy="190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Comic Sans MS"/>
              </a:rPr>
              <a:t>特点： </a:t>
            </a:r>
            <a:r>
              <a:rPr b="1" lang="zh-CN" sz="2400" spc="-1" strike="noStrike">
                <a:solidFill>
                  <a:srgbClr val="cc0000"/>
                </a:solidFill>
                <a:latin typeface="Comic Sans MS"/>
              </a:rPr>
              <a:t>(1) </a:t>
            </a:r>
            <a:r>
              <a:rPr b="1" lang="zh-CN" sz="2400" spc="-1" strike="noStrike">
                <a:solidFill>
                  <a:srgbClr val="cc0000"/>
                </a:solidFill>
                <a:latin typeface="Comic Sans MS"/>
              </a:rPr>
              <a:t>数据不保存</a:t>
            </a:r>
            <a:r>
              <a:rPr b="1" lang="zh-CN" sz="2400" spc="-1" strike="noStrike">
                <a:solidFill>
                  <a:srgbClr val="cc0000"/>
                </a:solidFill>
                <a:latin typeface="Comic Sans MS"/>
              </a:rPr>
              <a:t>----</a:t>
            </a:r>
            <a:r>
              <a:rPr b="1" lang="zh-CN" sz="2400" spc="-1" strike="noStrike">
                <a:solidFill>
                  <a:srgbClr val="cc0000"/>
                </a:solidFill>
                <a:latin typeface="Comic Sans MS"/>
              </a:rPr>
              <a:t>不能实现数据共享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Comic Sans MS"/>
              </a:rPr>
              <a:t>        </a:t>
            </a:r>
            <a:r>
              <a:rPr b="1" lang="zh-CN" sz="2400" spc="-1" strike="noStrike">
                <a:solidFill>
                  <a:srgbClr val="cc0000"/>
                </a:solidFill>
                <a:latin typeface="Comic Sans MS"/>
              </a:rPr>
              <a:t>(2) </a:t>
            </a:r>
            <a:r>
              <a:rPr b="1" lang="zh-CN" sz="2400" spc="-1" strike="noStrike">
                <a:solidFill>
                  <a:srgbClr val="cc0000"/>
                </a:solidFill>
                <a:latin typeface="Comic Sans MS"/>
              </a:rPr>
              <a:t>数据与程序不可分割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Comic Sans MS"/>
              </a:rPr>
              <a:t>        </a:t>
            </a:r>
            <a:r>
              <a:rPr b="1" lang="zh-CN" sz="2400" spc="-1" strike="noStrike">
                <a:solidFill>
                  <a:srgbClr val="cc0000"/>
                </a:solidFill>
                <a:latin typeface="Comic Sans MS"/>
              </a:rPr>
              <a:t>(3)</a:t>
            </a:r>
            <a:r>
              <a:rPr b="1" lang="zh-CN" sz="2400" spc="-1" strike="noStrike">
                <a:solidFill>
                  <a:srgbClr val="cc0000"/>
                </a:solidFill>
                <a:latin typeface="Comic Sans MS"/>
              </a:rPr>
              <a:t>各程序的数据彼此独立</a:t>
            </a:r>
            <a:r>
              <a:rPr b="1" lang="zh-CN" sz="2400" spc="-1" strike="noStrike">
                <a:solidFill>
                  <a:srgbClr val="cc0000"/>
                </a:solidFill>
                <a:latin typeface="Comic Sans MS"/>
              </a:rPr>
              <a:t>----</a:t>
            </a:r>
            <a:r>
              <a:rPr b="1" lang="zh-CN" sz="2400" spc="-1" strike="noStrike">
                <a:solidFill>
                  <a:srgbClr val="cc0000"/>
                </a:solidFill>
                <a:latin typeface="Comic Sans MS"/>
              </a:rPr>
              <a:t>数据冗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Comic Sans MS"/>
              </a:rPr>
              <a:t> </a:t>
            </a:r>
            <a:r>
              <a:rPr b="1" lang="zh-CN" sz="2400" spc="-1" strike="noStrike">
                <a:solidFill>
                  <a:srgbClr val="cc0000"/>
                </a:solidFill>
                <a:latin typeface="Comic Sans MS"/>
              </a:rPr>
              <a:t>适应场合</a:t>
            </a:r>
            <a:r>
              <a:rPr b="1" lang="zh-CN" sz="2400" spc="-1" strike="noStrike">
                <a:solidFill>
                  <a:srgbClr val="cc0000"/>
                </a:solidFill>
                <a:latin typeface="Comic Sans MS"/>
              </a:rPr>
              <a:t>: </a:t>
            </a:r>
            <a:r>
              <a:rPr b="1" lang="zh-CN" sz="2400" spc="-1" strike="noStrike">
                <a:solidFill>
                  <a:srgbClr val="cc0000"/>
                </a:solidFill>
                <a:latin typeface="Comic Sans MS"/>
              </a:rPr>
              <a:t>数据量较小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41360" y="280800"/>
            <a:ext cx="83296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0000"/>
                </a:solidFill>
                <a:latin typeface="Arial"/>
              </a:rPr>
              <a:t>实体集之间的联系</a:t>
            </a:r>
            <a:endParaRPr b="1" i="1" lang="en-US" sz="36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73200" y="856800"/>
            <a:ext cx="84852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Comic Sans MS"/>
              </a:rPr>
              <a:t>（</a:t>
            </a:r>
            <a:r>
              <a:rPr b="1" lang="zh-CN" sz="3200" spc="-1" strike="noStrike">
                <a:solidFill>
                  <a:srgbClr val="000099"/>
                </a:solidFill>
                <a:latin typeface="Comic Sans MS"/>
              </a:rPr>
              <a:t>3</a:t>
            </a:r>
            <a:r>
              <a:rPr b="1" lang="zh-CN" sz="3200" spc="-1" strike="noStrike">
                <a:solidFill>
                  <a:srgbClr val="000099"/>
                </a:solidFill>
                <a:latin typeface="Comic Sans MS"/>
              </a:rPr>
              <a:t>）多对多联系  </a:t>
            </a:r>
            <a:endParaRPr b="1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lvl="1" marL="7430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      </a:t>
            </a: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如果实体集</a:t>
            </a: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E1</a:t>
            </a: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中的每个实体与实体集</a:t>
            </a: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E2</a:t>
            </a: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中的</a:t>
            </a:r>
            <a:r>
              <a:rPr b="1" lang="zh-CN" sz="2800" spc="-1" strike="noStrike">
                <a:solidFill>
                  <a:srgbClr val="ff0000"/>
                </a:solidFill>
                <a:latin typeface="Comic Sans MS"/>
              </a:rPr>
              <a:t>任意个</a:t>
            </a: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实体有联系，反之，实体集</a:t>
            </a: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E2</a:t>
            </a: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中的每个实体与实体集</a:t>
            </a: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E1</a:t>
            </a: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中的</a:t>
            </a:r>
            <a:r>
              <a:rPr b="1" lang="zh-CN" sz="2800" spc="-1" strike="noStrike">
                <a:solidFill>
                  <a:srgbClr val="ff0000"/>
                </a:solidFill>
                <a:latin typeface="Comic Sans MS"/>
              </a:rPr>
              <a:t>任意个</a:t>
            </a: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实体有联系，则称</a:t>
            </a: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E1</a:t>
            </a: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和</a:t>
            </a: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E2</a:t>
            </a: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之间是多对多的联系，表示为</a:t>
            </a: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m:n</a:t>
            </a: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。</a:t>
            </a:r>
            <a:endParaRPr b="1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lvl="1" marL="7430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lvl="1" marL="7430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Comic Sans MS"/>
              </a:rPr>
              <a:t>例如</a:t>
            </a: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，实体集学生和实</a:t>
            </a:r>
            <a:endParaRPr b="1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lvl="1" marL="7430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体集课程之间是多对多</a:t>
            </a:r>
            <a:endParaRPr b="1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lvl="1" marL="7430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的关系</a:t>
            </a:r>
            <a:endParaRPr b="1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graphicFrame>
        <p:nvGraphicFramePr>
          <p:cNvPr id="339" name=""/>
          <p:cNvGraphicFramePr/>
          <p:nvPr/>
        </p:nvGraphicFramePr>
        <p:xfrm>
          <a:off x="5977080" y="3311640"/>
          <a:ext cx="3124080" cy="249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77080" y="3311640"/>
                    <a:ext cx="3124080" cy="249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41360" y="280800"/>
            <a:ext cx="83296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0000"/>
                </a:solidFill>
                <a:latin typeface="隶书"/>
              </a:rPr>
              <a:t>E-R</a:t>
            </a:r>
            <a:r>
              <a:rPr b="1" i="1" lang="zh-CN" sz="3600" spc="-1" strike="noStrike">
                <a:solidFill>
                  <a:srgbClr val="ff0000"/>
                </a:solidFill>
                <a:latin typeface="隶书"/>
              </a:rPr>
              <a:t>图</a:t>
            </a:r>
            <a:endParaRPr b="1" i="1" lang="en-US" sz="36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72840" y="856800"/>
            <a:ext cx="904716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E-R</a:t>
            </a: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图</a:t>
            </a: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: </a:t>
            </a: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用图形方式表示实体集之间的联系。</a:t>
            </a:r>
            <a:endParaRPr b="1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 algn="just"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Comic Sans MS"/>
              </a:rPr>
              <a:t>组成：</a:t>
            </a:r>
            <a:endParaRPr b="1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1</a:t>
            </a: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）矩形：表示实体集，实体名称写在框内；</a:t>
            </a:r>
            <a:endParaRPr b="1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2</a:t>
            </a: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）椭圆：表示实体集或联系的属性，框内标明属性的名称；</a:t>
            </a:r>
            <a:endParaRPr b="1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3</a:t>
            </a: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）菱形：表示实体间的关系，框内注明联系名称；</a:t>
            </a:r>
            <a:endParaRPr b="1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4</a:t>
            </a: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）连线：连接实体和各个属性、实体和联系，并注明联系种类，即</a:t>
            </a: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1:1</a:t>
            </a: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、</a:t>
            </a: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1:n</a:t>
            </a: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或</a:t>
            </a: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n:m</a:t>
            </a: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。</a:t>
            </a:r>
            <a:endParaRPr b="1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41360" y="86760"/>
            <a:ext cx="83296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zh-CN" sz="4000" spc="-1" strike="noStrike">
              <a:solidFill>
                <a:srgbClr val="ff0000"/>
              </a:solidFill>
              <a:latin typeface="Comic Sans MS"/>
              <a:ea typeface="宋体"/>
            </a:endParaRPr>
          </a:p>
        </p:txBody>
      </p:sp>
      <p:sp>
        <p:nvSpPr>
          <p:cNvPr id="344" name=""/>
          <p:cNvSpPr/>
          <p:nvPr/>
        </p:nvSpPr>
        <p:spPr>
          <a:xfrm rot="13770000">
            <a:off x="5620320" y="3688200"/>
            <a:ext cx="809640" cy="195120"/>
          </a:xfrm>
          <a:prstGeom prst="rect">
            <a:avLst/>
          </a:prstGeom>
          <a:gradFill rotWithShape="0">
            <a:gsLst>
              <a:gs pos="0">
                <a:srgbClr val="ffb800"/>
              </a:gs>
              <a:gs pos="50000">
                <a:srgbClr val="fed97b"/>
              </a:gs>
              <a:gs pos="100000">
                <a:srgbClr val="ffb800"/>
              </a:gs>
            </a:gsLst>
            <a:lin ang="132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 rot="20856000">
            <a:off x="3490560" y="3324240"/>
            <a:ext cx="1036800" cy="146160"/>
          </a:xfrm>
          <a:prstGeom prst="rect">
            <a:avLst/>
          </a:prstGeom>
          <a:gradFill rotWithShape="0">
            <a:gsLst>
              <a:gs pos="0">
                <a:srgbClr val="ffb800"/>
              </a:gs>
              <a:gs pos="50000">
                <a:srgbClr val="fedb82"/>
              </a:gs>
              <a:gs pos="100000">
                <a:srgbClr val="ffb800"/>
              </a:gs>
            </a:gsLst>
            <a:lin ang="614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 rot="18394200">
            <a:off x="5716440" y="2388960"/>
            <a:ext cx="503280" cy="135000"/>
          </a:xfrm>
          <a:prstGeom prst="rect">
            <a:avLst/>
          </a:prstGeom>
          <a:gradFill rotWithShape="0">
            <a:gsLst>
              <a:gs pos="0">
                <a:srgbClr val="ffb800"/>
              </a:gs>
              <a:gs pos="50000">
                <a:srgbClr val="fee8b1"/>
              </a:gs>
              <a:gs pos="100000">
                <a:srgbClr val="ffb800"/>
              </a:gs>
            </a:gsLst>
            <a:lin ang="860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184480" y="2708280"/>
            <a:ext cx="1902960" cy="1955520"/>
            <a:chOff x="2184480" y="2708280"/>
            <a:chExt cx="1902960" cy="1955520"/>
          </a:xfrm>
        </p:grpSpPr>
        <p:grpSp>
          <p:nvGrpSpPr>
            <p:cNvPr id="348" name=""/>
            <p:cNvGrpSpPr/>
            <p:nvPr/>
          </p:nvGrpSpPr>
          <p:grpSpPr>
            <a:xfrm>
              <a:off x="2184480" y="2708280"/>
              <a:ext cx="1902960" cy="1510200"/>
              <a:chOff x="2184480" y="2708280"/>
              <a:chExt cx="1902960" cy="1510200"/>
            </a:xfrm>
          </p:grpSpPr>
          <p:sp>
            <p:nvSpPr>
              <p:cNvPr id="349" name=""/>
              <p:cNvSpPr/>
              <p:nvPr/>
            </p:nvSpPr>
            <p:spPr>
              <a:xfrm>
                <a:off x="2184480" y="2708280"/>
                <a:ext cx="1902960" cy="151020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2401920" y="2733120"/>
                <a:ext cx="1468080" cy="56988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1" name=""/>
            <p:cNvSpPr/>
            <p:nvPr/>
          </p:nvSpPr>
          <p:spPr>
            <a:xfrm>
              <a:off x="2388960" y="3027600"/>
              <a:ext cx="14727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Arial"/>
                </a:rPr>
                <a:t>一对一</a:t>
              </a:r>
              <a:br>
                <a:rPr sz="2800"/>
              </a:br>
              <a:r>
                <a:rPr b="1" lang="zh-CN" sz="2800" spc="-1" strike="noStrike">
                  <a:solidFill>
                    <a:srgbClr val="ffffff"/>
                  </a:solidFill>
                  <a:latin typeface="Arial"/>
                </a:rPr>
                <a:t>联系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404440" y="4273920"/>
              <a:ext cx="1546920" cy="38988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3" name=""/>
          <p:cNvGrpSpPr/>
          <p:nvPr/>
        </p:nvGrpSpPr>
        <p:grpSpPr>
          <a:xfrm>
            <a:off x="4456080" y="2428920"/>
            <a:ext cx="1774080" cy="1733040"/>
            <a:chOff x="4456080" y="2428920"/>
            <a:chExt cx="1774080" cy="1733040"/>
          </a:xfrm>
        </p:grpSpPr>
        <p:grpSp>
          <p:nvGrpSpPr>
            <p:cNvPr id="354" name=""/>
            <p:cNvGrpSpPr/>
            <p:nvPr/>
          </p:nvGrpSpPr>
          <p:grpSpPr>
            <a:xfrm>
              <a:off x="4456080" y="2428920"/>
              <a:ext cx="1774080" cy="1341720"/>
              <a:chOff x="4456080" y="2428920"/>
              <a:chExt cx="1774080" cy="1341720"/>
            </a:xfrm>
          </p:grpSpPr>
          <p:grpSp>
            <p:nvGrpSpPr>
              <p:cNvPr id="355" name=""/>
              <p:cNvGrpSpPr/>
              <p:nvPr/>
            </p:nvGrpSpPr>
            <p:grpSpPr>
              <a:xfrm>
                <a:off x="4456080" y="2428920"/>
                <a:ext cx="1774080" cy="1341720"/>
                <a:chOff x="4456080" y="2428920"/>
                <a:chExt cx="1774080" cy="1341720"/>
              </a:xfrm>
            </p:grpSpPr>
            <p:sp>
              <p:nvSpPr>
                <p:cNvPr id="356" name=""/>
                <p:cNvSpPr/>
                <p:nvPr/>
              </p:nvSpPr>
              <p:spPr>
                <a:xfrm>
                  <a:off x="4456080" y="2428920"/>
                  <a:ext cx="1774080" cy="1341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03dff"/>
                    </a:gs>
                    <a:gs pos="100000">
                      <a:srgbClr val="1b0e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>
                  <a:off x="4658760" y="2450880"/>
                  <a:ext cx="1368720" cy="50616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703d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8" name=""/>
              <p:cNvSpPr/>
              <p:nvPr/>
            </p:nvSpPr>
            <p:spPr>
              <a:xfrm>
                <a:off x="4681440" y="2507040"/>
                <a:ext cx="130608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ffff"/>
                    </a:solidFill>
                    <a:latin typeface="Arial"/>
                  </a:rPr>
                  <a:t>实体集</a:t>
                </a:r>
                <a:br>
                  <a:rPr sz="2400"/>
                </a:br>
                <a:r>
                  <a:rPr b="1" lang="zh-CN" sz="2400" spc="-1" strike="noStrike">
                    <a:solidFill>
                      <a:srgbClr val="ffffff"/>
                    </a:solidFill>
                    <a:latin typeface="Arial"/>
                  </a:rPr>
                  <a:t>之间</a:t>
                </a:r>
                <a:br>
                  <a:rPr sz="2400"/>
                </a:br>
                <a:r>
                  <a:rPr b="1" lang="zh-CN" sz="2400" spc="-1" strike="noStrike">
                    <a:solidFill>
                      <a:srgbClr val="ffffff"/>
                    </a:solidFill>
                    <a:latin typeface="Arial"/>
                  </a:rPr>
                  <a:t>的联系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9" name=""/>
            <p:cNvSpPr/>
            <p:nvPr/>
          </p:nvSpPr>
          <p:spPr>
            <a:xfrm>
              <a:off x="4602600" y="3772080"/>
              <a:ext cx="1563840" cy="38988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0" name=""/>
          <p:cNvGrpSpPr/>
          <p:nvPr/>
        </p:nvGrpSpPr>
        <p:grpSpPr>
          <a:xfrm>
            <a:off x="5830920" y="3825720"/>
            <a:ext cx="2145960" cy="2068200"/>
            <a:chOff x="5830920" y="3825720"/>
            <a:chExt cx="2145960" cy="2068200"/>
          </a:xfrm>
        </p:grpSpPr>
        <p:grpSp>
          <p:nvGrpSpPr>
            <p:cNvPr id="361" name=""/>
            <p:cNvGrpSpPr/>
            <p:nvPr/>
          </p:nvGrpSpPr>
          <p:grpSpPr>
            <a:xfrm>
              <a:off x="5830920" y="3825720"/>
              <a:ext cx="2145960" cy="1679760"/>
              <a:chOff x="5830920" y="3825720"/>
              <a:chExt cx="2145960" cy="1679760"/>
            </a:xfrm>
          </p:grpSpPr>
          <p:sp>
            <p:nvSpPr>
              <p:cNvPr id="362" name=""/>
              <p:cNvSpPr/>
              <p:nvPr/>
            </p:nvSpPr>
            <p:spPr>
              <a:xfrm>
                <a:off x="5830920" y="3825720"/>
                <a:ext cx="2145960" cy="1679760"/>
              </a:xfrm>
              <a:prstGeom prst="ellipse">
                <a:avLst/>
              </a:prstGeom>
              <a:gradFill rotWithShape="0">
                <a:gsLst>
                  <a:gs pos="0">
                    <a:srgbClr val="00b200"/>
                  </a:gs>
                  <a:gs pos="100000">
                    <a:srgbClr val="005b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6076080" y="3853440"/>
                <a:ext cx="1655280" cy="63396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00b2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4" name=""/>
            <p:cNvSpPr/>
            <p:nvPr/>
          </p:nvSpPr>
          <p:spPr>
            <a:xfrm>
              <a:off x="6236640" y="4289400"/>
              <a:ext cx="14382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Arial"/>
                </a:rPr>
                <a:t>一对多</a:t>
              </a:r>
              <a:br>
                <a:rPr sz="2800"/>
              </a:br>
              <a:r>
                <a:rPr b="1" lang="zh-CN" sz="2800" spc="-1" strike="noStrike">
                  <a:solidFill>
                    <a:srgbClr val="ffffff"/>
                  </a:solidFill>
                  <a:latin typeface="Arial"/>
                </a:rPr>
                <a:t>联系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189120" y="5505480"/>
              <a:ext cx="1510920" cy="38844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"/>
          <p:cNvGrpSpPr/>
          <p:nvPr/>
        </p:nvGrpSpPr>
        <p:grpSpPr>
          <a:xfrm>
            <a:off x="5913360" y="1198440"/>
            <a:ext cx="1576080" cy="1425240"/>
            <a:chOff x="5913360" y="1198440"/>
            <a:chExt cx="1576080" cy="1425240"/>
          </a:xfrm>
        </p:grpSpPr>
        <p:grpSp>
          <p:nvGrpSpPr>
            <p:cNvPr id="367" name=""/>
            <p:cNvGrpSpPr/>
            <p:nvPr/>
          </p:nvGrpSpPr>
          <p:grpSpPr>
            <a:xfrm>
              <a:off x="5913360" y="1198440"/>
              <a:ext cx="1576080" cy="1174680"/>
              <a:chOff x="5913360" y="1198440"/>
              <a:chExt cx="1576080" cy="1174680"/>
            </a:xfrm>
          </p:grpSpPr>
          <p:sp>
            <p:nvSpPr>
              <p:cNvPr id="368" name=""/>
              <p:cNvSpPr/>
              <p:nvPr/>
            </p:nvSpPr>
            <p:spPr>
              <a:xfrm>
                <a:off x="5913360" y="1198440"/>
                <a:ext cx="1576080" cy="1174680"/>
              </a:xfrm>
              <a:prstGeom prst="ellipse">
                <a:avLst/>
              </a:prstGeom>
              <a:gradFill rotWithShape="0">
                <a:gsLst>
                  <a:gs pos="0">
                    <a:srgbClr val="ffef66"/>
                  </a:gs>
                  <a:gs pos="100000">
                    <a:srgbClr val="3d391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6093360" y="1217880"/>
                <a:ext cx="1215720" cy="44316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ef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0" name=""/>
            <p:cNvSpPr/>
            <p:nvPr/>
          </p:nvSpPr>
          <p:spPr>
            <a:xfrm>
              <a:off x="6004440" y="1576440"/>
              <a:ext cx="14342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Verdana"/>
                </a:rPr>
                <a:t>多对多</a:t>
              </a:r>
              <a:br>
                <a:rPr sz="2000"/>
              </a:br>
              <a:r>
                <a:rPr b="1" lang="zh-CN" sz="2000" spc="-1" strike="noStrike">
                  <a:solidFill>
                    <a:srgbClr val="ffffff"/>
                  </a:solidFill>
                  <a:latin typeface="Verdana"/>
                </a:rPr>
                <a:t>联系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6037560" y="2428560"/>
              <a:ext cx="666360" cy="1951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2" name=""/>
          <p:cNvGrpSpPr/>
          <p:nvPr/>
        </p:nvGrpSpPr>
        <p:grpSpPr>
          <a:xfrm>
            <a:off x="38160" y="1584360"/>
            <a:ext cx="2091960" cy="1727280"/>
            <a:chOff x="38160" y="1584360"/>
            <a:chExt cx="2091960" cy="1727280"/>
          </a:xfrm>
        </p:grpSpPr>
        <p:sp>
          <p:nvSpPr>
            <p:cNvPr id="373" name=""/>
            <p:cNvSpPr/>
            <p:nvPr/>
          </p:nvSpPr>
          <p:spPr>
            <a:xfrm>
              <a:off x="38160" y="1946880"/>
              <a:ext cx="794520" cy="1361160"/>
            </a:xfrm>
            <a:custGeom>
              <a:avLst/>
              <a:gdLst>
                <a:gd name="textAreaLeft" fmla="*/ 31680 w 794520"/>
                <a:gd name="textAreaRight" fmla="*/ 762840 w 794520"/>
                <a:gd name="textAreaTop" fmla="*/ 31680 h 1361160"/>
                <a:gd name="textAreaBottom" fmla="*/ 1329480 h 1361160"/>
              </a:gdLst>
              <a:ahLst/>
              <a:rect l="textAreaLeft" t="textAreaTop" r="textAreaRight" b="textAreaBottom"/>
              <a:pathLst>
                <a:path w="21600" h="36998">
                  <a:moveTo>
                    <a:pt x="2969" y="0"/>
                  </a:moveTo>
                  <a:arcTo wR="2969" hR="2969" stAng="16200000" swAng="-5400000"/>
                  <a:lnTo>
                    <a:pt x="0" y="34029"/>
                  </a:lnTo>
                  <a:arcTo wR="2969" hR="2969" stAng="10800000" swAng="-5400000"/>
                  <a:lnTo>
                    <a:pt x="18631" y="36998"/>
                  </a:lnTo>
                  <a:arcTo wR="2969" hR="2969" stAng="5400000" swAng="-5400000"/>
                  <a:lnTo>
                    <a:pt x="21600" y="2969"/>
                  </a:lnTo>
                  <a:arcTo wR="2969" hR="2969" stAng="0" swAng="-5400000"/>
                  <a:close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56240" y="2000880"/>
              <a:ext cx="596520" cy="13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学校</a:t>
              </a: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学校</a:t>
              </a: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学校</a:t>
              </a: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…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学校</a:t>
              </a: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1291320" y="1946880"/>
              <a:ext cx="794520" cy="1361160"/>
            </a:xfrm>
            <a:custGeom>
              <a:avLst/>
              <a:gdLst>
                <a:gd name="textAreaLeft" fmla="*/ 31680 w 794520"/>
                <a:gd name="textAreaRight" fmla="*/ 762840 w 794520"/>
                <a:gd name="textAreaTop" fmla="*/ 31680 h 1361160"/>
                <a:gd name="textAreaBottom" fmla="*/ 1329480 h 1361160"/>
              </a:gdLst>
              <a:ahLst/>
              <a:rect l="textAreaLeft" t="textAreaTop" r="textAreaRight" b="textAreaBottom"/>
              <a:pathLst>
                <a:path w="21600" h="36998">
                  <a:moveTo>
                    <a:pt x="2969" y="0"/>
                  </a:moveTo>
                  <a:arcTo wR="2969" hR="2969" stAng="16200000" swAng="-5400000"/>
                  <a:lnTo>
                    <a:pt x="0" y="34029"/>
                  </a:lnTo>
                  <a:arcTo wR="2969" hR="2969" stAng="10800000" swAng="-5400000"/>
                  <a:lnTo>
                    <a:pt x="18631" y="36998"/>
                  </a:lnTo>
                  <a:arcTo wR="2969" hR="2969" stAng="5400000" swAng="-5400000"/>
                  <a:lnTo>
                    <a:pt x="21600" y="2969"/>
                  </a:lnTo>
                  <a:arcTo wR="2969" hR="2969" stAng="0" swAng="-5400000"/>
                  <a:close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409760" y="2000880"/>
              <a:ext cx="596520" cy="13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校长</a:t>
              </a: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校长</a:t>
              </a: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校长</a:t>
              </a: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…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校长</a:t>
              </a: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480" y="1584360"/>
              <a:ext cx="793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学校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337040" y="1584360"/>
              <a:ext cx="793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校长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9" name=""/>
          <p:cNvSpPr/>
          <p:nvPr/>
        </p:nvSpPr>
        <p:spPr>
          <a:xfrm>
            <a:off x="673200" y="2151000"/>
            <a:ext cx="714240" cy="0"/>
          </a:xfrm>
          <a:prstGeom prst="line">
            <a:avLst/>
          </a:prstGeom>
          <a:ln w="22320">
            <a:solidFill>
              <a:srgbClr val="993366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73200" y="2370240"/>
            <a:ext cx="714240" cy="0"/>
          </a:xfrm>
          <a:prstGeom prst="line">
            <a:avLst/>
          </a:prstGeom>
          <a:ln w="22320">
            <a:solidFill>
              <a:srgbClr val="993366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90480" y="2627280"/>
            <a:ext cx="714600" cy="0"/>
          </a:xfrm>
          <a:prstGeom prst="line">
            <a:avLst/>
          </a:prstGeom>
          <a:ln w="22320">
            <a:solidFill>
              <a:srgbClr val="993366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708120" y="3065400"/>
            <a:ext cx="714240" cy="0"/>
          </a:xfrm>
          <a:prstGeom prst="line">
            <a:avLst/>
          </a:prstGeom>
          <a:ln w="22320">
            <a:solidFill>
              <a:srgbClr val="993366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3" name=""/>
          <p:cNvGrpSpPr/>
          <p:nvPr/>
        </p:nvGrpSpPr>
        <p:grpSpPr>
          <a:xfrm>
            <a:off x="3662280" y="4168800"/>
            <a:ext cx="2091960" cy="1727640"/>
            <a:chOff x="3662280" y="4168800"/>
            <a:chExt cx="2091960" cy="1727640"/>
          </a:xfrm>
        </p:grpSpPr>
        <p:sp>
          <p:nvSpPr>
            <p:cNvPr id="384" name=""/>
            <p:cNvSpPr/>
            <p:nvPr/>
          </p:nvSpPr>
          <p:spPr>
            <a:xfrm>
              <a:off x="3662280" y="4531680"/>
              <a:ext cx="794520" cy="1362240"/>
            </a:xfrm>
            <a:custGeom>
              <a:avLst/>
              <a:gdLst>
                <a:gd name="textAreaLeft" fmla="*/ 31680 w 794520"/>
                <a:gd name="textAreaRight" fmla="*/ 762840 w 794520"/>
                <a:gd name="textAreaTop" fmla="*/ 31680 h 1362240"/>
                <a:gd name="textAreaBottom" fmla="*/ 1330560 h 1362240"/>
              </a:gdLst>
              <a:ahLst/>
              <a:rect l="textAreaLeft" t="textAreaTop" r="textAreaRight" b="textAreaBottom"/>
              <a:pathLst>
                <a:path w="21600" h="37027">
                  <a:moveTo>
                    <a:pt x="2969" y="0"/>
                  </a:moveTo>
                  <a:arcTo wR="2969" hR="2969" stAng="16200000" swAng="-5400000"/>
                  <a:lnTo>
                    <a:pt x="0" y="34058"/>
                  </a:lnTo>
                  <a:arcTo wR="2969" hR="2969" stAng="10800000" swAng="-5400000"/>
                  <a:lnTo>
                    <a:pt x="18631" y="37027"/>
                  </a:lnTo>
                  <a:arcTo wR="2969" hR="2969" stAng="5400000" swAng="-5400000"/>
                  <a:lnTo>
                    <a:pt x="21600" y="2969"/>
                  </a:lnTo>
                  <a:arcTo wR="2969" hR="2969" stAng="0" swAng="-5400000"/>
                  <a:close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780360" y="4585680"/>
              <a:ext cx="596520" cy="13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班级</a:t>
              </a: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班级</a:t>
              </a: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班级</a:t>
              </a: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…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班级</a:t>
              </a: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915440" y="4531680"/>
              <a:ext cx="794520" cy="1362240"/>
            </a:xfrm>
            <a:custGeom>
              <a:avLst/>
              <a:gdLst>
                <a:gd name="textAreaLeft" fmla="*/ 31680 w 794520"/>
                <a:gd name="textAreaRight" fmla="*/ 762840 w 794520"/>
                <a:gd name="textAreaTop" fmla="*/ 31680 h 1362240"/>
                <a:gd name="textAreaBottom" fmla="*/ 1330560 h 1362240"/>
              </a:gdLst>
              <a:ahLst/>
              <a:rect l="textAreaLeft" t="textAreaTop" r="textAreaRight" b="textAreaBottom"/>
              <a:pathLst>
                <a:path w="21600" h="37027">
                  <a:moveTo>
                    <a:pt x="2969" y="0"/>
                  </a:moveTo>
                  <a:arcTo wR="2969" hR="2969" stAng="16200000" swAng="-5400000"/>
                  <a:lnTo>
                    <a:pt x="0" y="34058"/>
                  </a:lnTo>
                  <a:arcTo wR="2969" hR="2969" stAng="10800000" swAng="-5400000"/>
                  <a:lnTo>
                    <a:pt x="18631" y="37027"/>
                  </a:lnTo>
                  <a:arcTo wR="2969" hR="2969" stAng="5400000" swAng="-5400000"/>
                  <a:lnTo>
                    <a:pt x="21600" y="2969"/>
                  </a:lnTo>
                  <a:arcTo wR="2969" hR="2969" stAng="0" swAng="-5400000"/>
                  <a:close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5033880" y="4585680"/>
              <a:ext cx="596520" cy="13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学生</a:t>
              </a: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学生</a:t>
              </a: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学生</a:t>
              </a: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…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学生</a:t>
              </a: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3693600" y="4168800"/>
              <a:ext cx="793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班级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961160" y="4168800"/>
              <a:ext cx="793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学生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0" name=""/>
          <p:cNvSpPr/>
          <p:nvPr/>
        </p:nvSpPr>
        <p:spPr>
          <a:xfrm>
            <a:off x="4405320" y="4737240"/>
            <a:ext cx="714240" cy="0"/>
          </a:xfrm>
          <a:prstGeom prst="line">
            <a:avLst/>
          </a:prstGeom>
          <a:ln w="22320">
            <a:solidFill>
              <a:srgbClr val="993366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4395960" y="4737240"/>
            <a:ext cx="564840" cy="407880"/>
          </a:xfrm>
          <a:prstGeom prst="line">
            <a:avLst/>
          </a:prstGeom>
          <a:ln w="22320">
            <a:solidFill>
              <a:srgbClr val="993366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4405320" y="4737240"/>
            <a:ext cx="555480" cy="884160"/>
          </a:xfrm>
          <a:prstGeom prst="line">
            <a:avLst/>
          </a:prstGeom>
          <a:ln w="22320">
            <a:solidFill>
              <a:srgbClr val="993366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 flipV="1">
            <a:off x="4405320" y="4941720"/>
            <a:ext cx="714240" cy="255600"/>
          </a:xfrm>
          <a:prstGeom prst="line">
            <a:avLst/>
          </a:prstGeom>
          <a:ln w="22320">
            <a:solidFill>
              <a:srgbClr val="993366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387680" y="5187960"/>
            <a:ext cx="652680" cy="162000"/>
          </a:xfrm>
          <a:prstGeom prst="line">
            <a:avLst/>
          </a:prstGeom>
          <a:ln w="22320">
            <a:solidFill>
              <a:srgbClr val="993366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276120" y="3376440"/>
            <a:ext cx="166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1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：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929040" y="5894280"/>
            <a:ext cx="166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1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：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7" name=""/>
          <p:cNvGrpSpPr/>
          <p:nvPr/>
        </p:nvGrpSpPr>
        <p:grpSpPr>
          <a:xfrm>
            <a:off x="7581960" y="1879560"/>
            <a:ext cx="2090160" cy="2343240"/>
            <a:chOff x="7581960" y="1879560"/>
            <a:chExt cx="2090160" cy="2343240"/>
          </a:xfrm>
        </p:grpSpPr>
        <p:sp>
          <p:nvSpPr>
            <p:cNvPr id="398" name=""/>
            <p:cNvSpPr/>
            <p:nvPr/>
          </p:nvSpPr>
          <p:spPr>
            <a:xfrm>
              <a:off x="7581960" y="2354400"/>
              <a:ext cx="793800" cy="1782360"/>
            </a:xfrm>
            <a:custGeom>
              <a:avLst/>
              <a:gdLst>
                <a:gd name="textAreaLeft" fmla="*/ 31680 w 793800"/>
                <a:gd name="textAreaRight" fmla="*/ 762120 w 793800"/>
                <a:gd name="textAreaTop" fmla="*/ 31680 h 1782360"/>
                <a:gd name="textAreaBottom" fmla="*/ 1750680 h 1782360"/>
              </a:gdLst>
              <a:ahLst/>
              <a:rect l="textAreaLeft" t="textAreaTop" r="textAreaRight" b="textAreaBottom"/>
              <a:pathLst>
                <a:path w="21600" h="48487">
                  <a:moveTo>
                    <a:pt x="2969" y="0"/>
                  </a:moveTo>
                  <a:arcTo wR="2969" hR="2969" stAng="16200000" swAng="-5400000"/>
                  <a:lnTo>
                    <a:pt x="0" y="45518"/>
                  </a:lnTo>
                  <a:arcTo wR="2969" hR="2969" stAng="10800000" swAng="-5400000"/>
                  <a:lnTo>
                    <a:pt x="18631" y="48487"/>
                  </a:lnTo>
                  <a:arcTo wR="2969" hR="2969" stAng="5400000" swAng="-5400000"/>
                  <a:lnTo>
                    <a:pt x="21600" y="2969"/>
                  </a:lnTo>
                  <a:arcTo wR="2969" hR="2969" stAng="0" swAng="-5400000"/>
                  <a:close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7699680" y="2425320"/>
              <a:ext cx="596520" cy="179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课程</a:t>
              </a: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课程</a:t>
              </a: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课程</a:t>
              </a: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课程</a:t>
              </a: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课程</a:t>
              </a: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…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课程</a:t>
              </a: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8834040" y="2354400"/>
              <a:ext cx="793800" cy="1782360"/>
            </a:xfrm>
            <a:custGeom>
              <a:avLst/>
              <a:gdLst>
                <a:gd name="textAreaLeft" fmla="*/ 31680 w 793800"/>
                <a:gd name="textAreaRight" fmla="*/ 762120 w 793800"/>
                <a:gd name="textAreaTop" fmla="*/ 31680 h 1782360"/>
                <a:gd name="textAreaBottom" fmla="*/ 1750680 h 1782360"/>
              </a:gdLst>
              <a:ahLst/>
              <a:rect l="textAreaLeft" t="textAreaTop" r="textAreaRight" b="textAreaBottom"/>
              <a:pathLst>
                <a:path w="21600" h="48487">
                  <a:moveTo>
                    <a:pt x="2969" y="0"/>
                  </a:moveTo>
                  <a:arcTo wR="2969" hR="2969" stAng="16200000" swAng="-5400000"/>
                  <a:lnTo>
                    <a:pt x="0" y="45518"/>
                  </a:lnTo>
                  <a:arcTo wR="2969" hR="2969" stAng="10800000" swAng="-5400000"/>
                  <a:lnTo>
                    <a:pt x="18631" y="48487"/>
                  </a:lnTo>
                  <a:arcTo wR="2969" hR="2969" stAng="5400000" swAng="-5400000"/>
                  <a:lnTo>
                    <a:pt x="21600" y="2969"/>
                  </a:lnTo>
                  <a:arcTo wR="2969" hR="2969" stAng="0" swAng="-5400000"/>
                  <a:close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8952120" y="2425320"/>
              <a:ext cx="596520" cy="179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学生</a:t>
              </a: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学生</a:t>
              </a: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学生</a:t>
              </a: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学生</a:t>
              </a: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学生</a:t>
              </a: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…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学生</a:t>
              </a: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613280" y="1879560"/>
              <a:ext cx="79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课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8879760" y="1879560"/>
              <a:ext cx="79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学生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4" name=""/>
          <p:cNvSpPr/>
          <p:nvPr/>
        </p:nvSpPr>
        <p:spPr>
          <a:xfrm>
            <a:off x="8323200" y="2604960"/>
            <a:ext cx="714600" cy="0"/>
          </a:xfrm>
          <a:prstGeom prst="line">
            <a:avLst/>
          </a:prstGeom>
          <a:ln w="22320">
            <a:solidFill>
              <a:srgbClr val="993366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8315280" y="2604960"/>
            <a:ext cx="565200" cy="408240"/>
          </a:xfrm>
          <a:prstGeom prst="line">
            <a:avLst/>
          </a:prstGeom>
          <a:ln w="22320">
            <a:solidFill>
              <a:srgbClr val="993366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323200" y="2604960"/>
            <a:ext cx="557280" cy="884520"/>
          </a:xfrm>
          <a:prstGeom prst="line">
            <a:avLst/>
          </a:prstGeom>
          <a:ln w="22320">
            <a:solidFill>
              <a:srgbClr val="993366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 flipV="1">
            <a:off x="8323200" y="2809800"/>
            <a:ext cx="714600" cy="255600"/>
          </a:xfrm>
          <a:prstGeom prst="line">
            <a:avLst/>
          </a:prstGeom>
          <a:ln w="22320">
            <a:solidFill>
              <a:srgbClr val="993366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8305920" y="3057480"/>
            <a:ext cx="652320" cy="160560"/>
          </a:xfrm>
          <a:prstGeom prst="line">
            <a:avLst/>
          </a:prstGeom>
          <a:ln w="22320">
            <a:solidFill>
              <a:srgbClr val="993366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7846920" y="4186080"/>
            <a:ext cx="166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m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：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flipV="1">
            <a:off x="8296200" y="3029040"/>
            <a:ext cx="587520" cy="279360"/>
          </a:xfrm>
          <a:prstGeom prst="line">
            <a:avLst/>
          </a:prstGeom>
          <a:ln w="22320">
            <a:solidFill>
              <a:srgbClr val="993366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 flipV="1">
            <a:off x="8296200" y="3029040"/>
            <a:ext cx="587520" cy="482400"/>
          </a:xfrm>
          <a:prstGeom prst="line">
            <a:avLst/>
          </a:prstGeom>
          <a:ln w="22320">
            <a:solidFill>
              <a:srgbClr val="993366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 flipV="1">
            <a:off x="8277120" y="3490560"/>
            <a:ext cx="588960" cy="482760"/>
          </a:xfrm>
          <a:prstGeom prst="line">
            <a:avLst/>
          </a:prstGeom>
          <a:ln w="22320">
            <a:solidFill>
              <a:srgbClr val="993366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1" dur="2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36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9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73" dur="2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85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90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95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00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10" dur="2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22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27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32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37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42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52" dur="2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64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69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74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79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84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89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94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99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41360" y="86760"/>
            <a:ext cx="83296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zh-CN" sz="4000" spc="-1" strike="noStrike">
              <a:solidFill>
                <a:srgbClr val="ff0000"/>
              </a:solidFill>
              <a:latin typeface="Comic Sans MS"/>
              <a:ea typeface="宋体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73200" y="857160"/>
            <a:ext cx="8485200" cy="23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Comic Sans MS"/>
                <a:ea typeface="宋体"/>
              </a:rPr>
              <a:t>E-R</a:t>
            </a:r>
            <a:r>
              <a:rPr b="0" lang="zh-CN" sz="3200" spc="-1" strike="noStrike">
                <a:solidFill>
                  <a:srgbClr val="000099"/>
                </a:solidFill>
                <a:latin typeface="Comic Sans MS"/>
                <a:ea typeface="宋体"/>
              </a:rPr>
              <a:t>模型的表示方法</a:t>
            </a:r>
            <a:endParaRPr b="1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Comic Sans MS"/>
                <a:ea typeface="宋体"/>
              </a:rPr>
              <a:t>实体——用矩形表示</a:t>
            </a:r>
            <a:endParaRPr b="1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Comic Sans MS"/>
                <a:ea typeface="宋体"/>
              </a:rPr>
              <a:t>属性—— 用椭圆形表示</a:t>
            </a:r>
            <a:endParaRPr b="1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Comic Sans MS"/>
                <a:ea typeface="宋体"/>
              </a:rPr>
              <a:t>联系—— 用菱形表示</a:t>
            </a:r>
            <a:endParaRPr b="1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pic>
        <p:nvPicPr>
          <p:cNvPr id="415" name="" descr=""/>
          <p:cNvPicPr/>
          <p:nvPr/>
        </p:nvPicPr>
        <p:blipFill>
          <a:blip r:embed="rId1"/>
          <a:stretch/>
        </p:blipFill>
        <p:spPr>
          <a:xfrm>
            <a:off x="5992920" y="1395360"/>
            <a:ext cx="3492360" cy="1368360"/>
          </a:xfrm>
          <a:prstGeom prst="rect">
            <a:avLst/>
          </a:prstGeom>
          <a:ln w="0">
            <a:noFill/>
          </a:ln>
        </p:spPr>
      </p:pic>
      <p:pic>
        <p:nvPicPr>
          <p:cNvPr id="416" name="" descr=""/>
          <p:cNvPicPr/>
          <p:nvPr/>
        </p:nvPicPr>
        <p:blipFill>
          <a:blip r:embed="rId2"/>
          <a:stretch/>
        </p:blipFill>
        <p:spPr>
          <a:xfrm>
            <a:off x="1311120" y="3444840"/>
            <a:ext cx="7301160" cy="2106720"/>
          </a:xfrm>
          <a:prstGeom prst="rect">
            <a:avLst/>
          </a:prstGeom>
          <a:ln w="0">
            <a:noFill/>
          </a:ln>
        </p:spPr>
      </p:pic>
      <p:sp>
        <p:nvSpPr>
          <p:cNvPr id="417" name=""/>
          <p:cNvSpPr/>
          <p:nvPr/>
        </p:nvSpPr>
        <p:spPr>
          <a:xfrm>
            <a:off x="1732320" y="5673240"/>
            <a:ext cx="485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1                      1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n                     m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12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9" dur="1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4" dur="1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41360" y="280800"/>
            <a:ext cx="83296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0000"/>
                </a:solidFill>
                <a:latin typeface="Comic Sans MS"/>
                <a:ea typeface="宋体"/>
              </a:rPr>
              <a:t>举例：网上成绩查询管理系统的 </a:t>
            </a:r>
            <a:r>
              <a:rPr b="1" i="1" lang="zh-CN" sz="3600" spc="-1" strike="noStrike">
                <a:solidFill>
                  <a:srgbClr val="ff0000"/>
                </a:solidFill>
                <a:latin typeface="Comic Sans MS"/>
                <a:ea typeface="宋体"/>
              </a:rPr>
              <a:t>E-R</a:t>
            </a:r>
            <a:r>
              <a:rPr b="1" i="1" lang="zh-CN" sz="3600" spc="-1" strike="noStrike">
                <a:solidFill>
                  <a:srgbClr val="ff0000"/>
                </a:solidFill>
                <a:latin typeface="Comic Sans MS"/>
                <a:ea typeface="宋体"/>
              </a:rPr>
              <a:t>图</a:t>
            </a:r>
            <a:endParaRPr b="1" i="1" lang="en-US" sz="3600" spc="-1" strike="noStrike">
              <a:solidFill>
                <a:srgbClr val="ff0000"/>
              </a:solidFill>
              <a:latin typeface="Comic Sans MS"/>
            </a:endParaRPr>
          </a:p>
        </p:txBody>
      </p:sp>
      <p:pic>
        <p:nvPicPr>
          <p:cNvPr id="419" name="" descr=""/>
          <p:cNvPicPr/>
          <p:nvPr/>
        </p:nvPicPr>
        <p:blipFill>
          <a:blip r:embed="rId1"/>
          <a:stretch/>
        </p:blipFill>
        <p:spPr>
          <a:xfrm>
            <a:off x="584280" y="2695680"/>
            <a:ext cx="9139320" cy="3433680"/>
          </a:xfrm>
          <a:prstGeom prst="rect">
            <a:avLst/>
          </a:prstGeom>
          <a:ln w="0">
            <a:noFill/>
          </a:ln>
        </p:spPr>
      </p:pic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1468440" y="1251000"/>
            <a:ext cx="848520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Comic Sans MS"/>
                <a:ea typeface="宋体"/>
              </a:rPr>
              <a:t>系统功能：学生登陆后，可以查询成绩、给老师留言、下载资源；教师登陆后可以管理任课班级的学生成绩、上传资源、查看学生留言。 </a:t>
            </a:r>
            <a:endParaRPr b="1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3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41360" y="280800"/>
            <a:ext cx="841536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0000"/>
                </a:solidFill>
                <a:latin typeface="Comic Sans MS"/>
              </a:rPr>
              <a:t>学生实体集和课程实体集之间的关系</a:t>
            </a:r>
            <a:endParaRPr b="1" i="1" lang="en-US" sz="3600" spc="-1" strike="noStrike">
              <a:solidFill>
                <a:srgbClr val="ff0000"/>
              </a:solidFill>
              <a:latin typeface="Comic Sans MS"/>
            </a:endParaRPr>
          </a:p>
        </p:txBody>
      </p:sp>
      <p:grpSp>
        <p:nvGrpSpPr>
          <p:cNvPr id="422" name=""/>
          <p:cNvGrpSpPr/>
          <p:nvPr/>
        </p:nvGrpSpPr>
        <p:grpSpPr>
          <a:xfrm>
            <a:off x="1512720" y="1079640"/>
            <a:ext cx="6911640" cy="5039640"/>
            <a:chOff x="1512720" y="1079640"/>
            <a:chExt cx="6911640" cy="5039640"/>
          </a:xfrm>
        </p:grpSpPr>
        <p:sp>
          <p:nvSpPr>
            <p:cNvPr id="423" name=""/>
            <p:cNvSpPr/>
            <p:nvPr/>
          </p:nvSpPr>
          <p:spPr>
            <a:xfrm>
              <a:off x="3886920" y="2087280"/>
              <a:ext cx="2088360" cy="647280"/>
            </a:xfrm>
            <a:prstGeom prst="rect">
              <a:avLst/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Comic Sans MS"/>
                  <a:ea typeface="隶书"/>
                </a:rPr>
                <a:t>学生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1512720" y="1079640"/>
              <a:ext cx="1368000" cy="574200"/>
            </a:xfrm>
            <a:prstGeom prst="ellipse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Comic Sans MS"/>
                  <a:ea typeface="隶书"/>
                </a:rPr>
                <a:t>学号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312360" y="1079640"/>
              <a:ext cx="1368000" cy="574200"/>
            </a:xfrm>
            <a:prstGeom prst="ellipse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Comic Sans MS"/>
                  <a:ea typeface="隶书"/>
                </a:rPr>
                <a:t>姓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183640" y="1079640"/>
              <a:ext cx="1368000" cy="574200"/>
            </a:xfrm>
            <a:prstGeom prst="ellipse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Comic Sans MS"/>
                  <a:ea typeface="隶书"/>
                </a:rPr>
                <a:t>性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7056360" y="1079640"/>
              <a:ext cx="1368000" cy="574200"/>
            </a:xfrm>
            <a:prstGeom prst="ellipse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Comic Sans MS"/>
                  <a:ea typeface="隶书"/>
                </a:rPr>
                <a:t>年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3960000" y="3238200"/>
              <a:ext cx="1944000" cy="576000"/>
            </a:xfrm>
            <a:prstGeom prst="flowChartDecision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Comic Sans MS"/>
                </a:rPr>
                <a:t>选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3960000" y="4319280"/>
              <a:ext cx="2015280" cy="647280"/>
            </a:xfrm>
            <a:prstGeom prst="rect">
              <a:avLst/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Comic Sans MS"/>
                  <a:ea typeface="隶书"/>
                </a:rPr>
                <a:t>课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160000" y="5544720"/>
              <a:ext cx="1368000" cy="574560"/>
            </a:xfrm>
            <a:prstGeom prst="ellipse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Comic Sans MS"/>
                </a:rPr>
                <a:t>课程编号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4264560" y="5543280"/>
              <a:ext cx="1368360" cy="574200"/>
            </a:xfrm>
            <a:prstGeom prst="ellipse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Comic Sans MS"/>
                </a:rPr>
                <a:t>课程名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407280" y="5543280"/>
              <a:ext cx="1368360" cy="574200"/>
            </a:xfrm>
            <a:prstGeom prst="ellipse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Comic Sans MS"/>
                </a:rPr>
                <a:t>任课教师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6696360" y="3239640"/>
              <a:ext cx="1368000" cy="574560"/>
            </a:xfrm>
            <a:prstGeom prst="ellipse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Comic Sans MS"/>
                  <a:ea typeface="隶书"/>
                </a:rPr>
                <a:t>成绩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233080" y="1653840"/>
              <a:ext cx="2590200" cy="43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888360" y="1653840"/>
              <a:ext cx="934920" cy="43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4823280" y="1653840"/>
              <a:ext cx="1009080" cy="43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4823640" y="1653840"/>
              <a:ext cx="2952000" cy="43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4968000" y="2734920"/>
              <a:ext cx="0" cy="50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968000" y="4966920"/>
              <a:ext cx="0" cy="57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 flipH="1">
              <a:off x="2807640" y="4966920"/>
              <a:ext cx="2160000" cy="57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4968000" y="4966920"/>
              <a:ext cx="2159640" cy="57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4968000" y="3814560"/>
              <a:ext cx="0" cy="50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5904360" y="3527280"/>
              <a:ext cx="791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5040720" y="2877840"/>
              <a:ext cx="431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5040720" y="3814560"/>
              <a:ext cx="431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41360" y="280800"/>
            <a:ext cx="83296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ff0000"/>
                </a:solidFill>
                <a:latin typeface="Comic Sans MS"/>
                <a:ea typeface="宋体"/>
              </a:rPr>
              <a:t> </a:t>
            </a:r>
            <a:r>
              <a:rPr b="1" i="1" lang="zh-CN" sz="4400" spc="-1" strike="noStrike">
                <a:solidFill>
                  <a:srgbClr val="ff0000"/>
                </a:solidFill>
                <a:latin typeface="Comic Sans MS"/>
                <a:ea typeface="宋体"/>
              </a:rPr>
              <a:t>逻辑数据模型 </a:t>
            </a:r>
            <a:endParaRPr b="1" i="1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31640" y="863280"/>
            <a:ext cx="8485200" cy="35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Comic Sans MS"/>
                <a:ea typeface="宋体"/>
              </a:rPr>
              <a:t>DBMS</a:t>
            </a:r>
            <a:r>
              <a:rPr b="1" lang="zh-CN" sz="2800" spc="-1" strike="noStrike">
                <a:solidFill>
                  <a:srgbClr val="000099"/>
                </a:solidFill>
                <a:latin typeface="Comic Sans MS"/>
                <a:ea typeface="宋体"/>
              </a:rPr>
              <a:t>所支持的数据模型称为逻辑数据模型，便于在数据库系统实现。</a:t>
            </a:r>
            <a:endParaRPr b="1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29040" indent="-329040">
              <a:spcBef>
                <a:spcPts val="7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Comic Sans MS"/>
                <a:ea typeface="宋体"/>
              </a:rPr>
              <a:t>用概念数据模型表示的数据必须转化为逻辑数据模型表示的数据，才能在</a:t>
            </a:r>
            <a:r>
              <a:rPr b="1" lang="zh-CN" sz="2800" spc="-1" strike="noStrike">
                <a:solidFill>
                  <a:srgbClr val="000099"/>
                </a:solidFill>
                <a:latin typeface="Comic Sans MS"/>
                <a:ea typeface="宋体"/>
              </a:rPr>
              <a:t>DBMS</a:t>
            </a:r>
            <a:r>
              <a:rPr b="1" lang="zh-CN" sz="2800" spc="-1" strike="noStrike">
                <a:solidFill>
                  <a:srgbClr val="000099"/>
                </a:solidFill>
                <a:latin typeface="Comic Sans MS"/>
                <a:ea typeface="宋体"/>
              </a:rPr>
              <a:t>中实现。</a:t>
            </a:r>
            <a:endParaRPr b="1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29040" indent="-329040">
              <a:spcBef>
                <a:spcPts val="7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Comic Sans MS"/>
                <a:ea typeface="宋体"/>
              </a:rPr>
              <a:t>根据数据及数据之间联系的表示形式的不同，主要有以下几种逻辑数据模型：</a:t>
            </a:r>
            <a:endParaRPr b="1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lvl="1" marL="713160" indent="-274320">
              <a:spcBef>
                <a:spcPts val="700"/>
              </a:spcBef>
              <a:buClr>
                <a:srgbClr val="0000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Comic Sans MS"/>
                <a:ea typeface="宋体"/>
              </a:rPr>
              <a:t>层次数据模型 </a:t>
            </a:r>
            <a:endParaRPr b="1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lvl="1" marL="713160" indent="-274320">
              <a:spcBef>
                <a:spcPts val="700"/>
              </a:spcBef>
              <a:buClr>
                <a:srgbClr val="0000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Comic Sans MS"/>
                <a:ea typeface="宋体"/>
              </a:rPr>
              <a:t>网状数据模型</a:t>
            </a:r>
            <a:endParaRPr b="1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lvl="1" marL="713160" indent="-274320">
              <a:spcBef>
                <a:spcPts val="700"/>
              </a:spcBef>
              <a:buClr>
                <a:srgbClr val="0000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Comic Sans MS"/>
                <a:ea typeface="宋体"/>
              </a:rPr>
              <a:t>关系数据模型</a:t>
            </a:r>
            <a:endParaRPr b="1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lvl="1" marL="713160" indent="-274320">
              <a:spcBef>
                <a:spcPts val="700"/>
              </a:spcBef>
              <a:buClr>
                <a:srgbClr val="0000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Comic Sans MS"/>
                <a:ea typeface="宋体"/>
              </a:rPr>
              <a:t>面向对象的数据模型</a:t>
            </a:r>
            <a:endParaRPr b="1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48" name=""/>
          <p:cNvSpPr/>
          <p:nvPr/>
        </p:nvSpPr>
        <p:spPr>
          <a:xfrm>
            <a:off x="3808440" y="3909960"/>
            <a:ext cx="627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用</a:t>
            </a:r>
            <a:r>
              <a:rPr b="1" lang="zh-CN" sz="2000" spc="-1" strike="noStrike">
                <a:solidFill>
                  <a:srgbClr val="003300"/>
                </a:solidFill>
                <a:latin typeface="Arial"/>
                <a:ea typeface="宋体"/>
              </a:rPr>
              <a:t>树状结构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表示各类实体以及实体间的联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3808440" y="4354560"/>
            <a:ext cx="627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以</a:t>
            </a:r>
            <a:r>
              <a:rPr b="1" lang="zh-CN" sz="2000" spc="-1" strike="noStrike">
                <a:solidFill>
                  <a:srgbClr val="003300"/>
                </a:solidFill>
                <a:latin typeface="Arial"/>
                <a:ea typeface="宋体"/>
              </a:rPr>
              <a:t>网状结构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表示各类实体以及实体间的联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808440" y="4784760"/>
            <a:ext cx="627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用</a:t>
            </a:r>
            <a:r>
              <a:rPr b="1" lang="zh-CN" sz="2000" spc="-1" strike="noStrike">
                <a:solidFill>
                  <a:srgbClr val="003300"/>
                </a:solidFill>
                <a:latin typeface="Arial"/>
                <a:ea typeface="宋体"/>
              </a:rPr>
              <a:t>二维表格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来描述实体以及实体之间的联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4103640" y="5256360"/>
            <a:ext cx="627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用</a:t>
            </a:r>
            <a:r>
              <a:rPr b="1" lang="zh-CN" sz="2000" spc="-1" strike="noStrike">
                <a:solidFill>
                  <a:srgbClr val="003300"/>
                </a:solidFill>
                <a:latin typeface="Arial"/>
                <a:ea typeface="宋体"/>
              </a:rPr>
              <a:t>面向对象的观点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来描述现实世界的实体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1000"/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1000"/>
                                        <p:tgtEl>
                                          <p:spTgt spid="4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4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4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4" dur="1000"/>
                                        <p:tgtEl>
                                          <p:spTgt spid="4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4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4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1000"/>
                                        <p:tgtEl>
                                          <p:spTgt spid="4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4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4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8" dur="1000"/>
                                        <p:tgtEl>
                                          <p:spTgt spid="4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4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4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1000"/>
                                        <p:tgtEl>
                                          <p:spTgt spid="4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4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4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1000"/>
                                        <p:tgtEl>
                                          <p:spTgt spid="4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4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4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9" dur="80"/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8,-64,105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2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0" dur="80"/>
                                        <p:tgtEl>
                                          <p:spTgt spid="4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8,-64,105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2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1" dur="80"/>
                                        <p:tgtEl>
                                          <p:spTgt spid="4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6" dur="80"/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8,-64,105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2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7" dur="80"/>
                                        <p:tgtEl>
                                          <p:spTgt spid="4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8,-64,105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2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8" dur="80"/>
                                        <p:tgtEl>
                                          <p:spTgt spid="4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3" dur="80"/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8,-64,105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2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4" dur="80"/>
                                        <p:tgtEl>
                                          <p:spTgt spid="4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8,-64,105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2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5" dur="80"/>
                                        <p:tgtEl>
                                          <p:spTgt spid="4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0" dur="80"/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8,-64,105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2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1" dur="80"/>
                                        <p:tgtEl>
                                          <p:spTgt spid="4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8,-64,105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2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2" dur="80"/>
                                        <p:tgtEl>
                                          <p:spTgt spid="4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51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517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518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519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520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750"/>
                            </p:stCondLst>
                            <p:childTnLst>
                              <p:par>
                                <p:cTn id="522" nodeType="after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523" dur="2000" fill="hold"/>
                                        <p:tgtEl>
                                          <p:spTgt spid="4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33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fill="hold">
                            <p:stCondLst>
                              <p:cond delay="2750"/>
                            </p:stCondLst>
                            <p:childTnLst>
                              <p:par>
                                <p:cTn id="525" nodeType="after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526" dur="2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33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41360" y="280800"/>
            <a:ext cx="83296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703dff"/>
                </a:solidFill>
                <a:latin typeface="Comic Sans MS"/>
              </a:rPr>
              <a:t>逻辑数据模型</a:t>
            </a:r>
            <a:endParaRPr b="1" i="1" lang="en-US" sz="36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576360" y="791640"/>
            <a:ext cx="84852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概念：逻辑数据模型是指在数据库系统中表示实体之间关系的模型。</a:t>
            </a:r>
            <a:endParaRPr b="1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结点：各个实体在数据模型中被称为结点</a:t>
            </a:r>
            <a:endParaRPr b="1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703dff"/>
                </a:solidFill>
                <a:latin typeface="Comic Sans MS"/>
              </a:rPr>
              <a:t>1</a:t>
            </a:r>
            <a:r>
              <a:rPr b="1" i="1" lang="zh-CN" sz="3600" spc="-1" strike="noStrike">
                <a:solidFill>
                  <a:srgbClr val="703dff"/>
                </a:solidFill>
                <a:latin typeface="Comic Sans MS"/>
              </a:rPr>
              <a:t>．层次模型</a:t>
            </a:r>
            <a:endParaRPr b="1" lang="en-US" sz="3600" spc="-1" strike="noStrike">
              <a:solidFill>
                <a:srgbClr val="000099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1) </a:t>
            </a: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用树形表示数据之间的多级层次结构。</a:t>
            </a:r>
            <a:endParaRPr b="1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2) </a:t>
            </a: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结构特点：</a:t>
            </a:r>
            <a:endParaRPr b="1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    </a:t>
            </a: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(1) </a:t>
            </a: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只有一个最高结点即根结点</a:t>
            </a:r>
            <a:endParaRPr b="1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    </a:t>
            </a: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(2) </a:t>
            </a: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其余结点有而且仅有一个父结点</a:t>
            </a:r>
            <a:endParaRPr b="1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    </a:t>
            </a: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(3) </a:t>
            </a: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上下层结点之间表示一对多的联系</a:t>
            </a:r>
            <a:endParaRPr b="1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3) </a:t>
            </a: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应用</a:t>
            </a: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: </a:t>
            </a: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行政组织机构、家族辈份关系等。</a:t>
            </a:r>
            <a:endParaRPr b="1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41360" y="280800"/>
            <a:ext cx="83296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0000"/>
                </a:solidFill>
                <a:latin typeface="Comic Sans MS"/>
              </a:rPr>
              <a:t>逻辑数据模型</a:t>
            </a:r>
            <a:endParaRPr b="1" i="1" lang="en-US" sz="36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673200" y="856800"/>
            <a:ext cx="84852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pic>
        <p:nvPicPr>
          <p:cNvPr id="456" name="" descr=""/>
          <p:cNvPicPr/>
          <p:nvPr/>
        </p:nvPicPr>
        <p:blipFill>
          <a:blip r:embed="rId1"/>
          <a:srcRect l="13543" t="22224" r="20832" b="35187"/>
          <a:stretch/>
        </p:blipFill>
        <p:spPr>
          <a:xfrm>
            <a:off x="1079640" y="1944720"/>
            <a:ext cx="7467480" cy="347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41360" y="280800"/>
            <a:ext cx="83296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703dff"/>
                </a:solidFill>
                <a:latin typeface="Comic Sans MS"/>
              </a:rPr>
              <a:t>逻辑数据模型</a:t>
            </a:r>
            <a:endParaRPr b="1" i="1" lang="en-US" sz="36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73200" y="856800"/>
            <a:ext cx="84852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黑体"/>
              </a:rPr>
              <a:t>2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黑体"/>
              </a:rPr>
              <a:t>．网状模型</a:t>
            </a:r>
            <a:endParaRPr b="1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1) </a:t>
            </a: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用图表示数据之间的关系</a:t>
            </a:r>
            <a:endParaRPr b="1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2) </a:t>
            </a: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允许结点有多于一个的父结点</a:t>
            </a:r>
            <a:endParaRPr b="1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3) </a:t>
            </a: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可以有一个以上的结点没有父结点。</a:t>
            </a:r>
            <a:endParaRPr b="1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4) </a:t>
            </a: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特点</a:t>
            </a: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:  </a:t>
            </a: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表示结点之间多对多的联系。</a:t>
            </a:r>
            <a:endParaRPr b="1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黑体"/>
              </a:rPr>
              <a:t>3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黑体"/>
              </a:rPr>
              <a:t>．关系模型</a:t>
            </a:r>
            <a:endParaRPr b="1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1) </a:t>
            </a: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用二维表格来表示实体及实体之间的联系</a:t>
            </a:r>
            <a:endParaRPr b="1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2) </a:t>
            </a: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实际应用中，每一个二维表代表了一个关系。</a:t>
            </a:r>
            <a:endParaRPr b="1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3) </a:t>
            </a: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特点：结构简单</a:t>
            </a: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,</a:t>
            </a: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容易实现</a:t>
            </a:r>
            <a:endParaRPr b="1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2968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0000"/>
                </a:solidFill>
                <a:latin typeface="Comic Sans MS"/>
              </a:rPr>
              <a:t>数据库概述</a:t>
            </a:r>
            <a:endParaRPr b="1" i="1" lang="en-US" sz="36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31280" y="576360"/>
            <a:ext cx="892836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6600"/>
                </a:solidFill>
                <a:latin typeface="Comic Sans MS"/>
              </a:rPr>
              <a:t>文件系统阶段</a:t>
            </a:r>
            <a:endParaRPr b="1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(1) </a:t>
            </a: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程序和数据分开</a:t>
            </a: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, </a:t>
            </a: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有一定的独立性。</a:t>
            </a:r>
            <a:endParaRPr b="1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(2) </a:t>
            </a: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数据以文件形式保存，由操作系统按名存取。</a:t>
            </a:r>
            <a:endParaRPr b="1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(3) </a:t>
            </a: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实现一定程度的数据共享。</a:t>
            </a:r>
            <a:endParaRPr b="1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(4) </a:t>
            </a: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数据文件之间缺乏联系。</a:t>
            </a:r>
            <a:endParaRPr b="1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7501" t="24909" r="16254" b="38337"/>
          <a:stretch/>
        </p:blipFill>
        <p:spPr>
          <a:xfrm>
            <a:off x="2054160" y="3816360"/>
            <a:ext cx="716436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41360" y="280800"/>
            <a:ext cx="83296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ff0000"/>
                </a:solidFill>
                <a:latin typeface="Comic Sans MS"/>
              </a:rPr>
              <a:t>物理数据模型</a:t>
            </a:r>
            <a:endParaRPr b="1" i="1" lang="en-US" sz="36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73200" y="856800"/>
            <a:ext cx="84852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Comic Sans MS"/>
              </a:rPr>
              <a:t>物理数据模型反映了数据在存储介质上的存储结构</a:t>
            </a:r>
            <a:endParaRPr b="1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 algn="just"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Comic Sans MS"/>
              </a:rPr>
              <a:t>物理数据模型不仅与具体的</a:t>
            </a:r>
            <a:r>
              <a:rPr b="1" lang="zh-CN" sz="3200" spc="-1" strike="noStrike">
                <a:solidFill>
                  <a:srgbClr val="000099"/>
                </a:solidFill>
                <a:latin typeface="Comic Sans MS"/>
              </a:rPr>
              <a:t>DBMS</a:t>
            </a:r>
            <a:r>
              <a:rPr b="1" lang="zh-CN" sz="3200" spc="-1" strike="noStrike">
                <a:solidFill>
                  <a:srgbClr val="000099"/>
                </a:solidFill>
                <a:latin typeface="Comic Sans MS"/>
              </a:rPr>
              <a:t>有关，也和操作系统及硬件有关。</a:t>
            </a:r>
            <a:endParaRPr b="1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41360" y="280800"/>
            <a:ext cx="83296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ff0000"/>
                </a:solidFill>
                <a:latin typeface="Comic Sans MS"/>
                <a:ea typeface="宋体"/>
              </a:rPr>
              <a:t> </a:t>
            </a:r>
            <a:r>
              <a:rPr b="1" i="1" lang="zh-CN" sz="4400" spc="-1" strike="noStrike">
                <a:solidFill>
                  <a:srgbClr val="ff0000"/>
                </a:solidFill>
                <a:latin typeface="Comic Sans MS"/>
                <a:ea typeface="宋体"/>
              </a:rPr>
              <a:t>物理数据模型</a:t>
            </a:r>
            <a:endParaRPr b="1" i="1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73200" y="1141560"/>
            <a:ext cx="8216640" cy="45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Comic Sans MS"/>
                <a:ea typeface="宋体"/>
              </a:rPr>
              <a:t>在计算机系统的底层对数据进行抽象，它描述数据在</a:t>
            </a:r>
            <a:r>
              <a:rPr b="0" lang="zh-CN" sz="3400" spc="-1" strike="noStrike">
                <a:solidFill>
                  <a:srgbClr val="003300"/>
                </a:solidFill>
                <a:latin typeface="Arial"/>
                <a:ea typeface="楷体_GB2312"/>
              </a:rPr>
              <a:t>存储介质</a:t>
            </a:r>
            <a:r>
              <a:rPr b="1" lang="zh-CN" sz="3200" spc="-1" strike="noStrike">
                <a:solidFill>
                  <a:srgbClr val="000099"/>
                </a:solidFill>
                <a:latin typeface="Comic Sans MS"/>
                <a:ea typeface="宋体"/>
              </a:rPr>
              <a:t>上的</a:t>
            </a:r>
            <a:r>
              <a:rPr b="0" lang="zh-CN" sz="3400" spc="-1" strike="noStrike">
                <a:solidFill>
                  <a:srgbClr val="003300"/>
                </a:solidFill>
                <a:latin typeface="Arial"/>
                <a:ea typeface="楷体_GB2312"/>
              </a:rPr>
              <a:t>存储方式</a:t>
            </a:r>
            <a:r>
              <a:rPr b="1" lang="zh-CN" sz="3200" spc="-1" strike="noStrike">
                <a:solidFill>
                  <a:srgbClr val="000099"/>
                </a:solidFill>
                <a:latin typeface="Comic Sans MS"/>
                <a:ea typeface="宋体"/>
              </a:rPr>
              <a:t>和</a:t>
            </a:r>
            <a:r>
              <a:rPr b="0" lang="zh-CN" sz="3400" spc="-1" strike="noStrike">
                <a:solidFill>
                  <a:srgbClr val="003300"/>
                </a:solidFill>
                <a:latin typeface="Arial"/>
                <a:ea typeface="楷体_GB2312"/>
              </a:rPr>
              <a:t>存取方法</a:t>
            </a:r>
            <a:r>
              <a:rPr b="1" lang="zh-CN" sz="3200" spc="-1" strike="noStrike">
                <a:solidFill>
                  <a:srgbClr val="000099"/>
                </a:solidFill>
                <a:latin typeface="Comic Sans MS"/>
                <a:ea typeface="宋体"/>
              </a:rPr>
              <a:t>，是面向计算机系统的。</a:t>
            </a:r>
            <a:endParaRPr b="1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Comic Sans MS"/>
                <a:ea typeface="宋体"/>
              </a:rPr>
              <a:t>在设计一个数据库时，首先需要将现实世界抽象得到概念数据模型，然后将</a:t>
            </a:r>
            <a:r>
              <a:rPr b="0" lang="zh-CN" sz="3400" spc="-1" strike="noStrike">
                <a:solidFill>
                  <a:srgbClr val="003300"/>
                </a:solidFill>
                <a:latin typeface="Arial"/>
                <a:ea typeface="楷体_GB2312"/>
              </a:rPr>
              <a:t>概念数据模型</a:t>
            </a:r>
            <a:r>
              <a:rPr b="1" lang="zh-CN" sz="3200" spc="-1" strike="noStrike">
                <a:solidFill>
                  <a:srgbClr val="000099"/>
                </a:solidFill>
                <a:latin typeface="Comic Sans MS"/>
                <a:ea typeface="宋体"/>
              </a:rPr>
              <a:t>转换为</a:t>
            </a:r>
            <a:r>
              <a:rPr b="0" lang="zh-CN" sz="3400" spc="-1" strike="noStrike">
                <a:solidFill>
                  <a:srgbClr val="003300"/>
                </a:solidFill>
                <a:latin typeface="Arial"/>
                <a:ea typeface="楷体_GB2312"/>
              </a:rPr>
              <a:t>逻辑数据模型</a:t>
            </a:r>
            <a:r>
              <a:rPr b="1" lang="zh-CN" sz="3200" spc="-1" strike="noStrike">
                <a:solidFill>
                  <a:srgbClr val="000099"/>
                </a:solidFill>
                <a:latin typeface="Comic Sans MS"/>
                <a:ea typeface="宋体"/>
              </a:rPr>
              <a:t>，最后将逻辑数据模型转换为</a:t>
            </a:r>
            <a:r>
              <a:rPr b="0" lang="zh-CN" sz="3400" spc="-1" strike="noStrike">
                <a:solidFill>
                  <a:srgbClr val="003300"/>
                </a:solidFill>
                <a:latin typeface="Arial"/>
                <a:ea typeface="楷体_GB2312"/>
              </a:rPr>
              <a:t>物理数据模型</a:t>
            </a:r>
            <a:r>
              <a:rPr b="1" lang="zh-CN" sz="3200" spc="-1" strike="noStrike">
                <a:solidFill>
                  <a:srgbClr val="000099"/>
                </a:solidFill>
                <a:latin typeface="Comic Sans MS"/>
                <a:ea typeface="宋体"/>
              </a:rPr>
              <a:t>。</a:t>
            </a:r>
            <a:endParaRPr b="1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Comic Sans MS"/>
                <a:ea typeface="宋体"/>
              </a:rPr>
              <a:t>最后一步一般由选定的</a:t>
            </a:r>
            <a:r>
              <a:rPr b="1" lang="zh-CN" sz="3200" spc="-1" strike="noStrike">
                <a:solidFill>
                  <a:srgbClr val="000099"/>
                </a:solidFill>
                <a:latin typeface="Comic Sans MS"/>
                <a:ea typeface="宋体"/>
              </a:rPr>
              <a:t>DBMS</a:t>
            </a:r>
            <a:r>
              <a:rPr b="1" lang="zh-CN" sz="3200" spc="-1" strike="noStrike">
                <a:solidFill>
                  <a:srgbClr val="000099"/>
                </a:solidFill>
                <a:latin typeface="Comic Sans MS"/>
                <a:ea typeface="宋体"/>
              </a:rPr>
              <a:t>自动实现。 </a:t>
            </a:r>
            <a:endParaRPr b="1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3" dur="500"/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8" dur="500"/>
                                        <p:tgtEl>
                                          <p:spTgt spid="4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3" dur="500"/>
                                        <p:tgtEl>
                                          <p:spTgt spid="4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41360" y="280800"/>
            <a:ext cx="83296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ff0000"/>
                </a:solidFill>
                <a:latin typeface="Comic Sans MS"/>
                <a:ea typeface="宋体"/>
              </a:rPr>
              <a:t> </a:t>
            </a:r>
            <a:r>
              <a:rPr b="1" i="1" lang="zh-CN" sz="4400" spc="-1" strike="noStrike">
                <a:solidFill>
                  <a:srgbClr val="ff0000"/>
                </a:solidFill>
                <a:latin typeface="Comic Sans MS"/>
                <a:ea typeface="宋体"/>
              </a:rPr>
              <a:t>关系数据库</a:t>
            </a:r>
            <a:endParaRPr b="1" i="1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673200" y="857160"/>
            <a:ext cx="8485200" cy="23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Comic Sans MS"/>
                <a:ea typeface="宋体"/>
              </a:rPr>
              <a:t>采用的</a:t>
            </a:r>
            <a:r>
              <a:rPr b="1" lang="zh-CN" sz="3200" spc="-1" strike="noStrike">
                <a:solidFill>
                  <a:srgbClr val="000099"/>
                </a:solidFill>
                <a:latin typeface="Comic Sans MS"/>
                <a:ea typeface="宋体"/>
              </a:rPr>
              <a:t>DBMS</a:t>
            </a:r>
            <a:r>
              <a:rPr b="1" lang="zh-CN" sz="3200" spc="-1" strike="noStrike">
                <a:solidFill>
                  <a:srgbClr val="000099"/>
                </a:solidFill>
                <a:latin typeface="Comic Sans MS"/>
                <a:ea typeface="宋体"/>
              </a:rPr>
              <a:t>是支持关系数据模型的，据此构建的数据库称为关系数据库</a:t>
            </a:r>
            <a:endParaRPr b="1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Comic Sans MS"/>
                <a:ea typeface="宋体"/>
              </a:rPr>
              <a:t>相应的</a:t>
            </a:r>
            <a:r>
              <a:rPr b="1" lang="zh-CN" sz="3200" spc="-1" strike="noStrike">
                <a:solidFill>
                  <a:srgbClr val="000099"/>
                </a:solidFill>
                <a:latin typeface="Comic Sans MS"/>
                <a:ea typeface="宋体"/>
              </a:rPr>
              <a:t>DBMS</a:t>
            </a:r>
            <a:r>
              <a:rPr b="1" lang="zh-CN" sz="3200" spc="-1" strike="noStrike">
                <a:solidFill>
                  <a:srgbClr val="000099"/>
                </a:solidFill>
                <a:latin typeface="Comic Sans MS"/>
                <a:ea typeface="宋体"/>
              </a:rPr>
              <a:t>为关系数据库管理系统（</a:t>
            </a:r>
            <a:r>
              <a:rPr b="1" lang="zh-CN" sz="3200" spc="-1" strike="noStrike">
                <a:solidFill>
                  <a:srgbClr val="000099"/>
                </a:solidFill>
                <a:latin typeface="Comic Sans MS"/>
                <a:ea typeface="宋体"/>
              </a:rPr>
              <a:t>Relational DataBase Management System</a:t>
            </a:r>
            <a:r>
              <a:rPr b="1" lang="zh-CN" sz="3200" spc="-1" strike="noStrike">
                <a:solidFill>
                  <a:srgbClr val="000099"/>
                </a:solidFill>
                <a:latin typeface="Comic Sans MS"/>
                <a:ea typeface="宋体"/>
              </a:rPr>
              <a:t>，</a:t>
            </a:r>
            <a:r>
              <a:rPr b="1" lang="zh-CN" sz="3200" spc="-1" strike="noStrike">
                <a:solidFill>
                  <a:srgbClr val="003300"/>
                </a:solidFill>
                <a:latin typeface="Comic Sans MS"/>
                <a:ea typeface="宋体"/>
              </a:rPr>
              <a:t>RDBMS</a:t>
            </a:r>
            <a:r>
              <a:rPr b="1" lang="zh-CN" sz="3200" spc="-1" strike="noStrike">
                <a:solidFill>
                  <a:srgbClr val="000099"/>
                </a:solidFill>
                <a:latin typeface="Comic Sans MS"/>
                <a:ea typeface="宋体"/>
              </a:rPr>
              <a:t>）</a:t>
            </a:r>
            <a:endParaRPr b="1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65" name=""/>
          <p:cNvSpPr/>
          <p:nvPr/>
        </p:nvSpPr>
        <p:spPr>
          <a:xfrm>
            <a:off x="1604880" y="3444840"/>
            <a:ext cx="7031160" cy="2440080"/>
          </a:xfrm>
          <a:custGeom>
            <a:avLst/>
            <a:gdLst/>
            <a:ahLst/>
            <a:rect l="l" t="t" r="r" b="b"/>
            <a:pathLst>
              <a:path w="4018" h="1627">
                <a:moveTo>
                  <a:pt x="43" y="240"/>
                </a:moveTo>
                <a:cubicBezTo>
                  <a:pt x="133" y="271"/>
                  <a:pt x="241" y="275"/>
                  <a:pt x="321" y="221"/>
                </a:cubicBezTo>
                <a:cubicBezTo>
                  <a:pt x="339" y="169"/>
                  <a:pt x="322" y="199"/>
                  <a:pt x="389" y="154"/>
                </a:cubicBezTo>
                <a:cubicBezTo>
                  <a:pt x="399" y="148"/>
                  <a:pt x="417" y="134"/>
                  <a:pt x="417" y="134"/>
                </a:cubicBezTo>
                <a:cubicBezTo>
                  <a:pt x="870" y="145"/>
                  <a:pt x="1129" y="151"/>
                  <a:pt x="1617" y="144"/>
                </a:cubicBezTo>
                <a:cubicBezTo>
                  <a:pt x="1662" y="102"/>
                  <a:pt x="1610" y="146"/>
                  <a:pt x="1665" y="115"/>
                </a:cubicBezTo>
                <a:cubicBezTo>
                  <a:pt x="1757" y="64"/>
                  <a:pt x="1688" y="86"/>
                  <a:pt x="1761" y="67"/>
                </a:cubicBezTo>
                <a:cubicBezTo>
                  <a:pt x="1803" y="27"/>
                  <a:pt x="1755" y="66"/>
                  <a:pt x="1829" y="38"/>
                </a:cubicBezTo>
                <a:cubicBezTo>
                  <a:pt x="1840" y="34"/>
                  <a:pt x="1847" y="24"/>
                  <a:pt x="1857" y="19"/>
                </a:cubicBezTo>
                <a:cubicBezTo>
                  <a:pt x="1875" y="10"/>
                  <a:pt x="1896" y="7"/>
                  <a:pt x="1915" y="0"/>
                </a:cubicBezTo>
                <a:cubicBezTo>
                  <a:pt x="2340" y="7"/>
                  <a:pt x="2679" y="30"/>
                  <a:pt x="3096" y="38"/>
                </a:cubicBezTo>
                <a:cubicBezTo>
                  <a:pt x="3110" y="82"/>
                  <a:pt x="3151" y="124"/>
                  <a:pt x="3201" y="125"/>
                </a:cubicBezTo>
                <a:cubicBezTo>
                  <a:pt x="3441" y="131"/>
                  <a:pt x="3681" y="131"/>
                  <a:pt x="3921" y="134"/>
                </a:cubicBezTo>
                <a:cubicBezTo>
                  <a:pt x="3914" y="214"/>
                  <a:pt x="3921" y="240"/>
                  <a:pt x="3883" y="298"/>
                </a:cubicBezTo>
                <a:cubicBezTo>
                  <a:pt x="3860" y="409"/>
                  <a:pt x="3979" y="469"/>
                  <a:pt x="3979" y="536"/>
                </a:cubicBezTo>
                <a:cubicBezTo>
                  <a:pt x="3919" y="593"/>
                  <a:pt x="3849" y="672"/>
                  <a:pt x="3902" y="728"/>
                </a:cubicBezTo>
                <a:cubicBezTo>
                  <a:pt x="3923" y="809"/>
                  <a:pt x="3863" y="921"/>
                  <a:pt x="3921" y="979"/>
                </a:cubicBezTo>
                <a:cubicBezTo>
                  <a:pt x="3937" y="995"/>
                  <a:pt x="3950" y="1016"/>
                  <a:pt x="3969" y="1016"/>
                </a:cubicBezTo>
                <a:cubicBezTo>
                  <a:pt x="3979" y="1022"/>
                  <a:pt x="3998" y="1064"/>
                  <a:pt x="3998" y="1064"/>
                </a:cubicBezTo>
                <a:cubicBezTo>
                  <a:pt x="4018" y="1074"/>
                  <a:pt x="3949" y="1225"/>
                  <a:pt x="3960" y="1246"/>
                </a:cubicBezTo>
                <a:cubicBezTo>
                  <a:pt x="3960" y="1296"/>
                  <a:pt x="4006" y="1328"/>
                  <a:pt x="3998" y="1362"/>
                </a:cubicBezTo>
                <a:cubicBezTo>
                  <a:pt x="3979" y="1420"/>
                  <a:pt x="3990" y="1449"/>
                  <a:pt x="3912" y="1450"/>
                </a:cubicBezTo>
                <a:cubicBezTo>
                  <a:pt x="3518" y="1456"/>
                  <a:pt x="3125" y="1456"/>
                  <a:pt x="2731" y="1459"/>
                </a:cubicBezTo>
                <a:cubicBezTo>
                  <a:pt x="2422" y="1566"/>
                  <a:pt x="2305" y="1502"/>
                  <a:pt x="1838" y="1507"/>
                </a:cubicBezTo>
                <a:cubicBezTo>
                  <a:pt x="1006" y="1502"/>
                  <a:pt x="689" y="1627"/>
                  <a:pt x="120" y="1450"/>
                </a:cubicBezTo>
                <a:cubicBezTo>
                  <a:pt x="74" y="1404"/>
                  <a:pt x="99" y="1417"/>
                  <a:pt x="53" y="1402"/>
                </a:cubicBezTo>
                <a:cubicBezTo>
                  <a:pt x="0" y="1349"/>
                  <a:pt x="36" y="1065"/>
                  <a:pt x="72" y="960"/>
                </a:cubicBezTo>
                <a:cubicBezTo>
                  <a:pt x="69" y="835"/>
                  <a:pt x="62" y="711"/>
                  <a:pt x="62" y="586"/>
                </a:cubicBezTo>
                <a:cubicBezTo>
                  <a:pt x="62" y="486"/>
                  <a:pt x="81" y="395"/>
                  <a:pt x="81" y="288"/>
                </a:cubicBezTo>
                <a:cubicBezTo>
                  <a:pt x="81" y="288"/>
                  <a:pt x="43" y="240"/>
                  <a:pt x="43" y="240"/>
                </a:cubicBezTo>
                <a:close/>
              </a:path>
            </a:pathLst>
          </a:custGeom>
          <a:solidFill>
            <a:srgbClr val="ffe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103480" y="3989520"/>
            <a:ext cx="57960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关系数据模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根据概念数据模型设计逻辑数据模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关系数据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 rot="20624400">
            <a:off x="920160" y="3510720"/>
            <a:ext cx="2060640" cy="550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000" spc="-1" strike="noStrike">
                <a:solidFill>
                  <a:srgbClr val="ff3300"/>
                </a:solidFill>
                <a:latin typeface="黑体"/>
                <a:ea typeface="黑体"/>
              </a:rPr>
              <a:t>主要内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4" dur="indefinite" restart="never" nodeType="tmRoot">
          <p:childTnLst>
            <p:seq>
              <p:cTn id="545" dur="indefinite" nodeType="mainSeq">
                <p:childTnLst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0" dur="8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1" dur="8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8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8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"/>
          <p:cNvSpPr/>
          <p:nvPr/>
        </p:nvSpPr>
        <p:spPr>
          <a:xfrm>
            <a:off x="595440" y="1241280"/>
            <a:ext cx="8761320" cy="4089600"/>
          </a:xfrm>
          <a:prstGeom prst="roundRect">
            <a:avLst>
              <a:gd name="adj" fmla="val 10889"/>
            </a:avLst>
          </a:prstGeom>
          <a:gradFill rotWithShape="0">
            <a:gsLst>
              <a:gs pos="0">
                <a:srgbClr val="dddddd"/>
              </a:gs>
              <a:gs pos="50000">
                <a:srgbClr val="f1f1f1"/>
              </a:gs>
              <a:gs pos="100000">
                <a:srgbClr val="dddddd"/>
              </a:gs>
            </a:gsLst>
            <a:lin ang="13500000"/>
          </a:gradFill>
          <a:ln w="38160">
            <a:solidFill>
              <a:srgbClr val="ffffff"/>
            </a:solidFill>
            <a:miter/>
          </a:ln>
          <a:effectLst>
            <a:outerShdw dist="134955" dir="292711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41360" y="280800"/>
            <a:ext cx="83296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ff0000"/>
                </a:solidFill>
                <a:latin typeface="Comic Sans MS"/>
                <a:ea typeface="宋体"/>
              </a:rPr>
              <a:t>数据结构</a:t>
            </a:r>
            <a:endParaRPr b="1" i="1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470" name=""/>
          <p:cNvSpPr/>
          <p:nvPr/>
        </p:nvSpPr>
        <p:spPr>
          <a:xfrm>
            <a:off x="733320" y="1441440"/>
            <a:ext cx="1478160" cy="965160"/>
          </a:xfrm>
          <a:prstGeom prst="roundRect">
            <a:avLst>
              <a:gd name="adj" fmla="val 11921"/>
            </a:avLst>
          </a:prstGeom>
          <a:gradFill rotWithShape="0">
            <a:gsLst>
              <a:gs pos="0">
                <a:srgbClr val="ffef66"/>
              </a:gs>
              <a:gs pos="100000">
                <a:srgbClr val="b1a646"/>
              </a:gs>
            </a:gsLst>
            <a:lin ang="54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808200" y="1344600"/>
            <a:ext cx="606240" cy="482760"/>
          </a:xfrm>
          <a:custGeom>
            <a:avLst/>
            <a:gdLst/>
            <a:ahLst/>
            <a:rect l="l" t="t" r="r" b="b"/>
            <a:pathLst>
              <a:path w="596" h="598">
                <a:moveTo>
                  <a:pt x="118" y="0"/>
                </a:moveTo>
                <a:cubicBezTo>
                  <a:pt x="53" y="0"/>
                  <a:pt x="0" y="53"/>
                  <a:pt x="0" y="118"/>
                </a:cubicBezTo>
                <a:lnTo>
                  <a:pt x="0" y="589"/>
                </a:lnTo>
                <a:cubicBezTo>
                  <a:pt x="27" y="598"/>
                  <a:pt x="12" y="309"/>
                  <a:pt x="161" y="174"/>
                </a:cubicBezTo>
                <a:cubicBezTo>
                  <a:pt x="310" y="39"/>
                  <a:pt x="596" y="29"/>
                  <a:pt x="589" y="0"/>
                </a:cubicBezTo>
                <a:lnTo>
                  <a:pt x="118" y="0"/>
                </a:lnTo>
                <a:close/>
              </a:path>
            </a:pathLst>
          </a:custGeom>
          <a:gradFill rotWithShape="0">
            <a:gsLst>
              <a:gs pos="0">
                <a:srgbClr val="fef5aa"/>
              </a:gs>
              <a:gs pos="50000">
                <a:srgbClr val="ffef66">
                  <a:alpha val="0"/>
                </a:srgbClr>
              </a:gs>
              <a:gs pos="100000">
                <a:srgbClr val="fef5a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1009800" y="1494000"/>
            <a:ext cx="10126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336600"/>
                </a:solidFill>
                <a:latin typeface="Arial"/>
              </a:rPr>
              <a:t>数据</a:t>
            </a:r>
            <a:br>
              <a:rPr sz="2600"/>
            </a:br>
            <a:r>
              <a:rPr b="1" lang="zh-CN" sz="2600" spc="-1" strike="noStrike">
                <a:solidFill>
                  <a:srgbClr val="336600"/>
                </a:solidFill>
                <a:latin typeface="Arial"/>
              </a:rPr>
              <a:t>结构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2290680" y="1363680"/>
            <a:ext cx="632160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规范化的二维表格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任意两行内容不能完全相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不能有名称相同的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每一列都是不可分的，即不允许表中还有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同一列的值取自同一个定义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4" name="" descr=""/>
          <p:cNvPicPr/>
          <p:nvPr/>
        </p:nvPicPr>
        <p:blipFill>
          <a:blip r:embed="rId1"/>
          <a:stretch/>
        </p:blipFill>
        <p:spPr>
          <a:xfrm>
            <a:off x="1149480" y="2917800"/>
            <a:ext cx="7929360" cy="2270160"/>
          </a:xfrm>
          <a:prstGeom prst="rect">
            <a:avLst/>
          </a:prstGeom>
          <a:ln w="0">
            <a:noFill/>
          </a:ln>
        </p:spPr>
      </p:pic>
      <p:grpSp>
        <p:nvGrpSpPr>
          <p:cNvPr id="475" name=""/>
          <p:cNvGrpSpPr/>
          <p:nvPr/>
        </p:nvGrpSpPr>
        <p:grpSpPr>
          <a:xfrm>
            <a:off x="2897280" y="2943360"/>
            <a:ext cx="5795640" cy="2178000"/>
            <a:chOff x="2897280" y="2943360"/>
            <a:chExt cx="5795640" cy="2178000"/>
          </a:xfrm>
        </p:grpSpPr>
        <p:sp>
          <p:nvSpPr>
            <p:cNvPr id="476" name=""/>
            <p:cNvSpPr/>
            <p:nvPr/>
          </p:nvSpPr>
          <p:spPr>
            <a:xfrm>
              <a:off x="2897280" y="2943360"/>
              <a:ext cx="5795640" cy="2178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2897280" y="3256920"/>
              <a:ext cx="579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2897280" y="3556800"/>
              <a:ext cx="579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2897280" y="3868920"/>
              <a:ext cx="579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2897280" y="4182480"/>
              <a:ext cx="579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2897280" y="4480560"/>
              <a:ext cx="579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2897280" y="4780800"/>
              <a:ext cx="579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3532320" y="2943360"/>
              <a:ext cx="0" cy="217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4199040" y="2943360"/>
              <a:ext cx="0" cy="217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4724280" y="2943360"/>
              <a:ext cx="0" cy="217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5310360" y="2943360"/>
              <a:ext cx="0" cy="217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6342840" y="2943360"/>
              <a:ext cx="0" cy="217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770960" y="2943360"/>
              <a:ext cx="0" cy="217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1096920" y="2913120"/>
            <a:ext cx="1746360" cy="2274840"/>
          </a:xfrm>
          <a:prstGeom prst="rect">
            <a:avLst/>
          </a:prstGeom>
          <a:gradFill rotWithShape="0">
            <a:gsLst>
              <a:gs pos="0">
                <a:srgbClr val="fef0cd"/>
              </a:gs>
              <a:gs pos="100000">
                <a:srgbClr val="ffb8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728200" y="2957400"/>
            <a:ext cx="515880" cy="2246400"/>
          </a:xfrm>
          <a:prstGeom prst="rect">
            <a:avLst/>
          </a:prstGeom>
          <a:gradFill rotWithShape="0">
            <a:gsLst>
              <a:gs pos="0">
                <a:srgbClr val="ffb800"/>
              </a:gs>
              <a:gs pos="100000">
                <a:srgbClr val="fef0cd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754200" y="2816280"/>
            <a:ext cx="8415360" cy="5443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98360" y="5425920"/>
            <a:ext cx="984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关系模式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学生（ 学号，姓名，性别，状态，入学时间，最后登陆时间，登陆次数）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 rot="21028800">
            <a:off x="756000" y="3666600"/>
            <a:ext cx="103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3300"/>
                </a:solidFill>
                <a:latin typeface="Arial"/>
                <a:ea typeface="华文行楷"/>
              </a:rPr>
              <a:t>关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 rot="20884800">
            <a:off x="192960" y="4984200"/>
            <a:ext cx="163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3300"/>
                </a:solidFill>
                <a:latin typeface="Arial"/>
                <a:ea typeface="华文行楷"/>
              </a:rPr>
              <a:t>关系模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 rot="20884800">
            <a:off x="6473520" y="2442960"/>
            <a:ext cx="111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3300"/>
                </a:solidFill>
                <a:latin typeface="Arial"/>
                <a:ea typeface="华文行楷"/>
              </a:rPr>
              <a:t>属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 rot="807000">
            <a:off x="7259400" y="3555720"/>
            <a:ext cx="111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3300"/>
                </a:solidFill>
                <a:latin typeface="Arial"/>
                <a:ea typeface="华文行楷"/>
              </a:rPr>
              <a:t>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914560" y="4168800"/>
            <a:ext cx="5778720" cy="339840"/>
          </a:xfrm>
          <a:prstGeom prst="rect">
            <a:avLst/>
          </a:prstGeom>
          <a:noFill/>
          <a:ln w="2232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8658360" y="4145040"/>
            <a:ext cx="111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3300"/>
                </a:solidFill>
                <a:latin typeface="Arial"/>
                <a:ea typeface="华文行楷"/>
              </a:rPr>
              <a:t>元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41440" y="5392800"/>
            <a:ext cx="792360" cy="476280"/>
          </a:xfrm>
          <a:prstGeom prst="ellipse">
            <a:avLst/>
          </a:prstGeom>
          <a:noFill/>
          <a:ln w="255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3133800" y="5732640"/>
            <a:ext cx="428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3300"/>
                </a:solidFill>
                <a:latin typeface="Arial"/>
                <a:ea typeface="华文行楷"/>
              </a:rPr>
              <a:t>关键字</a:t>
            </a:r>
            <a:r>
              <a:rPr b="0" lang="zh-CN" sz="2400" spc="-1" strike="noStrike">
                <a:solidFill>
                  <a:srgbClr val="cc3300"/>
                </a:solidFill>
                <a:latin typeface="Arial"/>
                <a:ea typeface="华文行楷"/>
              </a:rPr>
              <a:t>(</a:t>
            </a:r>
            <a:r>
              <a:rPr b="0" lang="zh-CN" sz="2400" spc="-1" strike="noStrike">
                <a:solidFill>
                  <a:srgbClr val="cc3300"/>
                </a:solidFill>
                <a:latin typeface="Arial"/>
                <a:ea typeface="华文行楷"/>
              </a:rPr>
              <a:t>包括候选键和主键</a:t>
            </a:r>
            <a:r>
              <a:rPr b="0" lang="zh-CN" sz="2400" spc="-1" strike="noStrike">
                <a:solidFill>
                  <a:srgbClr val="cc3300"/>
                </a:solidFill>
                <a:latin typeface="Arial"/>
                <a:ea typeface="华文行楷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4" dur="indefinite" restart="never" nodeType="tmRoot">
          <p:childTnLst>
            <p:seq>
              <p:cTn id="565" dur="indefinite" nodeType="mainSeq">
                <p:childTnLst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0" dur="80"/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8,-64,105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2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1" dur="80"/>
                                        <p:tgtEl>
                                          <p:spTgt spid="4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8,-64,105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2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2" dur="80"/>
                                        <p:tgtEl>
                                          <p:spTgt spid="4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7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8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596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8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599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5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20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2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3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4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6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41360" y="280800"/>
            <a:ext cx="83296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0000"/>
                </a:solidFill>
                <a:latin typeface="Comic Sans MS"/>
              </a:rPr>
              <a:t>关系数据库</a:t>
            </a:r>
            <a:endParaRPr b="1" i="1" lang="en-US" sz="36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73200" y="856800"/>
            <a:ext cx="84852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Comic Sans MS"/>
              </a:rPr>
              <a:t>关系模型的组成</a:t>
            </a:r>
            <a:r>
              <a:rPr b="1" lang="zh-CN" sz="3200" spc="-1" strike="noStrike">
                <a:solidFill>
                  <a:srgbClr val="000099"/>
                </a:solidFill>
                <a:latin typeface="Comic Sans MS"/>
              </a:rPr>
              <a:t>----</a:t>
            </a:r>
            <a:r>
              <a:rPr b="1" lang="zh-CN" sz="3200" spc="-1" strike="noStrike">
                <a:solidFill>
                  <a:srgbClr val="000099"/>
                </a:solidFill>
                <a:latin typeface="Comic Sans MS"/>
              </a:rPr>
              <a:t>二维表格</a:t>
            </a:r>
            <a:endParaRPr b="1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pic>
        <p:nvPicPr>
          <p:cNvPr id="503" name="" descr=""/>
          <p:cNvPicPr/>
          <p:nvPr/>
        </p:nvPicPr>
        <p:blipFill>
          <a:blip r:embed="rId1"/>
          <a:srcRect l="18753" t="35006" r="27500" b="28335"/>
          <a:stretch/>
        </p:blipFill>
        <p:spPr>
          <a:xfrm>
            <a:off x="1219320" y="2438280"/>
            <a:ext cx="7238880" cy="370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41360" y="280800"/>
            <a:ext cx="83296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0000"/>
                </a:solidFill>
                <a:latin typeface="Comic Sans MS"/>
              </a:rPr>
              <a:t>关系模型中的常用术语</a:t>
            </a:r>
            <a:endParaRPr b="1" i="1" lang="en-US" sz="36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73200" y="856800"/>
            <a:ext cx="84852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黑体"/>
              </a:rPr>
              <a:t>1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黑体"/>
              </a:rPr>
              <a:t>．元组</a:t>
            </a:r>
            <a:endParaRPr b="1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在二维表中，从第二行起的每一行称为一个元组，在文件中对应一条具体记录。</a:t>
            </a:r>
            <a:endParaRPr b="1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黑体"/>
              </a:rPr>
              <a:t>2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黑体"/>
              </a:rPr>
              <a:t>．属性</a:t>
            </a:r>
            <a:endParaRPr b="1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二维表中，每一列称为一个属性，在文件中对应一个字段。</a:t>
            </a:r>
            <a:endParaRPr b="1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黑体"/>
              </a:rPr>
              <a:t>3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黑体"/>
              </a:rPr>
              <a:t>．属性名</a:t>
            </a:r>
            <a:endParaRPr b="1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二维表第一行显示的每一列的名称，在文件中对应字段名，例如“姓名”，“性别”等。</a:t>
            </a:r>
            <a:endParaRPr b="1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41360" y="280800"/>
            <a:ext cx="83296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0000"/>
                </a:solidFill>
                <a:latin typeface="Comic Sans MS"/>
              </a:rPr>
              <a:t>关系模型中的常用术语</a:t>
            </a:r>
            <a:endParaRPr b="1" i="1" lang="en-US" sz="36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73200" y="856800"/>
            <a:ext cx="84852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黑体"/>
              </a:rPr>
              <a:t>4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黑体"/>
              </a:rPr>
              <a:t>．属性值</a:t>
            </a:r>
            <a:endParaRPr b="1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行和列的交叉位置表示某个属性的值。</a:t>
            </a:r>
            <a:endParaRPr b="1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黑体"/>
              </a:rPr>
              <a:t>5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黑体"/>
              </a:rPr>
              <a:t>．域</a:t>
            </a:r>
            <a:endParaRPr b="1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表示各个属性的取值范围。</a:t>
            </a:r>
            <a:endParaRPr b="1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41360" y="280800"/>
            <a:ext cx="83296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0000"/>
                </a:solidFill>
                <a:latin typeface="Comic Sans MS"/>
              </a:rPr>
              <a:t>关系模型中的常用术语</a:t>
            </a:r>
            <a:endParaRPr b="1" i="1" lang="en-US" sz="36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73200" y="856800"/>
            <a:ext cx="84852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黑体"/>
              </a:rPr>
              <a:t>6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黑体"/>
              </a:rPr>
              <a:t>．表结构</a:t>
            </a:r>
            <a:endParaRPr b="1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表中的第一行，表示组成该表的各个字段名称，各字段取值的类型、宽度等。</a:t>
            </a:r>
            <a:endParaRPr b="1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黑体"/>
              </a:rPr>
              <a:t>7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黑体"/>
              </a:rPr>
              <a:t>．关系模式</a:t>
            </a:r>
            <a:endParaRPr b="1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是对关系结构的描述，表示格式：</a:t>
            </a:r>
            <a:endParaRPr b="1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  </a:t>
            </a: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关系名</a:t>
            </a: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(</a:t>
            </a: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属性</a:t>
            </a: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1,</a:t>
            </a: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属性</a:t>
            </a: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2,</a:t>
            </a: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属性</a:t>
            </a: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3,…</a:t>
            </a: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，属性</a:t>
            </a: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n)</a:t>
            </a:r>
            <a:endParaRPr b="1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例： </a:t>
            </a: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student(</a:t>
            </a: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学号</a:t>
            </a: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,</a:t>
            </a: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姓名</a:t>
            </a: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,</a:t>
            </a: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性别</a:t>
            </a: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,</a:t>
            </a: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年龄</a:t>
            </a: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)</a:t>
            </a:r>
            <a:endParaRPr b="1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41360" y="280800"/>
            <a:ext cx="83296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0000"/>
                </a:solidFill>
                <a:latin typeface="Comic Sans MS"/>
              </a:rPr>
              <a:t>关系模型中的常用术语</a:t>
            </a:r>
            <a:endParaRPr b="1" i="1" lang="en-US" sz="36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73200" y="856800"/>
            <a:ext cx="84852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黑体"/>
              </a:rPr>
              <a:t>6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黑体"/>
              </a:rPr>
              <a:t>．表结构</a:t>
            </a:r>
            <a:endParaRPr b="1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表中的第一行，表示组成该表的各个字段名称，各字段取值的类型、宽度等。</a:t>
            </a:r>
            <a:endParaRPr b="1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黑体"/>
              </a:rPr>
              <a:t>7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黑体"/>
              </a:rPr>
              <a:t>．关系模式</a:t>
            </a:r>
            <a:endParaRPr b="1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是对关系结构的描述，表示格式：</a:t>
            </a:r>
            <a:endParaRPr b="1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  </a:t>
            </a: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关系名</a:t>
            </a: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(</a:t>
            </a: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属性</a:t>
            </a: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1,</a:t>
            </a: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属性</a:t>
            </a: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2,</a:t>
            </a: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属性</a:t>
            </a: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3,…</a:t>
            </a: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，属性</a:t>
            </a: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n)</a:t>
            </a:r>
            <a:endParaRPr b="1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例： </a:t>
            </a: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student(</a:t>
            </a: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学号</a:t>
            </a: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,</a:t>
            </a: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姓名</a:t>
            </a: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,</a:t>
            </a: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性别</a:t>
            </a: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,</a:t>
            </a: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年龄</a:t>
            </a: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)</a:t>
            </a:r>
            <a:endParaRPr b="1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41360" y="280800"/>
            <a:ext cx="83296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0000"/>
                </a:solidFill>
                <a:latin typeface="Comic Sans MS"/>
              </a:rPr>
              <a:t>关系模型中的常用术语</a:t>
            </a:r>
            <a:endParaRPr b="1" i="1" lang="en-US" sz="36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73200" y="856800"/>
            <a:ext cx="84852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黑体"/>
              </a:rPr>
              <a:t>9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黑体"/>
              </a:rPr>
              <a:t>．主键</a:t>
            </a:r>
            <a:endParaRPr b="1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从候选键中指定一个用来标识元组。</a:t>
            </a:r>
            <a:endParaRPr b="1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黑体"/>
              </a:rPr>
              <a:t>10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黑体"/>
              </a:rPr>
              <a:t>．外部关键字</a:t>
            </a:r>
            <a:endParaRPr b="1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表中的一个字段不是本表的主关键字或候选关键字，而是另外一个表的主关键字或候选关键字，该字段称为外部关键字，简称外键。</a:t>
            </a:r>
            <a:endParaRPr b="1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cc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cc"/>
                </a:solidFill>
                <a:latin typeface="Arial"/>
                <a:ea typeface="黑体"/>
              </a:rPr>
              <a:t>例题</a:t>
            </a:r>
            <a:r>
              <a:rPr b="1" lang="zh-CN" sz="3600" spc="-1" strike="noStrike">
                <a:solidFill>
                  <a:srgbClr val="cc00cc"/>
                </a:solidFill>
                <a:latin typeface="Arial"/>
                <a:ea typeface="黑体"/>
              </a:rPr>
              <a:t>:</a:t>
            </a: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在关系</a:t>
            </a: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score</a:t>
            </a: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中， “学号”不是</a:t>
            </a: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score</a:t>
            </a: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的主键，而是关系</a:t>
            </a: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student</a:t>
            </a: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的主键，因此，“学号”称为外键。</a:t>
            </a:r>
            <a:endParaRPr b="1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2968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ff0000"/>
                </a:solidFill>
                <a:latin typeface="Comic Sans MS"/>
              </a:rPr>
              <a:t>数据库概述</a:t>
            </a:r>
            <a:endParaRPr b="1" i="1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60360" y="431280"/>
            <a:ext cx="89042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6600"/>
                </a:solidFill>
                <a:latin typeface="Comic Sans MS"/>
              </a:rPr>
              <a:t>数据库阶段</a:t>
            </a:r>
            <a:endParaRPr b="1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(1) </a:t>
            </a: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数据和程序之间彼此独立，实现共享</a:t>
            </a:r>
            <a:endParaRPr b="1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(2) </a:t>
            </a: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数据以数据库形式保存，最大限度减少冗余。</a:t>
            </a:r>
            <a:endParaRPr b="1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(3) </a:t>
            </a: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专门的数据库管理软件</a:t>
            </a: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-------DBMS</a:t>
            </a: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。</a:t>
            </a:r>
            <a:endParaRPr b="1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1892160" y="3478320"/>
            <a:ext cx="6172200" cy="2154240"/>
            <a:chOff x="1892160" y="3478320"/>
            <a:chExt cx="6172200" cy="2154240"/>
          </a:xfrm>
        </p:grpSpPr>
        <p:sp>
          <p:nvSpPr>
            <p:cNvPr id="169" name=""/>
            <p:cNvSpPr/>
            <p:nvPr/>
          </p:nvSpPr>
          <p:spPr>
            <a:xfrm>
              <a:off x="1892160" y="3478320"/>
              <a:ext cx="1351080" cy="409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</a:rPr>
                <a:t>应用程序</a:t>
              </a: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749920" y="3724200"/>
              <a:ext cx="965160" cy="490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……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917880" y="4214880"/>
              <a:ext cx="1542960" cy="609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BM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14720" y="3478320"/>
              <a:ext cx="1349280" cy="409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</a:rPr>
                <a:t>应用程序</a:t>
              </a: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14720" y="5141880"/>
              <a:ext cx="1349280" cy="490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</a:rPr>
                <a:t>数据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715080" y="3478320"/>
              <a:ext cx="1349280" cy="409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</a:rPr>
                <a:t>应用程序</a:t>
              </a: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592360" y="3887640"/>
              <a:ext cx="1325520" cy="573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>
              <a:off x="5444640" y="3887640"/>
              <a:ext cx="1900440" cy="573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flipV="1">
              <a:off x="4680000" y="4824360"/>
              <a:ext cx="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680000" y="388764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41360" y="280800"/>
            <a:ext cx="83296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0000"/>
                </a:solidFill>
                <a:latin typeface="Comic Sans MS"/>
              </a:rPr>
              <a:t>关系模型中的常用术语</a:t>
            </a:r>
            <a:endParaRPr b="1" i="1" lang="en-US" sz="36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73200" y="856800"/>
            <a:ext cx="84852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黑体"/>
              </a:rPr>
              <a:t>11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黑体"/>
              </a:rPr>
              <a:t>．主表和从表</a:t>
            </a:r>
            <a:endParaRPr b="1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主表</a:t>
            </a: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:  </a:t>
            </a: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以外键作为主键的表</a:t>
            </a:r>
            <a:endParaRPr b="1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从表</a:t>
            </a: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: </a:t>
            </a: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外键所在的表</a:t>
            </a:r>
            <a:endParaRPr b="1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主表和从表通过外键相关联</a:t>
            </a:r>
            <a:endParaRPr b="1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graphicFrame>
        <p:nvGraphicFramePr>
          <p:cNvPr id="516" name=""/>
          <p:cNvGraphicFramePr/>
          <p:nvPr/>
        </p:nvGraphicFramePr>
        <p:xfrm>
          <a:off x="1258920" y="3095640"/>
          <a:ext cx="7391520" cy="2552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3095640"/>
                    <a:ext cx="7391520" cy="255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41360" y="280800"/>
            <a:ext cx="83296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ff0000"/>
                </a:solidFill>
                <a:latin typeface="Comic Sans MS"/>
              </a:rPr>
              <a:t>关系模型的特点</a:t>
            </a:r>
            <a:endParaRPr b="1" i="1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47280" y="1079640"/>
            <a:ext cx="8255160" cy="37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Comic Sans MS"/>
              </a:rPr>
              <a:t>1</a:t>
            </a:r>
            <a:r>
              <a:rPr b="1" lang="zh-CN" sz="3200" spc="-1" strike="noStrike">
                <a:solidFill>
                  <a:srgbClr val="000099"/>
                </a:solidFill>
                <a:latin typeface="Comic Sans MS"/>
              </a:rPr>
              <a:t>）每一列不可再分；</a:t>
            </a:r>
            <a:endParaRPr b="1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Comic Sans MS"/>
              </a:rPr>
              <a:t>2</a:t>
            </a:r>
            <a:r>
              <a:rPr b="1" lang="zh-CN" sz="3200" spc="-1" strike="noStrike">
                <a:solidFill>
                  <a:srgbClr val="000099"/>
                </a:solidFill>
                <a:latin typeface="Comic Sans MS"/>
              </a:rPr>
              <a:t>）同一关系中属性</a:t>
            </a:r>
            <a:r>
              <a:rPr b="1" lang="zh-CN" sz="3200" spc="-1" strike="noStrike">
                <a:solidFill>
                  <a:srgbClr val="000099"/>
                </a:solidFill>
                <a:latin typeface="Comic Sans MS"/>
              </a:rPr>
              <a:t>(</a:t>
            </a:r>
            <a:r>
              <a:rPr b="1" lang="zh-CN" sz="3200" spc="-1" strike="noStrike">
                <a:solidFill>
                  <a:srgbClr val="000099"/>
                </a:solidFill>
                <a:latin typeface="Comic Sans MS"/>
              </a:rPr>
              <a:t>字段</a:t>
            </a:r>
            <a:r>
              <a:rPr b="1" lang="zh-CN" sz="3200" spc="-1" strike="noStrike">
                <a:solidFill>
                  <a:srgbClr val="000099"/>
                </a:solidFill>
                <a:latin typeface="Comic Sans MS"/>
              </a:rPr>
              <a:t>)</a:t>
            </a:r>
            <a:r>
              <a:rPr b="1" lang="zh-CN" sz="3200" spc="-1" strike="noStrike">
                <a:solidFill>
                  <a:srgbClr val="000099"/>
                </a:solidFill>
                <a:latin typeface="Comic Sans MS"/>
              </a:rPr>
              <a:t>不允许重名</a:t>
            </a:r>
            <a:endParaRPr b="1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Comic Sans MS"/>
              </a:rPr>
              <a:t>3</a:t>
            </a:r>
            <a:r>
              <a:rPr b="1" lang="zh-CN" sz="3200" spc="-1" strike="noStrike">
                <a:solidFill>
                  <a:srgbClr val="000099"/>
                </a:solidFill>
                <a:latin typeface="Comic Sans MS"/>
              </a:rPr>
              <a:t>）关系中不允许有完全相同的元组</a:t>
            </a:r>
            <a:endParaRPr b="1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Comic Sans MS"/>
              </a:rPr>
              <a:t>4</a:t>
            </a:r>
            <a:r>
              <a:rPr b="1" lang="zh-CN" sz="3200" spc="-1" strike="noStrike">
                <a:solidFill>
                  <a:srgbClr val="000099"/>
                </a:solidFill>
                <a:latin typeface="Comic Sans MS"/>
              </a:rPr>
              <a:t>）关系中交换任意两行的位置不影响数据的实际含义；</a:t>
            </a:r>
            <a:endParaRPr b="1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Comic Sans MS"/>
              </a:rPr>
              <a:t>5</a:t>
            </a:r>
            <a:r>
              <a:rPr b="1" lang="zh-CN" sz="3200" spc="-1" strike="noStrike">
                <a:solidFill>
                  <a:srgbClr val="000099"/>
                </a:solidFill>
                <a:latin typeface="Comic Sans MS"/>
              </a:rPr>
              <a:t>）关系中交换任意两列的位置不影响数据的实际含义。</a:t>
            </a:r>
            <a:endParaRPr b="1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pic>
        <p:nvPicPr>
          <p:cNvPr id="520" name="" descr=""/>
          <p:cNvPicPr/>
          <p:nvPr/>
        </p:nvPicPr>
        <p:blipFill>
          <a:blip r:embed="rId1"/>
          <a:stretch/>
        </p:blipFill>
        <p:spPr>
          <a:xfrm>
            <a:off x="647640" y="719280"/>
            <a:ext cx="3456000" cy="14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41360" y="280800"/>
            <a:ext cx="83296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ff0000"/>
                </a:solidFill>
                <a:latin typeface="Comic Sans MS"/>
              </a:rPr>
              <a:t>关系的基本运算</a:t>
            </a:r>
            <a:endParaRPr b="1" i="1" lang="en-US" sz="36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73200" y="856800"/>
            <a:ext cx="84852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黑体"/>
              </a:rPr>
              <a:t>1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黑体"/>
              </a:rPr>
              <a:t>．选择</a:t>
            </a:r>
            <a:endParaRPr b="1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从指定的关系中选择满足给定条件的元组组成新的关系。</a:t>
            </a:r>
            <a:endParaRPr b="1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黑体"/>
              </a:rPr>
              <a:t>例题：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</a:rPr>
              <a:t>从关系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</a:rPr>
              <a:t>score1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</a:rPr>
              <a:t>中选择数学大于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</a:rPr>
              <a:t>90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</a:rPr>
              <a:t>的元组组成关系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</a:rPr>
              <a:t>S1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</a:rPr>
              <a:t>。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S1=σ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Comic Sans MS"/>
              </a:rPr>
              <a:t>数学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Comic Sans MS"/>
              </a:rPr>
              <a:t>＞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Comic Sans MS"/>
              </a:rPr>
              <a:t>90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Score1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）</a:t>
            </a:r>
            <a:r>
              <a:rPr b="1" lang="zh-CN" sz="3200" spc="-1" strike="noStrike">
                <a:solidFill>
                  <a:srgbClr val="ffff66"/>
                </a:solidFill>
                <a:latin typeface="Comic Sans MS"/>
              </a:rPr>
              <a:t> </a:t>
            </a:r>
            <a:endParaRPr b="1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graphicFrame>
        <p:nvGraphicFramePr>
          <p:cNvPr id="523" name=""/>
          <p:cNvGraphicFramePr/>
          <p:nvPr/>
        </p:nvGraphicFramePr>
        <p:xfrm>
          <a:off x="1440000" y="3600360"/>
          <a:ext cx="7084800" cy="206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0000" y="3600360"/>
                    <a:ext cx="7084800" cy="206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41360" y="280800"/>
            <a:ext cx="83296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ff0000"/>
                </a:solidFill>
                <a:latin typeface="Comic Sans MS"/>
              </a:rPr>
              <a:t>关系的基本运算</a:t>
            </a:r>
            <a:endParaRPr b="1" i="1" lang="en-US" sz="36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73200" y="856800"/>
            <a:ext cx="84852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黑体"/>
              </a:rPr>
              <a:t>2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黑体"/>
              </a:rPr>
              <a:t>．投影</a:t>
            </a:r>
            <a:endParaRPr b="1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从指定关系的属性集合中选取若干个属性组成新的关系。</a:t>
            </a:r>
            <a:endParaRPr b="1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99"/>
              </a:spcBef>
              <a:buClr>
                <a:srgbClr val="cc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cc"/>
                </a:solidFill>
                <a:latin typeface="Arial"/>
                <a:ea typeface="黑体"/>
              </a:rPr>
              <a:t>例题：</a:t>
            </a:r>
            <a:r>
              <a:rPr b="1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从关系</a:t>
            </a:r>
            <a:r>
              <a:rPr b="1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score1</a:t>
            </a:r>
            <a:r>
              <a:rPr b="1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中选择“学号”、“姓名”、“数学”组成新的关系</a:t>
            </a:r>
            <a:r>
              <a:rPr b="1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S2</a:t>
            </a:r>
            <a:r>
              <a:rPr b="1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。</a:t>
            </a:r>
            <a:endParaRPr b="1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Comic Sans MS"/>
              </a:rPr>
              <a:t>S2=π</a:t>
            </a:r>
            <a:r>
              <a:rPr b="1" lang="zh-CN" sz="2000" spc="-1" strike="noStrike">
                <a:solidFill>
                  <a:srgbClr val="000000"/>
                </a:solidFill>
                <a:latin typeface="Comic Sans MS"/>
              </a:rPr>
              <a:t>学号，姓名，数学（</a:t>
            </a:r>
            <a:r>
              <a:rPr b="1" lang="zh-CN" sz="2000" spc="-1" strike="noStrike">
                <a:solidFill>
                  <a:srgbClr val="000000"/>
                </a:solidFill>
                <a:latin typeface="Comic Sans MS"/>
              </a:rPr>
              <a:t>Score1</a:t>
            </a:r>
            <a:r>
              <a:rPr b="1" lang="zh-CN" sz="2000" spc="-1" strike="noStrike">
                <a:solidFill>
                  <a:srgbClr val="000000"/>
                </a:solidFill>
                <a:latin typeface="Comic Sans MS"/>
              </a:rPr>
              <a:t>）</a:t>
            </a: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 </a:t>
            </a:r>
            <a:endParaRPr b="1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graphicFrame>
        <p:nvGraphicFramePr>
          <p:cNvPr id="527" name=""/>
          <p:cNvGraphicFramePr/>
          <p:nvPr/>
        </p:nvGraphicFramePr>
        <p:xfrm>
          <a:off x="1008000" y="4176720"/>
          <a:ext cx="8075520" cy="202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8000" y="4176720"/>
                    <a:ext cx="8075520" cy="202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41360" y="280800"/>
            <a:ext cx="83296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ff0000"/>
                </a:solidFill>
                <a:latin typeface="Comic Sans MS"/>
              </a:rPr>
              <a:t>关系的基本运算</a:t>
            </a:r>
            <a:endParaRPr b="1" i="1" lang="en-US" sz="36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73200" y="856800"/>
            <a:ext cx="84852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黑体"/>
              </a:rPr>
              <a:t>联接</a:t>
            </a:r>
            <a:endParaRPr b="1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两个关系中的元组按指定条件组合新的关系</a:t>
            </a:r>
            <a:endParaRPr b="1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例题</a:t>
            </a: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:</a:t>
            </a: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将</a:t>
            </a: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score1</a:t>
            </a: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和</a:t>
            </a: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score2</a:t>
            </a: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按相同学号合并</a:t>
            </a:r>
            <a:endParaRPr b="1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graphicFrame>
        <p:nvGraphicFramePr>
          <p:cNvPr id="531" name=""/>
          <p:cNvGraphicFramePr/>
          <p:nvPr/>
        </p:nvGraphicFramePr>
        <p:xfrm>
          <a:off x="1295280" y="2735280"/>
          <a:ext cx="6858000" cy="2633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2735280"/>
                    <a:ext cx="6858000" cy="263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41360" y="280800"/>
            <a:ext cx="83296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0000"/>
                </a:solidFill>
                <a:latin typeface="Comic Sans MS"/>
                <a:ea typeface="宋体"/>
              </a:rPr>
              <a:t>专门的关系运算——选择、投影、连接</a:t>
            </a:r>
            <a:endParaRPr b="1" i="1" lang="en-US" sz="3600" spc="-1" strike="noStrike">
              <a:solidFill>
                <a:srgbClr val="ff0000"/>
              </a:solidFill>
              <a:latin typeface="Comic Sans MS"/>
            </a:endParaRPr>
          </a:p>
        </p:txBody>
      </p:sp>
      <p:graphicFrame>
        <p:nvGraphicFramePr>
          <p:cNvPr id="534" name=""/>
          <p:cNvGraphicFramePr/>
          <p:nvPr/>
        </p:nvGraphicFramePr>
        <p:xfrm>
          <a:off x="1149480" y="41400"/>
          <a:ext cx="8572320" cy="2555640"/>
        </p:xfrm>
        <a:graphic>
          <a:graphicData uri="http://schemas.openxmlformats.org/drawingml/2006/table">
            <a:tbl>
              <a:tblPr/>
              <a:tblGrid>
                <a:gridCol w="954000"/>
                <a:gridCol w="1193760"/>
                <a:gridCol w="947880"/>
                <a:gridCol w="952200"/>
                <a:gridCol w="1428840"/>
                <a:gridCol w="1827360"/>
                <a:gridCol w="12682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学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姓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性别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状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入学时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最后登陆时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登陆次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90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杨雨潇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在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007-9-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008-7-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9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崔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在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007-9-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008-7-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90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张进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在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007-9-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008-7-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90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何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在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007-9-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008-6-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90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李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在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007-9-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008-7-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90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刘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在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007-9-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008-7-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535" name=""/>
          <p:cNvSpPr/>
          <p:nvPr/>
        </p:nvSpPr>
        <p:spPr>
          <a:xfrm>
            <a:off x="355680" y="1517760"/>
            <a:ext cx="12700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3300"/>
                </a:solidFill>
                <a:latin typeface="华文行楷"/>
                <a:ea typeface="华文行楷"/>
              </a:rPr>
              <a:t>关系</a:t>
            </a:r>
            <a:br>
              <a:rPr sz="2000"/>
            </a:br>
            <a:r>
              <a:rPr b="1" lang="zh-CN" sz="1800" spc="-1" strike="noStrike">
                <a:solidFill>
                  <a:srgbClr val="cc3300"/>
                </a:solidFill>
                <a:latin typeface="华文行楷"/>
                <a:ea typeface="华文行楷"/>
              </a:rPr>
              <a:t> </a:t>
            </a:r>
            <a:r>
              <a:rPr b="1" lang="zh-CN" sz="1800" spc="-1" strike="noStrike">
                <a:solidFill>
                  <a:srgbClr val="cc3300"/>
                </a:solidFill>
                <a:latin typeface="Times New Roman"/>
                <a:ea typeface="华文行楷"/>
              </a:rPr>
              <a:t>S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6" name=""/>
          <p:cNvGraphicFramePr/>
          <p:nvPr/>
        </p:nvGraphicFramePr>
        <p:xfrm>
          <a:off x="1427040" y="2735280"/>
          <a:ext cx="8653320" cy="1095480"/>
        </p:xfrm>
        <a:graphic>
          <a:graphicData uri="http://schemas.openxmlformats.org/drawingml/2006/table">
            <a:tbl>
              <a:tblPr/>
              <a:tblGrid>
                <a:gridCol w="1030320"/>
                <a:gridCol w="1271520"/>
                <a:gridCol w="714240"/>
                <a:gridCol w="873000"/>
                <a:gridCol w="1587600"/>
                <a:gridCol w="1827360"/>
                <a:gridCol w="13492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学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姓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性别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状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入学时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最后登陆时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登陆次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90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杨雨潇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在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007-9-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008-7-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90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李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在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007-9-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008-7-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537" name=""/>
          <p:cNvSpPr/>
          <p:nvPr/>
        </p:nvSpPr>
        <p:spPr>
          <a:xfrm>
            <a:off x="673200" y="2627280"/>
            <a:ext cx="12715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3300"/>
                </a:solidFill>
                <a:latin typeface="华文行楷"/>
                <a:ea typeface="华文行楷"/>
              </a:rPr>
              <a:t>关系</a:t>
            </a:r>
            <a:br>
              <a:rPr sz="2000"/>
            </a:br>
            <a:r>
              <a:rPr b="1" lang="zh-CN" sz="1800" spc="-1" strike="noStrike">
                <a:solidFill>
                  <a:srgbClr val="cc3300"/>
                </a:solidFill>
                <a:latin typeface="华文行楷"/>
                <a:ea typeface="华文行楷"/>
              </a:rPr>
              <a:t> </a:t>
            </a:r>
            <a:r>
              <a:rPr b="1" lang="zh-CN" sz="1800" spc="-1" strike="noStrike">
                <a:solidFill>
                  <a:srgbClr val="cc3300"/>
                </a:solidFill>
                <a:latin typeface="Times New Roman"/>
                <a:ea typeface="华文行楷"/>
              </a:rPr>
              <a:t>S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 flipH="1">
            <a:off x="4019400" y="6084720"/>
            <a:ext cx="18273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 flipH="1">
            <a:off x="4019400" y="5294160"/>
            <a:ext cx="2689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4157640" y="4427640"/>
            <a:ext cx="0" cy="771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4187880" y="5294160"/>
            <a:ext cx="0" cy="7700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4758840" y="5270400"/>
            <a:ext cx="170748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从指定的关系中选择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满足给定条件的</a:t>
            </a:r>
            <a:r>
              <a:rPr b="1" lang="zh-CN" sz="2000" spc="-1" strike="noStrike">
                <a:solidFill>
                  <a:srgbClr val="008000"/>
                </a:solidFill>
                <a:latin typeface="Arial"/>
                <a:ea typeface="楷体_GB2312"/>
              </a:rPr>
              <a:t>元组</a:t>
            </a:r>
            <a:br>
              <a:rPr sz="20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组成新的关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3" name=""/>
          <p:cNvGrpSpPr/>
          <p:nvPr/>
        </p:nvGrpSpPr>
        <p:grpSpPr>
          <a:xfrm>
            <a:off x="6627960" y="5256360"/>
            <a:ext cx="3452760" cy="792000"/>
            <a:chOff x="6627960" y="5256360"/>
            <a:chExt cx="3452760" cy="792000"/>
          </a:xfrm>
        </p:grpSpPr>
        <p:sp>
          <p:nvSpPr>
            <p:cNvPr id="544" name=""/>
            <p:cNvSpPr/>
            <p:nvPr/>
          </p:nvSpPr>
          <p:spPr>
            <a:xfrm>
              <a:off x="9558720" y="5256360"/>
              <a:ext cx="515880" cy="792000"/>
            </a:xfrm>
            <a:custGeom>
              <a:avLst/>
              <a:gdLst/>
              <a:ahLst/>
              <a:rect l="l" t="t" r="r" b="b"/>
              <a:pathLst>
                <a:path w="306" h="444">
                  <a:moveTo>
                    <a:pt x="306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6" y="0"/>
                  </a:lnTo>
                  <a:lnTo>
                    <a:pt x="306" y="122"/>
                  </a:lnTo>
                  <a:close/>
                </a:path>
              </a:pathLst>
            </a:custGeom>
            <a:gradFill rotWithShape="0">
              <a:gsLst>
                <a:gs pos="0">
                  <a:srgbClr val="331c75"/>
                </a:gs>
                <a:gs pos="50000">
                  <a:srgbClr val="703dff"/>
                </a:gs>
                <a:gs pos="100000">
                  <a:srgbClr val="331c7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6627960" y="5278320"/>
              <a:ext cx="3452760" cy="510480"/>
            </a:xfrm>
            <a:custGeom>
              <a:avLst/>
              <a:gdLst/>
              <a:ahLst/>
              <a:rect l="l" t="t" r="r" b="b"/>
              <a:pathLst>
                <a:path w="2048" h="286">
                  <a:moveTo>
                    <a:pt x="1742" y="286"/>
                  </a:moveTo>
                  <a:lnTo>
                    <a:pt x="0" y="286"/>
                  </a:lnTo>
                  <a:lnTo>
                    <a:pt x="446" y="0"/>
                  </a:lnTo>
                  <a:lnTo>
                    <a:pt x="2048" y="0"/>
                  </a:lnTo>
                  <a:lnTo>
                    <a:pt x="1742" y="28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6630480" y="5757840"/>
              <a:ext cx="2939760" cy="279720"/>
            </a:xfrm>
            <a:prstGeom prst="rect">
              <a:avLst/>
            </a:prstGeom>
            <a:gradFill rotWithShape="0">
              <a:gsLst>
                <a:gs pos="0">
                  <a:srgbClr val="502cb8"/>
                </a:gs>
                <a:gs pos="50000">
                  <a:srgbClr val="703dff"/>
                </a:gs>
                <a:gs pos="100000">
                  <a:srgbClr val="502cb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Verdana"/>
                </a:rPr>
                <a:t>选择运算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7" name=""/>
          <p:cNvGrpSpPr/>
          <p:nvPr/>
        </p:nvGrpSpPr>
        <p:grpSpPr>
          <a:xfrm>
            <a:off x="7201080" y="4392720"/>
            <a:ext cx="3074760" cy="785880"/>
            <a:chOff x="7201080" y="4392720"/>
            <a:chExt cx="3074760" cy="785880"/>
          </a:xfrm>
        </p:grpSpPr>
        <p:sp>
          <p:nvSpPr>
            <p:cNvPr id="548" name=""/>
            <p:cNvSpPr/>
            <p:nvPr/>
          </p:nvSpPr>
          <p:spPr>
            <a:xfrm>
              <a:off x="9777240" y="4392720"/>
              <a:ext cx="492840" cy="785880"/>
            </a:xfrm>
            <a:custGeom>
              <a:avLst/>
              <a:gdLst/>
              <a:ahLst/>
              <a:rect l="l" t="t" r="r" b="b"/>
              <a:pathLst>
                <a:path w="308" h="442">
                  <a:moveTo>
                    <a:pt x="308" y="120"/>
                  </a:moveTo>
                  <a:lnTo>
                    <a:pt x="0" y="442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005200"/>
                </a:gs>
                <a:gs pos="50000">
                  <a:srgbClr val="00b200"/>
                </a:gs>
                <a:gs pos="100000">
                  <a:srgbClr val="0052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7201080" y="4392720"/>
              <a:ext cx="3074760" cy="504000"/>
            </a:xfrm>
            <a:custGeom>
              <a:avLst/>
              <a:gdLst/>
              <a:ahLst/>
              <a:rect l="l" t="t" r="r" b="b"/>
              <a:pathLst>
                <a:path w="1920" h="284">
                  <a:moveTo>
                    <a:pt x="161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920" y="0"/>
                  </a:lnTo>
                  <a:lnTo>
                    <a:pt x="1612" y="28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7202160" y="4896720"/>
              <a:ext cx="2580480" cy="278640"/>
            </a:xfrm>
            <a:prstGeom prst="rect">
              <a:avLst/>
            </a:prstGeom>
            <a:gradFill rotWithShape="0">
              <a:gsLst>
                <a:gs pos="0">
                  <a:srgbClr val="008000"/>
                </a:gs>
                <a:gs pos="50000">
                  <a:srgbClr val="00b200"/>
                </a:gs>
                <a:gs pos="100000">
                  <a:srgbClr val="008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Verdana"/>
                </a:rPr>
                <a:t>投影运算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1" name=""/>
          <p:cNvSpPr/>
          <p:nvPr/>
        </p:nvSpPr>
        <p:spPr>
          <a:xfrm>
            <a:off x="4219560" y="4363920"/>
            <a:ext cx="304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从关系的属性集合中选取指定的若干个</a:t>
            </a:r>
            <a:r>
              <a:rPr b="1" lang="zh-CN" sz="2000" spc="-1" strike="noStrike">
                <a:solidFill>
                  <a:srgbClr val="008000"/>
                </a:solidFill>
                <a:latin typeface="Arial"/>
                <a:ea typeface="楷体_GB2312"/>
              </a:rPr>
              <a:t>属性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组成新的关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7157880" y="5343480"/>
            <a:ext cx="2619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66"/>
                </a:solidFill>
                <a:latin typeface="Arial"/>
              </a:rPr>
              <a:t>S2=σ</a:t>
            </a:r>
            <a:r>
              <a:rPr b="1" lang="zh-CN" sz="1800" spc="-1" strike="noStrike" baseline="-25000">
                <a:solidFill>
                  <a:srgbClr val="ffff66"/>
                </a:solidFill>
                <a:latin typeface="Arial"/>
              </a:rPr>
              <a:t>性别</a:t>
            </a:r>
            <a:r>
              <a:rPr b="1" lang="zh-CN" sz="1800" spc="-1" strike="noStrike" baseline="-25000">
                <a:solidFill>
                  <a:srgbClr val="ffff66"/>
                </a:solidFill>
                <a:latin typeface="Arial"/>
              </a:rPr>
              <a:t>=”</a:t>
            </a:r>
            <a:r>
              <a:rPr b="1" lang="zh-CN" sz="1800" spc="-1" strike="noStrike" baseline="-25000">
                <a:solidFill>
                  <a:srgbClr val="ffff66"/>
                </a:solidFill>
                <a:latin typeface="Arial"/>
              </a:rPr>
              <a:t>男”</a:t>
            </a:r>
            <a:r>
              <a:rPr b="1" lang="zh-CN" sz="1800" spc="-1" strike="noStrike">
                <a:solidFill>
                  <a:srgbClr val="ffff66"/>
                </a:solidFill>
                <a:latin typeface="Arial"/>
              </a:rPr>
              <a:t>（</a:t>
            </a:r>
            <a:r>
              <a:rPr b="1" lang="zh-CN" sz="1800" spc="-1" strike="noStrike">
                <a:solidFill>
                  <a:srgbClr val="ffff66"/>
                </a:solidFill>
                <a:latin typeface="Arial"/>
              </a:rPr>
              <a:t>S1</a:t>
            </a:r>
            <a:r>
              <a:rPr b="1" lang="zh-CN" sz="1800" spc="-1" strike="noStrike">
                <a:solidFill>
                  <a:srgbClr val="ffff66"/>
                </a:solidFill>
                <a:latin typeface="Arial"/>
              </a:rPr>
              <a:t>）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7682400" y="4535280"/>
            <a:ext cx="2179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66"/>
                </a:solidFill>
                <a:latin typeface="Arial"/>
              </a:rPr>
              <a:t>S3=π</a:t>
            </a:r>
            <a:r>
              <a:rPr b="1" lang="zh-CN" sz="1800" spc="-1" strike="noStrike" baseline="-25000">
                <a:solidFill>
                  <a:srgbClr val="ffff66"/>
                </a:solidFill>
                <a:latin typeface="Arial"/>
              </a:rPr>
              <a:t>学号，姓名，性别</a:t>
            </a:r>
            <a:r>
              <a:rPr b="1" lang="zh-CN" sz="1800" spc="-1" strike="noStrike">
                <a:solidFill>
                  <a:srgbClr val="ffff66"/>
                </a:solidFill>
                <a:latin typeface="Arial"/>
              </a:rPr>
              <a:t>（</a:t>
            </a:r>
            <a:r>
              <a:rPr b="1" lang="zh-CN" sz="1800" spc="-1" strike="noStrike">
                <a:solidFill>
                  <a:srgbClr val="ffff66"/>
                </a:solidFill>
                <a:latin typeface="Arial"/>
              </a:rPr>
              <a:t>S1</a:t>
            </a:r>
            <a:r>
              <a:rPr b="1" lang="zh-CN" sz="1800" spc="-1" strike="noStrike">
                <a:solidFill>
                  <a:srgbClr val="ffff66"/>
                </a:solidFill>
                <a:latin typeface="Arial"/>
              </a:rPr>
              <a:t>）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4" name="" descr=""/>
          <p:cNvPicPr/>
          <p:nvPr/>
        </p:nvPicPr>
        <p:blipFill>
          <a:blip r:embed="rId1"/>
          <a:stretch/>
        </p:blipFill>
        <p:spPr>
          <a:xfrm>
            <a:off x="431640" y="3887640"/>
            <a:ext cx="3335400" cy="2368800"/>
          </a:xfrm>
          <a:prstGeom prst="rect">
            <a:avLst/>
          </a:prstGeom>
          <a:ln w="0">
            <a:noFill/>
          </a:ln>
        </p:spPr>
      </p:pic>
      <p:sp>
        <p:nvSpPr>
          <p:cNvPr id="555" name=""/>
          <p:cNvSpPr/>
          <p:nvPr/>
        </p:nvSpPr>
        <p:spPr>
          <a:xfrm>
            <a:off x="38160" y="3693960"/>
            <a:ext cx="12715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3300"/>
                </a:solidFill>
                <a:latin typeface="华文行楷"/>
                <a:ea typeface="华文行楷"/>
              </a:rPr>
              <a:t>关系</a:t>
            </a:r>
            <a:br>
              <a:rPr sz="2000"/>
            </a:br>
            <a:r>
              <a:rPr b="1" lang="zh-CN" sz="1800" spc="-1" strike="noStrike">
                <a:solidFill>
                  <a:srgbClr val="cc3300"/>
                </a:solidFill>
                <a:latin typeface="华文行楷"/>
                <a:ea typeface="华文行楷"/>
              </a:rPr>
              <a:t> </a:t>
            </a:r>
            <a:r>
              <a:rPr b="1" lang="zh-CN" sz="1800" spc="-1" strike="noStrike">
                <a:solidFill>
                  <a:srgbClr val="cc3300"/>
                </a:solidFill>
                <a:latin typeface="Times New Roman"/>
                <a:ea typeface="华文行楷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 flipH="1">
            <a:off x="4043160" y="4403880"/>
            <a:ext cx="369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9" dur="indefinite" restart="never" nodeType="tmRoot">
          <p:childTnLst>
            <p:seq>
              <p:cTn id="670" dur="indefinite" nodeType="mainSeq">
                <p:childTnLst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75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80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89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" fill="hold">
                            <p:stCondLst>
                              <p:cond delay="500"/>
                            </p:stCondLst>
                            <p:childTnLst>
                              <p:par>
                                <p:cTn id="691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93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fill="hold">
                            <p:stCondLst>
                              <p:cond delay="1000"/>
                            </p:stCondLst>
                            <p:childTnLst>
                              <p:par>
                                <p:cTn id="695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97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fill="hold">
                            <p:stCondLst>
                              <p:cond delay="1500"/>
                            </p:stCondLst>
                            <p:childTnLst>
                              <p:par>
                                <p:cTn id="699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01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12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fill="hold">
                            <p:stCondLst>
                              <p:cond delay="500"/>
                            </p:stCondLst>
                            <p:childTnLst>
                              <p:par>
                                <p:cTn id="71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16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1" fill="hold">
                            <p:stCondLst>
                              <p:cond delay="500"/>
                            </p:stCondLst>
                            <p:childTnLst>
                              <p:par>
                                <p:cTn id="722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24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5" fill="hold">
                            <p:stCondLst>
                              <p:cond delay="1000"/>
                            </p:stCondLst>
                            <p:childTnLst>
                              <p:par>
                                <p:cTn id="726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28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9" fill="hold">
                            <p:stCondLst>
                              <p:cond delay="1500"/>
                            </p:stCondLst>
                            <p:childTnLst>
                              <p:par>
                                <p:cTn id="730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3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1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46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41360" y="86760"/>
            <a:ext cx="83296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zh-CN" sz="4000" spc="-1" strike="noStrike">
              <a:solidFill>
                <a:srgbClr val="ff0000"/>
              </a:solidFill>
              <a:latin typeface="Comic Sans MS"/>
              <a:ea typeface="宋体"/>
            </a:endParaRPr>
          </a:p>
        </p:txBody>
      </p:sp>
      <p:grpSp>
        <p:nvGrpSpPr>
          <p:cNvPr id="558" name=""/>
          <p:cNvGrpSpPr/>
          <p:nvPr/>
        </p:nvGrpSpPr>
        <p:grpSpPr>
          <a:xfrm>
            <a:off x="7659720" y="3384720"/>
            <a:ext cx="2421000" cy="799920"/>
            <a:chOff x="7659720" y="3384720"/>
            <a:chExt cx="2421000" cy="799920"/>
          </a:xfrm>
        </p:grpSpPr>
        <p:sp>
          <p:nvSpPr>
            <p:cNvPr id="559" name=""/>
            <p:cNvSpPr/>
            <p:nvPr/>
          </p:nvSpPr>
          <p:spPr>
            <a:xfrm>
              <a:off x="9658800" y="3384720"/>
              <a:ext cx="417240" cy="79992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0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00000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7659720" y="3384720"/>
              <a:ext cx="2421000" cy="511920"/>
            </a:xfrm>
            <a:custGeom>
              <a:avLst/>
              <a:gdLst/>
              <a:ahLst/>
              <a:rect l="l" t="t" r="r" b="b"/>
              <a:pathLst>
                <a:path w="1786" h="284">
                  <a:moveTo>
                    <a:pt x="1478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786" y="0"/>
                  </a:lnTo>
                  <a:lnTo>
                    <a:pt x="1478" y="2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7664400" y="3828600"/>
              <a:ext cx="2003400" cy="28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0000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Verdana"/>
                </a:rPr>
                <a:t>连接运算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2" name=""/>
          <p:cNvGrpSpPr/>
          <p:nvPr/>
        </p:nvGrpSpPr>
        <p:grpSpPr>
          <a:xfrm>
            <a:off x="3984120" y="3270240"/>
            <a:ext cx="4592520" cy="892080"/>
            <a:chOff x="3984120" y="3270240"/>
            <a:chExt cx="4592520" cy="892080"/>
          </a:xfrm>
        </p:grpSpPr>
        <p:sp>
          <p:nvSpPr>
            <p:cNvPr id="563" name=""/>
            <p:cNvSpPr/>
            <p:nvPr/>
          </p:nvSpPr>
          <p:spPr>
            <a:xfrm flipH="1">
              <a:off x="3989160" y="4150440"/>
              <a:ext cx="3696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 flipH="1">
              <a:off x="3984120" y="3367800"/>
              <a:ext cx="4592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4152240" y="3390120"/>
              <a:ext cx="0" cy="772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210200" y="3270240"/>
              <a:ext cx="3609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在两个关系的所有元组</a:t>
              </a:r>
              <a:r>
                <a:rPr b="1" lang="zh-CN" sz="2000" spc="-1" strike="noStrike">
                  <a:solidFill>
                    <a:srgbClr val="008000"/>
                  </a:solidFill>
                  <a:latin typeface="Arial"/>
                  <a:ea typeface="楷体_GB2312"/>
                </a:rPr>
                <a:t>组合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中</a:t>
              </a:r>
              <a:r>
                <a:rPr b="1" lang="zh-CN" sz="2000" spc="-1" strike="noStrike">
                  <a:solidFill>
                    <a:srgbClr val="008000"/>
                  </a:solidFill>
                  <a:latin typeface="Arial"/>
                  <a:ea typeface="楷体_GB2312"/>
                </a:rPr>
                <a:t>选择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符合指定条件的</a:t>
              </a:r>
              <a:r>
                <a:rPr b="1" lang="zh-CN" sz="2000" spc="-1" strike="noStrike">
                  <a:solidFill>
                    <a:srgbClr val="008000"/>
                  </a:solidFill>
                  <a:latin typeface="Arial"/>
                  <a:ea typeface="楷体_GB2312"/>
                </a:rPr>
                <a:t>元组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，生成一个新的关系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7" name=""/>
          <p:cNvGrpSpPr/>
          <p:nvPr/>
        </p:nvGrpSpPr>
        <p:grpSpPr>
          <a:xfrm>
            <a:off x="38160" y="3525840"/>
            <a:ext cx="3970080" cy="2368440"/>
            <a:chOff x="38160" y="3525840"/>
            <a:chExt cx="3970080" cy="2368440"/>
          </a:xfrm>
        </p:grpSpPr>
        <p:pic>
          <p:nvPicPr>
            <p:cNvPr id="568" name="" descr=""/>
            <p:cNvPicPr/>
            <p:nvPr/>
          </p:nvPicPr>
          <p:blipFill>
            <a:blip r:embed="rId1"/>
            <a:stretch/>
          </p:blipFill>
          <p:spPr>
            <a:xfrm>
              <a:off x="673560" y="3525840"/>
              <a:ext cx="3334680" cy="236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38160" y="3651480"/>
              <a:ext cx="127044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cc3300"/>
                  </a:solidFill>
                  <a:latin typeface="华文行楷"/>
                  <a:ea typeface="华文行楷"/>
                </a:rPr>
                <a:t>关系</a:t>
              </a:r>
              <a:br>
                <a:rPr sz="2000"/>
              </a:br>
              <a:r>
                <a:rPr b="1" lang="zh-CN" sz="1800" spc="-1" strike="noStrike">
                  <a:solidFill>
                    <a:srgbClr val="cc3300"/>
                  </a:solidFill>
                  <a:latin typeface="华文行楷"/>
                  <a:ea typeface="华文行楷"/>
                </a:rPr>
                <a:t> </a:t>
              </a:r>
              <a:r>
                <a:rPr b="1" lang="zh-CN" sz="1800" spc="-1" strike="noStrike">
                  <a:solidFill>
                    <a:srgbClr val="cc3300"/>
                  </a:solidFill>
                  <a:latin typeface="Times New Roman"/>
                  <a:ea typeface="华文行楷"/>
                </a:rPr>
                <a:t>S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570" name=""/>
          <p:cNvGraphicFramePr/>
          <p:nvPr/>
        </p:nvGraphicFramePr>
        <p:xfrm>
          <a:off x="38160" y="41400"/>
          <a:ext cx="3732120" cy="2921040"/>
        </p:xfrm>
        <a:graphic>
          <a:graphicData uri="http://schemas.openxmlformats.org/drawingml/2006/table">
            <a:tbl>
              <a:tblPr/>
              <a:tblGrid>
                <a:gridCol w="858600"/>
                <a:gridCol w="889200"/>
                <a:gridCol w="793800"/>
                <a:gridCol w="11905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学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课程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成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成绩类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f66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90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f66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9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7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f66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90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f66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90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f66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90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f66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90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f66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90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9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ef66"/>
                    </a:solidFill>
                  </a:tcPr>
                </a:tc>
              </a:tr>
            </a:tbl>
          </a:graphicData>
        </a:graphic>
      </p:graphicFrame>
      <p:sp>
        <p:nvSpPr>
          <p:cNvPr id="571" name=""/>
          <p:cNvSpPr/>
          <p:nvPr/>
        </p:nvSpPr>
        <p:spPr>
          <a:xfrm>
            <a:off x="3691080" y="-25560"/>
            <a:ext cx="126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华文行楷"/>
                <a:ea typeface="华文行楷"/>
              </a:rPr>
              <a:t>关系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S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4032360" y="412200"/>
            <a:ext cx="4784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S6=π</a:t>
            </a:r>
            <a:r>
              <a:rPr b="1" lang="zh-CN" sz="1800" spc="-1" strike="noStrike" baseline="-25000">
                <a:solidFill>
                  <a:srgbClr val="000000"/>
                </a:solidFill>
                <a:latin typeface="Arial"/>
              </a:rPr>
              <a:t>学号，课程号，成绩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zh-CN" sz="1800" spc="-1" strike="noStrike" baseline="-25000">
                <a:solidFill>
                  <a:srgbClr val="000000"/>
                </a:solidFill>
                <a:latin typeface="Arial"/>
              </a:rPr>
              <a:t>成绩类型</a:t>
            </a:r>
            <a:r>
              <a:rPr b="1" lang="zh-CN" sz="1800" spc="-1" strike="noStrike" baseline="-25000">
                <a:solidFill>
                  <a:srgbClr val="000000"/>
                </a:solidFill>
                <a:latin typeface="Arial"/>
              </a:rPr>
              <a:t>=0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S4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））</a:t>
            </a:r>
            <a:r>
              <a:rPr b="1" lang="zh-CN" sz="18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3" name=""/>
          <p:cNvGrpSpPr/>
          <p:nvPr/>
        </p:nvGrpSpPr>
        <p:grpSpPr>
          <a:xfrm>
            <a:off x="4005360" y="993600"/>
            <a:ext cx="4764960" cy="2206800"/>
            <a:chOff x="4005360" y="993600"/>
            <a:chExt cx="4764960" cy="2206800"/>
          </a:xfrm>
        </p:grpSpPr>
        <p:pic>
          <p:nvPicPr>
            <p:cNvPr id="574" name="" descr=""/>
            <p:cNvPicPr/>
            <p:nvPr/>
          </p:nvPicPr>
          <p:blipFill>
            <a:blip r:embed="rId2"/>
            <a:stretch/>
          </p:blipFill>
          <p:spPr>
            <a:xfrm>
              <a:off x="4005360" y="993600"/>
              <a:ext cx="3335400" cy="220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5" name=""/>
            <p:cNvSpPr/>
            <p:nvPr/>
          </p:nvSpPr>
          <p:spPr>
            <a:xfrm>
              <a:off x="7499880" y="1230120"/>
              <a:ext cx="1270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cc3300"/>
                  </a:solidFill>
                  <a:latin typeface="华文行楷"/>
                  <a:ea typeface="华文行楷"/>
                </a:rPr>
                <a:t>关系</a:t>
              </a:r>
              <a:r>
                <a:rPr b="1" lang="zh-CN" sz="1800" spc="-1" strike="noStrike">
                  <a:solidFill>
                    <a:srgbClr val="cc3300"/>
                  </a:solidFill>
                  <a:latin typeface="Times New Roman"/>
                  <a:ea typeface="华文行楷"/>
                </a:rPr>
                <a:t>S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6" name=""/>
          <p:cNvSpPr/>
          <p:nvPr/>
        </p:nvSpPr>
        <p:spPr>
          <a:xfrm>
            <a:off x="8099280" y="3428280"/>
            <a:ext cx="16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S7=S3      S6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 rot="5400000">
            <a:off x="9075240" y="3489120"/>
            <a:ext cx="133200" cy="266760"/>
          </a:xfrm>
          <a:prstGeom prst="flowChartCollat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8" name=""/>
          <p:cNvGrpSpPr/>
          <p:nvPr/>
        </p:nvGrpSpPr>
        <p:grpSpPr>
          <a:xfrm>
            <a:off x="4086360" y="4305240"/>
            <a:ext cx="5717520" cy="2065320"/>
            <a:chOff x="4086360" y="4305240"/>
            <a:chExt cx="5717520" cy="2065320"/>
          </a:xfrm>
        </p:grpSpPr>
        <p:pic>
          <p:nvPicPr>
            <p:cNvPr id="579" name="" descr=""/>
            <p:cNvPicPr/>
            <p:nvPr/>
          </p:nvPicPr>
          <p:blipFill>
            <a:blip r:embed="rId3"/>
            <a:stretch/>
          </p:blipFill>
          <p:spPr>
            <a:xfrm>
              <a:off x="5120640" y="4305240"/>
              <a:ext cx="4683240" cy="206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4086360" y="4429440"/>
              <a:ext cx="1270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cc3300"/>
                  </a:solidFill>
                  <a:latin typeface="华文行楷"/>
                  <a:ea typeface="华文行楷"/>
                </a:rPr>
                <a:t>关系</a:t>
              </a:r>
              <a:r>
                <a:rPr b="1" lang="zh-CN" sz="1800" spc="-1" strike="noStrike">
                  <a:solidFill>
                    <a:srgbClr val="cc3300"/>
                  </a:solidFill>
                  <a:latin typeface="Times New Roman"/>
                  <a:ea typeface="华文行楷"/>
                </a:rPr>
                <a:t>S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7" dur="indefinite" restart="never" nodeType="tmRoot">
          <p:childTnLst>
            <p:seq>
              <p:cTn id="748" dur="indefinite" nodeType="mainSeq">
                <p:childTnLst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3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4" fill="hold">
                            <p:stCondLst>
                              <p:cond delay="500"/>
                            </p:stCondLst>
                            <p:childTnLst>
                              <p:par>
                                <p:cTn id="7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6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70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75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5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7" fill="hold">
                            <p:stCondLst>
                              <p:cond delay="500"/>
                            </p:stCondLst>
                            <p:childTnLst>
                              <p:par>
                                <p:cTn id="78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0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"/>
          <p:cNvSpPr/>
          <p:nvPr/>
        </p:nvSpPr>
        <p:spPr>
          <a:xfrm flipH="1">
            <a:off x="5707080" y="2355840"/>
            <a:ext cx="1270080" cy="11714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ade5ad"/>
              </a:gs>
              <a:gs pos="100000">
                <a:srgbClr val="00b2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 rot="18634800">
            <a:off x="3750120" y="2604240"/>
            <a:ext cx="853920" cy="137016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41360" y="280800"/>
            <a:ext cx="83296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ff0000"/>
                </a:solidFill>
                <a:latin typeface="Comic Sans MS"/>
                <a:ea typeface="宋体"/>
              </a:rPr>
              <a:t>数据完整性控制</a:t>
            </a:r>
            <a:endParaRPr b="1" i="1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84" name=""/>
          <p:cNvSpPr/>
          <p:nvPr/>
        </p:nvSpPr>
        <p:spPr>
          <a:xfrm>
            <a:off x="2163600" y="1203480"/>
            <a:ext cx="7640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最大限度地保证数据的</a:t>
            </a:r>
            <a:r>
              <a:rPr b="1" lang="zh-CN" sz="2600" spc="-1" strike="noStrike">
                <a:solidFill>
                  <a:srgbClr val="008000"/>
                </a:solidFill>
                <a:latin typeface="Arial"/>
                <a:ea typeface="楷体_GB2312"/>
              </a:rPr>
              <a:t>正确性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600" spc="-1" strike="noStrike">
                <a:solidFill>
                  <a:srgbClr val="008000"/>
                </a:solidFill>
                <a:latin typeface="Arial"/>
                <a:ea typeface="楷体_GB2312"/>
              </a:rPr>
              <a:t>合法性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1" lang="zh-CN" sz="2600" spc="-1" strike="noStrike">
                <a:solidFill>
                  <a:srgbClr val="008000"/>
                </a:solidFill>
                <a:latin typeface="Arial"/>
                <a:ea typeface="楷体_GB2312"/>
              </a:rPr>
              <a:t>一致性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69840" y="2558880"/>
            <a:ext cx="2520720" cy="1662120"/>
            <a:chOff x="69840" y="2558880"/>
            <a:chExt cx="2520720" cy="1662120"/>
          </a:xfrm>
        </p:grpSpPr>
        <p:sp>
          <p:nvSpPr>
            <p:cNvPr id="586" name=""/>
            <p:cNvSpPr/>
            <p:nvPr/>
          </p:nvSpPr>
          <p:spPr>
            <a:xfrm>
              <a:off x="69840" y="2558880"/>
              <a:ext cx="2520720" cy="166212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74960" y="2683080"/>
              <a:ext cx="22478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实体完整性规则</a:t>
              </a:r>
              <a:br>
                <a:rPr sz="2000"/>
              </a:br>
              <a:r>
                <a:rPr b="0" lang="zh-CN" sz="2000" spc="-1" strike="noStrike">
                  <a:solidFill>
                    <a:srgbClr val="000000"/>
                  </a:solidFill>
                  <a:latin typeface="Arial"/>
                </a:rPr>
                <a:t>关系中各个元组的主键不允许取空值、不允许重复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8" name=""/>
          <p:cNvSpPr/>
          <p:nvPr/>
        </p:nvSpPr>
        <p:spPr>
          <a:xfrm>
            <a:off x="2373480" y="2355840"/>
            <a:ext cx="995040" cy="11714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5c5c5c"/>
              </a:gs>
              <a:gs pos="100000">
                <a:srgbClr val="0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9" name=""/>
          <p:cNvGrpSpPr/>
          <p:nvPr/>
        </p:nvGrpSpPr>
        <p:grpSpPr>
          <a:xfrm>
            <a:off x="2965320" y="2082960"/>
            <a:ext cx="3423240" cy="909000"/>
            <a:chOff x="2965320" y="2082960"/>
            <a:chExt cx="3423240" cy="909000"/>
          </a:xfrm>
        </p:grpSpPr>
        <p:grpSp>
          <p:nvGrpSpPr>
            <p:cNvPr id="590" name=""/>
            <p:cNvGrpSpPr/>
            <p:nvPr/>
          </p:nvGrpSpPr>
          <p:grpSpPr>
            <a:xfrm>
              <a:off x="2965320" y="2082960"/>
              <a:ext cx="3423240" cy="747720"/>
              <a:chOff x="2965320" y="2082960"/>
              <a:chExt cx="3423240" cy="747720"/>
            </a:xfrm>
          </p:grpSpPr>
          <p:grpSp>
            <p:nvGrpSpPr>
              <p:cNvPr id="591" name=""/>
              <p:cNvGrpSpPr/>
              <p:nvPr/>
            </p:nvGrpSpPr>
            <p:grpSpPr>
              <a:xfrm>
                <a:off x="2965320" y="2149560"/>
                <a:ext cx="3423240" cy="681120"/>
                <a:chOff x="2965320" y="2149560"/>
                <a:chExt cx="3423240" cy="681120"/>
              </a:xfrm>
            </p:grpSpPr>
            <p:sp>
              <p:nvSpPr>
                <p:cNvPr id="592" name=""/>
                <p:cNvSpPr/>
                <p:nvPr/>
              </p:nvSpPr>
              <p:spPr>
                <a:xfrm>
                  <a:off x="3002760" y="2171160"/>
                  <a:ext cx="3385800" cy="65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5600"/>
                    </a:gs>
                    <a:gs pos="100000">
                      <a:srgbClr val="00b200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3" name=""/>
                <p:cNvSpPr/>
                <p:nvPr/>
              </p:nvSpPr>
              <p:spPr>
                <a:xfrm>
                  <a:off x="2965320" y="2149560"/>
                  <a:ext cx="3385800" cy="659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b200"/>
                    </a:gs>
                    <a:gs pos="100000">
                      <a:srgbClr val="8ddc8d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94" name=""/>
              <p:cNvSpPr/>
              <p:nvPr/>
            </p:nvSpPr>
            <p:spPr>
              <a:xfrm>
                <a:off x="3126600" y="2082960"/>
                <a:ext cx="3065040" cy="626040"/>
              </a:xfrm>
              <a:prstGeom prst="ellipse">
                <a:avLst/>
              </a:prstGeom>
              <a:gradFill rotWithShape="0">
                <a:gsLst>
                  <a:gs pos="0">
                    <a:srgbClr val="ffef66"/>
                  </a:gs>
                  <a:gs pos="100000">
                    <a:srgbClr val="756e2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3166560" y="2086560"/>
                <a:ext cx="2990520" cy="610560"/>
              </a:xfrm>
              <a:prstGeom prst="ellipse">
                <a:avLst/>
              </a:prstGeom>
              <a:gradFill rotWithShape="0">
                <a:gsLst>
                  <a:gs pos="0">
                    <a:srgbClr val="fef8c8"/>
                  </a:gs>
                  <a:gs pos="100000">
                    <a:srgbClr val="ffef66">
                      <a:alpha val="0"/>
                    </a:srgbClr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3197520" y="2092680"/>
                <a:ext cx="2845440" cy="570240"/>
              </a:xfrm>
              <a:prstGeom prst="ellipse">
                <a:avLst/>
              </a:prstGeom>
              <a:gradFill rotWithShape="0">
                <a:gsLst>
                  <a:gs pos="0">
                    <a:srgbClr val="ffef66">
                      <a:alpha val="48235"/>
                    </a:srgbClr>
                  </a:gs>
                  <a:gs pos="100000">
                    <a:srgbClr val="c9bc5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3347640" y="2105280"/>
                <a:ext cx="2504520" cy="462240"/>
              </a:xfrm>
              <a:prstGeom prst="ellipse">
                <a:avLst/>
              </a:prstGeom>
              <a:gradFill rotWithShape="0">
                <a:gsLst>
                  <a:gs pos="0">
                    <a:srgbClr val="ffef66">
                      <a:alpha val="38039"/>
                    </a:srgbClr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8" name=""/>
            <p:cNvSpPr/>
            <p:nvPr/>
          </p:nvSpPr>
          <p:spPr>
            <a:xfrm>
              <a:off x="3650400" y="2166480"/>
              <a:ext cx="1959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数据完整性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9" name=""/>
          <p:cNvGrpSpPr/>
          <p:nvPr/>
        </p:nvGrpSpPr>
        <p:grpSpPr>
          <a:xfrm>
            <a:off x="6926400" y="2422440"/>
            <a:ext cx="2877480" cy="1838520"/>
            <a:chOff x="6926400" y="2422440"/>
            <a:chExt cx="2877480" cy="1838520"/>
          </a:xfrm>
        </p:grpSpPr>
        <p:sp>
          <p:nvSpPr>
            <p:cNvPr id="600" name=""/>
            <p:cNvSpPr/>
            <p:nvPr/>
          </p:nvSpPr>
          <p:spPr>
            <a:xfrm>
              <a:off x="6926400" y="2422440"/>
              <a:ext cx="2877480" cy="183852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117920" y="2559960"/>
              <a:ext cx="2565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用户定义的完整性</a:t>
              </a:r>
              <a:r>
                <a:rPr b="0" lang="zh-CN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zh-CN" sz="2000" spc="-1" strike="noStrike">
                  <a:solidFill>
                    <a:srgbClr val="000000"/>
                  </a:solidFill>
                  <a:latin typeface="Arial"/>
                </a:rPr>
                <a:t>允许用户自行定义对数据的约束条件，从语义上保证数据的合法性 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2" name=""/>
          <p:cNvGrpSpPr/>
          <p:nvPr/>
        </p:nvGrpSpPr>
        <p:grpSpPr>
          <a:xfrm>
            <a:off x="2689200" y="3564000"/>
            <a:ext cx="4057200" cy="2465280"/>
            <a:chOff x="2689200" y="3564000"/>
            <a:chExt cx="4057200" cy="2465280"/>
          </a:xfrm>
        </p:grpSpPr>
        <p:sp>
          <p:nvSpPr>
            <p:cNvPr id="603" name=""/>
            <p:cNvSpPr/>
            <p:nvPr/>
          </p:nvSpPr>
          <p:spPr>
            <a:xfrm>
              <a:off x="2689200" y="3564000"/>
              <a:ext cx="4057200" cy="246528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2959200" y="3748680"/>
              <a:ext cx="3617640" cy="161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参照完整性规则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</a:rPr>
                <a:t>在关系模型中，实体集之间的联系也用关系来表示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</a:rPr>
                <a:t>存在关系与关系间的引用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</a:rPr>
                <a:t>修改一个关系时，为保持数据的一致性，必须对另一个关系进行检查和修改。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6" dur="indefinite" restart="never" nodeType="tmRoot">
          <p:childTnLst>
            <p:seq>
              <p:cTn id="797" dur="indefinite" nodeType="mainSeq">
                <p:childTnLst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02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7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13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8" dur="10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9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5" dur="10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6" dur="10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10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32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7" dur="10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8" dur="10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10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44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41360" y="86760"/>
            <a:ext cx="83296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zh-CN" sz="4000" spc="-1" strike="noStrike">
              <a:solidFill>
                <a:srgbClr val="ff0000"/>
              </a:solidFill>
              <a:latin typeface="Comic Sans MS"/>
              <a:ea typeface="宋体"/>
            </a:endParaRPr>
          </a:p>
        </p:txBody>
      </p:sp>
      <p:grpSp>
        <p:nvGrpSpPr>
          <p:cNvPr id="606" name=""/>
          <p:cNvGrpSpPr/>
          <p:nvPr/>
        </p:nvGrpSpPr>
        <p:grpSpPr>
          <a:xfrm>
            <a:off x="1071720" y="1401840"/>
            <a:ext cx="8651880" cy="5078160"/>
            <a:chOff x="1071720" y="1401840"/>
            <a:chExt cx="8651880" cy="5078160"/>
          </a:xfrm>
        </p:grpSpPr>
        <p:pic>
          <p:nvPicPr>
            <p:cNvPr id="607" name="" descr=""/>
            <p:cNvPicPr/>
            <p:nvPr/>
          </p:nvPicPr>
          <p:blipFill>
            <a:blip r:embed="rId1"/>
            <a:stretch/>
          </p:blipFill>
          <p:spPr>
            <a:xfrm>
              <a:off x="1071720" y="1401840"/>
              <a:ext cx="8651880" cy="47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8" name=""/>
            <p:cNvSpPr/>
            <p:nvPr/>
          </p:nvSpPr>
          <p:spPr>
            <a:xfrm>
              <a:off x="4059720" y="6086880"/>
              <a:ext cx="2676600" cy="39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9" name=""/>
          <p:cNvSpPr/>
          <p:nvPr/>
        </p:nvSpPr>
        <p:spPr>
          <a:xfrm>
            <a:off x="1071720" y="3511440"/>
            <a:ext cx="793440" cy="478080"/>
          </a:xfrm>
          <a:prstGeom prst="ellipse">
            <a:avLst/>
          </a:prstGeom>
          <a:noFill/>
          <a:ln w="255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 flipV="1">
            <a:off x="1627200" y="1674720"/>
            <a:ext cx="0" cy="197352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1627200" y="1660680"/>
            <a:ext cx="3571920" cy="0"/>
          </a:xfrm>
          <a:prstGeom prst="line">
            <a:avLst/>
          </a:prstGeom>
          <a:ln w="2844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5119560" y="1401840"/>
            <a:ext cx="793800" cy="477720"/>
          </a:xfrm>
          <a:prstGeom prst="ellipse">
            <a:avLst/>
          </a:prstGeom>
          <a:noFill/>
          <a:ln w="255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2341440" y="1906560"/>
            <a:ext cx="1349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3300"/>
                </a:solidFill>
                <a:latin typeface="Arial"/>
              </a:rPr>
              <a:t>取值参照</a:t>
            </a:r>
            <a:br>
              <a:rPr sz="2000"/>
            </a:br>
            <a:r>
              <a:rPr b="1" lang="zh-CN" sz="2000" spc="-1" strike="noStrike">
                <a:solidFill>
                  <a:srgbClr val="cc3300"/>
                </a:solidFill>
                <a:latin typeface="Arial"/>
              </a:rPr>
              <a:t>或取空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5040360" y="4005360"/>
            <a:ext cx="50799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在选课表中插入一个记录  </a:t>
            </a:r>
            <a:br>
              <a:rPr sz="2200"/>
            </a:b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( 39078, 6, 90, 0 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删除学生表中记录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(39001,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杨雨潇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,</a:t>
            </a:r>
            <a:br>
              <a:rPr sz="2200"/>
            </a:b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男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在读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,2007-9-1,2008-7-2,18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6600"/>
                </a:solidFill>
                <a:latin typeface="Arial"/>
                <a:ea typeface="华文行楷"/>
              </a:rPr>
              <a:t>如何保证数据的一致性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5" dur="indefinite" restart="never" nodeType="tmRoot">
          <p:childTnLst>
            <p:seq>
              <p:cTn id="846" dur="indefinite" nodeType="mainSeq">
                <p:childTnLst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1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57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6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3" fill="hold">
                            <p:stCondLst>
                              <p:cond delay="500"/>
                            </p:stCondLst>
                            <p:childTnLst>
                              <p:par>
                                <p:cTn id="864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66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1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877" dur="2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41360" y="280800"/>
            <a:ext cx="83296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0000"/>
                </a:solidFill>
                <a:latin typeface="Comic Sans MS"/>
              </a:rPr>
              <a:t>由</a:t>
            </a:r>
            <a:r>
              <a:rPr b="1" i="1" lang="zh-CN" sz="3600" spc="-1" strike="noStrike">
                <a:solidFill>
                  <a:srgbClr val="ff0000"/>
                </a:solidFill>
                <a:latin typeface="Comic Sans MS"/>
              </a:rPr>
              <a:t>E-R</a:t>
            </a:r>
            <a:r>
              <a:rPr b="1" i="1" lang="zh-CN" sz="3600" spc="-1" strike="noStrike">
                <a:solidFill>
                  <a:srgbClr val="ff0000"/>
                </a:solidFill>
                <a:latin typeface="Comic Sans MS"/>
              </a:rPr>
              <a:t>图设计关系模型</a:t>
            </a:r>
            <a:endParaRPr b="1" i="1" lang="en-US" sz="36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146160" y="856800"/>
            <a:ext cx="482256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Comic Sans MS"/>
              </a:rPr>
              <a:t>1) </a:t>
            </a:r>
            <a:r>
              <a:rPr b="1" lang="zh-CN" sz="2400" spc="-1" strike="noStrike">
                <a:solidFill>
                  <a:srgbClr val="000099"/>
                </a:solidFill>
                <a:latin typeface="Comic Sans MS"/>
              </a:rPr>
              <a:t>两个实体集</a:t>
            </a:r>
            <a:endParaRPr b="1" lang="en-US" sz="2400" spc="-1" strike="noStrike">
              <a:solidFill>
                <a:srgbClr val="000099"/>
              </a:solidFill>
              <a:latin typeface="Comic Sans MS"/>
            </a:endParaRPr>
          </a:p>
          <a:p>
            <a:pPr lvl="1" marL="74304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Comic Sans MS"/>
              </a:rPr>
              <a:t>学生</a:t>
            </a:r>
            <a:r>
              <a:rPr b="1" lang="zh-CN" sz="2400" spc="-1" strike="noStrike">
                <a:solidFill>
                  <a:srgbClr val="ff0000"/>
                </a:solidFill>
                <a:latin typeface="Comic Sans MS"/>
              </a:rPr>
              <a:t>(</a:t>
            </a:r>
            <a:r>
              <a:rPr b="1" i="1" lang="zh-CN" sz="2400" spc="-1" strike="noStrike" u="sng">
                <a:solidFill>
                  <a:srgbClr val="000099"/>
                </a:solidFill>
                <a:uFillTx/>
                <a:latin typeface="Comic Sans MS"/>
              </a:rPr>
              <a:t>学号</a:t>
            </a:r>
            <a:r>
              <a:rPr b="1" i="1" lang="zh-CN" sz="2400" spc="-1" strike="noStrike" u="sng">
                <a:solidFill>
                  <a:srgbClr val="000099"/>
                </a:solidFill>
                <a:uFillTx/>
                <a:latin typeface="Comic Sans MS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Comic Sans MS"/>
              </a:rPr>
              <a:t>姓名</a:t>
            </a:r>
            <a:r>
              <a:rPr b="1" lang="zh-CN" sz="2400" spc="-1" strike="noStrike">
                <a:solidFill>
                  <a:srgbClr val="ff0000"/>
                </a:solidFill>
                <a:latin typeface="Comic Sans MS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Comic Sans MS"/>
              </a:rPr>
              <a:t>性别</a:t>
            </a:r>
            <a:r>
              <a:rPr b="1" lang="zh-CN" sz="2400" spc="-1" strike="noStrike">
                <a:solidFill>
                  <a:srgbClr val="ff0000"/>
                </a:solidFill>
                <a:latin typeface="Comic Sans MS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Comic Sans MS"/>
              </a:rPr>
              <a:t>年龄</a:t>
            </a:r>
            <a:r>
              <a:rPr b="1" lang="zh-CN" sz="2400" spc="-1" strike="noStrike">
                <a:solidFill>
                  <a:srgbClr val="ff0000"/>
                </a:solidFill>
                <a:latin typeface="Comic Sans MS"/>
              </a:rPr>
              <a:t>)</a:t>
            </a:r>
            <a:endParaRPr b="1" lang="en-US" sz="2400" spc="-1" strike="noStrike">
              <a:solidFill>
                <a:srgbClr val="000099"/>
              </a:solidFill>
              <a:latin typeface="Comic Sans MS"/>
            </a:endParaRPr>
          </a:p>
          <a:p>
            <a:pPr lvl="1" marL="74304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Comic Sans MS"/>
              </a:rPr>
              <a:t>课程</a:t>
            </a:r>
            <a:r>
              <a:rPr b="1" lang="zh-CN" sz="2400" spc="-1" strike="noStrike">
                <a:solidFill>
                  <a:srgbClr val="ff0000"/>
                </a:solidFill>
                <a:latin typeface="Comic Sans MS"/>
              </a:rPr>
              <a:t>(</a:t>
            </a:r>
            <a:r>
              <a:rPr b="1" i="1" lang="zh-CN" sz="2400" spc="-1" strike="noStrike" u="sng">
                <a:solidFill>
                  <a:srgbClr val="000099"/>
                </a:solidFill>
                <a:uFillTx/>
                <a:latin typeface="Comic Sans MS"/>
              </a:rPr>
              <a:t>课程代码</a:t>
            </a:r>
            <a:r>
              <a:rPr b="1" lang="zh-CN" sz="2400" spc="-1" strike="noStrike">
                <a:solidFill>
                  <a:srgbClr val="ff0000"/>
                </a:solidFill>
                <a:latin typeface="Comic Sans MS"/>
              </a:rPr>
              <a:t>, </a:t>
            </a:r>
            <a:r>
              <a:rPr b="1" lang="zh-CN" sz="2400" spc="-1" strike="noStrike">
                <a:solidFill>
                  <a:srgbClr val="ff0000"/>
                </a:solidFill>
                <a:latin typeface="Comic Sans MS"/>
              </a:rPr>
              <a:t>课程名称</a:t>
            </a:r>
            <a:r>
              <a:rPr b="1" lang="zh-CN" sz="2400" spc="-1" strike="noStrike">
                <a:solidFill>
                  <a:srgbClr val="ff0000"/>
                </a:solidFill>
                <a:latin typeface="Comic Sans MS"/>
              </a:rPr>
              <a:t>, </a:t>
            </a:r>
            <a:r>
              <a:rPr b="1" lang="zh-CN" sz="2400" spc="-1" strike="noStrike">
                <a:solidFill>
                  <a:srgbClr val="ff0000"/>
                </a:solidFill>
                <a:latin typeface="Comic Sans MS"/>
              </a:rPr>
              <a:t>任课教师</a:t>
            </a:r>
            <a:r>
              <a:rPr b="1" lang="zh-CN" sz="2400" spc="-1" strike="noStrike">
                <a:solidFill>
                  <a:srgbClr val="ff0000"/>
                </a:solidFill>
                <a:latin typeface="Comic Sans MS"/>
              </a:rPr>
              <a:t>)</a:t>
            </a:r>
            <a:endParaRPr b="1" lang="en-US" sz="2400" spc="-1" strike="noStrike">
              <a:solidFill>
                <a:srgbClr val="000099"/>
              </a:solidFill>
              <a:latin typeface="Comic Sans MS"/>
            </a:endParaRPr>
          </a:p>
          <a:p>
            <a:pPr lvl="1" marL="74304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Comic Sans MS"/>
              </a:rPr>
              <a:t>2) </a:t>
            </a:r>
            <a:r>
              <a:rPr b="1" lang="zh-CN" sz="2400" spc="-1" strike="noStrike">
                <a:solidFill>
                  <a:srgbClr val="000099"/>
                </a:solidFill>
                <a:latin typeface="Comic Sans MS"/>
              </a:rPr>
              <a:t>联系</a:t>
            </a:r>
            <a:endParaRPr b="1" lang="en-US" sz="2400" spc="-1" strike="noStrike">
              <a:solidFill>
                <a:srgbClr val="000099"/>
              </a:solidFill>
              <a:latin typeface="Comic Sans MS"/>
            </a:endParaRPr>
          </a:p>
          <a:p>
            <a:pPr lvl="1" marL="74304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Comic Sans MS"/>
              </a:rPr>
              <a:t>  </a:t>
            </a:r>
            <a:r>
              <a:rPr b="1" lang="zh-CN" sz="2400" spc="-1" strike="noStrike">
                <a:solidFill>
                  <a:srgbClr val="ff0000"/>
                </a:solidFill>
                <a:latin typeface="Comic Sans MS"/>
              </a:rPr>
              <a:t>选修</a:t>
            </a:r>
            <a:r>
              <a:rPr b="1" lang="zh-CN" sz="2400" spc="-1" strike="noStrike">
                <a:solidFill>
                  <a:srgbClr val="ff0000"/>
                </a:solidFill>
                <a:latin typeface="Comic Sans MS"/>
              </a:rPr>
              <a:t>(</a:t>
            </a:r>
            <a:r>
              <a:rPr b="1" i="1" lang="zh-CN" sz="2400" spc="-1" strike="noStrike" u="sng">
                <a:solidFill>
                  <a:srgbClr val="000099"/>
                </a:solidFill>
                <a:uFillTx/>
                <a:latin typeface="Comic Sans MS"/>
              </a:rPr>
              <a:t>学号</a:t>
            </a:r>
            <a:r>
              <a:rPr b="1" lang="zh-CN" sz="2400" spc="-1" strike="noStrike">
                <a:solidFill>
                  <a:srgbClr val="ff0000"/>
                </a:solidFill>
                <a:latin typeface="Comic Sans MS"/>
              </a:rPr>
              <a:t>,</a:t>
            </a:r>
            <a:r>
              <a:rPr b="1" i="1" lang="zh-CN" sz="2400" spc="-1" strike="noStrike" u="sng">
                <a:solidFill>
                  <a:srgbClr val="000099"/>
                </a:solidFill>
                <a:uFillTx/>
                <a:latin typeface="Comic Sans MS"/>
              </a:rPr>
              <a:t>课程代码</a:t>
            </a:r>
            <a:r>
              <a:rPr b="1" lang="zh-CN" sz="2400" spc="-1" strike="noStrike">
                <a:solidFill>
                  <a:srgbClr val="ff0000"/>
                </a:solidFill>
                <a:latin typeface="Comic Sans MS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Comic Sans MS"/>
              </a:rPr>
              <a:t>成绩</a:t>
            </a:r>
            <a:r>
              <a:rPr b="1" lang="zh-CN" sz="2400" spc="-1" strike="noStrike">
                <a:solidFill>
                  <a:srgbClr val="ff0000"/>
                </a:solidFill>
                <a:latin typeface="Comic Sans MS"/>
              </a:rPr>
              <a:t>)</a:t>
            </a:r>
            <a:endParaRPr b="1" lang="en-US" sz="2400" spc="-1" strike="noStrike">
              <a:solidFill>
                <a:srgbClr val="000099"/>
              </a:solidFill>
              <a:latin typeface="Comic Sans MS"/>
            </a:endParaRPr>
          </a:p>
          <a:p>
            <a:pPr lvl="1" marL="74304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Comic Sans MS"/>
              </a:rPr>
              <a:t>        ↑    ↑         ↑</a:t>
            </a:r>
            <a:endParaRPr b="1" lang="en-US" sz="2400" spc="-1" strike="noStrike">
              <a:solidFill>
                <a:srgbClr val="000099"/>
              </a:solidFill>
              <a:latin typeface="Comic Sans MS"/>
            </a:endParaRPr>
          </a:p>
          <a:p>
            <a:pPr lvl="1" marL="74304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Comic Sans MS"/>
              </a:rPr>
              <a:t>两个实体集的主键   自身属性</a:t>
            </a:r>
            <a:endParaRPr b="1" lang="en-US" sz="24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pic>
        <p:nvPicPr>
          <p:cNvPr id="617" name="" descr=""/>
          <p:cNvPicPr/>
          <p:nvPr/>
        </p:nvPicPr>
        <p:blipFill>
          <a:blip r:embed="rId1"/>
          <a:srcRect l="17500" t="18334" r="18753" b="13333"/>
          <a:stretch/>
        </p:blipFill>
        <p:spPr>
          <a:xfrm>
            <a:off x="5256360" y="1727280"/>
            <a:ext cx="4165560" cy="36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2968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ff0000"/>
                </a:solidFill>
                <a:latin typeface="Comic Sans MS"/>
              </a:rPr>
              <a:t>数据库概述</a:t>
            </a:r>
            <a:endParaRPr b="1" i="1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60360" y="576360"/>
            <a:ext cx="84852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6600"/>
                </a:solidFill>
                <a:latin typeface="Comic Sans MS"/>
              </a:rPr>
              <a:t>分布式数据库系统</a:t>
            </a:r>
            <a:endParaRPr b="1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数据库技术和计算机网络技术相结合产生：</a:t>
            </a:r>
            <a:endParaRPr b="1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1</a:t>
            </a: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）物理上独立，数据分布在网络的不同计算机</a:t>
            </a:r>
            <a:endParaRPr b="1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2</a:t>
            </a: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）逻辑上属于一个整体。</a:t>
            </a:r>
            <a:endParaRPr b="1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6600"/>
                </a:solidFill>
                <a:latin typeface="Comic Sans MS"/>
              </a:rPr>
              <a:t>面向对象的数据库</a:t>
            </a:r>
            <a:endParaRPr b="1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将程序设计语言中对象的概念引用到数据库中：</a:t>
            </a:r>
            <a:endParaRPr b="1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1</a:t>
            </a: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）数据和操作方法作为对象统一管理；</a:t>
            </a:r>
            <a:endParaRPr b="1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2</a:t>
            </a: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）可以处理更为复杂的对象；</a:t>
            </a:r>
            <a:endParaRPr b="1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1644480" y="475920"/>
            <a:ext cx="845352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0000"/>
                </a:solidFill>
                <a:latin typeface="Comic Sans MS"/>
                <a:ea typeface="宋体"/>
              </a:rPr>
              <a:t>根据概念数据模型设计关系数据模型 </a:t>
            </a:r>
            <a:endParaRPr b="1" i="1" lang="en-US" sz="36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673200" y="856800"/>
            <a:ext cx="84852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网上成绩查询管理系统的 </a:t>
            </a:r>
            <a:r>
              <a:rPr b="1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E-R</a:t>
            </a:r>
            <a:r>
              <a:rPr b="1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图</a:t>
            </a:r>
            <a:endParaRPr b="1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pic>
        <p:nvPicPr>
          <p:cNvPr id="620" name="" descr=""/>
          <p:cNvPicPr/>
          <p:nvPr/>
        </p:nvPicPr>
        <p:blipFill>
          <a:blip r:embed="rId1"/>
          <a:stretch/>
        </p:blipFill>
        <p:spPr>
          <a:xfrm>
            <a:off x="584280" y="2151000"/>
            <a:ext cx="9139320" cy="34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8" dur="indefinite" restart="never" nodeType="tmRoot">
          <p:childTnLst>
            <p:seq>
              <p:cTn id="879" dur="indefinite" nodeType="mainSeq">
                <p:childTnLst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4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/>
          </p:nvPr>
        </p:nvSpPr>
        <p:spPr>
          <a:xfrm>
            <a:off x="791640" y="576360"/>
            <a:ext cx="7813800" cy="102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Comic Sans MS"/>
                <a:ea typeface="宋体"/>
              </a:rPr>
              <a:t>一个实体集转换为一个关系模式，实体集的属性就是关系的属性</a:t>
            </a:r>
            <a:r>
              <a:rPr b="1" lang="zh-CN" sz="3200" spc="-1" strike="noStrike">
                <a:solidFill>
                  <a:srgbClr val="000099"/>
                </a:solidFill>
                <a:latin typeface="Comic Sans MS"/>
                <a:ea typeface="宋体"/>
              </a:rPr>
              <a:t> </a:t>
            </a:r>
            <a:endParaRPr b="1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22" name=""/>
          <p:cNvSpPr/>
          <p:nvPr/>
        </p:nvSpPr>
        <p:spPr>
          <a:xfrm>
            <a:off x="431640" y="1847880"/>
            <a:ext cx="928692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院系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院系编号，院系名称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班级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班号，班级名，学生数，班主任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学生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学号，登陆密码，姓名，性别，状态，入校时间，毕业时间，退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         学时间，注册时间，最后登陆时间，登陆次数）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    这里“状态”有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种取值：在读、退学、毕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教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教师号，登陆密码，姓名，电话，邮箱，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QQ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号，找回密码问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         题，找回密码答案，注册时间，最后登陆时间，登陆次数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课程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课程号，课程名称，学分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课程资源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资源号，资源名，链接地址，更新时间，资源类型，说明）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学期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学期号，学期名称，是否当前学期，学期起始时间，学期结束时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         间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4720" y="863280"/>
            <a:ext cx="832824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ff0000"/>
                </a:solidFill>
                <a:latin typeface="Comic Sans MS"/>
              </a:rPr>
              <a:t>Access </a:t>
            </a:r>
            <a:r>
              <a:rPr b="1" i="1" lang="zh-CN" sz="4000" spc="-1" strike="noStrike">
                <a:solidFill>
                  <a:srgbClr val="ff0000"/>
                </a:solidFill>
                <a:latin typeface="Comic Sans MS"/>
              </a:rPr>
              <a:t>简介</a:t>
            </a:r>
            <a:endParaRPr b="1" i="1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719280" y="2015640"/>
            <a:ext cx="8485200" cy="331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Comic Sans MS"/>
              </a:rPr>
              <a:t>Access</a:t>
            </a:r>
            <a:r>
              <a:rPr b="1" lang="zh-CN" sz="3200" spc="-1" strike="noStrike">
                <a:solidFill>
                  <a:srgbClr val="000099"/>
                </a:solidFill>
                <a:latin typeface="Comic Sans MS"/>
              </a:rPr>
              <a:t>的特点</a:t>
            </a:r>
            <a:endParaRPr b="1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1. </a:t>
            </a: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具有</a:t>
            </a: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Office</a:t>
            </a: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系列的共同功能</a:t>
            </a: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;</a:t>
            </a:r>
            <a:endParaRPr b="1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2. </a:t>
            </a: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桌面型的数据库管理系统</a:t>
            </a: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;</a:t>
            </a:r>
            <a:endParaRPr b="1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3. </a:t>
            </a: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与其它数据库系统共享数据</a:t>
            </a: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;</a:t>
            </a:r>
            <a:endParaRPr b="1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4. </a:t>
            </a: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提供程序设计语言</a:t>
            </a: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VBA</a:t>
            </a: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，用于开发应用程序。</a:t>
            </a:r>
            <a:endParaRPr b="1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25" name=""/>
          <p:cNvSpPr/>
          <p:nvPr/>
        </p:nvSpPr>
        <p:spPr>
          <a:xfrm>
            <a:off x="6888240" y="5977080"/>
            <a:ext cx="2184480" cy="43164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cces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启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41360" y="280800"/>
            <a:ext cx="83296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ff0000"/>
                </a:solidFill>
                <a:latin typeface="Comic Sans MS"/>
                <a:ea typeface="宋体"/>
              </a:rPr>
              <a:t> </a:t>
            </a:r>
            <a:r>
              <a:rPr b="1" i="1" lang="zh-CN" sz="4400" spc="-1" strike="noStrike">
                <a:solidFill>
                  <a:srgbClr val="ff0000"/>
                </a:solidFill>
                <a:latin typeface="Comic Sans MS"/>
                <a:ea typeface="宋体"/>
              </a:rPr>
              <a:t>ACCESS</a:t>
            </a:r>
            <a:r>
              <a:rPr b="1" i="1" lang="zh-CN" sz="4400" spc="-1" strike="noStrike">
                <a:solidFill>
                  <a:srgbClr val="ff0000"/>
                </a:solidFill>
                <a:latin typeface="Comic Sans MS"/>
                <a:ea typeface="宋体"/>
              </a:rPr>
              <a:t>数据库管理系统 </a:t>
            </a:r>
            <a:endParaRPr b="1" i="1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673200" y="857160"/>
            <a:ext cx="8485200" cy="23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Comic Sans MS"/>
                <a:ea typeface="宋体"/>
              </a:rPr>
              <a:t>Access 2003</a:t>
            </a:r>
            <a:r>
              <a:rPr b="1" lang="zh-CN" sz="2800" spc="-1" strike="noStrike">
                <a:solidFill>
                  <a:srgbClr val="000099"/>
                </a:solidFill>
                <a:latin typeface="Comic Sans MS"/>
                <a:ea typeface="宋体"/>
              </a:rPr>
              <a:t>是</a:t>
            </a:r>
            <a:r>
              <a:rPr b="1" lang="zh-CN" sz="2800" spc="-1" strike="noStrike">
                <a:solidFill>
                  <a:srgbClr val="000099"/>
                </a:solidFill>
                <a:latin typeface="Comic Sans MS"/>
                <a:ea typeface="宋体"/>
              </a:rPr>
              <a:t>Microsoft Office 2003</a:t>
            </a:r>
            <a:r>
              <a:rPr b="1" lang="zh-CN" sz="2800" spc="-1" strike="noStrike">
                <a:solidFill>
                  <a:srgbClr val="000099"/>
                </a:solidFill>
                <a:latin typeface="Comic Sans MS"/>
                <a:ea typeface="宋体"/>
              </a:rPr>
              <a:t>的组件之一，是用户和数据库间的软件接口 </a:t>
            </a:r>
            <a:endParaRPr b="1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Comic Sans MS"/>
                <a:ea typeface="宋体"/>
              </a:rPr>
              <a:t>使用非常简单 ——可视化工具</a:t>
            </a:r>
            <a:endParaRPr b="1" lang="en-US" sz="2400" spc="-1" strike="noStrike">
              <a:solidFill>
                <a:srgbClr val="000099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Comic Sans MS"/>
                <a:ea typeface="宋体"/>
              </a:rPr>
              <a:t>提供了大量的向导 ——快速创建对象及应用程序</a:t>
            </a:r>
            <a:endParaRPr b="1" lang="en-US" sz="2400" spc="-1" strike="noStrike">
              <a:solidFill>
                <a:srgbClr val="000099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Comic Sans MS"/>
                <a:ea typeface="宋体"/>
              </a:rPr>
              <a:t>面向对象的、采用事件驱动 ，可以与其他数据库相连 ，使用</a:t>
            </a:r>
            <a:r>
              <a:rPr b="1" lang="zh-CN" sz="2400" spc="-1" strike="noStrike">
                <a:solidFill>
                  <a:srgbClr val="000099"/>
                </a:solidFill>
                <a:latin typeface="Comic Sans MS"/>
                <a:ea typeface="宋体"/>
              </a:rPr>
              <a:t>VBA</a:t>
            </a:r>
            <a:r>
              <a:rPr b="1" lang="zh-CN" sz="2400" spc="-1" strike="noStrike">
                <a:solidFill>
                  <a:srgbClr val="000099"/>
                </a:solidFill>
                <a:latin typeface="Comic Sans MS"/>
                <a:ea typeface="宋体"/>
              </a:rPr>
              <a:t>语言作为其应用程序开发工具</a:t>
            </a:r>
            <a:endParaRPr b="1" lang="en-US" sz="2400" spc="-1" strike="noStrike">
              <a:solidFill>
                <a:srgbClr val="000099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Comic Sans MS"/>
                <a:ea typeface="宋体"/>
              </a:rPr>
              <a:t>可处理多种数据信息——</a:t>
            </a:r>
            <a:r>
              <a:rPr b="1" lang="zh-CN" sz="2400" spc="-1" strike="noStrike">
                <a:solidFill>
                  <a:srgbClr val="000099"/>
                </a:solidFill>
                <a:latin typeface="Comic Sans MS"/>
                <a:ea typeface="宋体"/>
              </a:rPr>
              <a:t>Office</a:t>
            </a:r>
            <a:r>
              <a:rPr b="1" lang="zh-CN" sz="2400" spc="-1" strike="noStrike">
                <a:solidFill>
                  <a:srgbClr val="000099"/>
                </a:solidFill>
                <a:latin typeface="Comic Sans MS"/>
                <a:ea typeface="宋体"/>
              </a:rPr>
              <a:t>组件数据、其他</a:t>
            </a:r>
            <a:r>
              <a:rPr b="1" lang="zh-CN" sz="2400" spc="-1" strike="noStrike">
                <a:solidFill>
                  <a:srgbClr val="000099"/>
                </a:solidFill>
                <a:latin typeface="Comic Sans MS"/>
                <a:ea typeface="宋体"/>
              </a:rPr>
              <a:t>DBMS</a:t>
            </a:r>
            <a:r>
              <a:rPr b="1" lang="zh-CN" sz="2400" spc="-1" strike="noStrike">
                <a:solidFill>
                  <a:srgbClr val="000099"/>
                </a:solidFill>
                <a:latin typeface="Comic Sans MS"/>
                <a:ea typeface="宋体"/>
              </a:rPr>
              <a:t>数据  </a:t>
            </a:r>
            <a:endParaRPr b="1" lang="en-US" sz="24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28" name=""/>
          <p:cNvSpPr/>
          <p:nvPr/>
        </p:nvSpPr>
        <p:spPr>
          <a:xfrm>
            <a:off x="1604880" y="3444840"/>
            <a:ext cx="7031160" cy="2440080"/>
          </a:xfrm>
          <a:custGeom>
            <a:avLst/>
            <a:gdLst/>
            <a:ahLst/>
            <a:rect l="l" t="t" r="r" b="b"/>
            <a:pathLst>
              <a:path w="4018" h="1627">
                <a:moveTo>
                  <a:pt x="43" y="240"/>
                </a:moveTo>
                <a:cubicBezTo>
                  <a:pt x="133" y="271"/>
                  <a:pt x="241" y="275"/>
                  <a:pt x="321" y="221"/>
                </a:cubicBezTo>
                <a:cubicBezTo>
                  <a:pt x="339" y="169"/>
                  <a:pt x="322" y="199"/>
                  <a:pt x="389" y="154"/>
                </a:cubicBezTo>
                <a:cubicBezTo>
                  <a:pt x="399" y="148"/>
                  <a:pt x="417" y="134"/>
                  <a:pt x="417" y="134"/>
                </a:cubicBezTo>
                <a:cubicBezTo>
                  <a:pt x="870" y="145"/>
                  <a:pt x="1129" y="151"/>
                  <a:pt x="1617" y="144"/>
                </a:cubicBezTo>
                <a:cubicBezTo>
                  <a:pt x="1662" y="102"/>
                  <a:pt x="1610" y="146"/>
                  <a:pt x="1665" y="115"/>
                </a:cubicBezTo>
                <a:cubicBezTo>
                  <a:pt x="1757" y="64"/>
                  <a:pt x="1688" y="86"/>
                  <a:pt x="1761" y="67"/>
                </a:cubicBezTo>
                <a:cubicBezTo>
                  <a:pt x="1803" y="27"/>
                  <a:pt x="1755" y="66"/>
                  <a:pt x="1829" y="38"/>
                </a:cubicBezTo>
                <a:cubicBezTo>
                  <a:pt x="1840" y="34"/>
                  <a:pt x="1847" y="24"/>
                  <a:pt x="1857" y="19"/>
                </a:cubicBezTo>
                <a:cubicBezTo>
                  <a:pt x="1875" y="10"/>
                  <a:pt x="1896" y="7"/>
                  <a:pt x="1915" y="0"/>
                </a:cubicBezTo>
                <a:cubicBezTo>
                  <a:pt x="2340" y="7"/>
                  <a:pt x="2679" y="30"/>
                  <a:pt x="3096" y="38"/>
                </a:cubicBezTo>
                <a:cubicBezTo>
                  <a:pt x="3110" y="82"/>
                  <a:pt x="3151" y="124"/>
                  <a:pt x="3201" y="125"/>
                </a:cubicBezTo>
                <a:cubicBezTo>
                  <a:pt x="3441" y="131"/>
                  <a:pt x="3681" y="131"/>
                  <a:pt x="3921" y="134"/>
                </a:cubicBezTo>
                <a:cubicBezTo>
                  <a:pt x="3914" y="214"/>
                  <a:pt x="3921" y="240"/>
                  <a:pt x="3883" y="298"/>
                </a:cubicBezTo>
                <a:cubicBezTo>
                  <a:pt x="3860" y="409"/>
                  <a:pt x="3979" y="469"/>
                  <a:pt x="3979" y="536"/>
                </a:cubicBezTo>
                <a:cubicBezTo>
                  <a:pt x="3919" y="593"/>
                  <a:pt x="3849" y="672"/>
                  <a:pt x="3902" y="728"/>
                </a:cubicBezTo>
                <a:cubicBezTo>
                  <a:pt x="3923" y="809"/>
                  <a:pt x="3863" y="921"/>
                  <a:pt x="3921" y="979"/>
                </a:cubicBezTo>
                <a:cubicBezTo>
                  <a:pt x="3937" y="995"/>
                  <a:pt x="3950" y="1016"/>
                  <a:pt x="3969" y="1016"/>
                </a:cubicBezTo>
                <a:cubicBezTo>
                  <a:pt x="3979" y="1022"/>
                  <a:pt x="3998" y="1064"/>
                  <a:pt x="3998" y="1064"/>
                </a:cubicBezTo>
                <a:cubicBezTo>
                  <a:pt x="4018" y="1074"/>
                  <a:pt x="3949" y="1225"/>
                  <a:pt x="3960" y="1246"/>
                </a:cubicBezTo>
                <a:cubicBezTo>
                  <a:pt x="3960" y="1296"/>
                  <a:pt x="4006" y="1328"/>
                  <a:pt x="3998" y="1362"/>
                </a:cubicBezTo>
                <a:cubicBezTo>
                  <a:pt x="3979" y="1420"/>
                  <a:pt x="3990" y="1449"/>
                  <a:pt x="3912" y="1450"/>
                </a:cubicBezTo>
                <a:cubicBezTo>
                  <a:pt x="3518" y="1456"/>
                  <a:pt x="3125" y="1456"/>
                  <a:pt x="2731" y="1459"/>
                </a:cubicBezTo>
                <a:cubicBezTo>
                  <a:pt x="2422" y="1566"/>
                  <a:pt x="2305" y="1502"/>
                  <a:pt x="1838" y="1507"/>
                </a:cubicBezTo>
                <a:cubicBezTo>
                  <a:pt x="1006" y="1502"/>
                  <a:pt x="689" y="1627"/>
                  <a:pt x="120" y="1450"/>
                </a:cubicBezTo>
                <a:cubicBezTo>
                  <a:pt x="74" y="1404"/>
                  <a:pt x="99" y="1417"/>
                  <a:pt x="53" y="1402"/>
                </a:cubicBezTo>
                <a:cubicBezTo>
                  <a:pt x="0" y="1349"/>
                  <a:pt x="36" y="1065"/>
                  <a:pt x="72" y="960"/>
                </a:cubicBezTo>
                <a:cubicBezTo>
                  <a:pt x="69" y="835"/>
                  <a:pt x="62" y="711"/>
                  <a:pt x="62" y="586"/>
                </a:cubicBezTo>
                <a:cubicBezTo>
                  <a:pt x="62" y="486"/>
                  <a:pt x="81" y="395"/>
                  <a:pt x="81" y="288"/>
                </a:cubicBezTo>
                <a:cubicBezTo>
                  <a:pt x="81" y="288"/>
                  <a:pt x="43" y="240"/>
                  <a:pt x="43" y="240"/>
                </a:cubicBezTo>
                <a:close/>
              </a:path>
            </a:pathLst>
          </a:custGeom>
          <a:solidFill>
            <a:srgbClr val="ffe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2103480" y="3989520"/>
            <a:ext cx="57960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创建数据库和数据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数据完整性控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数据查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 rot="20624400">
            <a:off x="920160" y="3510720"/>
            <a:ext cx="2060640" cy="550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000" spc="-1" strike="noStrike">
                <a:solidFill>
                  <a:srgbClr val="ff3300"/>
                </a:solidFill>
                <a:latin typeface="黑体"/>
                <a:ea typeface="黑体"/>
              </a:rPr>
              <a:t>主要内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5" dur="indefinite" restart="never" nodeType="tmRoot">
          <p:childTnLst>
            <p:seq>
              <p:cTn id="886" dur="indefinite" nodeType="mainSeq">
                <p:childTnLst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1" dur="1000"/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2" dur="1000" fill="hold"/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1000" fill="hold"/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8" dur="1000"/>
                                        <p:tgtEl>
                                          <p:spTgt spid="6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9" dur="1000" fill="hold"/>
                                        <p:tgtEl>
                                          <p:spTgt spid="6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1000" fill="hold"/>
                                        <p:tgtEl>
                                          <p:spTgt spid="6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5" dur="1000"/>
                                        <p:tgtEl>
                                          <p:spTgt spid="6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6" dur="1000" fill="hold"/>
                                        <p:tgtEl>
                                          <p:spTgt spid="6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1000" fill="hold"/>
                                        <p:tgtEl>
                                          <p:spTgt spid="6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2" dur="1000"/>
                                        <p:tgtEl>
                                          <p:spTgt spid="6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3" dur="1000" fill="hold"/>
                                        <p:tgtEl>
                                          <p:spTgt spid="6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4" dur="1000" fill="hold"/>
                                        <p:tgtEl>
                                          <p:spTgt spid="6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1000"/>
                                        <p:tgtEl>
                                          <p:spTgt spid="6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0" dur="1000" fill="hold"/>
                                        <p:tgtEl>
                                          <p:spTgt spid="6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1000" fill="hold"/>
                                        <p:tgtEl>
                                          <p:spTgt spid="6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6" dur="8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7" dur="8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8" dur="8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9" dur="8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4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8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9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41360" y="280800"/>
            <a:ext cx="83296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ff0000"/>
                </a:solidFill>
                <a:latin typeface="Comic Sans MS"/>
              </a:rPr>
              <a:t>Access</a:t>
            </a:r>
            <a:r>
              <a:rPr b="1" i="1" lang="zh-CN" sz="4000" spc="-1" strike="noStrike">
                <a:solidFill>
                  <a:srgbClr val="ff0000"/>
                </a:solidFill>
                <a:latin typeface="Comic Sans MS"/>
              </a:rPr>
              <a:t>的启动</a:t>
            </a:r>
            <a:endParaRPr b="1" i="1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673200" y="856800"/>
            <a:ext cx="84852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Comic Sans MS"/>
              </a:rPr>
              <a:t>1.“</a:t>
            </a:r>
            <a:r>
              <a:rPr b="1" lang="zh-CN" sz="3200" spc="-1" strike="noStrike">
                <a:solidFill>
                  <a:srgbClr val="000099"/>
                </a:solidFill>
                <a:latin typeface="Comic Sans MS"/>
              </a:rPr>
              <a:t>开始”</a:t>
            </a:r>
            <a:r>
              <a:rPr b="1" lang="zh-CN" sz="3200" spc="-1" strike="noStrike">
                <a:solidFill>
                  <a:srgbClr val="000099"/>
                </a:solidFill>
                <a:latin typeface="Comic Sans MS"/>
              </a:rPr>
              <a:t>---&gt;“</a:t>
            </a:r>
            <a:r>
              <a:rPr b="1" lang="zh-CN" sz="3200" spc="-1" strike="noStrike">
                <a:solidFill>
                  <a:srgbClr val="000099"/>
                </a:solidFill>
                <a:latin typeface="Comic Sans MS"/>
              </a:rPr>
              <a:t>程序”</a:t>
            </a:r>
            <a:r>
              <a:rPr b="1" lang="zh-CN" sz="3200" spc="-1" strike="noStrike">
                <a:solidFill>
                  <a:srgbClr val="000099"/>
                </a:solidFill>
                <a:latin typeface="Comic Sans MS"/>
              </a:rPr>
              <a:t>---&gt;Microsoft Access</a:t>
            </a:r>
            <a:endParaRPr b="1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Comic Sans MS"/>
              </a:rPr>
              <a:t>2.</a:t>
            </a:r>
            <a:r>
              <a:rPr b="1" lang="zh-CN" sz="3200" spc="-1" strike="noStrike">
                <a:solidFill>
                  <a:srgbClr val="000099"/>
                </a:solidFill>
                <a:latin typeface="Comic Sans MS"/>
              </a:rPr>
              <a:t>在对话框中选“空</a:t>
            </a:r>
            <a:r>
              <a:rPr b="1" lang="zh-CN" sz="3200" spc="-1" strike="noStrike">
                <a:solidFill>
                  <a:srgbClr val="000099"/>
                </a:solidFill>
                <a:latin typeface="Comic Sans MS"/>
              </a:rPr>
              <a:t>Access</a:t>
            </a:r>
            <a:r>
              <a:rPr b="1" lang="zh-CN" sz="3200" spc="-1" strike="noStrike">
                <a:solidFill>
                  <a:srgbClr val="000099"/>
                </a:solidFill>
                <a:latin typeface="Comic Sans MS"/>
              </a:rPr>
              <a:t>数据库”。 </a:t>
            </a:r>
            <a:endParaRPr b="1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Comic Sans MS"/>
              </a:rPr>
              <a:t>3.</a:t>
            </a:r>
            <a:r>
              <a:rPr b="1" lang="zh-CN" sz="3200" spc="-1" strike="noStrike">
                <a:solidFill>
                  <a:srgbClr val="000099"/>
                </a:solidFill>
                <a:latin typeface="Comic Sans MS"/>
              </a:rPr>
              <a:t>单击“确定”     </a:t>
            </a:r>
            <a:endParaRPr b="1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Comic Sans MS"/>
              </a:rPr>
              <a:t>4.</a:t>
            </a:r>
            <a:r>
              <a:rPr b="1" lang="zh-CN" sz="3200" spc="-1" strike="noStrike">
                <a:solidFill>
                  <a:srgbClr val="000099"/>
                </a:solidFill>
                <a:latin typeface="Comic Sans MS"/>
              </a:rPr>
              <a:t>输入数据库名</a:t>
            </a:r>
            <a:endParaRPr b="1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Comic Sans MS"/>
              </a:rPr>
              <a:t>5.</a:t>
            </a:r>
            <a:r>
              <a:rPr b="1" lang="zh-CN" sz="3200" spc="-1" strike="noStrike">
                <a:solidFill>
                  <a:srgbClr val="000099"/>
                </a:solidFill>
                <a:latin typeface="Comic Sans MS"/>
              </a:rPr>
              <a:t>单击“创建”</a:t>
            </a:r>
            <a:endParaRPr b="1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33" name=""/>
          <p:cNvSpPr/>
          <p:nvPr/>
        </p:nvSpPr>
        <p:spPr>
          <a:xfrm>
            <a:off x="6888240" y="5977080"/>
            <a:ext cx="2184480" cy="43164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数据库组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41360" y="280800"/>
            <a:ext cx="83296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ff0000"/>
                </a:solidFill>
                <a:latin typeface="Comic Sans MS"/>
                <a:ea typeface="宋体"/>
              </a:rPr>
              <a:t>6.4.1  </a:t>
            </a:r>
            <a:r>
              <a:rPr b="1" i="1" lang="zh-CN" sz="4400" spc="-1" strike="noStrike">
                <a:solidFill>
                  <a:srgbClr val="ff0000"/>
                </a:solidFill>
                <a:latin typeface="Comic Sans MS"/>
                <a:ea typeface="宋体"/>
              </a:rPr>
              <a:t>创建数据库和数据表  </a:t>
            </a:r>
            <a:endParaRPr b="1" i="1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35" name=""/>
          <p:cNvSpPr/>
          <p:nvPr/>
        </p:nvSpPr>
        <p:spPr>
          <a:xfrm>
            <a:off x="595440" y="1538280"/>
            <a:ext cx="8761320" cy="4089240"/>
          </a:xfrm>
          <a:prstGeom prst="roundRect">
            <a:avLst>
              <a:gd name="adj" fmla="val 10889"/>
            </a:avLst>
          </a:prstGeom>
          <a:gradFill rotWithShape="0">
            <a:gsLst>
              <a:gs pos="0">
                <a:srgbClr val="dddddd"/>
              </a:gs>
              <a:gs pos="50000">
                <a:srgbClr val="f1f1f1"/>
              </a:gs>
              <a:gs pos="100000">
                <a:srgbClr val="dddddd"/>
              </a:gs>
            </a:gsLst>
            <a:lin ang="13500000"/>
          </a:gradFill>
          <a:ln w="38160">
            <a:solidFill>
              <a:srgbClr val="ffffff"/>
            </a:solidFill>
            <a:miter/>
          </a:ln>
          <a:effectLst>
            <a:outerShdw dist="134955" dir="292711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733320" y="1806480"/>
            <a:ext cx="1478160" cy="963720"/>
          </a:xfrm>
          <a:prstGeom prst="roundRect">
            <a:avLst>
              <a:gd name="adj" fmla="val 11921"/>
            </a:avLst>
          </a:prstGeom>
          <a:gradFill rotWithShape="0">
            <a:gsLst>
              <a:gs pos="0">
                <a:srgbClr val="ffef66"/>
              </a:gs>
              <a:gs pos="100000">
                <a:srgbClr val="b1a646"/>
              </a:gs>
            </a:gsLst>
            <a:lin ang="54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808200" y="1708200"/>
            <a:ext cx="606240" cy="484200"/>
          </a:xfrm>
          <a:custGeom>
            <a:avLst/>
            <a:gdLst/>
            <a:ahLst/>
            <a:rect l="l" t="t" r="r" b="b"/>
            <a:pathLst>
              <a:path w="596" h="598">
                <a:moveTo>
                  <a:pt x="118" y="0"/>
                </a:moveTo>
                <a:cubicBezTo>
                  <a:pt x="53" y="0"/>
                  <a:pt x="0" y="53"/>
                  <a:pt x="0" y="118"/>
                </a:cubicBezTo>
                <a:lnTo>
                  <a:pt x="0" y="589"/>
                </a:lnTo>
                <a:cubicBezTo>
                  <a:pt x="27" y="598"/>
                  <a:pt x="12" y="309"/>
                  <a:pt x="161" y="174"/>
                </a:cubicBezTo>
                <a:cubicBezTo>
                  <a:pt x="310" y="39"/>
                  <a:pt x="596" y="29"/>
                  <a:pt x="589" y="0"/>
                </a:cubicBezTo>
                <a:lnTo>
                  <a:pt x="118" y="0"/>
                </a:lnTo>
                <a:close/>
              </a:path>
            </a:pathLst>
          </a:custGeom>
          <a:gradFill rotWithShape="0">
            <a:gsLst>
              <a:gs pos="0">
                <a:srgbClr val="fef5aa"/>
              </a:gs>
              <a:gs pos="50000">
                <a:srgbClr val="ffef66">
                  <a:alpha val="0"/>
                </a:srgbClr>
              </a:gs>
              <a:gs pos="100000">
                <a:srgbClr val="fef5a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758880" y="1811160"/>
            <a:ext cx="13446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Arial"/>
              </a:rPr>
              <a:t>创建</a:t>
            </a:r>
            <a:br>
              <a:rPr sz="2600"/>
            </a:br>
            <a:r>
              <a:rPr b="1" lang="zh-CN" sz="2600" spc="-1" strike="noStrike">
                <a:solidFill>
                  <a:srgbClr val="ffffff"/>
                </a:solidFill>
                <a:latin typeface="Arial"/>
              </a:rPr>
              <a:t>数据库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2200320" y="1722600"/>
            <a:ext cx="708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数据库文件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.mdb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其中包括所有相关数据和管理这些数据的所有对象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2131920" y="2832120"/>
            <a:ext cx="7145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方法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单击【开始】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【所有程序】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Microsoft Office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Microsoft Office Access 200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】启动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Access2003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单击【文件】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【新建…】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建立空数据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使用模板向导建立各类数据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1" name=""/>
          <p:cNvGrpSpPr/>
          <p:nvPr/>
        </p:nvGrpSpPr>
        <p:grpSpPr>
          <a:xfrm>
            <a:off x="6865920" y="1130400"/>
            <a:ext cx="4006800" cy="2550960"/>
            <a:chOff x="6865920" y="1130400"/>
            <a:chExt cx="4006800" cy="2550960"/>
          </a:xfrm>
        </p:grpSpPr>
        <p:pic>
          <p:nvPicPr>
            <p:cNvPr id="642" name="" descr=""/>
            <p:cNvPicPr/>
            <p:nvPr/>
          </p:nvPicPr>
          <p:blipFill>
            <a:blip r:embed="rId1"/>
            <a:stretch/>
          </p:blipFill>
          <p:spPr>
            <a:xfrm>
              <a:off x="6865920" y="1130400"/>
              <a:ext cx="2268720" cy="255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3" name=""/>
            <p:cNvSpPr/>
            <p:nvPr/>
          </p:nvSpPr>
          <p:spPr>
            <a:xfrm>
              <a:off x="7032240" y="3364560"/>
              <a:ext cx="1632600" cy="255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8664840" y="3492360"/>
              <a:ext cx="362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7016760" y="1714680"/>
              <a:ext cx="1348560" cy="255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8362440" y="1842120"/>
              <a:ext cx="362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8651160" y="1677600"/>
              <a:ext cx="14036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" spc="-1" strike="noStrike">
                  <a:solidFill>
                    <a:srgbClr val="000000"/>
                  </a:solidFill>
                  <a:latin typeface="Times New Roman"/>
                </a:rPr>
                <a:t>建空数据库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8875800" y="3326760"/>
              <a:ext cx="19969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" spc="-1" strike="noStrike">
                  <a:solidFill>
                    <a:srgbClr val="000000"/>
                  </a:solidFill>
                  <a:latin typeface="Times New Roman"/>
                </a:rPr>
                <a:t>利用向导建数据库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49" name="" descr=""/>
          <p:cNvPicPr/>
          <p:nvPr/>
        </p:nvPicPr>
        <p:blipFill>
          <a:blip r:embed="rId2"/>
          <a:stretch/>
        </p:blipFill>
        <p:spPr>
          <a:xfrm>
            <a:off x="1149480" y="4737240"/>
            <a:ext cx="1271520" cy="62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0" dur="indefinite" restart="never" nodeType="tmRoot">
          <p:childTnLst>
            <p:seq>
              <p:cTn id="941" dur="indefinite" nodeType="mainSeq">
                <p:childTnLst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46" dur="20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51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6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6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6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6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6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41360" y="86760"/>
            <a:ext cx="83296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zh-CN" sz="4000" spc="-1" strike="noStrike">
              <a:solidFill>
                <a:srgbClr val="ff0000"/>
              </a:solidFill>
              <a:latin typeface="Comic Sans MS"/>
              <a:ea typeface="宋体"/>
            </a:endParaRPr>
          </a:p>
        </p:txBody>
      </p:sp>
      <p:sp>
        <p:nvSpPr>
          <p:cNvPr id="651" name=""/>
          <p:cNvSpPr/>
          <p:nvPr/>
        </p:nvSpPr>
        <p:spPr>
          <a:xfrm>
            <a:off x="490680" y="1606680"/>
            <a:ext cx="9153360" cy="1361880"/>
          </a:xfrm>
          <a:prstGeom prst="roundRect">
            <a:avLst>
              <a:gd name="adj" fmla="val 10889"/>
            </a:avLst>
          </a:prstGeom>
          <a:gradFill rotWithShape="0">
            <a:gsLst>
              <a:gs pos="0">
                <a:srgbClr val="dddddd"/>
              </a:gs>
              <a:gs pos="50000">
                <a:srgbClr val="f0f0f0"/>
              </a:gs>
              <a:gs pos="100000">
                <a:srgbClr val="dddddd"/>
              </a:gs>
            </a:gsLst>
            <a:lin ang="13500000"/>
          </a:gradFill>
          <a:ln w="38160">
            <a:solidFill>
              <a:srgbClr val="ffffff"/>
            </a:solidFill>
            <a:miter/>
          </a:ln>
          <a:effectLst>
            <a:outerShdw dist="134955" dir="292711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628560" y="1838160"/>
            <a:ext cx="1479600" cy="963720"/>
          </a:xfrm>
          <a:prstGeom prst="roundRect">
            <a:avLst>
              <a:gd name="adj" fmla="val 11921"/>
            </a:avLst>
          </a:prstGeom>
          <a:gradFill rotWithShape="0">
            <a:gsLst>
              <a:gs pos="0">
                <a:srgbClr val="45c645"/>
              </a:gs>
              <a:gs pos="100000">
                <a:srgbClr val="00b200"/>
              </a:gs>
            </a:gsLst>
            <a:lin ang="54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703440" y="1898640"/>
            <a:ext cx="606240" cy="484200"/>
          </a:xfrm>
          <a:custGeom>
            <a:avLst/>
            <a:gdLst/>
            <a:ahLst/>
            <a:rect l="l" t="t" r="r" b="b"/>
            <a:pathLst>
              <a:path w="596" h="598">
                <a:moveTo>
                  <a:pt x="118" y="0"/>
                </a:moveTo>
                <a:cubicBezTo>
                  <a:pt x="53" y="0"/>
                  <a:pt x="0" y="53"/>
                  <a:pt x="0" y="118"/>
                </a:cubicBezTo>
                <a:lnTo>
                  <a:pt x="0" y="589"/>
                </a:lnTo>
                <a:cubicBezTo>
                  <a:pt x="27" y="598"/>
                  <a:pt x="12" y="309"/>
                  <a:pt x="161" y="174"/>
                </a:cubicBezTo>
                <a:cubicBezTo>
                  <a:pt x="310" y="39"/>
                  <a:pt x="596" y="29"/>
                  <a:pt x="589" y="0"/>
                </a:cubicBezTo>
                <a:lnTo>
                  <a:pt x="118" y="0"/>
                </a:lnTo>
                <a:close/>
              </a:path>
            </a:pathLst>
          </a:custGeom>
          <a:gradFill rotWithShape="0">
            <a:gsLst>
              <a:gs pos="0">
                <a:srgbClr val="00b200">
                  <a:alpha val="0"/>
                </a:srgbClr>
              </a:gs>
              <a:gs pos="100000">
                <a:srgbClr val="92dd9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511200" y="1849320"/>
            <a:ext cx="17492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Arial"/>
              </a:rPr>
              <a:t>创建</a:t>
            </a:r>
            <a:br>
              <a:rPr sz="2600"/>
            </a:br>
            <a:r>
              <a:rPr b="1" lang="zh-CN" sz="2600" spc="-1" strike="noStrike">
                <a:solidFill>
                  <a:srgbClr val="ffffff"/>
                </a:solidFill>
                <a:latin typeface="Arial"/>
              </a:rPr>
              <a:t>数据表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2120760" y="1919160"/>
            <a:ext cx="7639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每个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关系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对应建立一个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数据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两方面的工作：设计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表结构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输入数据记录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754200" y="3579840"/>
            <a:ext cx="8415360" cy="2508120"/>
          </a:xfrm>
          <a:custGeom>
            <a:avLst/>
            <a:gdLst/>
            <a:ahLst/>
            <a:rect l="l" t="t" r="r" b="b"/>
            <a:pathLst>
              <a:path w="4018" h="1627">
                <a:moveTo>
                  <a:pt x="43" y="240"/>
                </a:moveTo>
                <a:cubicBezTo>
                  <a:pt x="133" y="271"/>
                  <a:pt x="241" y="275"/>
                  <a:pt x="321" y="221"/>
                </a:cubicBezTo>
                <a:cubicBezTo>
                  <a:pt x="339" y="169"/>
                  <a:pt x="322" y="199"/>
                  <a:pt x="389" y="154"/>
                </a:cubicBezTo>
                <a:cubicBezTo>
                  <a:pt x="399" y="148"/>
                  <a:pt x="417" y="134"/>
                  <a:pt x="417" y="134"/>
                </a:cubicBezTo>
                <a:cubicBezTo>
                  <a:pt x="870" y="145"/>
                  <a:pt x="1129" y="151"/>
                  <a:pt x="1617" y="144"/>
                </a:cubicBezTo>
                <a:cubicBezTo>
                  <a:pt x="1662" y="102"/>
                  <a:pt x="1610" y="146"/>
                  <a:pt x="1665" y="115"/>
                </a:cubicBezTo>
                <a:cubicBezTo>
                  <a:pt x="1757" y="64"/>
                  <a:pt x="1688" y="86"/>
                  <a:pt x="1761" y="67"/>
                </a:cubicBezTo>
                <a:cubicBezTo>
                  <a:pt x="1803" y="27"/>
                  <a:pt x="1755" y="66"/>
                  <a:pt x="1829" y="38"/>
                </a:cubicBezTo>
                <a:cubicBezTo>
                  <a:pt x="1840" y="34"/>
                  <a:pt x="1847" y="24"/>
                  <a:pt x="1857" y="19"/>
                </a:cubicBezTo>
                <a:cubicBezTo>
                  <a:pt x="1875" y="10"/>
                  <a:pt x="1896" y="7"/>
                  <a:pt x="1915" y="0"/>
                </a:cubicBezTo>
                <a:cubicBezTo>
                  <a:pt x="2340" y="7"/>
                  <a:pt x="2679" y="30"/>
                  <a:pt x="3096" y="38"/>
                </a:cubicBezTo>
                <a:cubicBezTo>
                  <a:pt x="3110" y="82"/>
                  <a:pt x="3151" y="124"/>
                  <a:pt x="3201" y="125"/>
                </a:cubicBezTo>
                <a:cubicBezTo>
                  <a:pt x="3441" y="131"/>
                  <a:pt x="3681" y="131"/>
                  <a:pt x="3921" y="134"/>
                </a:cubicBezTo>
                <a:cubicBezTo>
                  <a:pt x="3914" y="214"/>
                  <a:pt x="3921" y="240"/>
                  <a:pt x="3883" y="298"/>
                </a:cubicBezTo>
                <a:cubicBezTo>
                  <a:pt x="3860" y="409"/>
                  <a:pt x="3979" y="469"/>
                  <a:pt x="3979" y="536"/>
                </a:cubicBezTo>
                <a:cubicBezTo>
                  <a:pt x="3919" y="593"/>
                  <a:pt x="3849" y="672"/>
                  <a:pt x="3902" y="728"/>
                </a:cubicBezTo>
                <a:cubicBezTo>
                  <a:pt x="3923" y="809"/>
                  <a:pt x="3863" y="921"/>
                  <a:pt x="3921" y="979"/>
                </a:cubicBezTo>
                <a:cubicBezTo>
                  <a:pt x="3937" y="995"/>
                  <a:pt x="3950" y="1016"/>
                  <a:pt x="3969" y="1016"/>
                </a:cubicBezTo>
                <a:cubicBezTo>
                  <a:pt x="3979" y="1022"/>
                  <a:pt x="3998" y="1064"/>
                  <a:pt x="3998" y="1064"/>
                </a:cubicBezTo>
                <a:cubicBezTo>
                  <a:pt x="4018" y="1074"/>
                  <a:pt x="3949" y="1225"/>
                  <a:pt x="3960" y="1246"/>
                </a:cubicBezTo>
                <a:cubicBezTo>
                  <a:pt x="3960" y="1296"/>
                  <a:pt x="4006" y="1328"/>
                  <a:pt x="3998" y="1362"/>
                </a:cubicBezTo>
                <a:cubicBezTo>
                  <a:pt x="3979" y="1420"/>
                  <a:pt x="3990" y="1449"/>
                  <a:pt x="3912" y="1450"/>
                </a:cubicBezTo>
                <a:cubicBezTo>
                  <a:pt x="3518" y="1456"/>
                  <a:pt x="3125" y="1456"/>
                  <a:pt x="2731" y="1459"/>
                </a:cubicBezTo>
                <a:cubicBezTo>
                  <a:pt x="2422" y="1566"/>
                  <a:pt x="2305" y="1502"/>
                  <a:pt x="1838" y="1507"/>
                </a:cubicBezTo>
                <a:cubicBezTo>
                  <a:pt x="1006" y="1502"/>
                  <a:pt x="689" y="1627"/>
                  <a:pt x="120" y="1450"/>
                </a:cubicBezTo>
                <a:cubicBezTo>
                  <a:pt x="74" y="1404"/>
                  <a:pt x="99" y="1417"/>
                  <a:pt x="53" y="1402"/>
                </a:cubicBezTo>
                <a:cubicBezTo>
                  <a:pt x="0" y="1349"/>
                  <a:pt x="36" y="1065"/>
                  <a:pt x="72" y="960"/>
                </a:cubicBezTo>
                <a:cubicBezTo>
                  <a:pt x="69" y="835"/>
                  <a:pt x="62" y="711"/>
                  <a:pt x="62" y="586"/>
                </a:cubicBezTo>
                <a:cubicBezTo>
                  <a:pt x="62" y="486"/>
                  <a:pt x="81" y="395"/>
                  <a:pt x="81" y="288"/>
                </a:cubicBezTo>
                <a:cubicBezTo>
                  <a:pt x="81" y="288"/>
                  <a:pt x="43" y="240"/>
                  <a:pt x="43" y="240"/>
                </a:cubicBezTo>
                <a:close/>
              </a:path>
            </a:pathLst>
          </a:custGeom>
          <a:solidFill>
            <a:srgbClr val="ffe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1332000" y="4167360"/>
            <a:ext cx="693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(1)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打开表结构“设计器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 rot="21309600">
            <a:off x="-120600" y="2900160"/>
            <a:ext cx="5560920" cy="13129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ff3300"/>
                </a:solidFill>
                <a:latin typeface="华文行楷"/>
                <a:ea typeface="华文行楷"/>
              </a:rPr>
              <a:t> </a:t>
            </a:r>
            <a:r>
              <a:rPr b="1" i="1" lang="zh-CN" sz="4000" spc="-1" strike="noStrike">
                <a:solidFill>
                  <a:srgbClr val="ff3300"/>
                </a:solidFill>
                <a:latin typeface="华文行楷"/>
                <a:ea typeface="华文行楷"/>
              </a:rPr>
              <a:t>使用设计视图</a:t>
            </a:r>
            <a:br>
              <a:rPr sz="4000"/>
            </a:br>
            <a:r>
              <a:rPr b="1" i="1" lang="zh-CN" sz="4000" spc="-1" strike="noStrike">
                <a:solidFill>
                  <a:srgbClr val="ff3300"/>
                </a:solidFill>
                <a:latin typeface="华文行楷"/>
                <a:ea typeface="华文行楷"/>
              </a:rPr>
              <a:t>建立数据表的表结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9" name="" descr=""/>
          <p:cNvPicPr/>
          <p:nvPr/>
        </p:nvPicPr>
        <p:blipFill>
          <a:blip r:embed="rId1"/>
          <a:stretch/>
        </p:blipFill>
        <p:spPr>
          <a:xfrm>
            <a:off x="5597640" y="246240"/>
            <a:ext cx="4068720" cy="2525400"/>
          </a:xfrm>
          <a:prstGeom prst="rect">
            <a:avLst/>
          </a:prstGeom>
          <a:ln w="0">
            <a:noFill/>
          </a:ln>
        </p:spPr>
      </p:pic>
      <p:sp>
        <p:nvSpPr>
          <p:cNvPr id="660" name=""/>
          <p:cNvSpPr/>
          <p:nvPr/>
        </p:nvSpPr>
        <p:spPr>
          <a:xfrm rot="1638600">
            <a:off x="9169200" y="1290240"/>
            <a:ext cx="712800" cy="409680"/>
          </a:xfrm>
          <a:prstGeom prst="leftArrow">
            <a:avLst>
              <a:gd name="adj1" fmla="val 50000"/>
              <a:gd name="adj2" fmla="val 43497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 rot="12750600">
            <a:off x="6590880" y="313920"/>
            <a:ext cx="714600" cy="409680"/>
          </a:xfrm>
          <a:prstGeom prst="leftArrow">
            <a:avLst>
              <a:gd name="adj1" fmla="val 50000"/>
              <a:gd name="adj2" fmla="val 43607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2" name=""/>
          <p:cNvGrpSpPr/>
          <p:nvPr/>
        </p:nvGrpSpPr>
        <p:grpSpPr>
          <a:xfrm>
            <a:off x="1230480" y="246240"/>
            <a:ext cx="3933720" cy="2783880"/>
            <a:chOff x="1230480" y="246240"/>
            <a:chExt cx="3933720" cy="2783880"/>
          </a:xfrm>
        </p:grpSpPr>
        <p:pic>
          <p:nvPicPr>
            <p:cNvPr id="663" name="" descr=""/>
            <p:cNvPicPr/>
            <p:nvPr/>
          </p:nvPicPr>
          <p:blipFill>
            <a:blip r:embed="rId2"/>
            <a:stretch/>
          </p:blipFill>
          <p:spPr>
            <a:xfrm>
              <a:off x="1230480" y="246240"/>
              <a:ext cx="3933720" cy="253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4" name=""/>
            <p:cNvSpPr/>
            <p:nvPr/>
          </p:nvSpPr>
          <p:spPr>
            <a:xfrm>
              <a:off x="2048760" y="2783880"/>
              <a:ext cx="1002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Times New Roman"/>
                </a:rPr>
                <a:t>图</a:t>
              </a:r>
              <a:r>
                <a:rPr b="0" lang="zh-CN" sz="1000" spc="-1" strike="noStrike">
                  <a:solidFill>
                    <a:srgbClr val="000000"/>
                  </a:solidFill>
                  <a:latin typeface="Times New Roman"/>
                </a:rPr>
                <a:t>6.20  </a:t>
              </a:r>
              <a:r>
                <a:rPr b="0" lang="zh-CN" sz="1000" spc="-1" strike="noStrike">
                  <a:solidFill>
                    <a:srgbClr val="000000"/>
                  </a:solidFill>
                  <a:latin typeface="Times New Roman"/>
                </a:rPr>
                <a:t>设计视图窗口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5" name=""/>
          <p:cNvSpPr/>
          <p:nvPr/>
        </p:nvSpPr>
        <p:spPr>
          <a:xfrm rot="13808400">
            <a:off x="7831080" y="312480"/>
            <a:ext cx="610920" cy="478080"/>
          </a:xfrm>
          <a:prstGeom prst="leftArrow">
            <a:avLst>
              <a:gd name="adj1" fmla="val 50000"/>
              <a:gd name="adj2" fmla="val 31947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1309680" y="4744440"/>
            <a:ext cx="7443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(2)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依次输入各个字段的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楷体_GB2312"/>
              </a:rPr>
              <a:t>名称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指定字段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楷体_GB2312"/>
              </a:rPr>
              <a:t>类型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并对每个字段的含义、取值进行注释说明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0" dur="indefinite" restart="never" nodeType="tmRoot">
          <p:childTnLst>
            <p:seq>
              <p:cTn id="971" dur="indefinite" nodeType="mainSeq">
                <p:childTnLst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6" dur="8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7" dur="8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8" dur="8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9" dur="8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4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5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990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fill="hold">
                      <p:stCondLst>
                        <p:cond delay="indefinite"/>
                      </p:stCondLst>
                      <p:childTnLst>
                        <p:par>
                          <p:cTn id="992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5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6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1" dur="1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2" dur="1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3" dur="1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4" dur="10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9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0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1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2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fill="hold">
                      <p:stCondLst>
                        <p:cond delay="indefinite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7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8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9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0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25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10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1" dur="10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2" dur="10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41360" y="86760"/>
            <a:ext cx="83296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zh-CN" sz="4000" spc="-1" strike="noStrike">
              <a:solidFill>
                <a:srgbClr val="ff0000"/>
              </a:solidFill>
              <a:latin typeface="Comic Sans MS"/>
              <a:ea typeface="宋体"/>
            </a:endParaRPr>
          </a:p>
        </p:txBody>
      </p:sp>
      <p:grpSp>
        <p:nvGrpSpPr>
          <p:cNvPr id="668" name=""/>
          <p:cNvGrpSpPr/>
          <p:nvPr/>
        </p:nvGrpSpPr>
        <p:grpSpPr>
          <a:xfrm>
            <a:off x="38160" y="61920"/>
            <a:ext cx="8574120" cy="7009920"/>
            <a:chOff x="38160" y="61920"/>
            <a:chExt cx="8574120" cy="7009920"/>
          </a:xfrm>
        </p:grpSpPr>
        <p:grpSp>
          <p:nvGrpSpPr>
            <p:cNvPr id="669" name=""/>
            <p:cNvGrpSpPr/>
            <p:nvPr/>
          </p:nvGrpSpPr>
          <p:grpSpPr>
            <a:xfrm>
              <a:off x="38160" y="61920"/>
              <a:ext cx="8574120" cy="7009920"/>
              <a:chOff x="38160" y="61920"/>
              <a:chExt cx="8574120" cy="7009920"/>
            </a:xfrm>
          </p:grpSpPr>
          <p:grpSp>
            <p:nvGrpSpPr>
              <p:cNvPr id="670" name=""/>
              <p:cNvGrpSpPr/>
              <p:nvPr/>
            </p:nvGrpSpPr>
            <p:grpSpPr>
              <a:xfrm>
                <a:off x="38160" y="61920"/>
                <a:ext cx="8574120" cy="7009920"/>
                <a:chOff x="38160" y="61920"/>
                <a:chExt cx="8574120" cy="7009920"/>
              </a:xfrm>
            </p:grpSpPr>
            <p:pic>
              <p:nvPicPr>
                <p:cNvPr id="671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38160" y="61920"/>
                  <a:ext cx="8574120" cy="6359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72" name=""/>
                <p:cNvSpPr/>
                <p:nvPr/>
              </p:nvSpPr>
              <p:spPr>
                <a:xfrm>
                  <a:off x="2089080" y="6409080"/>
                  <a:ext cx="203040" cy="66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73" name=""/>
              <p:cNvSpPr/>
              <p:nvPr/>
            </p:nvSpPr>
            <p:spPr>
              <a:xfrm>
                <a:off x="41760" y="565560"/>
                <a:ext cx="348480" cy="2367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226440" y="2915280"/>
                <a:ext cx="0" cy="157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226440" y="3072960"/>
                <a:ext cx="1330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1501560" y="2854440"/>
                <a:ext cx="1773720" cy="473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900" spc="-1" strike="noStrike">
                    <a:solidFill>
                      <a:srgbClr val="000000"/>
                    </a:solidFill>
                    <a:latin typeface="Times New Roman"/>
                  </a:rPr>
                  <a:t>字段选择栏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77" name=""/>
            <p:cNvSpPr/>
            <p:nvPr/>
          </p:nvSpPr>
          <p:spPr>
            <a:xfrm>
              <a:off x="92520" y="3218760"/>
              <a:ext cx="8425800" cy="3156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 flipV="1">
              <a:off x="6522840" y="2902680"/>
              <a:ext cx="0" cy="315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5959800" y="2459880"/>
              <a:ext cx="1245240" cy="49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" spc="-1" strike="noStrike">
                  <a:solidFill>
                    <a:srgbClr val="000000"/>
                  </a:solidFill>
                  <a:latin typeface="Times New Roman"/>
                </a:rPr>
                <a:t>字段属性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80" name="" descr=""/>
          <p:cNvPicPr/>
          <p:nvPr/>
        </p:nvPicPr>
        <p:blipFill>
          <a:blip r:embed="rId2"/>
          <a:stretch/>
        </p:blipFill>
        <p:spPr>
          <a:xfrm>
            <a:off x="7456320" y="41400"/>
            <a:ext cx="2648160" cy="3130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81" name=""/>
          <p:cNvGraphicFramePr/>
          <p:nvPr/>
        </p:nvGraphicFramePr>
        <p:xfrm>
          <a:off x="38160" y="2968560"/>
          <a:ext cx="8386560" cy="4016520"/>
        </p:xfrm>
        <a:graphic>
          <a:graphicData uri="http://schemas.openxmlformats.org/drawingml/2006/table">
            <a:tbl>
              <a:tblPr/>
              <a:tblGrid>
                <a:gridCol w="1241280"/>
                <a:gridCol w="71452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字段类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说明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f66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文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用来存放不需要计算的数据，可以为数字、文字，例如学号、电话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f66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备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也称长文本，存放说明性文字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f66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数字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需要运算的数值数据，如成绩、次数、年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f66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日期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/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时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存放日期和时间数据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f66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货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存放货币数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f66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自动编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在增加记录时，其值能依次自动加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f66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是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/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存放逻辑型数据，如婚否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Yes/No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On/Of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f66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OLE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对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将对象（如电子表格、文件、图形、声音等）链接或嵌入表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f66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超链接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存放超链接数据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f66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查阅向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这是与使用向导有关的字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ef66"/>
                    </a:solidFill>
                  </a:tcPr>
                </a:tc>
              </a:tr>
            </a:tbl>
          </a:graphicData>
        </a:graphic>
      </p:graphicFrame>
      <p:sp>
        <p:nvSpPr>
          <p:cNvPr id="682" name=""/>
          <p:cNvSpPr/>
          <p:nvPr/>
        </p:nvSpPr>
        <p:spPr>
          <a:xfrm>
            <a:off x="2897280" y="177840"/>
            <a:ext cx="5317920" cy="230040"/>
          </a:xfrm>
          <a:custGeom>
            <a:avLst/>
            <a:gdLst>
              <a:gd name="textAreaLeft" fmla="*/ 1086480 w 5317920"/>
              <a:gd name="textAreaRight" fmla="*/ 3662640 w 5317920"/>
              <a:gd name="textAreaTop" fmla="*/ 30600 h 230040"/>
              <a:gd name="textAreaBottom" fmla="*/ 199440 h 2300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828" hR="21600" stAng="10800000" swAng="5400000"/>
                <a:lnTo>
                  <a:pt x="10463" y="0"/>
                </a:lnTo>
                <a:arcTo wR="8828" hR="21600" stAng="-5400000" swAng="2948197"/>
                <a:lnTo>
                  <a:pt x="21095" y="14400"/>
                </a:lnTo>
                <a:lnTo>
                  <a:pt x="18473" y="21600"/>
                </a:lnTo>
                <a:lnTo>
                  <a:pt x="14840" y="14400"/>
                </a:lnTo>
                <a:lnTo>
                  <a:pt x="17150" y="14400"/>
                </a:lnTo>
                <a:arcTo wR="8828" hR="21600" stAng="-2451803" swAng="-2817589"/>
                <a:lnTo>
                  <a:pt x="9645" y="93"/>
                </a:lnTo>
                <a:arcTo wR="8828" hR="21600" stAng="-5530608" swAng="-5269392"/>
                <a:close/>
              </a:path>
              <a:path fill="darkenLess" w="21600" h="21600">
                <a:moveTo>
                  <a:pt x="0" y="21600"/>
                </a:moveTo>
                <a:arcTo wR="8828" hR="21600" stAng="10800000" swAng="5400000"/>
                <a:lnTo>
                  <a:pt x="8828" y="0"/>
                </a:lnTo>
                <a:arcTo wR="8828" hR="21600" stAng="-5400000" swAng="130608"/>
                <a:lnTo>
                  <a:pt x="9645" y="93"/>
                </a:lnTo>
                <a:arcTo wR="8828" hR="21600" stAng="-5530608" swAng="-5269392"/>
                <a:close/>
              </a:path>
            </a:pathLst>
          </a:cu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0" y="449280"/>
            <a:ext cx="8532720" cy="2519280"/>
          </a:xfrm>
          <a:prstGeom prst="rect">
            <a:avLst/>
          </a:prstGeom>
          <a:noFill/>
          <a:ln w="28440">
            <a:solidFill>
              <a:srgbClr val="cc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3" dur="indefinite" restart="never" nodeType="tmRoot">
          <p:childTnLst>
            <p:seq>
              <p:cTn id="1034" dur="indefinite" nodeType="mainSeq">
                <p:childTnLst>
                  <p:par>
                    <p:cTn id="1035" fill="hold">
                      <p:stCondLst>
                        <p:cond delay="indefinite"/>
                      </p:stCondLst>
                      <p:childTnLst>
                        <p:par>
                          <p:cTn id="1036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9" dur="5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0" dur="5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5" dur="20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050" dur="5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55" dur="5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41360" y="86760"/>
            <a:ext cx="83296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zh-CN" sz="4000" spc="-1" strike="noStrike">
              <a:solidFill>
                <a:srgbClr val="ff0000"/>
              </a:solidFill>
              <a:latin typeface="Comic Sans MS"/>
              <a:ea typeface="宋体"/>
            </a:endParaRPr>
          </a:p>
        </p:txBody>
      </p:sp>
      <p:grpSp>
        <p:nvGrpSpPr>
          <p:cNvPr id="685" name=""/>
          <p:cNvGrpSpPr/>
          <p:nvPr/>
        </p:nvGrpSpPr>
        <p:grpSpPr>
          <a:xfrm>
            <a:off x="38160" y="61920"/>
            <a:ext cx="8574120" cy="7009920"/>
            <a:chOff x="38160" y="61920"/>
            <a:chExt cx="8574120" cy="7009920"/>
          </a:xfrm>
        </p:grpSpPr>
        <p:grpSp>
          <p:nvGrpSpPr>
            <p:cNvPr id="686" name=""/>
            <p:cNvGrpSpPr/>
            <p:nvPr/>
          </p:nvGrpSpPr>
          <p:grpSpPr>
            <a:xfrm>
              <a:off x="38160" y="61920"/>
              <a:ext cx="8574120" cy="7009920"/>
              <a:chOff x="38160" y="61920"/>
              <a:chExt cx="8574120" cy="7009920"/>
            </a:xfrm>
          </p:grpSpPr>
          <p:grpSp>
            <p:nvGrpSpPr>
              <p:cNvPr id="687" name=""/>
              <p:cNvGrpSpPr/>
              <p:nvPr/>
            </p:nvGrpSpPr>
            <p:grpSpPr>
              <a:xfrm>
                <a:off x="38160" y="61920"/>
                <a:ext cx="8574120" cy="7009920"/>
                <a:chOff x="38160" y="61920"/>
                <a:chExt cx="8574120" cy="7009920"/>
              </a:xfrm>
            </p:grpSpPr>
            <p:pic>
              <p:nvPicPr>
                <p:cNvPr id="68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38160" y="61920"/>
                  <a:ext cx="8574120" cy="6359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89" name=""/>
                <p:cNvSpPr/>
                <p:nvPr/>
              </p:nvSpPr>
              <p:spPr>
                <a:xfrm>
                  <a:off x="2089080" y="6409080"/>
                  <a:ext cx="203040" cy="66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90" name=""/>
              <p:cNvSpPr/>
              <p:nvPr/>
            </p:nvSpPr>
            <p:spPr>
              <a:xfrm>
                <a:off x="41760" y="565560"/>
                <a:ext cx="348480" cy="2367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226440" y="2915280"/>
                <a:ext cx="0" cy="157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226440" y="3072960"/>
                <a:ext cx="1330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1501560" y="2854440"/>
                <a:ext cx="1773720" cy="473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900" spc="-1" strike="noStrike">
                    <a:solidFill>
                      <a:srgbClr val="000000"/>
                    </a:solidFill>
                    <a:latin typeface="Times New Roman"/>
                  </a:rPr>
                  <a:t>字段选择栏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94" name=""/>
            <p:cNvSpPr/>
            <p:nvPr/>
          </p:nvSpPr>
          <p:spPr>
            <a:xfrm>
              <a:off x="92520" y="3218760"/>
              <a:ext cx="8425800" cy="3156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6522840" y="2902680"/>
              <a:ext cx="0" cy="315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5959800" y="2459880"/>
              <a:ext cx="1245240" cy="49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" spc="-1" strike="noStrike">
                  <a:solidFill>
                    <a:srgbClr val="000000"/>
                  </a:solidFill>
                  <a:latin typeface="Times New Roman"/>
                </a:rPr>
                <a:t>字段属性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7" name=""/>
          <p:cNvSpPr/>
          <p:nvPr/>
        </p:nvSpPr>
        <p:spPr>
          <a:xfrm>
            <a:off x="0" y="3171960"/>
            <a:ext cx="8532720" cy="3308040"/>
          </a:xfrm>
          <a:prstGeom prst="rect">
            <a:avLst/>
          </a:prstGeom>
          <a:noFill/>
          <a:ln w="28440">
            <a:solidFill>
              <a:srgbClr val="cc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8" name=""/>
          <p:cNvGraphicFramePr/>
          <p:nvPr/>
        </p:nvGraphicFramePr>
        <p:xfrm>
          <a:off x="901800" y="119160"/>
          <a:ext cx="9128160" cy="7000920"/>
        </p:xfrm>
        <a:graphic>
          <a:graphicData uri="http://schemas.openxmlformats.org/drawingml/2006/table">
            <a:tbl>
              <a:tblPr/>
              <a:tblGrid>
                <a:gridCol w="1744560"/>
                <a:gridCol w="73836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字段属性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说明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f66"/>
                    </a:solidFill>
                  </a:tcPr>
                </a:tc>
              </a:tr>
              <a:tr h="1306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字段大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可以指定字段中文本或数字的范围，文本缺省长度为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0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，最多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55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个字符，备注型最多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65536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个，数值为长整型。应该尽可能设置最小的字段大小，因为其需要的内存更少，数据处理速度更快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f6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格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可以选择或输入格式串来定义字段中数据的格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f6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小数位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指定数字或货币数值的小数点位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f66"/>
                    </a:solidFill>
                  </a:tcPr>
                </a:tc>
              </a:tr>
              <a:tr h="1002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输入掩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用于设置字段数据的输入模式，例如可以为“电话号码”字段设置一个输入掩码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(0000)-(00000000)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，则在用户输入该字段内容时，会显示 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(____)-(________)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，提示用户正确输入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f66"/>
                    </a:solidFill>
                  </a:tcPr>
                </a:tc>
              </a:tr>
              <a:tr h="698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标题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可以定义字段的别名，作为创建窗体和报表时数据单中使用的标签。如字段名为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sname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，可将标题设置为“姓名”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f66"/>
                    </a:solidFill>
                  </a:tcPr>
                </a:tc>
              </a:tr>
              <a:tr h="698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默认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该值在新建记录时会自动输入到字段中，也可以更改。例如，将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states(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状态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)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字段的默认值设为“在读”。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f66"/>
                    </a:solidFill>
                  </a:tcPr>
                </a:tc>
              </a:tr>
              <a:tr h="698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必填字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用于设置这个字段是否必须填写，设置成“是”时，这个字段不能空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f6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允许空字符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如果为“是”，则该字段可以接受空字符串为有效输入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f66"/>
                    </a:solidFill>
                  </a:tcPr>
                </a:tc>
              </a:tr>
              <a:tr h="1001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索引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可以选择是否为这个字段建立索引或者是否允许建立索引，建立索引的好处是，按此字段进行查询时会提高查询和排序速度，但同时也加大了系统维护的开销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ef6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6" dur="indefinite" restart="never" nodeType="tmRoot">
          <p:childTnLst>
            <p:seq>
              <p:cTn id="1057" dur="indefinite" nodeType="mainSeq">
                <p:childTnLst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2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3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4" fill="hold">
                      <p:stCondLst>
                        <p:cond delay="indefinite"/>
                      </p:stCondLst>
                      <p:childTnLst>
                        <p:par>
                          <p:cTn id="1065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8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41360" y="86760"/>
            <a:ext cx="83296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zh-CN" sz="4000" spc="-1" strike="noStrike">
              <a:solidFill>
                <a:srgbClr val="ff0000"/>
              </a:solidFill>
              <a:latin typeface="Comic Sans MS"/>
              <a:ea typeface="宋体"/>
            </a:endParaRPr>
          </a:p>
        </p:txBody>
      </p:sp>
      <p:sp>
        <p:nvSpPr>
          <p:cNvPr id="700" name=""/>
          <p:cNvSpPr/>
          <p:nvPr/>
        </p:nvSpPr>
        <p:spPr>
          <a:xfrm>
            <a:off x="833400" y="1608120"/>
            <a:ext cx="8413920" cy="2925720"/>
          </a:xfrm>
          <a:custGeom>
            <a:avLst/>
            <a:gdLst/>
            <a:ahLst/>
            <a:rect l="l" t="t" r="r" b="b"/>
            <a:pathLst>
              <a:path w="4018" h="1627">
                <a:moveTo>
                  <a:pt x="43" y="240"/>
                </a:moveTo>
                <a:cubicBezTo>
                  <a:pt x="133" y="271"/>
                  <a:pt x="241" y="275"/>
                  <a:pt x="321" y="221"/>
                </a:cubicBezTo>
                <a:cubicBezTo>
                  <a:pt x="339" y="169"/>
                  <a:pt x="322" y="199"/>
                  <a:pt x="389" y="154"/>
                </a:cubicBezTo>
                <a:cubicBezTo>
                  <a:pt x="399" y="148"/>
                  <a:pt x="417" y="134"/>
                  <a:pt x="417" y="134"/>
                </a:cubicBezTo>
                <a:cubicBezTo>
                  <a:pt x="870" y="145"/>
                  <a:pt x="1129" y="151"/>
                  <a:pt x="1617" y="144"/>
                </a:cubicBezTo>
                <a:cubicBezTo>
                  <a:pt x="1662" y="102"/>
                  <a:pt x="1610" y="146"/>
                  <a:pt x="1665" y="115"/>
                </a:cubicBezTo>
                <a:cubicBezTo>
                  <a:pt x="1757" y="64"/>
                  <a:pt x="1688" y="86"/>
                  <a:pt x="1761" y="67"/>
                </a:cubicBezTo>
                <a:cubicBezTo>
                  <a:pt x="1803" y="27"/>
                  <a:pt x="1755" y="66"/>
                  <a:pt x="1829" y="38"/>
                </a:cubicBezTo>
                <a:cubicBezTo>
                  <a:pt x="1840" y="34"/>
                  <a:pt x="1847" y="24"/>
                  <a:pt x="1857" y="19"/>
                </a:cubicBezTo>
                <a:cubicBezTo>
                  <a:pt x="1875" y="10"/>
                  <a:pt x="1896" y="7"/>
                  <a:pt x="1915" y="0"/>
                </a:cubicBezTo>
                <a:cubicBezTo>
                  <a:pt x="2340" y="7"/>
                  <a:pt x="2679" y="30"/>
                  <a:pt x="3096" y="38"/>
                </a:cubicBezTo>
                <a:cubicBezTo>
                  <a:pt x="3110" y="82"/>
                  <a:pt x="3151" y="124"/>
                  <a:pt x="3201" y="125"/>
                </a:cubicBezTo>
                <a:cubicBezTo>
                  <a:pt x="3441" y="131"/>
                  <a:pt x="3681" y="131"/>
                  <a:pt x="3921" y="134"/>
                </a:cubicBezTo>
                <a:cubicBezTo>
                  <a:pt x="3914" y="214"/>
                  <a:pt x="3921" y="240"/>
                  <a:pt x="3883" y="298"/>
                </a:cubicBezTo>
                <a:cubicBezTo>
                  <a:pt x="3860" y="409"/>
                  <a:pt x="3979" y="469"/>
                  <a:pt x="3979" y="536"/>
                </a:cubicBezTo>
                <a:cubicBezTo>
                  <a:pt x="3919" y="593"/>
                  <a:pt x="3849" y="672"/>
                  <a:pt x="3902" y="728"/>
                </a:cubicBezTo>
                <a:cubicBezTo>
                  <a:pt x="3923" y="809"/>
                  <a:pt x="3863" y="921"/>
                  <a:pt x="3921" y="979"/>
                </a:cubicBezTo>
                <a:cubicBezTo>
                  <a:pt x="3937" y="995"/>
                  <a:pt x="3950" y="1016"/>
                  <a:pt x="3969" y="1016"/>
                </a:cubicBezTo>
                <a:cubicBezTo>
                  <a:pt x="3979" y="1022"/>
                  <a:pt x="3998" y="1064"/>
                  <a:pt x="3998" y="1064"/>
                </a:cubicBezTo>
                <a:cubicBezTo>
                  <a:pt x="4018" y="1074"/>
                  <a:pt x="3949" y="1225"/>
                  <a:pt x="3960" y="1246"/>
                </a:cubicBezTo>
                <a:cubicBezTo>
                  <a:pt x="3960" y="1296"/>
                  <a:pt x="4006" y="1328"/>
                  <a:pt x="3998" y="1362"/>
                </a:cubicBezTo>
                <a:cubicBezTo>
                  <a:pt x="3979" y="1420"/>
                  <a:pt x="3990" y="1449"/>
                  <a:pt x="3912" y="1450"/>
                </a:cubicBezTo>
                <a:cubicBezTo>
                  <a:pt x="3518" y="1456"/>
                  <a:pt x="3125" y="1456"/>
                  <a:pt x="2731" y="1459"/>
                </a:cubicBezTo>
                <a:cubicBezTo>
                  <a:pt x="2422" y="1566"/>
                  <a:pt x="2305" y="1502"/>
                  <a:pt x="1838" y="1507"/>
                </a:cubicBezTo>
                <a:cubicBezTo>
                  <a:pt x="1006" y="1502"/>
                  <a:pt x="689" y="1627"/>
                  <a:pt x="120" y="1450"/>
                </a:cubicBezTo>
                <a:cubicBezTo>
                  <a:pt x="74" y="1404"/>
                  <a:pt x="99" y="1417"/>
                  <a:pt x="53" y="1402"/>
                </a:cubicBezTo>
                <a:cubicBezTo>
                  <a:pt x="0" y="1349"/>
                  <a:pt x="36" y="1065"/>
                  <a:pt x="72" y="960"/>
                </a:cubicBezTo>
                <a:cubicBezTo>
                  <a:pt x="69" y="835"/>
                  <a:pt x="62" y="711"/>
                  <a:pt x="62" y="586"/>
                </a:cubicBezTo>
                <a:cubicBezTo>
                  <a:pt x="62" y="486"/>
                  <a:pt x="81" y="395"/>
                  <a:pt x="81" y="288"/>
                </a:cubicBezTo>
                <a:cubicBezTo>
                  <a:pt x="81" y="288"/>
                  <a:pt x="43" y="240"/>
                  <a:pt x="43" y="240"/>
                </a:cubicBezTo>
                <a:close/>
              </a:path>
            </a:pathLst>
          </a:custGeom>
          <a:solidFill>
            <a:srgbClr val="ffe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1411200" y="219384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(1)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打开表结构“设计器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 rot="21309600">
            <a:off x="-42840" y="926640"/>
            <a:ext cx="5562720" cy="13129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ff3300"/>
                </a:solidFill>
                <a:latin typeface="华文行楷"/>
                <a:ea typeface="华文行楷"/>
              </a:rPr>
              <a:t> </a:t>
            </a:r>
            <a:r>
              <a:rPr b="1" i="1" lang="zh-CN" sz="4000" spc="-1" strike="noStrike">
                <a:solidFill>
                  <a:srgbClr val="ff3300"/>
                </a:solidFill>
                <a:latin typeface="华文行楷"/>
                <a:ea typeface="华文行楷"/>
              </a:rPr>
              <a:t>使用设计视图</a:t>
            </a:r>
            <a:br>
              <a:rPr sz="4000"/>
            </a:br>
            <a:r>
              <a:rPr b="1" i="1" lang="zh-CN" sz="4000" spc="-1" strike="noStrike">
                <a:solidFill>
                  <a:srgbClr val="ff3300"/>
                </a:solidFill>
                <a:latin typeface="华文行楷"/>
                <a:ea typeface="华文行楷"/>
              </a:rPr>
              <a:t>建立数据表的表结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1387440" y="2588400"/>
            <a:ext cx="74455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(2)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依次输入各个字段的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楷体_GB2312"/>
              </a:rPr>
              <a:t>名称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指定字段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楷体_GB2312"/>
              </a:rPr>
              <a:t>类型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并对每个字段的含义、取值进行注释说明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1387440" y="3352320"/>
            <a:ext cx="744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(3)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定义表的主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5" name="" descr=""/>
          <p:cNvPicPr/>
          <p:nvPr/>
        </p:nvPicPr>
        <p:blipFill>
          <a:blip r:embed="rId1"/>
          <a:stretch/>
        </p:blipFill>
        <p:spPr>
          <a:xfrm>
            <a:off x="911160" y="4654440"/>
            <a:ext cx="7958160" cy="287280"/>
          </a:xfrm>
          <a:prstGeom prst="rect">
            <a:avLst/>
          </a:prstGeom>
          <a:ln w="0">
            <a:noFill/>
          </a:ln>
        </p:spPr>
      </p:pic>
      <p:sp>
        <p:nvSpPr>
          <p:cNvPr id="706" name=""/>
          <p:cNvSpPr/>
          <p:nvPr/>
        </p:nvSpPr>
        <p:spPr>
          <a:xfrm>
            <a:off x="2500200" y="5199120"/>
            <a:ext cx="5159520" cy="898560"/>
          </a:xfrm>
          <a:prstGeom prst="cloudCallout">
            <a:avLst>
              <a:gd name="adj1" fmla="val -76356"/>
              <a:gd name="adj2" fmla="val -78212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选中字段后单击工具栏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“主键”按钮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1387440" y="3746880"/>
            <a:ext cx="744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(4)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保存并命名数据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8" name="" descr=""/>
          <p:cNvPicPr/>
          <p:nvPr/>
        </p:nvPicPr>
        <p:blipFill>
          <a:blip r:embed="rId2"/>
          <a:stretch/>
        </p:blipFill>
        <p:spPr>
          <a:xfrm>
            <a:off x="8532720" y="5622840"/>
            <a:ext cx="1271520" cy="6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9" dur="indefinite" restart="never" nodeType="tmRoot">
          <p:childTnLst>
            <p:seq>
              <p:cTn id="1070" dur="indefinite" nodeType="mainSeq">
                <p:childTnLst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5" dur="8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6" dur="8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7" dur="8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8" dur="8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3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4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5" fill="hold">
                      <p:stCondLst>
                        <p:cond delay="indefinite"/>
                      </p:stCondLst>
                      <p:childTnLst>
                        <p:par>
                          <p:cTn id="1086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9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0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5" dur="10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6" dur="10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7" dur="10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2" dur="10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3" dur="10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4" dur="10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5" fill="hold">
                      <p:stCondLst>
                        <p:cond delay="indefinite"/>
                      </p:stCondLst>
                      <p:childTnLst>
                        <p:par>
                          <p:cTn id="1106" fill="hold">
                            <p:stCondLst>
                              <p:cond delay="0"/>
                            </p:stCondLst>
                            <p:childTnLst>
                              <p:par>
                                <p:cTn id="110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09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0" fill="hold">
                      <p:stCondLst>
                        <p:cond delay="indefinite"/>
                      </p:stCondLst>
                      <p:childTnLst>
                        <p:par>
                          <p:cTn id="1111" fill="hold">
                            <p:stCondLst>
                              <p:cond delay="0"/>
                            </p:stCondLst>
                            <p:childTnLst>
                              <p:par>
                                <p:cTn id="11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4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5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6" fill="hold">
                      <p:stCondLst>
                        <p:cond delay="indefinite"/>
                      </p:stCondLst>
                      <p:childTnLst>
                        <p:par>
                          <p:cTn id="1117" fill="hold">
                            <p:stCondLst>
                              <p:cond delay="0"/>
                            </p:stCondLst>
                            <p:childTnLst>
                              <p:par>
                                <p:cTn id="111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0" dur="10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1" dur="10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2" dur="10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3" fill="hold">
                      <p:stCondLst>
                        <p:cond delay="indefinite"/>
                      </p:stCondLst>
                      <p:childTnLst>
                        <p:par>
                          <p:cTn id="1124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3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3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3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3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4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1360" y="280800"/>
            <a:ext cx="83296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ff0000"/>
                </a:solidFill>
                <a:latin typeface="Comic Sans MS"/>
                <a:ea typeface="宋体"/>
              </a:rPr>
              <a:t>6.1  </a:t>
            </a:r>
            <a:r>
              <a:rPr b="1" i="1" lang="zh-CN" sz="4400" spc="-1" strike="noStrike">
                <a:solidFill>
                  <a:srgbClr val="ff0000"/>
                </a:solidFill>
                <a:latin typeface="Comic Sans MS"/>
                <a:ea typeface="宋体"/>
              </a:rPr>
              <a:t>数据库概述</a:t>
            </a:r>
            <a:endParaRPr b="1" i="1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82" name=""/>
          <p:cNvSpPr/>
          <p:nvPr/>
        </p:nvSpPr>
        <p:spPr>
          <a:xfrm>
            <a:off x="2430360" y="1608120"/>
            <a:ext cx="1635120" cy="1098720"/>
          </a:xfrm>
          <a:custGeom>
            <a:avLst/>
            <a:gdLst/>
            <a:ahLst/>
            <a:rect l="l" t="t" r="r" b="b"/>
            <a:pathLst>
              <a:path w="982" h="774">
                <a:moveTo>
                  <a:pt x="0" y="774"/>
                </a:moveTo>
                <a:lnTo>
                  <a:pt x="2" y="770"/>
                </a:lnTo>
                <a:lnTo>
                  <a:pt x="8" y="754"/>
                </a:lnTo>
                <a:lnTo>
                  <a:pt x="16" y="730"/>
                </a:lnTo>
                <a:lnTo>
                  <a:pt x="32" y="698"/>
                </a:lnTo>
                <a:lnTo>
                  <a:pt x="50" y="660"/>
                </a:lnTo>
                <a:lnTo>
                  <a:pt x="76" y="618"/>
                </a:lnTo>
                <a:lnTo>
                  <a:pt x="106" y="574"/>
                </a:lnTo>
                <a:lnTo>
                  <a:pt x="142" y="528"/>
                </a:lnTo>
                <a:lnTo>
                  <a:pt x="186" y="482"/>
                </a:lnTo>
                <a:lnTo>
                  <a:pt x="236" y="438"/>
                </a:lnTo>
                <a:lnTo>
                  <a:pt x="294" y="398"/>
                </a:lnTo>
                <a:lnTo>
                  <a:pt x="360" y="360"/>
                </a:lnTo>
                <a:lnTo>
                  <a:pt x="426" y="332"/>
                </a:lnTo>
                <a:lnTo>
                  <a:pt x="488" y="314"/>
                </a:lnTo>
                <a:lnTo>
                  <a:pt x="544" y="304"/>
                </a:lnTo>
                <a:lnTo>
                  <a:pt x="594" y="300"/>
                </a:lnTo>
                <a:lnTo>
                  <a:pt x="638" y="300"/>
                </a:lnTo>
                <a:lnTo>
                  <a:pt x="678" y="304"/>
                </a:lnTo>
                <a:lnTo>
                  <a:pt x="710" y="312"/>
                </a:lnTo>
                <a:lnTo>
                  <a:pt x="736" y="320"/>
                </a:lnTo>
                <a:lnTo>
                  <a:pt x="754" y="326"/>
                </a:lnTo>
                <a:lnTo>
                  <a:pt x="766" y="332"/>
                </a:lnTo>
                <a:lnTo>
                  <a:pt x="770" y="334"/>
                </a:lnTo>
                <a:lnTo>
                  <a:pt x="680" y="476"/>
                </a:lnTo>
                <a:lnTo>
                  <a:pt x="982" y="370"/>
                </a:lnTo>
                <a:lnTo>
                  <a:pt x="912" y="0"/>
                </a:lnTo>
                <a:lnTo>
                  <a:pt x="854" y="150"/>
                </a:lnTo>
                <a:lnTo>
                  <a:pt x="850" y="148"/>
                </a:lnTo>
                <a:lnTo>
                  <a:pt x="838" y="142"/>
                </a:lnTo>
                <a:lnTo>
                  <a:pt x="822" y="134"/>
                </a:lnTo>
                <a:lnTo>
                  <a:pt x="798" y="126"/>
                </a:lnTo>
                <a:lnTo>
                  <a:pt x="768" y="120"/>
                </a:lnTo>
                <a:lnTo>
                  <a:pt x="732" y="114"/>
                </a:lnTo>
                <a:lnTo>
                  <a:pt x="692" y="110"/>
                </a:lnTo>
                <a:lnTo>
                  <a:pt x="646" y="110"/>
                </a:lnTo>
                <a:lnTo>
                  <a:pt x="596" y="116"/>
                </a:lnTo>
                <a:lnTo>
                  <a:pt x="540" y="126"/>
                </a:lnTo>
                <a:lnTo>
                  <a:pt x="482" y="146"/>
                </a:lnTo>
                <a:lnTo>
                  <a:pt x="422" y="172"/>
                </a:lnTo>
                <a:lnTo>
                  <a:pt x="356" y="210"/>
                </a:lnTo>
                <a:lnTo>
                  <a:pt x="290" y="258"/>
                </a:lnTo>
                <a:lnTo>
                  <a:pt x="230" y="310"/>
                </a:lnTo>
                <a:lnTo>
                  <a:pt x="178" y="364"/>
                </a:lnTo>
                <a:lnTo>
                  <a:pt x="136" y="422"/>
                </a:lnTo>
                <a:lnTo>
                  <a:pt x="100" y="480"/>
                </a:lnTo>
                <a:lnTo>
                  <a:pt x="72" y="536"/>
                </a:lnTo>
                <a:lnTo>
                  <a:pt x="48" y="590"/>
                </a:lnTo>
                <a:lnTo>
                  <a:pt x="30" y="640"/>
                </a:lnTo>
                <a:lnTo>
                  <a:pt x="18" y="684"/>
                </a:lnTo>
                <a:lnTo>
                  <a:pt x="8" y="722"/>
                </a:lnTo>
                <a:lnTo>
                  <a:pt x="4" y="750"/>
                </a:lnTo>
                <a:lnTo>
                  <a:pt x="0" y="768"/>
                </a:lnTo>
                <a:lnTo>
                  <a:pt x="0" y="774"/>
                </a:lnTo>
              </a:path>
            </a:pathLst>
          </a:custGeom>
          <a:gradFill rotWithShape="0">
            <a:gsLst>
              <a:gs pos="0">
                <a:srgbClr val="703dff"/>
              </a:gs>
              <a:gs pos="100000">
                <a:srgbClr val="ab8efe">
                  <a:alpha val="32156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3319560" y="2151000"/>
            <a:ext cx="3176280" cy="3538080"/>
            <a:chOff x="3319560" y="2151000"/>
            <a:chExt cx="3176280" cy="3538080"/>
          </a:xfrm>
        </p:grpSpPr>
        <p:sp>
          <p:nvSpPr>
            <p:cNvPr id="184" name=""/>
            <p:cNvSpPr/>
            <p:nvPr/>
          </p:nvSpPr>
          <p:spPr>
            <a:xfrm>
              <a:off x="3319560" y="2491200"/>
              <a:ext cx="3176280" cy="3197880"/>
            </a:xfrm>
            <a:custGeom>
              <a:avLst/>
              <a:gdLst>
                <a:gd name="textAreaLeft" fmla="*/ 43560 w 3176280"/>
                <a:gd name="textAreaRight" fmla="*/ 3132720 w 3176280"/>
                <a:gd name="textAreaTop" fmla="*/ 43560 h 3197880"/>
                <a:gd name="textAreaBottom" fmla="*/ 3154320 h 3197880"/>
              </a:gdLst>
              <a:ahLst/>
              <a:rect l="textAreaLeft" t="textAreaTop" r="textAreaRight" b="textAreaBottom"/>
              <a:pathLst>
                <a:path w="21600" h="21747">
                  <a:moveTo>
                    <a:pt x="1013" y="0"/>
                  </a:moveTo>
                  <a:arcTo wR="1013" hR="1013" stAng="16200000" swAng="-5400000"/>
                  <a:lnTo>
                    <a:pt x="0" y="20734"/>
                  </a:lnTo>
                  <a:arcTo wR="1013" hR="1013" stAng="10800000" swAng="-5400000"/>
                  <a:lnTo>
                    <a:pt x="20587" y="21747"/>
                  </a:lnTo>
                  <a:arcTo wR="1013" hR="1013" stAng="5400000" swAng="-5400000"/>
                  <a:lnTo>
                    <a:pt x="21600" y="1013"/>
                  </a:lnTo>
                  <a:arcTo wR="1013" hR="1013" stAng="0" swAng="-5400000"/>
                  <a:close/>
                </a:path>
              </a:pathLst>
            </a:cu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372120" y="2151000"/>
              <a:ext cx="3016800" cy="482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50000">
                  <a:srgbClr val="0000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 flipH="1">
              <a:off x="6354000" y="2422440"/>
              <a:ext cx="82080" cy="13608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3325680" y="2422440"/>
              <a:ext cx="80280" cy="13608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021200" y="2156760"/>
              <a:ext cx="1826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00"/>
                  </a:solidFill>
                  <a:latin typeface="Arial"/>
                </a:rPr>
                <a:t>我们身边的数据库？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276120" y="2490840"/>
            <a:ext cx="2938320" cy="3470040"/>
            <a:chOff x="276120" y="2490840"/>
            <a:chExt cx="2938320" cy="3470040"/>
          </a:xfrm>
        </p:grpSpPr>
        <p:sp>
          <p:nvSpPr>
            <p:cNvPr id="190" name=""/>
            <p:cNvSpPr/>
            <p:nvPr/>
          </p:nvSpPr>
          <p:spPr>
            <a:xfrm>
              <a:off x="276120" y="2867040"/>
              <a:ext cx="2938320" cy="3093840"/>
            </a:xfrm>
            <a:custGeom>
              <a:avLst/>
              <a:gdLst>
                <a:gd name="textAreaLeft" fmla="*/ 40320 w 2938320"/>
                <a:gd name="textAreaRight" fmla="*/ 2898000 w 2938320"/>
                <a:gd name="textAreaTop" fmla="*/ 40320 h 3093840"/>
                <a:gd name="textAreaBottom" fmla="*/ 3053520 h 3093840"/>
              </a:gdLst>
              <a:ahLst/>
              <a:rect l="textAreaLeft" t="textAreaTop" r="textAreaRight" b="textAreaBottom"/>
              <a:pathLst>
                <a:path w="21600" h="22743">
                  <a:moveTo>
                    <a:pt x="1013" y="0"/>
                  </a:moveTo>
                  <a:arcTo wR="1013" hR="1013" stAng="16200000" swAng="-5400000"/>
                  <a:lnTo>
                    <a:pt x="0" y="21730"/>
                  </a:lnTo>
                  <a:arcTo wR="1013" hR="1013" stAng="10800000" swAng="-5400000"/>
                  <a:lnTo>
                    <a:pt x="20587" y="22743"/>
                  </a:lnTo>
                  <a:arcTo wR="1013" hR="1013" stAng="5400000" swAng="-5400000"/>
                  <a:lnTo>
                    <a:pt x="21600" y="1013"/>
                  </a:lnTo>
                  <a:arcTo wR="1013" hR="1013" stAng="0" swAng="-5400000"/>
                  <a:close/>
                </a:path>
              </a:pathLst>
            </a:custGeom>
            <a:noFill/>
            <a:ln w="57240">
              <a:solidFill>
                <a:srgbClr val="703d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15520" y="2490840"/>
              <a:ext cx="2474640" cy="502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2b1762"/>
                </a:gs>
                <a:gs pos="50000">
                  <a:srgbClr val="703dff"/>
                </a:gs>
                <a:gs pos="100000">
                  <a:srgbClr val="2b176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>
              <a:off x="2938680" y="2777040"/>
              <a:ext cx="80280" cy="12420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>
              <a:off x="452520" y="2781720"/>
              <a:ext cx="82080" cy="12420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56400" y="2490840"/>
              <a:ext cx="2850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00"/>
                  </a:solidFill>
                  <a:latin typeface="Arial"/>
                </a:rPr>
                <a:t>什么是数据库？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436680" y="3336840"/>
            <a:ext cx="2619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是持久数据的集合，是存储在计算机中的数据的集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436920" y="2517840"/>
            <a:ext cx="2925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银行的用户信息、学校的教师和学生信息、图书馆的图书信息、网页上不断更新的新闻、文献资料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6580080" y="1674720"/>
            <a:ext cx="3142800" cy="3130200"/>
            <a:chOff x="6580080" y="1674720"/>
            <a:chExt cx="3142800" cy="3130200"/>
          </a:xfrm>
        </p:grpSpPr>
        <p:sp>
          <p:nvSpPr>
            <p:cNvPr id="198" name=""/>
            <p:cNvSpPr/>
            <p:nvPr/>
          </p:nvSpPr>
          <p:spPr>
            <a:xfrm>
              <a:off x="6580080" y="1959480"/>
              <a:ext cx="3142800" cy="2845440"/>
            </a:xfrm>
            <a:prstGeom prst="roundRect">
              <a:avLst>
                <a:gd name="adj" fmla="val 4690"/>
              </a:avLst>
            </a:prstGeom>
            <a:noFill/>
            <a:ln w="57240">
              <a:solidFill>
                <a:srgbClr val="00b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653160" y="1674720"/>
              <a:ext cx="3016800" cy="3988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5200"/>
                </a:gs>
                <a:gs pos="50000">
                  <a:srgbClr val="00b200"/>
                </a:gs>
                <a:gs pos="100000">
                  <a:srgbClr val="0052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9624240" y="1921680"/>
              <a:ext cx="80280" cy="11268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840" bIns="42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>
              <a:off x="6584400" y="1909080"/>
              <a:ext cx="80280" cy="11268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840" bIns="42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302600" y="1692000"/>
              <a:ext cx="1826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00"/>
                  </a:solidFill>
                  <a:latin typeface="Arial"/>
                </a:rPr>
                <a:t>什么是数据库技术？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3" name=""/>
          <p:cNvSpPr/>
          <p:nvPr/>
        </p:nvSpPr>
        <p:spPr>
          <a:xfrm>
            <a:off x="6729480" y="2251080"/>
            <a:ext cx="297000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研究如何科学</a:t>
            </a:r>
            <a:r>
              <a:rPr b="1" lang="zh-CN" sz="2600" spc="-1" strike="noStrike">
                <a:solidFill>
                  <a:srgbClr val="003300"/>
                </a:solidFill>
                <a:latin typeface="Arial"/>
                <a:ea typeface="楷体_GB2312"/>
              </a:rPr>
              <a:t>组织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1" lang="zh-CN" sz="2600" spc="-1" strike="noStrike">
                <a:solidFill>
                  <a:srgbClr val="003300"/>
                </a:solidFill>
                <a:latin typeface="Arial"/>
                <a:ea typeface="楷体_GB2312"/>
              </a:rPr>
              <a:t>存储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数据，如何高效地</a:t>
            </a:r>
            <a:r>
              <a:rPr b="1" lang="zh-CN" sz="2600" spc="-1" strike="noStrike">
                <a:solidFill>
                  <a:srgbClr val="003300"/>
                </a:solidFill>
                <a:latin typeface="Arial"/>
                <a:ea typeface="楷体_GB2312"/>
              </a:rPr>
              <a:t>获取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1" lang="zh-CN" sz="2600" spc="-1" strike="noStrike">
                <a:solidFill>
                  <a:srgbClr val="003300"/>
                </a:solidFill>
                <a:latin typeface="Arial"/>
                <a:ea typeface="楷体_GB2312"/>
              </a:rPr>
              <a:t>处理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数据，以及如何保障数据</a:t>
            </a:r>
            <a:r>
              <a:rPr b="1" lang="zh-CN" sz="2600" spc="-1" strike="noStrike">
                <a:solidFill>
                  <a:srgbClr val="003300"/>
                </a:solidFill>
                <a:latin typeface="Arial"/>
                <a:ea typeface="楷体_GB2312"/>
              </a:rPr>
              <a:t>安全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实现数据</a:t>
            </a:r>
            <a:r>
              <a:rPr b="1" lang="zh-CN" sz="2600" spc="-1" strike="noStrike">
                <a:solidFill>
                  <a:srgbClr val="003300"/>
                </a:solidFill>
                <a:latin typeface="Arial"/>
                <a:ea typeface="楷体_GB2312"/>
              </a:rPr>
              <a:t>共享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171360" y="12600"/>
            <a:ext cx="6350040" cy="650736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5303880" y="1130400"/>
            <a:ext cx="1635120" cy="1098360"/>
          </a:xfrm>
          <a:custGeom>
            <a:avLst/>
            <a:gdLst/>
            <a:ahLst/>
            <a:rect l="l" t="t" r="r" b="b"/>
            <a:pathLst>
              <a:path w="982" h="774">
                <a:moveTo>
                  <a:pt x="0" y="774"/>
                </a:moveTo>
                <a:lnTo>
                  <a:pt x="2" y="770"/>
                </a:lnTo>
                <a:lnTo>
                  <a:pt x="8" y="754"/>
                </a:lnTo>
                <a:lnTo>
                  <a:pt x="16" y="730"/>
                </a:lnTo>
                <a:lnTo>
                  <a:pt x="32" y="698"/>
                </a:lnTo>
                <a:lnTo>
                  <a:pt x="50" y="660"/>
                </a:lnTo>
                <a:lnTo>
                  <a:pt x="76" y="618"/>
                </a:lnTo>
                <a:lnTo>
                  <a:pt x="106" y="574"/>
                </a:lnTo>
                <a:lnTo>
                  <a:pt x="142" y="528"/>
                </a:lnTo>
                <a:lnTo>
                  <a:pt x="186" y="482"/>
                </a:lnTo>
                <a:lnTo>
                  <a:pt x="236" y="438"/>
                </a:lnTo>
                <a:lnTo>
                  <a:pt x="294" y="398"/>
                </a:lnTo>
                <a:lnTo>
                  <a:pt x="360" y="360"/>
                </a:lnTo>
                <a:lnTo>
                  <a:pt x="426" y="332"/>
                </a:lnTo>
                <a:lnTo>
                  <a:pt x="488" y="314"/>
                </a:lnTo>
                <a:lnTo>
                  <a:pt x="544" y="304"/>
                </a:lnTo>
                <a:lnTo>
                  <a:pt x="594" y="300"/>
                </a:lnTo>
                <a:lnTo>
                  <a:pt x="638" y="300"/>
                </a:lnTo>
                <a:lnTo>
                  <a:pt x="678" y="304"/>
                </a:lnTo>
                <a:lnTo>
                  <a:pt x="710" y="312"/>
                </a:lnTo>
                <a:lnTo>
                  <a:pt x="736" y="320"/>
                </a:lnTo>
                <a:lnTo>
                  <a:pt x="754" y="326"/>
                </a:lnTo>
                <a:lnTo>
                  <a:pt x="766" y="332"/>
                </a:lnTo>
                <a:lnTo>
                  <a:pt x="770" y="334"/>
                </a:lnTo>
                <a:lnTo>
                  <a:pt x="680" y="476"/>
                </a:lnTo>
                <a:lnTo>
                  <a:pt x="982" y="370"/>
                </a:lnTo>
                <a:lnTo>
                  <a:pt x="912" y="0"/>
                </a:lnTo>
                <a:lnTo>
                  <a:pt x="854" y="150"/>
                </a:lnTo>
                <a:lnTo>
                  <a:pt x="850" y="148"/>
                </a:lnTo>
                <a:lnTo>
                  <a:pt x="838" y="142"/>
                </a:lnTo>
                <a:lnTo>
                  <a:pt x="822" y="134"/>
                </a:lnTo>
                <a:lnTo>
                  <a:pt x="798" y="126"/>
                </a:lnTo>
                <a:lnTo>
                  <a:pt x="768" y="120"/>
                </a:lnTo>
                <a:lnTo>
                  <a:pt x="732" y="114"/>
                </a:lnTo>
                <a:lnTo>
                  <a:pt x="692" y="110"/>
                </a:lnTo>
                <a:lnTo>
                  <a:pt x="646" y="110"/>
                </a:lnTo>
                <a:lnTo>
                  <a:pt x="596" y="116"/>
                </a:lnTo>
                <a:lnTo>
                  <a:pt x="540" y="126"/>
                </a:lnTo>
                <a:lnTo>
                  <a:pt x="482" y="146"/>
                </a:lnTo>
                <a:lnTo>
                  <a:pt x="422" y="172"/>
                </a:lnTo>
                <a:lnTo>
                  <a:pt x="356" y="210"/>
                </a:lnTo>
                <a:lnTo>
                  <a:pt x="290" y="258"/>
                </a:lnTo>
                <a:lnTo>
                  <a:pt x="230" y="310"/>
                </a:lnTo>
                <a:lnTo>
                  <a:pt x="178" y="364"/>
                </a:lnTo>
                <a:lnTo>
                  <a:pt x="136" y="422"/>
                </a:lnTo>
                <a:lnTo>
                  <a:pt x="100" y="480"/>
                </a:lnTo>
                <a:lnTo>
                  <a:pt x="72" y="536"/>
                </a:lnTo>
                <a:lnTo>
                  <a:pt x="48" y="590"/>
                </a:lnTo>
                <a:lnTo>
                  <a:pt x="30" y="640"/>
                </a:lnTo>
                <a:lnTo>
                  <a:pt x="18" y="684"/>
                </a:lnTo>
                <a:lnTo>
                  <a:pt x="8" y="722"/>
                </a:lnTo>
                <a:lnTo>
                  <a:pt x="4" y="750"/>
                </a:lnTo>
                <a:lnTo>
                  <a:pt x="0" y="768"/>
                </a:lnTo>
                <a:lnTo>
                  <a:pt x="0" y="774"/>
                </a:lnTo>
              </a:path>
            </a:pathLst>
          </a:custGeom>
          <a:gradFill rotWithShape="0">
            <a:gsLst>
              <a:gs pos="0">
                <a:srgbClr val="00b200"/>
              </a:gs>
              <a:gs pos="100000">
                <a:srgbClr val="16b816">
                  <a:alpha val="32156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34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"/>
          <p:cNvSpPr/>
          <p:nvPr/>
        </p:nvSpPr>
        <p:spPr>
          <a:xfrm>
            <a:off x="673200" y="2763720"/>
            <a:ext cx="8415360" cy="2925720"/>
          </a:xfrm>
          <a:custGeom>
            <a:avLst/>
            <a:gdLst/>
            <a:ahLst/>
            <a:rect l="l" t="t" r="r" b="b"/>
            <a:pathLst>
              <a:path w="4018" h="1627">
                <a:moveTo>
                  <a:pt x="43" y="240"/>
                </a:moveTo>
                <a:cubicBezTo>
                  <a:pt x="133" y="271"/>
                  <a:pt x="241" y="275"/>
                  <a:pt x="321" y="221"/>
                </a:cubicBezTo>
                <a:cubicBezTo>
                  <a:pt x="339" y="169"/>
                  <a:pt x="322" y="199"/>
                  <a:pt x="389" y="154"/>
                </a:cubicBezTo>
                <a:cubicBezTo>
                  <a:pt x="399" y="148"/>
                  <a:pt x="417" y="134"/>
                  <a:pt x="417" y="134"/>
                </a:cubicBezTo>
                <a:cubicBezTo>
                  <a:pt x="870" y="145"/>
                  <a:pt x="1129" y="151"/>
                  <a:pt x="1617" y="144"/>
                </a:cubicBezTo>
                <a:cubicBezTo>
                  <a:pt x="1662" y="102"/>
                  <a:pt x="1610" y="146"/>
                  <a:pt x="1665" y="115"/>
                </a:cubicBezTo>
                <a:cubicBezTo>
                  <a:pt x="1757" y="64"/>
                  <a:pt x="1688" y="86"/>
                  <a:pt x="1761" y="67"/>
                </a:cubicBezTo>
                <a:cubicBezTo>
                  <a:pt x="1803" y="27"/>
                  <a:pt x="1755" y="66"/>
                  <a:pt x="1829" y="38"/>
                </a:cubicBezTo>
                <a:cubicBezTo>
                  <a:pt x="1840" y="34"/>
                  <a:pt x="1847" y="24"/>
                  <a:pt x="1857" y="19"/>
                </a:cubicBezTo>
                <a:cubicBezTo>
                  <a:pt x="1875" y="10"/>
                  <a:pt x="1896" y="7"/>
                  <a:pt x="1915" y="0"/>
                </a:cubicBezTo>
                <a:cubicBezTo>
                  <a:pt x="2340" y="7"/>
                  <a:pt x="2679" y="30"/>
                  <a:pt x="3096" y="38"/>
                </a:cubicBezTo>
                <a:cubicBezTo>
                  <a:pt x="3110" y="82"/>
                  <a:pt x="3151" y="124"/>
                  <a:pt x="3201" y="125"/>
                </a:cubicBezTo>
                <a:cubicBezTo>
                  <a:pt x="3441" y="131"/>
                  <a:pt x="3681" y="131"/>
                  <a:pt x="3921" y="134"/>
                </a:cubicBezTo>
                <a:cubicBezTo>
                  <a:pt x="3914" y="214"/>
                  <a:pt x="3921" y="240"/>
                  <a:pt x="3883" y="298"/>
                </a:cubicBezTo>
                <a:cubicBezTo>
                  <a:pt x="3860" y="409"/>
                  <a:pt x="3979" y="469"/>
                  <a:pt x="3979" y="536"/>
                </a:cubicBezTo>
                <a:cubicBezTo>
                  <a:pt x="3919" y="593"/>
                  <a:pt x="3849" y="672"/>
                  <a:pt x="3902" y="728"/>
                </a:cubicBezTo>
                <a:cubicBezTo>
                  <a:pt x="3923" y="809"/>
                  <a:pt x="3863" y="921"/>
                  <a:pt x="3921" y="979"/>
                </a:cubicBezTo>
                <a:cubicBezTo>
                  <a:pt x="3937" y="995"/>
                  <a:pt x="3950" y="1016"/>
                  <a:pt x="3969" y="1016"/>
                </a:cubicBezTo>
                <a:cubicBezTo>
                  <a:pt x="3979" y="1022"/>
                  <a:pt x="3998" y="1064"/>
                  <a:pt x="3998" y="1064"/>
                </a:cubicBezTo>
                <a:cubicBezTo>
                  <a:pt x="4018" y="1074"/>
                  <a:pt x="3949" y="1225"/>
                  <a:pt x="3960" y="1246"/>
                </a:cubicBezTo>
                <a:cubicBezTo>
                  <a:pt x="3960" y="1296"/>
                  <a:pt x="4006" y="1328"/>
                  <a:pt x="3998" y="1362"/>
                </a:cubicBezTo>
                <a:cubicBezTo>
                  <a:pt x="3979" y="1420"/>
                  <a:pt x="3990" y="1449"/>
                  <a:pt x="3912" y="1450"/>
                </a:cubicBezTo>
                <a:cubicBezTo>
                  <a:pt x="3518" y="1456"/>
                  <a:pt x="3125" y="1456"/>
                  <a:pt x="2731" y="1459"/>
                </a:cubicBezTo>
                <a:cubicBezTo>
                  <a:pt x="2422" y="1566"/>
                  <a:pt x="2305" y="1502"/>
                  <a:pt x="1838" y="1507"/>
                </a:cubicBezTo>
                <a:cubicBezTo>
                  <a:pt x="1006" y="1502"/>
                  <a:pt x="689" y="1627"/>
                  <a:pt x="120" y="1450"/>
                </a:cubicBezTo>
                <a:cubicBezTo>
                  <a:pt x="74" y="1404"/>
                  <a:pt x="99" y="1417"/>
                  <a:pt x="53" y="1402"/>
                </a:cubicBezTo>
                <a:cubicBezTo>
                  <a:pt x="0" y="1349"/>
                  <a:pt x="36" y="1065"/>
                  <a:pt x="72" y="960"/>
                </a:cubicBezTo>
                <a:cubicBezTo>
                  <a:pt x="69" y="835"/>
                  <a:pt x="62" y="711"/>
                  <a:pt x="62" y="586"/>
                </a:cubicBezTo>
                <a:cubicBezTo>
                  <a:pt x="62" y="486"/>
                  <a:pt x="81" y="395"/>
                  <a:pt x="81" y="288"/>
                </a:cubicBezTo>
                <a:cubicBezTo>
                  <a:pt x="81" y="288"/>
                  <a:pt x="43" y="240"/>
                  <a:pt x="43" y="240"/>
                </a:cubicBezTo>
                <a:close/>
              </a:path>
            </a:pathLst>
          </a:custGeom>
          <a:solidFill>
            <a:srgbClr val="ffe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1251000" y="3351240"/>
            <a:ext cx="693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(1)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双击数据表，打开数据表视图窗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 rot="678600">
            <a:off x="4714200" y="2203920"/>
            <a:ext cx="5562360" cy="13129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ff3300"/>
                </a:solidFill>
                <a:latin typeface="华文行楷"/>
                <a:ea typeface="华文行楷"/>
              </a:rPr>
              <a:t> </a:t>
            </a:r>
            <a:r>
              <a:rPr b="1" i="1" lang="zh-CN" sz="4000" spc="-1" strike="noStrike">
                <a:solidFill>
                  <a:srgbClr val="ff3300"/>
                </a:solidFill>
                <a:latin typeface="华文行楷"/>
                <a:ea typeface="华文行楷"/>
              </a:rPr>
              <a:t>在数据表视图窗口</a:t>
            </a:r>
            <a:br>
              <a:rPr sz="4000"/>
            </a:br>
            <a:r>
              <a:rPr b="1" i="1" lang="zh-CN" sz="4000" spc="-1" strike="noStrike">
                <a:solidFill>
                  <a:srgbClr val="ff3300"/>
                </a:solidFill>
                <a:latin typeface="华文行楷"/>
                <a:ea typeface="华文行楷"/>
              </a:rPr>
              <a:t>输入数据记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1228680" y="3943800"/>
            <a:ext cx="744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(2)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依次输入各字段值，完成所有记录的录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1228680" y="4509000"/>
            <a:ext cx="744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(3)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关闭窗口结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4" name="" descr=""/>
          <p:cNvPicPr/>
          <p:nvPr/>
        </p:nvPicPr>
        <p:blipFill>
          <a:blip r:embed="rId1"/>
          <a:stretch/>
        </p:blipFill>
        <p:spPr>
          <a:xfrm>
            <a:off x="119160" y="41400"/>
            <a:ext cx="9174240" cy="17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1" dur="indefinite" restart="never" nodeType="tmRoot">
          <p:childTnLst>
            <p:seq>
              <p:cTn id="1142" dur="indefinite" nodeType="mainSeq">
                <p:childTnLst>
                  <p:par>
                    <p:cTn id="1143" fill="hold">
                      <p:stCondLst>
                        <p:cond delay="indefinite"/>
                      </p:stCondLst>
                      <p:childTnLst>
                        <p:par>
                          <p:cTn id="1144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7" dur="8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8" dur="8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9" dur="8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0" dur="8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5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6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7" fill="hold">
                      <p:stCondLst>
                        <p:cond delay="indefinite"/>
                      </p:stCondLst>
                      <p:childTnLst>
                        <p:par>
                          <p:cTn id="1158" fill="hold">
                            <p:stCondLst>
                              <p:cond delay="0"/>
                            </p:stCondLst>
                            <p:childTnLst>
                              <p:par>
                                <p:cTn id="11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1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2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3" fill="hold">
                      <p:stCondLst>
                        <p:cond delay="indefinite"/>
                      </p:stCondLst>
                      <p:childTnLst>
                        <p:par>
                          <p:cTn id="1164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67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8" fill="hold">
                      <p:stCondLst>
                        <p:cond delay="indefinite"/>
                      </p:stCondLst>
                      <p:childTnLst>
                        <p:par>
                          <p:cTn id="1169" fill="hold">
                            <p:stCondLst>
                              <p:cond delay="0"/>
                            </p:stCondLst>
                            <p:childTnLst>
                              <p:par>
                                <p:cTn id="117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2" dur="10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3" dur="10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4" dur="10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5" fill="hold">
                      <p:stCondLst>
                        <p:cond delay="indefinite"/>
                      </p:stCondLst>
                      <p:childTnLst>
                        <p:par>
                          <p:cTn id="1176" fill="hold">
                            <p:stCondLst>
                              <p:cond delay="0"/>
                            </p:stCondLst>
                            <p:childTnLst>
                              <p:par>
                                <p:cTn id="117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9" dur="10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0" dur="10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1" dur="10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41360" y="280800"/>
            <a:ext cx="83296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ff0000"/>
                </a:solidFill>
                <a:latin typeface="Comic Sans MS"/>
                <a:ea typeface="宋体"/>
              </a:rPr>
              <a:t>数据完整性控制</a:t>
            </a:r>
            <a:endParaRPr b="1" i="1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716" name=""/>
          <p:cNvSpPr/>
          <p:nvPr/>
        </p:nvSpPr>
        <p:spPr>
          <a:xfrm>
            <a:off x="2430360" y="1608120"/>
            <a:ext cx="1635120" cy="1098720"/>
          </a:xfrm>
          <a:custGeom>
            <a:avLst/>
            <a:gdLst/>
            <a:ahLst/>
            <a:rect l="l" t="t" r="r" b="b"/>
            <a:pathLst>
              <a:path w="982" h="774">
                <a:moveTo>
                  <a:pt x="0" y="774"/>
                </a:moveTo>
                <a:lnTo>
                  <a:pt x="2" y="770"/>
                </a:lnTo>
                <a:lnTo>
                  <a:pt x="8" y="754"/>
                </a:lnTo>
                <a:lnTo>
                  <a:pt x="16" y="730"/>
                </a:lnTo>
                <a:lnTo>
                  <a:pt x="32" y="698"/>
                </a:lnTo>
                <a:lnTo>
                  <a:pt x="50" y="660"/>
                </a:lnTo>
                <a:lnTo>
                  <a:pt x="76" y="618"/>
                </a:lnTo>
                <a:lnTo>
                  <a:pt x="106" y="574"/>
                </a:lnTo>
                <a:lnTo>
                  <a:pt x="142" y="528"/>
                </a:lnTo>
                <a:lnTo>
                  <a:pt x="186" y="482"/>
                </a:lnTo>
                <a:lnTo>
                  <a:pt x="236" y="438"/>
                </a:lnTo>
                <a:lnTo>
                  <a:pt x="294" y="398"/>
                </a:lnTo>
                <a:lnTo>
                  <a:pt x="360" y="360"/>
                </a:lnTo>
                <a:lnTo>
                  <a:pt x="426" y="332"/>
                </a:lnTo>
                <a:lnTo>
                  <a:pt x="488" y="314"/>
                </a:lnTo>
                <a:lnTo>
                  <a:pt x="544" y="304"/>
                </a:lnTo>
                <a:lnTo>
                  <a:pt x="594" y="300"/>
                </a:lnTo>
                <a:lnTo>
                  <a:pt x="638" y="300"/>
                </a:lnTo>
                <a:lnTo>
                  <a:pt x="678" y="304"/>
                </a:lnTo>
                <a:lnTo>
                  <a:pt x="710" y="312"/>
                </a:lnTo>
                <a:lnTo>
                  <a:pt x="736" y="320"/>
                </a:lnTo>
                <a:lnTo>
                  <a:pt x="754" y="326"/>
                </a:lnTo>
                <a:lnTo>
                  <a:pt x="766" y="332"/>
                </a:lnTo>
                <a:lnTo>
                  <a:pt x="770" y="334"/>
                </a:lnTo>
                <a:lnTo>
                  <a:pt x="680" y="476"/>
                </a:lnTo>
                <a:lnTo>
                  <a:pt x="982" y="370"/>
                </a:lnTo>
                <a:lnTo>
                  <a:pt x="912" y="0"/>
                </a:lnTo>
                <a:lnTo>
                  <a:pt x="854" y="150"/>
                </a:lnTo>
                <a:lnTo>
                  <a:pt x="850" y="148"/>
                </a:lnTo>
                <a:lnTo>
                  <a:pt x="838" y="142"/>
                </a:lnTo>
                <a:lnTo>
                  <a:pt x="822" y="134"/>
                </a:lnTo>
                <a:lnTo>
                  <a:pt x="798" y="126"/>
                </a:lnTo>
                <a:lnTo>
                  <a:pt x="768" y="120"/>
                </a:lnTo>
                <a:lnTo>
                  <a:pt x="732" y="114"/>
                </a:lnTo>
                <a:lnTo>
                  <a:pt x="692" y="110"/>
                </a:lnTo>
                <a:lnTo>
                  <a:pt x="646" y="110"/>
                </a:lnTo>
                <a:lnTo>
                  <a:pt x="596" y="116"/>
                </a:lnTo>
                <a:lnTo>
                  <a:pt x="540" y="126"/>
                </a:lnTo>
                <a:lnTo>
                  <a:pt x="482" y="146"/>
                </a:lnTo>
                <a:lnTo>
                  <a:pt x="422" y="172"/>
                </a:lnTo>
                <a:lnTo>
                  <a:pt x="356" y="210"/>
                </a:lnTo>
                <a:lnTo>
                  <a:pt x="290" y="258"/>
                </a:lnTo>
                <a:lnTo>
                  <a:pt x="230" y="310"/>
                </a:lnTo>
                <a:lnTo>
                  <a:pt x="178" y="364"/>
                </a:lnTo>
                <a:lnTo>
                  <a:pt x="136" y="422"/>
                </a:lnTo>
                <a:lnTo>
                  <a:pt x="100" y="480"/>
                </a:lnTo>
                <a:lnTo>
                  <a:pt x="72" y="536"/>
                </a:lnTo>
                <a:lnTo>
                  <a:pt x="48" y="590"/>
                </a:lnTo>
                <a:lnTo>
                  <a:pt x="30" y="640"/>
                </a:lnTo>
                <a:lnTo>
                  <a:pt x="18" y="684"/>
                </a:lnTo>
                <a:lnTo>
                  <a:pt x="8" y="722"/>
                </a:lnTo>
                <a:lnTo>
                  <a:pt x="4" y="750"/>
                </a:lnTo>
                <a:lnTo>
                  <a:pt x="0" y="768"/>
                </a:lnTo>
                <a:lnTo>
                  <a:pt x="0" y="774"/>
                </a:lnTo>
              </a:path>
            </a:pathLst>
          </a:custGeom>
          <a:gradFill rotWithShape="0">
            <a:gsLst>
              <a:gs pos="0">
                <a:srgbClr val="703dff"/>
              </a:gs>
              <a:gs pos="100000">
                <a:srgbClr val="ab8efe">
                  <a:alpha val="32156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7" name=""/>
          <p:cNvGrpSpPr/>
          <p:nvPr/>
        </p:nvGrpSpPr>
        <p:grpSpPr>
          <a:xfrm>
            <a:off x="3319560" y="2151000"/>
            <a:ext cx="3176280" cy="3538080"/>
            <a:chOff x="3319560" y="2151000"/>
            <a:chExt cx="3176280" cy="3538080"/>
          </a:xfrm>
        </p:grpSpPr>
        <p:sp>
          <p:nvSpPr>
            <p:cNvPr id="718" name=""/>
            <p:cNvSpPr/>
            <p:nvPr/>
          </p:nvSpPr>
          <p:spPr>
            <a:xfrm>
              <a:off x="3319560" y="2491200"/>
              <a:ext cx="3176280" cy="3197880"/>
            </a:xfrm>
            <a:custGeom>
              <a:avLst/>
              <a:gdLst>
                <a:gd name="textAreaLeft" fmla="*/ 43560 w 3176280"/>
                <a:gd name="textAreaRight" fmla="*/ 3132720 w 3176280"/>
                <a:gd name="textAreaTop" fmla="*/ 43560 h 3197880"/>
                <a:gd name="textAreaBottom" fmla="*/ 3154320 h 3197880"/>
              </a:gdLst>
              <a:ahLst/>
              <a:rect l="textAreaLeft" t="textAreaTop" r="textAreaRight" b="textAreaBottom"/>
              <a:pathLst>
                <a:path w="21600" h="21747">
                  <a:moveTo>
                    <a:pt x="1013" y="0"/>
                  </a:moveTo>
                  <a:arcTo wR="1013" hR="1013" stAng="16200000" swAng="-5400000"/>
                  <a:lnTo>
                    <a:pt x="0" y="20734"/>
                  </a:lnTo>
                  <a:arcTo wR="1013" hR="1013" stAng="10800000" swAng="-5400000"/>
                  <a:lnTo>
                    <a:pt x="20587" y="21747"/>
                  </a:lnTo>
                  <a:arcTo wR="1013" hR="1013" stAng="5400000" swAng="-5400000"/>
                  <a:lnTo>
                    <a:pt x="21600" y="1013"/>
                  </a:lnTo>
                  <a:arcTo wR="1013" hR="1013" stAng="0" swAng="-5400000"/>
                  <a:close/>
                </a:path>
              </a:pathLst>
            </a:cu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3372120" y="2151000"/>
              <a:ext cx="3016800" cy="482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50000">
                  <a:srgbClr val="0000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 flipH="1">
              <a:off x="6354360" y="2422440"/>
              <a:ext cx="82080" cy="13608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 flipH="1">
              <a:off x="3325680" y="2422440"/>
              <a:ext cx="80280" cy="13608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4124880" y="2156760"/>
              <a:ext cx="164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00"/>
                  </a:solidFill>
                  <a:latin typeface="Arial"/>
                </a:rPr>
                <a:t>用户定义的完整性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3" name=""/>
          <p:cNvGrpSpPr/>
          <p:nvPr/>
        </p:nvGrpSpPr>
        <p:grpSpPr>
          <a:xfrm>
            <a:off x="276120" y="2490840"/>
            <a:ext cx="2938320" cy="3470040"/>
            <a:chOff x="276120" y="2490840"/>
            <a:chExt cx="2938320" cy="3470040"/>
          </a:xfrm>
        </p:grpSpPr>
        <p:sp>
          <p:nvSpPr>
            <p:cNvPr id="724" name=""/>
            <p:cNvSpPr/>
            <p:nvPr/>
          </p:nvSpPr>
          <p:spPr>
            <a:xfrm>
              <a:off x="276120" y="2867040"/>
              <a:ext cx="2938320" cy="3093840"/>
            </a:xfrm>
            <a:custGeom>
              <a:avLst/>
              <a:gdLst>
                <a:gd name="textAreaLeft" fmla="*/ 40320 w 2938320"/>
                <a:gd name="textAreaRight" fmla="*/ 2898000 w 2938320"/>
                <a:gd name="textAreaTop" fmla="*/ 40320 h 3093840"/>
                <a:gd name="textAreaBottom" fmla="*/ 3053520 h 3093840"/>
              </a:gdLst>
              <a:ahLst/>
              <a:rect l="textAreaLeft" t="textAreaTop" r="textAreaRight" b="textAreaBottom"/>
              <a:pathLst>
                <a:path w="21600" h="22743">
                  <a:moveTo>
                    <a:pt x="1013" y="0"/>
                  </a:moveTo>
                  <a:arcTo wR="1013" hR="1013" stAng="16200000" swAng="-5400000"/>
                  <a:lnTo>
                    <a:pt x="0" y="21730"/>
                  </a:lnTo>
                  <a:arcTo wR="1013" hR="1013" stAng="10800000" swAng="-5400000"/>
                  <a:lnTo>
                    <a:pt x="20587" y="22743"/>
                  </a:lnTo>
                  <a:arcTo wR="1013" hR="1013" stAng="5400000" swAng="-5400000"/>
                  <a:lnTo>
                    <a:pt x="21600" y="1013"/>
                  </a:lnTo>
                  <a:arcTo wR="1013" hR="1013" stAng="0" swAng="-5400000"/>
                  <a:close/>
                </a:path>
              </a:pathLst>
            </a:custGeom>
            <a:noFill/>
            <a:ln w="57240">
              <a:solidFill>
                <a:srgbClr val="703d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515520" y="2490840"/>
              <a:ext cx="2474640" cy="502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2b1762"/>
                </a:gs>
                <a:gs pos="50000">
                  <a:srgbClr val="703dff"/>
                </a:gs>
                <a:gs pos="100000">
                  <a:srgbClr val="2b176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 flipH="1">
              <a:off x="2938680" y="2777040"/>
              <a:ext cx="80280" cy="12420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 flipH="1">
              <a:off x="452520" y="2781720"/>
              <a:ext cx="82080" cy="12420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356400" y="2490840"/>
              <a:ext cx="2850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00"/>
                  </a:solidFill>
                  <a:latin typeface="Arial"/>
                </a:rPr>
                <a:t>实体完整性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9" name=""/>
          <p:cNvSpPr/>
          <p:nvPr/>
        </p:nvSpPr>
        <p:spPr>
          <a:xfrm>
            <a:off x="436680" y="2973240"/>
            <a:ext cx="26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通过设置主键，使其取值既不能为空也不能重复，以此保证记录（即实体）的正确性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3436920" y="2517840"/>
            <a:ext cx="2925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通过定义指定字段的“有效性规则”属性，对字段的取值设置约束条件，保证记录的合法性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1" name=""/>
          <p:cNvGrpSpPr/>
          <p:nvPr/>
        </p:nvGrpSpPr>
        <p:grpSpPr>
          <a:xfrm>
            <a:off x="6580080" y="1744560"/>
            <a:ext cx="3143160" cy="3128760"/>
            <a:chOff x="6580080" y="1744560"/>
            <a:chExt cx="3143160" cy="3128760"/>
          </a:xfrm>
        </p:grpSpPr>
        <p:sp>
          <p:nvSpPr>
            <p:cNvPr id="732" name=""/>
            <p:cNvSpPr/>
            <p:nvPr/>
          </p:nvSpPr>
          <p:spPr>
            <a:xfrm>
              <a:off x="6580080" y="2028960"/>
              <a:ext cx="3143160" cy="2844360"/>
            </a:xfrm>
            <a:prstGeom prst="roundRect">
              <a:avLst>
                <a:gd name="adj" fmla="val 4690"/>
              </a:avLst>
            </a:prstGeom>
            <a:noFill/>
            <a:ln w="57240">
              <a:solidFill>
                <a:srgbClr val="00b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6653160" y="1744560"/>
              <a:ext cx="3017520" cy="3985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5200"/>
                </a:gs>
                <a:gs pos="50000">
                  <a:srgbClr val="00b200"/>
                </a:gs>
                <a:gs pos="100000">
                  <a:srgbClr val="0052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 flipH="1">
              <a:off x="9624600" y="1991160"/>
              <a:ext cx="80280" cy="11268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840" bIns="42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 flipH="1">
              <a:off x="6584400" y="1978920"/>
              <a:ext cx="80280" cy="11268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840" bIns="42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7675200" y="176184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00"/>
                  </a:solidFill>
                  <a:latin typeface="Arial"/>
                </a:rPr>
                <a:t>参照完整性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7" name=""/>
          <p:cNvSpPr/>
          <p:nvPr/>
        </p:nvSpPr>
        <p:spPr>
          <a:xfrm>
            <a:off x="6729480" y="2251080"/>
            <a:ext cx="297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是指对存在引用关系的两个关系（数据表）的约束，通过建立引用关系保证数据的一致性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5303880" y="1130400"/>
            <a:ext cx="1635120" cy="1098360"/>
          </a:xfrm>
          <a:custGeom>
            <a:avLst/>
            <a:gdLst/>
            <a:ahLst/>
            <a:rect l="l" t="t" r="r" b="b"/>
            <a:pathLst>
              <a:path w="982" h="774">
                <a:moveTo>
                  <a:pt x="0" y="774"/>
                </a:moveTo>
                <a:lnTo>
                  <a:pt x="2" y="770"/>
                </a:lnTo>
                <a:lnTo>
                  <a:pt x="8" y="754"/>
                </a:lnTo>
                <a:lnTo>
                  <a:pt x="16" y="730"/>
                </a:lnTo>
                <a:lnTo>
                  <a:pt x="32" y="698"/>
                </a:lnTo>
                <a:lnTo>
                  <a:pt x="50" y="660"/>
                </a:lnTo>
                <a:lnTo>
                  <a:pt x="76" y="618"/>
                </a:lnTo>
                <a:lnTo>
                  <a:pt x="106" y="574"/>
                </a:lnTo>
                <a:lnTo>
                  <a:pt x="142" y="528"/>
                </a:lnTo>
                <a:lnTo>
                  <a:pt x="186" y="482"/>
                </a:lnTo>
                <a:lnTo>
                  <a:pt x="236" y="438"/>
                </a:lnTo>
                <a:lnTo>
                  <a:pt x="294" y="398"/>
                </a:lnTo>
                <a:lnTo>
                  <a:pt x="360" y="360"/>
                </a:lnTo>
                <a:lnTo>
                  <a:pt x="426" y="332"/>
                </a:lnTo>
                <a:lnTo>
                  <a:pt x="488" y="314"/>
                </a:lnTo>
                <a:lnTo>
                  <a:pt x="544" y="304"/>
                </a:lnTo>
                <a:lnTo>
                  <a:pt x="594" y="300"/>
                </a:lnTo>
                <a:lnTo>
                  <a:pt x="638" y="300"/>
                </a:lnTo>
                <a:lnTo>
                  <a:pt x="678" y="304"/>
                </a:lnTo>
                <a:lnTo>
                  <a:pt x="710" y="312"/>
                </a:lnTo>
                <a:lnTo>
                  <a:pt x="736" y="320"/>
                </a:lnTo>
                <a:lnTo>
                  <a:pt x="754" y="326"/>
                </a:lnTo>
                <a:lnTo>
                  <a:pt x="766" y="332"/>
                </a:lnTo>
                <a:lnTo>
                  <a:pt x="770" y="334"/>
                </a:lnTo>
                <a:lnTo>
                  <a:pt x="680" y="476"/>
                </a:lnTo>
                <a:lnTo>
                  <a:pt x="982" y="370"/>
                </a:lnTo>
                <a:lnTo>
                  <a:pt x="912" y="0"/>
                </a:lnTo>
                <a:lnTo>
                  <a:pt x="854" y="150"/>
                </a:lnTo>
                <a:lnTo>
                  <a:pt x="850" y="148"/>
                </a:lnTo>
                <a:lnTo>
                  <a:pt x="838" y="142"/>
                </a:lnTo>
                <a:lnTo>
                  <a:pt x="822" y="134"/>
                </a:lnTo>
                <a:lnTo>
                  <a:pt x="798" y="126"/>
                </a:lnTo>
                <a:lnTo>
                  <a:pt x="768" y="120"/>
                </a:lnTo>
                <a:lnTo>
                  <a:pt x="732" y="114"/>
                </a:lnTo>
                <a:lnTo>
                  <a:pt x="692" y="110"/>
                </a:lnTo>
                <a:lnTo>
                  <a:pt x="646" y="110"/>
                </a:lnTo>
                <a:lnTo>
                  <a:pt x="596" y="116"/>
                </a:lnTo>
                <a:lnTo>
                  <a:pt x="540" y="126"/>
                </a:lnTo>
                <a:lnTo>
                  <a:pt x="482" y="146"/>
                </a:lnTo>
                <a:lnTo>
                  <a:pt x="422" y="172"/>
                </a:lnTo>
                <a:lnTo>
                  <a:pt x="356" y="210"/>
                </a:lnTo>
                <a:lnTo>
                  <a:pt x="290" y="258"/>
                </a:lnTo>
                <a:lnTo>
                  <a:pt x="230" y="310"/>
                </a:lnTo>
                <a:lnTo>
                  <a:pt x="178" y="364"/>
                </a:lnTo>
                <a:lnTo>
                  <a:pt x="136" y="422"/>
                </a:lnTo>
                <a:lnTo>
                  <a:pt x="100" y="480"/>
                </a:lnTo>
                <a:lnTo>
                  <a:pt x="72" y="536"/>
                </a:lnTo>
                <a:lnTo>
                  <a:pt x="48" y="590"/>
                </a:lnTo>
                <a:lnTo>
                  <a:pt x="30" y="640"/>
                </a:lnTo>
                <a:lnTo>
                  <a:pt x="18" y="684"/>
                </a:lnTo>
                <a:lnTo>
                  <a:pt x="8" y="722"/>
                </a:lnTo>
                <a:lnTo>
                  <a:pt x="4" y="750"/>
                </a:lnTo>
                <a:lnTo>
                  <a:pt x="0" y="768"/>
                </a:lnTo>
                <a:lnTo>
                  <a:pt x="0" y="774"/>
                </a:lnTo>
              </a:path>
            </a:pathLst>
          </a:custGeom>
          <a:gradFill rotWithShape="0">
            <a:gsLst>
              <a:gs pos="0">
                <a:srgbClr val="00b200"/>
              </a:gs>
              <a:gs pos="100000">
                <a:srgbClr val="16b816">
                  <a:alpha val="32156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9" name="" descr=""/>
          <p:cNvPicPr/>
          <p:nvPr/>
        </p:nvPicPr>
        <p:blipFill>
          <a:blip r:embed="rId1"/>
          <a:stretch/>
        </p:blipFill>
        <p:spPr>
          <a:xfrm>
            <a:off x="2173320" y="5448240"/>
            <a:ext cx="1033560" cy="504720"/>
          </a:xfrm>
          <a:prstGeom prst="rect">
            <a:avLst/>
          </a:prstGeom>
          <a:ln w="0">
            <a:noFill/>
          </a:ln>
        </p:spPr>
      </p:pic>
      <p:pic>
        <p:nvPicPr>
          <p:cNvPr id="740" name="" descr=""/>
          <p:cNvPicPr/>
          <p:nvPr/>
        </p:nvPicPr>
        <p:blipFill>
          <a:blip r:embed="rId2"/>
          <a:stretch/>
        </p:blipFill>
        <p:spPr>
          <a:xfrm>
            <a:off x="5454720" y="5189400"/>
            <a:ext cx="1033560" cy="5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2" dur="indefinite" restart="never" nodeType="tmRoot">
          <p:childTnLst>
            <p:seq>
              <p:cTn id="1183" dur="indefinite" nodeType="mainSeq">
                <p:childTnLst>
                  <p:par>
                    <p:cTn id="1184" fill="hold">
                      <p:stCondLst>
                        <p:cond delay="indefinite"/>
                      </p:stCondLst>
                      <p:childTnLst>
                        <p:par>
                          <p:cTn id="1185" fill="hold">
                            <p:stCondLst>
                              <p:cond delay="0"/>
                            </p:stCondLst>
                            <p:childTnLst>
                              <p:par>
                                <p:cTn id="118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88" dur="5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93" dur="80"/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8,-64,105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2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94" dur="80"/>
                                        <p:tgtEl>
                                          <p:spTgt spid="7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8,-64,105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2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5" dur="80"/>
                                        <p:tgtEl>
                                          <p:spTgt spid="7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2" dur="10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3" dur="10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4" fill="hold">
                      <p:stCondLst>
                        <p:cond delay="indefinite"/>
                      </p:stCondLst>
                      <p:childTnLst>
                        <p:par>
                          <p:cTn id="1205" fill="hold">
                            <p:stCondLst>
                              <p:cond delay="0"/>
                            </p:stCondLst>
                            <p:childTnLst>
                              <p:par>
                                <p:cTn id="120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8" dur="10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9" dur="10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0" dur="10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1" fill="hold">
                      <p:stCondLst>
                        <p:cond delay="indefinite"/>
                      </p:stCondLst>
                      <p:childTnLst>
                        <p:par>
                          <p:cTn id="1212" fill="hold">
                            <p:stCondLst>
                              <p:cond delay="0"/>
                            </p:stCondLst>
                            <p:childTnLst>
                              <p:par>
                                <p:cTn id="121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15" dur="5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20" dur="5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1" fill="hold">
                      <p:stCondLst>
                        <p:cond delay="indefinite"/>
                      </p:stCondLst>
                      <p:childTnLst>
                        <p:par>
                          <p:cTn id="1222" fill="hold">
                            <p:stCondLst>
                              <p:cond delay="0"/>
                            </p:stCondLst>
                            <p:childTnLst>
                              <p:par>
                                <p:cTn id="122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5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6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7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9" fill="hold">
                      <p:stCondLst>
                        <p:cond delay="indefinite"/>
                      </p:stCondLst>
                      <p:childTnLst>
                        <p:par>
                          <p:cTn id="1230" fill="hold">
                            <p:stCondLst>
                              <p:cond delay="0"/>
                            </p:stCondLst>
                            <p:childTnLst>
                              <p:par>
                                <p:cTn id="12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3" dur="10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4" dur="10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5" dur="10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6" fill="hold">
                      <p:stCondLst>
                        <p:cond delay="indefinite"/>
                      </p:stCondLst>
                      <p:childTnLst>
                        <p:par>
                          <p:cTn id="1237" fill="hold">
                            <p:stCondLst>
                              <p:cond delay="0"/>
                            </p:stCondLst>
                            <p:childTnLst>
                              <p:par>
                                <p:cTn id="123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40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1" fill="hold">
                      <p:stCondLst>
                        <p:cond delay="indefinite"/>
                      </p:stCondLst>
                      <p:childTnLst>
                        <p:par>
                          <p:cTn id="1242" fill="hold">
                            <p:stCondLst>
                              <p:cond delay="0"/>
                            </p:stCondLst>
                            <p:childTnLst>
                              <p:par>
                                <p:cTn id="12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5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6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41360" y="280800"/>
            <a:ext cx="83296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0000"/>
                </a:solidFill>
                <a:latin typeface="Comic Sans MS"/>
                <a:ea typeface="宋体"/>
              </a:rPr>
              <a:t>参照完整性示例</a:t>
            </a:r>
            <a:endParaRPr b="1" i="1" lang="en-US" sz="3600" spc="-1" strike="noStrike">
              <a:solidFill>
                <a:srgbClr val="ff0000"/>
              </a:solidFill>
              <a:latin typeface="Comic Sans MS"/>
            </a:endParaRPr>
          </a:p>
        </p:txBody>
      </p:sp>
      <p:grpSp>
        <p:nvGrpSpPr>
          <p:cNvPr id="742" name=""/>
          <p:cNvGrpSpPr/>
          <p:nvPr/>
        </p:nvGrpSpPr>
        <p:grpSpPr>
          <a:xfrm>
            <a:off x="119160" y="1157400"/>
            <a:ext cx="8651880" cy="5076360"/>
            <a:chOff x="119160" y="1157400"/>
            <a:chExt cx="8651880" cy="5076360"/>
          </a:xfrm>
        </p:grpSpPr>
        <p:pic>
          <p:nvPicPr>
            <p:cNvPr id="743" name="" descr=""/>
            <p:cNvPicPr/>
            <p:nvPr/>
          </p:nvPicPr>
          <p:blipFill>
            <a:blip r:embed="rId1"/>
            <a:stretch/>
          </p:blipFill>
          <p:spPr>
            <a:xfrm>
              <a:off x="119160" y="1157400"/>
              <a:ext cx="8651880" cy="472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4" name=""/>
            <p:cNvSpPr/>
            <p:nvPr/>
          </p:nvSpPr>
          <p:spPr>
            <a:xfrm>
              <a:off x="3107160" y="5841000"/>
              <a:ext cx="2676600" cy="39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5" name=""/>
          <p:cNvSpPr/>
          <p:nvPr/>
        </p:nvSpPr>
        <p:spPr>
          <a:xfrm>
            <a:off x="119160" y="3265560"/>
            <a:ext cx="793800" cy="477720"/>
          </a:xfrm>
          <a:prstGeom prst="ellipse">
            <a:avLst/>
          </a:prstGeom>
          <a:noFill/>
          <a:ln w="255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 flipV="1">
            <a:off x="676440" y="1428480"/>
            <a:ext cx="0" cy="197316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676440" y="1414440"/>
            <a:ext cx="3571560" cy="0"/>
          </a:xfrm>
          <a:prstGeom prst="line">
            <a:avLst/>
          </a:prstGeom>
          <a:ln w="2844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4167360" y="1157400"/>
            <a:ext cx="793440" cy="476280"/>
          </a:xfrm>
          <a:prstGeom prst="ellipse">
            <a:avLst/>
          </a:prstGeom>
          <a:noFill/>
          <a:ln w="255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1389240" y="1660680"/>
            <a:ext cx="134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3300"/>
                </a:solidFill>
                <a:latin typeface="Arial"/>
              </a:rPr>
              <a:t>取值参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4325760" y="3857040"/>
            <a:ext cx="5754960" cy="23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只要建立了二者之间的引用关系，就能保证数据的一致性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在选课表中插入一个记录  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( 39078, 6, 90, 0 )——</a:t>
            </a:r>
            <a:r>
              <a:rPr b="1" lang="zh-CN" sz="2200" spc="-1" strike="noStrike">
                <a:solidFill>
                  <a:srgbClr val="00b200"/>
                </a:solidFill>
                <a:latin typeface="Arial"/>
                <a:ea typeface="楷体_GB2312"/>
              </a:rPr>
              <a:t>拒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修改学生表中的学生学号——</a:t>
            </a:r>
            <a:r>
              <a:rPr b="1" lang="zh-CN" sz="2200" spc="-1" strike="noStrike">
                <a:solidFill>
                  <a:srgbClr val="00b200"/>
                </a:solidFill>
                <a:latin typeface="Arial"/>
                <a:ea typeface="楷体_GB2312"/>
              </a:rPr>
              <a:t>同步修改选课表中相应学号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删除学生表中记录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(39001,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杨雨潇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,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男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在读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,2007-9-1,2008-7-2,18)——</a:t>
            </a:r>
            <a:r>
              <a:rPr b="1" lang="zh-CN" sz="2200" spc="-1" strike="noStrike">
                <a:solidFill>
                  <a:srgbClr val="00b200"/>
                </a:solidFill>
                <a:latin typeface="Arial"/>
                <a:ea typeface="楷体_GB2312"/>
              </a:rPr>
              <a:t>提示同步删除选课表中相应记录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1387440" y="993600"/>
            <a:ext cx="190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3300"/>
                </a:solidFill>
                <a:latin typeface="Arial"/>
                <a:ea typeface="华文行楷"/>
              </a:rPr>
              <a:t>关联关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673200" y="2968560"/>
            <a:ext cx="190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3300"/>
                </a:solidFill>
                <a:latin typeface="Arial"/>
                <a:ea typeface="华文行楷"/>
              </a:rPr>
              <a:t>关联字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7182000" y="3171960"/>
            <a:ext cx="87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3300"/>
                </a:solidFill>
                <a:latin typeface="Arial"/>
                <a:ea typeface="华文行楷"/>
              </a:rPr>
              <a:t>主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1944720" y="5826240"/>
            <a:ext cx="87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3300"/>
                </a:solidFill>
                <a:latin typeface="Arial"/>
                <a:ea typeface="华文行楷"/>
              </a:rPr>
              <a:t>子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7" dur="indefinite" restart="never" nodeType="tmRoot">
          <p:childTnLst>
            <p:seq>
              <p:cTn id="1248" dur="indefinite" nodeType="mainSeq">
                <p:childTnLst>
                  <p:par>
                    <p:cTn id="1249" fill="hold">
                      <p:stCondLst>
                        <p:cond delay="indefinite"/>
                      </p:stCondLst>
                      <p:childTnLst>
                        <p:par>
                          <p:cTn id="1250" fill="hold">
                            <p:stCondLst>
                              <p:cond delay="0"/>
                            </p:stCondLst>
                            <p:childTnLst>
                              <p:par>
                                <p:cTn id="12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3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4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5" fill="hold">
                      <p:stCondLst>
                        <p:cond delay="indefinite"/>
                      </p:stCondLst>
                      <p:childTnLst>
                        <p:par>
                          <p:cTn id="1256" fill="hold">
                            <p:stCondLst>
                              <p:cond delay="0"/>
                            </p:stCondLst>
                            <p:childTnLst>
                              <p:par>
                                <p:cTn id="12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59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0" fill="hold">
                      <p:stCondLst>
                        <p:cond delay="indefinite"/>
                      </p:stCondLst>
                      <p:childTnLst>
                        <p:par>
                          <p:cTn id="1261" fill="hold">
                            <p:stCondLst>
                              <p:cond delay="0"/>
                            </p:stCondLst>
                            <p:childTnLst>
                              <p:par>
                                <p:cTn id="126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64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5" fill="hold">
                            <p:stCondLst>
                              <p:cond delay="500"/>
                            </p:stCondLst>
                            <p:childTnLst>
                              <p:par>
                                <p:cTn id="126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68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9" fill="hold">
                      <p:stCondLst>
                        <p:cond delay="indefinite"/>
                      </p:stCondLst>
                      <p:childTnLst>
                        <p:par>
                          <p:cTn id="1270" fill="hold">
                            <p:stCondLst>
                              <p:cond delay="0"/>
                            </p:stCondLst>
                            <p:childTnLst>
                              <p:par>
                                <p:cTn id="12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3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4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5" fill="hold">
                      <p:stCondLst>
                        <p:cond delay="indefinite"/>
                      </p:stCondLst>
                      <p:childTnLst>
                        <p:par>
                          <p:cTn id="1276" fill="hold">
                            <p:stCondLst>
                              <p:cond delay="0"/>
                            </p:stCondLst>
                            <p:childTnLst>
                              <p:par>
                                <p:cTn id="1277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279" dur="20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0" fill="hold">
                      <p:stCondLst>
                        <p:cond delay="indefinite"/>
                      </p:stCondLst>
                      <p:childTnLst>
                        <p:par>
                          <p:cTn id="1281" fill="hold">
                            <p:stCondLst>
                              <p:cond delay="0"/>
                            </p:stCondLst>
                            <p:childTnLst>
                              <p:par>
                                <p:cTn id="128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28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9" fill="hold">
                      <p:stCondLst>
                        <p:cond delay="indefinite"/>
                      </p:stCondLst>
                      <p:childTnLst>
                        <p:par>
                          <p:cTn id="1290" fill="hold">
                            <p:stCondLst>
                              <p:cond delay="0"/>
                            </p:stCondLst>
                            <p:childTnLst>
                              <p:par>
                                <p:cTn id="129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29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8" fill="hold">
                      <p:stCondLst>
                        <p:cond delay="indefinite"/>
                      </p:stCondLst>
                      <p:childTnLst>
                        <p:par>
                          <p:cTn id="1299" fill="hold">
                            <p:stCondLst>
                              <p:cond delay="0"/>
                            </p:stCondLst>
                            <p:childTnLst>
                              <p:par>
                                <p:cTn id="1300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30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31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1666800" y="449280"/>
            <a:ext cx="8532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0000"/>
                </a:solidFill>
                <a:latin typeface="Comic Sans MS"/>
                <a:ea typeface="宋体"/>
              </a:rPr>
              <a:t>建立</a:t>
            </a:r>
            <a:r>
              <a:rPr b="1" i="1" lang="zh-CN" sz="3200" spc="-1" strike="noStrike">
                <a:solidFill>
                  <a:srgbClr val="ff0000"/>
                </a:solidFill>
                <a:latin typeface="Comic Sans MS"/>
                <a:ea typeface="宋体"/>
              </a:rPr>
              <a:t>student</a:t>
            </a:r>
            <a:r>
              <a:rPr b="1" i="1" lang="zh-CN" sz="3200" spc="-1" strike="noStrike">
                <a:solidFill>
                  <a:srgbClr val="ff0000"/>
                </a:solidFill>
                <a:latin typeface="Comic Sans MS"/>
                <a:ea typeface="宋体"/>
              </a:rPr>
              <a:t>表和</a:t>
            </a:r>
            <a:r>
              <a:rPr b="1" i="1" lang="zh-CN" sz="3200" spc="-1" strike="noStrike">
                <a:solidFill>
                  <a:srgbClr val="ff0000"/>
                </a:solidFill>
                <a:latin typeface="Comic Sans MS"/>
                <a:ea typeface="宋体"/>
              </a:rPr>
              <a:t>sel_course</a:t>
            </a:r>
            <a:r>
              <a:rPr b="1" i="1" lang="zh-CN" sz="3200" spc="-1" strike="noStrike">
                <a:solidFill>
                  <a:srgbClr val="ff0000"/>
                </a:solidFill>
                <a:latin typeface="Comic Sans MS"/>
                <a:ea typeface="宋体"/>
              </a:rPr>
              <a:t>表间的关联关系</a:t>
            </a:r>
            <a:endParaRPr b="1" i="1" lang="en-US" sz="32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756" name=""/>
          <p:cNvSpPr/>
          <p:nvPr/>
        </p:nvSpPr>
        <p:spPr>
          <a:xfrm>
            <a:off x="833400" y="1608120"/>
            <a:ext cx="8413920" cy="2516040"/>
          </a:xfrm>
          <a:custGeom>
            <a:avLst/>
            <a:gdLst/>
            <a:ahLst/>
            <a:rect l="l" t="t" r="r" b="b"/>
            <a:pathLst>
              <a:path w="4018" h="1627">
                <a:moveTo>
                  <a:pt x="43" y="240"/>
                </a:moveTo>
                <a:cubicBezTo>
                  <a:pt x="133" y="271"/>
                  <a:pt x="241" y="275"/>
                  <a:pt x="321" y="221"/>
                </a:cubicBezTo>
                <a:cubicBezTo>
                  <a:pt x="339" y="169"/>
                  <a:pt x="322" y="199"/>
                  <a:pt x="389" y="154"/>
                </a:cubicBezTo>
                <a:cubicBezTo>
                  <a:pt x="399" y="148"/>
                  <a:pt x="417" y="134"/>
                  <a:pt x="417" y="134"/>
                </a:cubicBezTo>
                <a:cubicBezTo>
                  <a:pt x="870" y="145"/>
                  <a:pt x="1129" y="151"/>
                  <a:pt x="1617" y="144"/>
                </a:cubicBezTo>
                <a:cubicBezTo>
                  <a:pt x="1662" y="102"/>
                  <a:pt x="1610" y="146"/>
                  <a:pt x="1665" y="115"/>
                </a:cubicBezTo>
                <a:cubicBezTo>
                  <a:pt x="1757" y="64"/>
                  <a:pt x="1688" y="86"/>
                  <a:pt x="1761" y="67"/>
                </a:cubicBezTo>
                <a:cubicBezTo>
                  <a:pt x="1803" y="27"/>
                  <a:pt x="1755" y="66"/>
                  <a:pt x="1829" y="38"/>
                </a:cubicBezTo>
                <a:cubicBezTo>
                  <a:pt x="1840" y="34"/>
                  <a:pt x="1847" y="24"/>
                  <a:pt x="1857" y="19"/>
                </a:cubicBezTo>
                <a:cubicBezTo>
                  <a:pt x="1875" y="10"/>
                  <a:pt x="1896" y="7"/>
                  <a:pt x="1915" y="0"/>
                </a:cubicBezTo>
                <a:cubicBezTo>
                  <a:pt x="2340" y="7"/>
                  <a:pt x="2679" y="30"/>
                  <a:pt x="3096" y="38"/>
                </a:cubicBezTo>
                <a:cubicBezTo>
                  <a:pt x="3110" y="82"/>
                  <a:pt x="3151" y="124"/>
                  <a:pt x="3201" y="125"/>
                </a:cubicBezTo>
                <a:cubicBezTo>
                  <a:pt x="3441" y="131"/>
                  <a:pt x="3681" y="131"/>
                  <a:pt x="3921" y="134"/>
                </a:cubicBezTo>
                <a:cubicBezTo>
                  <a:pt x="3914" y="214"/>
                  <a:pt x="3921" y="240"/>
                  <a:pt x="3883" y="298"/>
                </a:cubicBezTo>
                <a:cubicBezTo>
                  <a:pt x="3860" y="409"/>
                  <a:pt x="3979" y="469"/>
                  <a:pt x="3979" y="536"/>
                </a:cubicBezTo>
                <a:cubicBezTo>
                  <a:pt x="3919" y="593"/>
                  <a:pt x="3849" y="672"/>
                  <a:pt x="3902" y="728"/>
                </a:cubicBezTo>
                <a:cubicBezTo>
                  <a:pt x="3923" y="809"/>
                  <a:pt x="3863" y="921"/>
                  <a:pt x="3921" y="979"/>
                </a:cubicBezTo>
                <a:cubicBezTo>
                  <a:pt x="3937" y="995"/>
                  <a:pt x="3950" y="1016"/>
                  <a:pt x="3969" y="1016"/>
                </a:cubicBezTo>
                <a:cubicBezTo>
                  <a:pt x="3979" y="1022"/>
                  <a:pt x="3998" y="1064"/>
                  <a:pt x="3998" y="1064"/>
                </a:cubicBezTo>
                <a:cubicBezTo>
                  <a:pt x="4018" y="1074"/>
                  <a:pt x="3949" y="1225"/>
                  <a:pt x="3960" y="1246"/>
                </a:cubicBezTo>
                <a:cubicBezTo>
                  <a:pt x="3960" y="1296"/>
                  <a:pt x="4006" y="1328"/>
                  <a:pt x="3998" y="1362"/>
                </a:cubicBezTo>
                <a:cubicBezTo>
                  <a:pt x="3979" y="1420"/>
                  <a:pt x="3990" y="1449"/>
                  <a:pt x="3912" y="1450"/>
                </a:cubicBezTo>
                <a:cubicBezTo>
                  <a:pt x="3518" y="1456"/>
                  <a:pt x="3125" y="1456"/>
                  <a:pt x="2731" y="1459"/>
                </a:cubicBezTo>
                <a:cubicBezTo>
                  <a:pt x="2422" y="1566"/>
                  <a:pt x="2305" y="1502"/>
                  <a:pt x="1838" y="1507"/>
                </a:cubicBezTo>
                <a:cubicBezTo>
                  <a:pt x="1006" y="1502"/>
                  <a:pt x="689" y="1627"/>
                  <a:pt x="120" y="1450"/>
                </a:cubicBezTo>
                <a:cubicBezTo>
                  <a:pt x="74" y="1404"/>
                  <a:pt x="99" y="1417"/>
                  <a:pt x="53" y="1402"/>
                </a:cubicBezTo>
                <a:cubicBezTo>
                  <a:pt x="0" y="1349"/>
                  <a:pt x="36" y="1065"/>
                  <a:pt x="72" y="960"/>
                </a:cubicBezTo>
                <a:cubicBezTo>
                  <a:pt x="69" y="835"/>
                  <a:pt x="62" y="711"/>
                  <a:pt x="62" y="586"/>
                </a:cubicBezTo>
                <a:cubicBezTo>
                  <a:pt x="62" y="486"/>
                  <a:pt x="81" y="395"/>
                  <a:pt x="81" y="288"/>
                </a:cubicBezTo>
                <a:cubicBezTo>
                  <a:pt x="81" y="288"/>
                  <a:pt x="43" y="240"/>
                  <a:pt x="43" y="240"/>
                </a:cubicBezTo>
                <a:close/>
              </a:path>
            </a:pathLst>
          </a:custGeom>
          <a:solidFill>
            <a:srgbClr val="ffe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1411200" y="219384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(1)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打开“关系”窗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 rot="21309600">
            <a:off x="596880" y="1553760"/>
            <a:ext cx="2143080" cy="7034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ff3300"/>
                </a:solidFill>
                <a:latin typeface="华文行楷"/>
                <a:ea typeface="华文行楷"/>
              </a:rPr>
              <a:t> </a:t>
            </a:r>
            <a:r>
              <a:rPr b="1" i="1" lang="zh-CN" sz="4000" spc="-1" strike="noStrike">
                <a:solidFill>
                  <a:srgbClr val="ff3300"/>
                </a:solidFill>
                <a:latin typeface="华文行楷"/>
                <a:ea typeface="华文行楷"/>
              </a:rPr>
              <a:t>方法</a:t>
            </a:r>
            <a:r>
              <a:rPr b="1" i="1" lang="zh-CN" sz="4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1387440" y="2352600"/>
            <a:ext cx="7445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(2)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选择建立关联的表添加到窗口中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1387440" y="2743200"/>
            <a:ext cx="7445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(3)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将主表的主键拖到子表的外键，建立关联关系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1387440" y="3289680"/>
            <a:ext cx="744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(4)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设置参照完整性规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2" name="" descr=""/>
          <p:cNvPicPr/>
          <p:nvPr/>
        </p:nvPicPr>
        <p:blipFill>
          <a:blip r:embed="rId1"/>
          <a:stretch/>
        </p:blipFill>
        <p:spPr>
          <a:xfrm>
            <a:off x="5584680" y="1189080"/>
            <a:ext cx="4376880" cy="3889440"/>
          </a:xfrm>
          <a:prstGeom prst="rect">
            <a:avLst/>
          </a:prstGeom>
          <a:ln w="0">
            <a:noFill/>
          </a:ln>
        </p:spPr>
      </p:pic>
      <p:sp>
        <p:nvSpPr>
          <p:cNvPr id="763" name=""/>
          <p:cNvSpPr/>
          <p:nvPr/>
        </p:nvSpPr>
        <p:spPr>
          <a:xfrm rot="523200">
            <a:off x="5757480" y="4724280"/>
            <a:ext cx="4124520" cy="898560"/>
          </a:xfrm>
          <a:prstGeom prst="cloudCallout">
            <a:avLst>
              <a:gd name="adj1" fmla="val -11893"/>
              <a:gd name="adj2" fmla="val -251949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b200"/>
                </a:solidFill>
                <a:latin typeface="华文行楷"/>
                <a:ea typeface="华文行楷"/>
              </a:rPr>
              <a:t>一对多关系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4" name="" descr=""/>
          <p:cNvPicPr/>
          <p:nvPr/>
        </p:nvPicPr>
        <p:blipFill>
          <a:blip r:embed="rId2"/>
          <a:stretch/>
        </p:blipFill>
        <p:spPr>
          <a:xfrm>
            <a:off x="4643280" y="3754440"/>
            <a:ext cx="1032120" cy="506520"/>
          </a:xfrm>
          <a:prstGeom prst="rect">
            <a:avLst/>
          </a:prstGeom>
          <a:ln w="0">
            <a:noFill/>
          </a:ln>
        </p:spPr>
      </p:pic>
      <p:sp>
        <p:nvSpPr>
          <p:cNvPr id="765" name=""/>
          <p:cNvSpPr/>
          <p:nvPr/>
        </p:nvSpPr>
        <p:spPr>
          <a:xfrm>
            <a:off x="5437080" y="1674720"/>
            <a:ext cx="87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3300"/>
                </a:solidFill>
                <a:latin typeface="Arial"/>
                <a:ea typeface="华文行楷"/>
              </a:rPr>
              <a:t>主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5835600" y="2016000"/>
            <a:ext cx="873000" cy="408240"/>
          </a:xfrm>
          <a:prstGeom prst="ellipse">
            <a:avLst/>
          </a:prstGeom>
          <a:noFill/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8771040" y="2627280"/>
            <a:ext cx="87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3300"/>
                </a:solidFill>
                <a:latin typeface="Arial"/>
                <a:ea typeface="华文行楷"/>
              </a:rPr>
              <a:t>外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8040600" y="2490840"/>
            <a:ext cx="873360" cy="409680"/>
          </a:xfrm>
          <a:prstGeom prst="ellipse">
            <a:avLst/>
          </a:prstGeom>
          <a:noFill/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2103480" y="3784680"/>
            <a:ext cx="2857320" cy="0"/>
          </a:xfrm>
          <a:prstGeom prst="line">
            <a:avLst/>
          </a:prstGeom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0" name="" descr=""/>
          <p:cNvPicPr/>
          <p:nvPr/>
        </p:nvPicPr>
        <p:blipFill>
          <a:blip r:embed="rId3"/>
          <a:stretch/>
        </p:blipFill>
        <p:spPr>
          <a:xfrm>
            <a:off x="515880" y="4668840"/>
            <a:ext cx="3938760" cy="125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6" dur="indefinite" restart="never" nodeType="tmRoot">
          <p:childTnLst>
            <p:seq>
              <p:cTn id="1317" dur="indefinite" nodeType="mainSeq">
                <p:childTnLst>
                  <p:par>
                    <p:cTn id="1318" fill="hold">
                      <p:stCondLst>
                        <p:cond delay="indefinite"/>
                      </p:stCondLst>
                      <p:childTnLst>
                        <p:par>
                          <p:cTn id="1319" fill="hold">
                            <p:stCondLst>
                              <p:cond delay="0"/>
                            </p:stCondLst>
                            <p:childTnLst>
                              <p:par>
                                <p:cTn id="132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2" dur="8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3" dur="8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4" dur="8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5" dur="8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0" dur="5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1" dur="5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2" fill="hold">
                      <p:stCondLst>
                        <p:cond delay="indefinite"/>
                      </p:stCondLst>
                      <p:childTnLst>
                        <p:par>
                          <p:cTn id="1333" fill="hold">
                            <p:stCondLst>
                              <p:cond delay="0"/>
                            </p:stCondLst>
                            <p:childTnLst>
                              <p:par>
                                <p:cTn id="13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6" dur="5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7" dur="5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8" fill="hold">
                      <p:stCondLst>
                        <p:cond delay="indefinite"/>
                      </p:stCondLst>
                      <p:childTnLst>
                        <p:par>
                          <p:cTn id="1339" fill="hold">
                            <p:stCondLst>
                              <p:cond delay="0"/>
                            </p:stCondLst>
                            <p:childTnLst>
                              <p:par>
                                <p:cTn id="134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2" dur="10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3" dur="10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4" dur="10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5" fill="hold">
                      <p:stCondLst>
                        <p:cond delay="indefinite"/>
                      </p:stCondLst>
                      <p:childTnLst>
                        <p:par>
                          <p:cTn id="1346" fill="hold">
                            <p:stCondLst>
                              <p:cond delay="0"/>
                            </p:stCondLst>
                            <p:childTnLst>
                              <p:par>
                                <p:cTn id="134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9" dur="10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0" dur="10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1" dur="10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2" fill="hold">
                      <p:stCondLst>
                        <p:cond delay="indefinite"/>
                      </p:stCondLst>
                      <p:childTnLst>
                        <p:par>
                          <p:cTn id="1353" fill="hold">
                            <p:stCondLst>
                              <p:cond delay="0"/>
                            </p:stCondLst>
                            <p:childTnLst>
                              <p:par>
                                <p:cTn id="135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56" dur="5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7" fill="hold">
                      <p:stCondLst>
                        <p:cond delay="indefinite"/>
                      </p:stCondLst>
                      <p:childTnLst>
                        <p:par>
                          <p:cTn id="1358" fill="hold">
                            <p:stCondLst>
                              <p:cond delay="0"/>
                            </p:stCondLst>
                            <p:childTnLst>
                              <p:par>
                                <p:cTn id="135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61" dur="5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2" fill="hold">
                      <p:stCondLst>
                        <p:cond delay="indefinite"/>
                      </p:stCondLst>
                      <p:childTnLst>
                        <p:par>
                          <p:cTn id="1363" fill="hold">
                            <p:stCondLst>
                              <p:cond delay="0"/>
                            </p:stCondLst>
                            <p:childTnLst>
                              <p:par>
                                <p:cTn id="13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6" dur="5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7" dur="5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8" fill="hold">
                      <p:stCondLst>
                        <p:cond delay="indefinite"/>
                      </p:stCondLst>
                      <p:childTnLst>
                        <p:par>
                          <p:cTn id="1369" fill="hold">
                            <p:stCondLst>
                              <p:cond delay="0"/>
                            </p:stCondLst>
                            <p:childTnLst>
                              <p:par>
                                <p:cTn id="13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2" dur="5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3" dur="5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4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37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1" fill="hold">
                      <p:stCondLst>
                        <p:cond delay="indefinite"/>
                      </p:stCondLst>
                      <p:childTnLst>
                        <p:par>
                          <p:cTn id="1382" fill="hold">
                            <p:stCondLst>
                              <p:cond delay="0"/>
                            </p:stCondLst>
                            <p:childTnLst>
                              <p:par>
                                <p:cTn id="13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5" dur="5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6" dur="5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7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38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4" fill="hold">
                      <p:stCondLst>
                        <p:cond delay="indefinite"/>
                      </p:stCondLst>
                      <p:childTnLst>
                        <p:par>
                          <p:cTn id="1395" fill="hold">
                            <p:stCondLst>
                              <p:cond delay="0"/>
                            </p:stCondLst>
                            <p:childTnLst>
                              <p:par>
                                <p:cTn id="139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8" dur="10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9" dur="10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0" dur="10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1" dur="10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2" fill="hold">
                      <p:stCondLst>
                        <p:cond delay="indefinite"/>
                      </p:stCondLst>
                      <p:childTnLst>
                        <p:par>
                          <p:cTn id="1403" fill="hold">
                            <p:stCondLst>
                              <p:cond delay="0"/>
                            </p:stCondLst>
                            <p:childTnLst>
                              <p:par>
                                <p:cTn id="14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6" dur="5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7" fill="hold">
                      <p:stCondLst>
                        <p:cond delay="indefinite"/>
                      </p:stCondLst>
                      <p:childTnLst>
                        <p:par>
                          <p:cTn id="1408" fill="hold">
                            <p:stCondLst>
                              <p:cond delay="0"/>
                            </p:stCondLst>
                            <p:childTnLst>
                              <p:par>
                                <p:cTn id="140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1" dur="8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2" dur="8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3" dur="8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4" dur="8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41360" y="86760"/>
            <a:ext cx="83296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zh-CN" sz="4000" spc="-1" strike="noStrike">
              <a:solidFill>
                <a:srgbClr val="ff0000"/>
              </a:solidFill>
              <a:latin typeface="Comic Sans MS"/>
              <a:ea typeface="宋体"/>
            </a:endParaRPr>
          </a:p>
        </p:txBody>
      </p:sp>
      <p:pic>
        <p:nvPicPr>
          <p:cNvPr id="772" name="" descr=""/>
          <p:cNvPicPr/>
          <p:nvPr/>
        </p:nvPicPr>
        <p:blipFill>
          <a:blip r:embed="rId1"/>
          <a:stretch/>
        </p:blipFill>
        <p:spPr>
          <a:xfrm>
            <a:off x="5826240" y="1733400"/>
            <a:ext cx="4147920" cy="3684600"/>
          </a:xfrm>
          <a:prstGeom prst="rect">
            <a:avLst/>
          </a:prstGeom>
          <a:ln w="0">
            <a:noFill/>
          </a:ln>
        </p:spPr>
      </p:pic>
      <p:grpSp>
        <p:nvGrpSpPr>
          <p:cNvPr id="773" name=""/>
          <p:cNvGrpSpPr/>
          <p:nvPr/>
        </p:nvGrpSpPr>
        <p:grpSpPr>
          <a:xfrm>
            <a:off x="303120" y="1411200"/>
            <a:ext cx="5133600" cy="2781360"/>
            <a:chOff x="303120" y="1411200"/>
            <a:chExt cx="5133600" cy="2781360"/>
          </a:xfrm>
        </p:grpSpPr>
        <p:pic>
          <p:nvPicPr>
            <p:cNvPr id="774" name="" descr=""/>
            <p:cNvPicPr/>
            <p:nvPr/>
          </p:nvPicPr>
          <p:blipFill>
            <a:blip r:embed="rId2"/>
            <a:stretch/>
          </p:blipFill>
          <p:spPr>
            <a:xfrm>
              <a:off x="464040" y="1514520"/>
              <a:ext cx="3367800" cy="37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5" name=""/>
            <p:cNvSpPr/>
            <p:nvPr/>
          </p:nvSpPr>
          <p:spPr>
            <a:xfrm>
              <a:off x="303120" y="1411200"/>
              <a:ext cx="5133600" cy="278136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6" name=""/>
          <p:cNvSpPr/>
          <p:nvPr/>
        </p:nvSpPr>
        <p:spPr>
          <a:xfrm>
            <a:off x="482760" y="1879560"/>
            <a:ext cx="495432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当主表关联字段被更改时，</a:t>
            </a:r>
            <a:r>
              <a:rPr b="0" lang="zh-CN" sz="2200" spc="-1" strike="noStrike">
                <a:solidFill>
                  <a:srgbClr val="00b200"/>
                </a:solidFill>
                <a:latin typeface="Arial"/>
                <a:ea typeface="华文行楷"/>
              </a:rPr>
              <a:t>子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关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联字段也自动</a:t>
            </a:r>
            <a:r>
              <a:rPr b="0" lang="zh-CN" sz="2200" spc="-1" strike="noStrike">
                <a:solidFill>
                  <a:srgbClr val="00b200"/>
                </a:solidFill>
                <a:latin typeface="Arial"/>
                <a:ea typeface="华文行楷"/>
              </a:rPr>
              <a:t>随之更改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子表关联字段欲更改的新值若在主表中</a:t>
            </a:r>
            <a:r>
              <a:rPr b="0" lang="zh-CN" sz="2200" spc="-1" strike="noStrike">
                <a:solidFill>
                  <a:srgbClr val="00b200"/>
                </a:solidFill>
                <a:latin typeface="Arial"/>
                <a:ea typeface="华文行楷"/>
              </a:rPr>
              <a:t>不存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则</a:t>
            </a:r>
            <a:r>
              <a:rPr b="0" lang="zh-CN" sz="2200" spc="-1" strike="noStrike">
                <a:solidFill>
                  <a:srgbClr val="00b200"/>
                </a:solidFill>
                <a:latin typeface="Arial"/>
                <a:ea typeface="华文行楷"/>
              </a:rPr>
              <a:t>拒绝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子表的修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子表增加一条记录时，若该记录关联字段的取值在主表中</a:t>
            </a:r>
            <a:r>
              <a:rPr b="0" lang="zh-CN" sz="2200" spc="-1" strike="noStrike">
                <a:solidFill>
                  <a:srgbClr val="00b200"/>
                </a:solidFill>
                <a:latin typeface="Arial"/>
                <a:ea typeface="华文行楷"/>
              </a:rPr>
              <a:t>不存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则</a:t>
            </a:r>
            <a:r>
              <a:rPr b="0" lang="zh-CN" sz="2200" spc="-1" strike="noStrike">
                <a:solidFill>
                  <a:srgbClr val="00b200"/>
                </a:solidFill>
                <a:latin typeface="Arial"/>
                <a:ea typeface="华文行楷"/>
              </a:rPr>
              <a:t>拒绝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子表的操作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7" name=""/>
          <p:cNvGrpSpPr/>
          <p:nvPr/>
        </p:nvGrpSpPr>
        <p:grpSpPr>
          <a:xfrm>
            <a:off x="293760" y="4403880"/>
            <a:ext cx="5160600" cy="1852560"/>
            <a:chOff x="293760" y="4403880"/>
            <a:chExt cx="5160600" cy="1852560"/>
          </a:xfrm>
        </p:grpSpPr>
        <p:pic>
          <p:nvPicPr>
            <p:cNvPr id="778" name="" descr=""/>
            <p:cNvPicPr/>
            <p:nvPr/>
          </p:nvPicPr>
          <p:blipFill>
            <a:blip r:embed="rId3"/>
            <a:stretch/>
          </p:blipFill>
          <p:spPr>
            <a:xfrm>
              <a:off x="513720" y="4501440"/>
              <a:ext cx="3272760" cy="37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9" name=""/>
            <p:cNvSpPr/>
            <p:nvPr/>
          </p:nvSpPr>
          <p:spPr>
            <a:xfrm>
              <a:off x="293760" y="4403880"/>
              <a:ext cx="5160600" cy="185256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0" name=""/>
          <p:cNvSpPr/>
          <p:nvPr/>
        </p:nvSpPr>
        <p:spPr>
          <a:xfrm>
            <a:off x="380880" y="4941720"/>
            <a:ext cx="484992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当主表删除某个记录时，子表中与之关联的全部记录</a:t>
            </a:r>
            <a:r>
              <a:rPr b="0" lang="zh-CN" sz="2200" spc="-1" strike="noStrike">
                <a:solidFill>
                  <a:srgbClr val="00b200"/>
                </a:solidFill>
                <a:latin typeface="Arial"/>
                <a:ea typeface="华文行楷"/>
              </a:rPr>
              <a:t>一并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自动</a:t>
            </a:r>
            <a:r>
              <a:rPr b="0" lang="zh-CN" sz="2200" spc="-1" strike="noStrike">
                <a:solidFill>
                  <a:srgbClr val="00b200"/>
                </a:solidFill>
                <a:latin typeface="Arial"/>
                <a:ea typeface="华文行楷"/>
              </a:rPr>
              <a:t>删除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子表删除记录时，不会影响到主表记录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7" dur="indefinite" restart="never" nodeType="tmRoot">
          <p:childTnLst>
            <p:seq>
              <p:cTn id="1418" dur="indefinite" nodeType="mainSeq">
                <p:childTnLst>
                  <p:par>
                    <p:cTn id="1419" fill="hold">
                      <p:stCondLst>
                        <p:cond delay="indefinite"/>
                      </p:stCondLst>
                      <p:childTnLst>
                        <p:par>
                          <p:cTn id="1420" fill="hold">
                            <p:stCondLst>
                              <p:cond delay="0"/>
                            </p:stCondLst>
                            <p:childTnLst>
                              <p:par>
                                <p:cTn id="142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23" dur="5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4" fill="hold">
                      <p:stCondLst>
                        <p:cond delay="indefinite"/>
                      </p:stCondLst>
                      <p:childTnLst>
                        <p:par>
                          <p:cTn id="1425" fill="hold">
                            <p:stCondLst>
                              <p:cond delay="0"/>
                            </p:stCondLst>
                            <p:childTnLst>
                              <p:par>
                                <p:cTn id="14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8" dur="20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9" fill="hold">
                      <p:stCondLst>
                        <p:cond delay="indefinite"/>
                      </p:stCondLst>
                      <p:childTnLst>
                        <p:par>
                          <p:cTn id="1430" fill="hold">
                            <p:stCondLst>
                              <p:cond delay="0"/>
                            </p:stCondLst>
                            <p:childTnLst>
                              <p:par>
                                <p:cTn id="143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33" dur="500"/>
                                        <p:tgtEl>
                                          <p:spTgt spid="7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4" fill="hold">
                      <p:stCondLst>
                        <p:cond delay="indefinite"/>
                      </p:stCondLst>
                      <p:childTnLst>
                        <p:par>
                          <p:cTn id="1435" fill="hold">
                            <p:stCondLst>
                              <p:cond delay="0"/>
                            </p:stCondLst>
                            <p:childTnLst>
                              <p:par>
                                <p:cTn id="143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38" dur="500"/>
                                        <p:tgtEl>
                                          <p:spTgt spid="7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9" fill="hold">
                      <p:stCondLst>
                        <p:cond delay="indefinite"/>
                      </p:stCondLst>
                      <p:childTnLst>
                        <p:par>
                          <p:cTn id="1440" fill="hold">
                            <p:stCondLst>
                              <p:cond delay="0"/>
                            </p:stCondLst>
                            <p:childTnLst>
                              <p:par>
                                <p:cTn id="144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43" dur="500"/>
                                        <p:tgtEl>
                                          <p:spTgt spid="7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4" fill="hold">
                      <p:stCondLst>
                        <p:cond delay="indefinite"/>
                      </p:stCondLst>
                      <p:childTnLst>
                        <p:par>
                          <p:cTn id="1445" fill="hold">
                            <p:stCondLst>
                              <p:cond delay="0"/>
                            </p:stCondLst>
                            <p:childTnLst>
                              <p:par>
                                <p:cTn id="14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48" dur="5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9" fill="hold">
                      <p:stCondLst>
                        <p:cond delay="indefinite"/>
                      </p:stCondLst>
                      <p:childTnLst>
                        <p:par>
                          <p:cTn id="1450" fill="hold">
                            <p:stCondLst>
                              <p:cond delay="0"/>
                            </p:stCondLst>
                            <p:childTnLst>
                              <p:par>
                                <p:cTn id="145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53" dur="80"/>
                                        <p:tgtEl>
                                          <p:spTgt spid="7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8,-64,105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2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54" dur="80"/>
                                        <p:tgtEl>
                                          <p:spTgt spid="7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8,-64,105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2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55" dur="80"/>
                                        <p:tgtEl>
                                          <p:spTgt spid="7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6" fill="hold">
                      <p:stCondLst>
                        <p:cond delay="indefinite"/>
                      </p:stCondLst>
                      <p:childTnLst>
                        <p:par>
                          <p:cTn id="1457" fill="hold">
                            <p:stCondLst>
                              <p:cond delay="0"/>
                            </p:stCondLst>
                            <p:childTnLst>
                              <p:par>
                                <p:cTn id="145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60" dur="80"/>
                                        <p:tgtEl>
                                          <p:spTgt spid="7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8,-64,105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2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61" dur="80"/>
                                        <p:tgtEl>
                                          <p:spTgt spid="7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8,-64,105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2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62" dur="80"/>
                                        <p:tgtEl>
                                          <p:spTgt spid="7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"/>
          <p:cNvSpPr/>
          <p:nvPr/>
        </p:nvSpPr>
        <p:spPr>
          <a:xfrm>
            <a:off x="833400" y="2082960"/>
            <a:ext cx="8890200" cy="2517480"/>
          </a:xfrm>
          <a:custGeom>
            <a:avLst/>
            <a:gdLst/>
            <a:ahLst/>
            <a:rect l="l" t="t" r="r" b="b"/>
            <a:pathLst>
              <a:path w="4018" h="1627">
                <a:moveTo>
                  <a:pt x="43" y="240"/>
                </a:moveTo>
                <a:cubicBezTo>
                  <a:pt x="133" y="271"/>
                  <a:pt x="241" y="275"/>
                  <a:pt x="321" y="221"/>
                </a:cubicBezTo>
                <a:cubicBezTo>
                  <a:pt x="339" y="169"/>
                  <a:pt x="322" y="199"/>
                  <a:pt x="389" y="154"/>
                </a:cubicBezTo>
                <a:cubicBezTo>
                  <a:pt x="399" y="148"/>
                  <a:pt x="417" y="134"/>
                  <a:pt x="417" y="134"/>
                </a:cubicBezTo>
                <a:cubicBezTo>
                  <a:pt x="870" y="145"/>
                  <a:pt x="1129" y="151"/>
                  <a:pt x="1617" y="144"/>
                </a:cubicBezTo>
                <a:cubicBezTo>
                  <a:pt x="1662" y="102"/>
                  <a:pt x="1610" y="146"/>
                  <a:pt x="1665" y="115"/>
                </a:cubicBezTo>
                <a:cubicBezTo>
                  <a:pt x="1757" y="64"/>
                  <a:pt x="1688" y="86"/>
                  <a:pt x="1761" y="67"/>
                </a:cubicBezTo>
                <a:cubicBezTo>
                  <a:pt x="1803" y="27"/>
                  <a:pt x="1755" y="66"/>
                  <a:pt x="1829" y="38"/>
                </a:cubicBezTo>
                <a:cubicBezTo>
                  <a:pt x="1840" y="34"/>
                  <a:pt x="1847" y="24"/>
                  <a:pt x="1857" y="19"/>
                </a:cubicBezTo>
                <a:cubicBezTo>
                  <a:pt x="1875" y="10"/>
                  <a:pt x="1896" y="7"/>
                  <a:pt x="1915" y="0"/>
                </a:cubicBezTo>
                <a:cubicBezTo>
                  <a:pt x="2340" y="7"/>
                  <a:pt x="2679" y="30"/>
                  <a:pt x="3096" y="38"/>
                </a:cubicBezTo>
                <a:cubicBezTo>
                  <a:pt x="3110" y="82"/>
                  <a:pt x="3151" y="124"/>
                  <a:pt x="3201" y="125"/>
                </a:cubicBezTo>
                <a:cubicBezTo>
                  <a:pt x="3441" y="131"/>
                  <a:pt x="3681" y="131"/>
                  <a:pt x="3921" y="134"/>
                </a:cubicBezTo>
                <a:cubicBezTo>
                  <a:pt x="3914" y="214"/>
                  <a:pt x="3921" y="240"/>
                  <a:pt x="3883" y="298"/>
                </a:cubicBezTo>
                <a:cubicBezTo>
                  <a:pt x="3860" y="409"/>
                  <a:pt x="3979" y="469"/>
                  <a:pt x="3979" y="536"/>
                </a:cubicBezTo>
                <a:cubicBezTo>
                  <a:pt x="3919" y="593"/>
                  <a:pt x="3849" y="672"/>
                  <a:pt x="3902" y="728"/>
                </a:cubicBezTo>
                <a:cubicBezTo>
                  <a:pt x="3923" y="809"/>
                  <a:pt x="3863" y="921"/>
                  <a:pt x="3921" y="979"/>
                </a:cubicBezTo>
                <a:cubicBezTo>
                  <a:pt x="3937" y="995"/>
                  <a:pt x="3950" y="1016"/>
                  <a:pt x="3969" y="1016"/>
                </a:cubicBezTo>
                <a:cubicBezTo>
                  <a:pt x="3979" y="1022"/>
                  <a:pt x="3998" y="1064"/>
                  <a:pt x="3998" y="1064"/>
                </a:cubicBezTo>
                <a:cubicBezTo>
                  <a:pt x="4018" y="1074"/>
                  <a:pt x="3949" y="1225"/>
                  <a:pt x="3960" y="1246"/>
                </a:cubicBezTo>
                <a:cubicBezTo>
                  <a:pt x="3960" y="1296"/>
                  <a:pt x="4006" y="1328"/>
                  <a:pt x="3998" y="1362"/>
                </a:cubicBezTo>
                <a:cubicBezTo>
                  <a:pt x="3979" y="1420"/>
                  <a:pt x="3990" y="1449"/>
                  <a:pt x="3912" y="1450"/>
                </a:cubicBezTo>
                <a:cubicBezTo>
                  <a:pt x="3518" y="1456"/>
                  <a:pt x="3125" y="1456"/>
                  <a:pt x="2731" y="1459"/>
                </a:cubicBezTo>
                <a:cubicBezTo>
                  <a:pt x="2422" y="1566"/>
                  <a:pt x="2305" y="1502"/>
                  <a:pt x="1838" y="1507"/>
                </a:cubicBezTo>
                <a:cubicBezTo>
                  <a:pt x="1006" y="1502"/>
                  <a:pt x="689" y="1627"/>
                  <a:pt x="120" y="1450"/>
                </a:cubicBezTo>
                <a:cubicBezTo>
                  <a:pt x="74" y="1404"/>
                  <a:pt x="99" y="1417"/>
                  <a:pt x="53" y="1402"/>
                </a:cubicBezTo>
                <a:cubicBezTo>
                  <a:pt x="0" y="1349"/>
                  <a:pt x="36" y="1065"/>
                  <a:pt x="72" y="960"/>
                </a:cubicBezTo>
                <a:cubicBezTo>
                  <a:pt x="69" y="835"/>
                  <a:pt x="62" y="711"/>
                  <a:pt x="62" y="586"/>
                </a:cubicBezTo>
                <a:cubicBezTo>
                  <a:pt x="62" y="486"/>
                  <a:pt x="81" y="395"/>
                  <a:pt x="81" y="288"/>
                </a:cubicBezTo>
                <a:cubicBezTo>
                  <a:pt x="81" y="288"/>
                  <a:pt x="43" y="240"/>
                  <a:pt x="43" y="240"/>
                </a:cubicBezTo>
                <a:close/>
              </a:path>
            </a:pathLst>
          </a:custGeom>
          <a:solidFill>
            <a:srgbClr val="ffe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 rot="831000">
            <a:off x="6498000" y="3851280"/>
            <a:ext cx="3057840" cy="13129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ff3300"/>
                </a:solidFill>
                <a:latin typeface="华文行楷"/>
                <a:ea typeface="华文行楷"/>
              </a:rPr>
              <a:t>还有</a:t>
            </a:r>
            <a:br>
              <a:rPr sz="4000"/>
            </a:br>
            <a:r>
              <a:rPr b="1" i="1" lang="zh-CN" sz="4000" spc="-1" strike="noStrike">
                <a:solidFill>
                  <a:srgbClr val="ff3300"/>
                </a:solidFill>
                <a:latin typeface="华文行楷"/>
                <a:ea typeface="华文行楷"/>
              </a:rPr>
              <a:t>什么用</a:t>
            </a:r>
            <a:r>
              <a:rPr b="1" i="1" lang="zh-CN" sz="4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1387440" y="2539080"/>
            <a:ext cx="7445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(1)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利用关联查看多组数据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1387440" y="3083760"/>
            <a:ext cx="785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(2)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在子表中输入（插入、修改）数据时保证完整性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5" name="" descr=""/>
          <p:cNvPicPr/>
          <p:nvPr/>
        </p:nvPicPr>
        <p:blipFill>
          <a:blip r:embed="rId1"/>
          <a:stretch/>
        </p:blipFill>
        <p:spPr>
          <a:xfrm>
            <a:off x="3532320" y="684360"/>
            <a:ext cx="6271920" cy="1962000"/>
          </a:xfrm>
          <a:prstGeom prst="rect">
            <a:avLst/>
          </a:prstGeom>
          <a:ln w="0">
            <a:noFill/>
          </a:ln>
        </p:spPr>
      </p:pic>
      <p:sp>
        <p:nvSpPr>
          <p:cNvPr id="786" name=""/>
          <p:cNvSpPr/>
          <p:nvPr/>
        </p:nvSpPr>
        <p:spPr>
          <a:xfrm>
            <a:off x="1387440" y="3781800"/>
            <a:ext cx="785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(3)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据此进行多表查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3" dur="indefinite" restart="never" nodeType="tmRoot">
          <p:childTnLst>
            <p:seq>
              <p:cTn id="1464" dur="indefinite" nodeType="mainSeq">
                <p:childTnLst>
                  <p:par>
                    <p:cTn id="1465" fill="hold">
                      <p:stCondLst>
                        <p:cond delay="indefinite"/>
                      </p:stCondLst>
                      <p:childTnLst>
                        <p:par>
                          <p:cTn id="1466" fill="hold">
                            <p:stCondLst>
                              <p:cond delay="0"/>
                            </p:stCondLst>
                            <p:childTnLst>
                              <p:par>
                                <p:cTn id="146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9" dur="8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0" dur="8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1" dur="8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2" dur="8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7" dur="5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8" dur="5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9" fill="hold">
                      <p:stCondLst>
                        <p:cond delay="indefinite"/>
                      </p:stCondLst>
                      <p:childTnLst>
                        <p:par>
                          <p:cTn id="1480" fill="hold">
                            <p:stCondLst>
                              <p:cond delay="0"/>
                            </p:stCondLst>
                            <p:childTnLst>
                              <p:par>
                                <p:cTn id="148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3" dur="10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4" dur="10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5" dur="10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6" fill="hold">
                      <p:stCondLst>
                        <p:cond delay="indefinite"/>
                      </p:stCondLst>
                      <p:childTnLst>
                        <p:par>
                          <p:cTn id="1487" fill="hold">
                            <p:stCondLst>
                              <p:cond delay="0"/>
                            </p:stCondLst>
                            <p:childTnLst>
                              <p:par>
                                <p:cTn id="14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0" dur="20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1" fill="hold">
                      <p:stCondLst>
                        <p:cond delay="indefinite"/>
                      </p:stCondLst>
                      <p:childTnLst>
                        <p:par>
                          <p:cTn id="1492" fill="hold">
                            <p:stCondLst>
                              <p:cond delay="0"/>
                            </p:stCondLst>
                            <p:childTnLst>
                              <p:par>
                                <p:cTn id="14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5" dur="20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6" fill="hold">
                      <p:stCondLst>
                        <p:cond delay="indefinite"/>
                      </p:stCondLst>
                      <p:childTnLst>
                        <p:par>
                          <p:cTn id="1497" fill="hold">
                            <p:stCondLst>
                              <p:cond delay="0"/>
                            </p:stCondLst>
                            <p:childTnLst>
                              <p:par>
                                <p:cTn id="149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00" dur="80"/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8,-64,105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2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01" dur="80"/>
                                        <p:tgtEl>
                                          <p:spTgt spid="7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8,-64,105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2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02" dur="80"/>
                                        <p:tgtEl>
                                          <p:spTgt spid="7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441360" y="280800"/>
            <a:ext cx="83296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0000"/>
                </a:solidFill>
                <a:latin typeface="Comic Sans MS"/>
                <a:ea typeface="宋体"/>
              </a:rPr>
              <a:t>school</a:t>
            </a:r>
            <a:r>
              <a:rPr b="1" i="1" lang="zh-CN" sz="3600" spc="-1" strike="noStrike">
                <a:solidFill>
                  <a:srgbClr val="ff0000"/>
                </a:solidFill>
                <a:latin typeface="Comic Sans MS"/>
                <a:ea typeface="宋体"/>
              </a:rPr>
              <a:t>数据库中各表的关联关系 </a:t>
            </a:r>
            <a:endParaRPr b="1" i="1" lang="en-US" sz="3600" spc="-1" strike="noStrike">
              <a:solidFill>
                <a:srgbClr val="ff0000"/>
              </a:solidFill>
              <a:latin typeface="Comic Sans MS"/>
            </a:endParaRPr>
          </a:p>
        </p:txBody>
      </p:sp>
      <p:pic>
        <p:nvPicPr>
          <p:cNvPr id="788" name="" descr=""/>
          <p:cNvPicPr/>
          <p:nvPr/>
        </p:nvPicPr>
        <p:blipFill>
          <a:blip r:embed="rId1"/>
          <a:stretch/>
        </p:blipFill>
        <p:spPr>
          <a:xfrm>
            <a:off x="318960" y="1130400"/>
            <a:ext cx="9563400" cy="52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3" dur="indefinite" restart="never" nodeType="tmRoot">
          <p:childTnLst>
            <p:seq>
              <p:cTn id="1504" dur="indefinite" nodeType="mainSeq">
                <p:childTnLst>
                  <p:par>
                    <p:cTn id="1505" fill="hold">
                      <p:stCondLst>
                        <p:cond delay="indefinite"/>
                      </p:stCondLst>
                      <p:childTnLst>
                        <p:par>
                          <p:cTn id="1506" fill="hold">
                            <p:stCondLst>
                              <p:cond delay="0"/>
                            </p:stCondLst>
                            <p:childTnLst>
                              <p:par>
                                <p:cTn id="15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9" dur="20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41360" y="280800"/>
            <a:ext cx="83296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ff0000"/>
                </a:solidFill>
                <a:latin typeface="Comic Sans MS"/>
                <a:ea typeface="宋体"/>
              </a:rPr>
              <a:t>  </a:t>
            </a:r>
            <a:r>
              <a:rPr b="1" i="1" lang="zh-CN" sz="4400" spc="-1" strike="noStrike">
                <a:solidFill>
                  <a:srgbClr val="ff0000"/>
                </a:solidFill>
                <a:latin typeface="Comic Sans MS"/>
                <a:ea typeface="宋体"/>
              </a:rPr>
              <a:t>数据查询</a:t>
            </a:r>
            <a:endParaRPr b="1" i="1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grpSp>
        <p:nvGrpSpPr>
          <p:cNvPr id="790" name=""/>
          <p:cNvGrpSpPr/>
          <p:nvPr/>
        </p:nvGrpSpPr>
        <p:grpSpPr>
          <a:xfrm>
            <a:off x="298080" y="1110600"/>
            <a:ext cx="4940640" cy="1333800"/>
            <a:chOff x="298080" y="1110600"/>
            <a:chExt cx="4940640" cy="1333800"/>
          </a:xfrm>
        </p:grpSpPr>
        <p:sp>
          <p:nvSpPr>
            <p:cNvPr id="791" name=""/>
            <p:cNvSpPr/>
            <p:nvPr/>
          </p:nvSpPr>
          <p:spPr>
            <a:xfrm rot="3418800">
              <a:off x="559080" y="1270800"/>
              <a:ext cx="825480" cy="1071000"/>
            </a:xfrm>
            <a:prstGeom prst="rect">
              <a:avLst/>
            </a:prstGeom>
            <a:gradFill rotWithShape="0">
              <a:gsLst>
                <a:gs pos="0">
                  <a:srgbClr val="00b200"/>
                </a:gs>
                <a:gs pos="100000">
                  <a:srgbClr val="005200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92" name=""/>
            <p:cNvGrpSpPr/>
            <p:nvPr/>
          </p:nvGrpSpPr>
          <p:grpSpPr>
            <a:xfrm>
              <a:off x="1507680" y="1512000"/>
              <a:ext cx="992880" cy="117720"/>
              <a:chOff x="1507680" y="1512000"/>
              <a:chExt cx="992880" cy="117720"/>
            </a:xfrm>
          </p:grpSpPr>
          <p:sp>
            <p:nvSpPr>
              <p:cNvPr id="793" name=""/>
              <p:cNvSpPr/>
              <p:nvPr/>
            </p:nvSpPr>
            <p:spPr>
              <a:xfrm>
                <a:off x="1507680" y="1512000"/>
                <a:ext cx="167400" cy="11700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360" bIns="36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1602720" y="1512720"/>
                <a:ext cx="823680" cy="11700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2350080" y="1513800"/>
                <a:ext cx="150480" cy="11340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480" bIns="33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2431080" y="1550520"/>
                <a:ext cx="42120" cy="331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7" name=""/>
            <p:cNvSpPr/>
            <p:nvPr/>
          </p:nvSpPr>
          <p:spPr>
            <a:xfrm rot="3418800">
              <a:off x="2393640" y="1213200"/>
              <a:ext cx="825480" cy="1068840"/>
            </a:xfrm>
            <a:prstGeom prst="rect">
              <a:avLst/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98" name=""/>
            <p:cNvGrpSpPr/>
            <p:nvPr/>
          </p:nvGrpSpPr>
          <p:grpSpPr>
            <a:xfrm>
              <a:off x="3341520" y="1512000"/>
              <a:ext cx="993240" cy="117720"/>
              <a:chOff x="3341520" y="1512000"/>
              <a:chExt cx="993240" cy="117720"/>
            </a:xfrm>
          </p:grpSpPr>
          <p:sp>
            <p:nvSpPr>
              <p:cNvPr id="799" name=""/>
              <p:cNvSpPr/>
              <p:nvPr/>
            </p:nvSpPr>
            <p:spPr>
              <a:xfrm>
                <a:off x="3341520" y="1512000"/>
                <a:ext cx="167400" cy="11700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360" bIns="36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3436560" y="1512720"/>
                <a:ext cx="824040" cy="11700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4184280" y="1513800"/>
                <a:ext cx="150480" cy="11340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480" bIns="33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4265280" y="1550520"/>
                <a:ext cx="42120" cy="331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3" name=""/>
            <p:cNvSpPr/>
            <p:nvPr/>
          </p:nvSpPr>
          <p:spPr>
            <a:xfrm rot="3418800">
              <a:off x="4152600" y="1213200"/>
              <a:ext cx="825480" cy="1068840"/>
            </a:xfrm>
            <a:prstGeom prst="rect">
              <a:avLst/>
            </a:prstGeom>
            <a:gradFill rotWithShape="0">
              <a:gsLst>
                <a:gs pos="0">
                  <a:srgbClr val="00b200"/>
                </a:gs>
                <a:gs pos="100000">
                  <a:srgbClr val="005200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854280" y="161388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查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2671200" y="156888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筛选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36360" y="155376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查询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7" name=""/>
          <p:cNvGrpSpPr/>
          <p:nvPr/>
        </p:nvGrpSpPr>
        <p:grpSpPr>
          <a:xfrm>
            <a:off x="3371760" y="684360"/>
            <a:ext cx="7384680" cy="2147400"/>
            <a:chOff x="3371760" y="684360"/>
            <a:chExt cx="7384680" cy="2147400"/>
          </a:xfrm>
        </p:grpSpPr>
        <p:sp>
          <p:nvSpPr>
            <p:cNvPr id="808" name=""/>
            <p:cNvSpPr/>
            <p:nvPr/>
          </p:nvSpPr>
          <p:spPr>
            <a:xfrm>
              <a:off x="8886960" y="2120040"/>
              <a:ext cx="186948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000000"/>
                  </a:solidFill>
                  <a:latin typeface="Times New Roman"/>
                </a:rPr>
                <a:t>按选定内容筛选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09" name="" descr=""/>
            <p:cNvPicPr/>
            <p:nvPr/>
          </p:nvPicPr>
          <p:blipFill>
            <a:blip r:embed="rId1"/>
            <a:stretch/>
          </p:blipFill>
          <p:spPr>
            <a:xfrm>
              <a:off x="3371760" y="684360"/>
              <a:ext cx="4533840" cy="2100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0" name="" descr=""/>
            <p:cNvPicPr/>
            <p:nvPr/>
          </p:nvPicPr>
          <p:blipFill>
            <a:blip r:embed="rId2"/>
            <a:stretch/>
          </p:blipFill>
          <p:spPr>
            <a:xfrm>
              <a:off x="6674760" y="2452680"/>
              <a:ext cx="2414520" cy="37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1" name=""/>
            <p:cNvSpPr/>
            <p:nvPr/>
          </p:nvSpPr>
          <p:spPr>
            <a:xfrm>
              <a:off x="7671600" y="2329920"/>
              <a:ext cx="0" cy="151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7671600" y="2315520"/>
              <a:ext cx="1261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8886960" y="1787400"/>
              <a:ext cx="186948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000000"/>
                  </a:solidFill>
                  <a:latin typeface="Times New Roman"/>
                </a:rPr>
                <a:t>按窗体筛选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8092440" y="1997280"/>
              <a:ext cx="0" cy="48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8092440" y="1997280"/>
              <a:ext cx="825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8886960" y="1463400"/>
              <a:ext cx="186948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000000"/>
                  </a:solidFill>
                  <a:latin typeface="Times New Roman"/>
                </a:rPr>
                <a:t>高级筛选</a:t>
              </a:r>
              <a:r>
                <a:rPr b="0" lang="zh-CN" sz="9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r>
                <a:rPr b="0" lang="zh-CN" sz="900" spc="-1" strike="noStrike">
                  <a:solidFill>
                    <a:srgbClr val="000000"/>
                  </a:solidFill>
                  <a:latin typeface="Times New Roman"/>
                </a:rPr>
                <a:t>排序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8419680" y="1693800"/>
              <a:ext cx="0" cy="787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8419680" y="1673640"/>
              <a:ext cx="49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8886960" y="1174680"/>
              <a:ext cx="186948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000000"/>
                  </a:solidFill>
                  <a:latin typeface="Times New Roman"/>
                </a:rPr>
                <a:t>应用筛选</a:t>
              </a:r>
              <a:r>
                <a:rPr b="0" lang="zh-CN" sz="9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r>
                <a:rPr b="0" lang="zh-CN" sz="900" spc="-1" strike="noStrike">
                  <a:solidFill>
                    <a:srgbClr val="000000"/>
                  </a:solidFill>
                  <a:latin typeface="Times New Roman"/>
                </a:rPr>
                <a:t>取消筛选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8793360" y="1390680"/>
              <a:ext cx="0" cy="109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8793360" y="1390680"/>
              <a:ext cx="12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2" name=""/>
          <p:cNvSpPr/>
          <p:nvPr/>
        </p:nvSpPr>
        <p:spPr>
          <a:xfrm>
            <a:off x="673200" y="2968560"/>
            <a:ext cx="9131040" cy="3333960"/>
          </a:xfrm>
          <a:prstGeom prst="roundRect">
            <a:avLst>
              <a:gd name="adj" fmla="val 13745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754200" y="3193920"/>
            <a:ext cx="905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【例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6.1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】 创建一个查询，从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sel_cours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（选课）表中查询选修课程成绩不及格的学生的学号、课程号及成绩，查询结果按学号升序排序。查询命名为“查询不及格学生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”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 rot="20700600">
            <a:off x="-272520" y="2575800"/>
            <a:ext cx="3249720" cy="7034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ff3300"/>
                </a:solidFill>
                <a:latin typeface="华文行楷"/>
                <a:ea typeface="华文行楷"/>
              </a:rPr>
              <a:t> </a:t>
            </a:r>
            <a:r>
              <a:rPr b="1" i="1" lang="zh-CN" sz="4000" spc="-1" strike="noStrike">
                <a:solidFill>
                  <a:srgbClr val="ff3300"/>
                </a:solidFill>
                <a:latin typeface="华文行楷"/>
                <a:ea typeface="华文行楷"/>
              </a:rPr>
              <a:t>创建查询</a:t>
            </a:r>
            <a:r>
              <a:rPr b="1" i="1" lang="zh-CN" sz="4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1149480" y="4600440"/>
            <a:ext cx="3732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b200"/>
                </a:solidFill>
                <a:latin typeface="Arial"/>
              </a:rPr>
              <a:t>⑴ </a:t>
            </a:r>
            <a:r>
              <a:rPr b="1" lang="zh-CN" sz="2200" spc="-1" strike="noStrike">
                <a:solidFill>
                  <a:srgbClr val="00b200"/>
                </a:solidFill>
                <a:latin typeface="Arial"/>
              </a:rPr>
              <a:t>打开查询设计窗口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⑵ 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选择欲查询的数据表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b200"/>
                </a:solidFill>
                <a:latin typeface="Arial"/>
              </a:rPr>
              <a:t>⑶ </a:t>
            </a:r>
            <a:r>
              <a:rPr b="1" lang="zh-CN" sz="2200" spc="-1" strike="noStrike">
                <a:solidFill>
                  <a:srgbClr val="00b200"/>
                </a:solidFill>
                <a:latin typeface="Arial"/>
              </a:rPr>
              <a:t>选择查询字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⑷ 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输入查询条件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4681440" y="4600440"/>
            <a:ext cx="4962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⑸ 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选择哪些字段显示在查询结果中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b200"/>
                </a:solidFill>
                <a:latin typeface="Arial"/>
              </a:rPr>
              <a:t>⑹ </a:t>
            </a:r>
            <a:r>
              <a:rPr b="1" lang="zh-CN" sz="2200" spc="-1" strike="noStrike">
                <a:solidFill>
                  <a:srgbClr val="00b200"/>
                </a:solidFill>
                <a:latin typeface="Arial"/>
              </a:rPr>
              <a:t>查询结果可以指定排序字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⑺ 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运行查询，查看结果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b200"/>
                </a:solidFill>
                <a:latin typeface="Arial"/>
              </a:rPr>
              <a:t>⑻ </a:t>
            </a:r>
            <a:r>
              <a:rPr b="1" lang="zh-CN" sz="2200" spc="-1" strike="noStrike">
                <a:solidFill>
                  <a:srgbClr val="00b200"/>
                </a:solidFill>
                <a:latin typeface="Arial"/>
              </a:rPr>
              <a:t>保存并命名查询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7" name="" descr=""/>
          <p:cNvPicPr/>
          <p:nvPr/>
        </p:nvPicPr>
        <p:blipFill>
          <a:blip r:embed="rId3"/>
          <a:stretch/>
        </p:blipFill>
        <p:spPr>
          <a:xfrm>
            <a:off x="4722840" y="-4680"/>
            <a:ext cx="5319720" cy="3516120"/>
          </a:xfrm>
          <a:prstGeom prst="rect">
            <a:avLst/>
          </a:prstGeom>
          <a:ln w="0">
            <a:noFill/>
          </a:ln>
        </p:spPr>
      </p:pic>
      <p:pic>
        <p:nvPicPr>
          <p:cNvPr id="828" name="" descr=""/>
          <p:cNvPicPr/>
          <p:nvPr/>
        </p:nvPicPr>
        <p:blipFill>
          <a:blip r:embed="rId4"/>
          <a:stretch/>
        </p:blipFill>
        <p:spPr>
          <a:xfrm>
            <a:off x="8373960" y="5622840"/>
            <a:ext cx="1033560" cy="5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0" dur="indefinite" restart="never" nodeType="tmRoot">
          <p:childTnLst>
            <p:seq>
              <p:cTn id="1511" dur="indefinite" nodeType="mainSeq">
                <p:childTnLst>
                  <p:par>
                    <p:cTn id="1512" fill="hold">
                      <p:stCondLst>
                        <p:cond delay="indefinite"/>
                      </p:stCondLst>
                      <p:childTnLst>
                        <p:par>
                          <p:cTn id="1513" fill="hold">
                            <p:stCondLst>
                              <p:cond delay="0"/>
                            </p:stCondLst>
                            <p:childTnLst>
                              <p:par>
                                <p:cTn id="151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6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7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8" fill="hold">
                      <p:stCondLst>
                        <p:cond delay="indefinite"/>
                      </p:stCondLst>
                      <p:childTnLst>
                        <p:par>
                          <p:cTn id="1519" fill="hold">
                            <p:stCondLst>
                              <p:cond delay="0"/>
                            </p:stCondLst>
                            <p:childTnLst>
                              <p:par>
                                <p:cTn id="15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2" dur="5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3" fill="hold">
                      <p:stCondLst>
                        <p:cond delay="indefinite"/>
                      </p:stCondLst>
                      <p:childTnLst>
                        <p:par>
                          <p:cTn id="1524" fill="hold">
                            <p:stCondLst>
                              <p:cond delay="0"/>
                            </p:stCondLst>
                            <p:childTnLst>
                              <p:par>
                                <p:cTn id="152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7" dur="8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8" dur="8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9" dur="8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0" dur="8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5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0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53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3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37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8" fill="hold">
                      <p:stCondLst>
                        <p:cond delay="indefinite"/>
                      </p:stCondLst>
                      <p:childTnLst>
                        <p:par>
                          <p:cTn id="1539" fill="hold">
                            <p:stCondLst>
                              <p:cond delay="0"/>
                            </p:stCondLst>
                            <p:childTnLst>
                              <p:par>
                                <p:cTn id="154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42" dur="80"/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8,-64,105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2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43" dur="80"/>
                                        <p:tgtEl>
                                          <p:spTgt spid="8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8,-64,105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2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44" dur="80"/>
                                        <p:tgtEl>
                                          <p:spTgt spid="8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5" fill="hold">
                      <p:stCondLst>
                        <p:cond delay="indefinite"/>
                      </p:stCondLst>
                      <p:childTnLst>
                        <p:par>
                          <p:cTn id="1546" fill="hold">
                            <p:stCondLst>
                              <p:cond delay="0"/>
                            </p:stCondLst>
                            <p:childTnLst>
                              <p:par>
                                <p:cTn id="154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9" dur="1000" fill="hold"/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0" dur="1000" fill="hold"/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1" dur="1000" fill="hold"/>
                                        <p:tgtEl>
                                          <p:spTgt spid="8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2" dur="1000"/>
                                        <p:tgtEl>
                                          <p:spTgt spid="8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3" fill="hold">
                      <p:stCondLst>
                        <p:cond delay="indefinite"/>
                      </p:stCondLst>
                      <p:childTnLst>
                        <p:par>
                          <p:cTn id="1554" fill="hold">
                            <p:stCondLst>
                              <p:cond delay="0"/>
                            </p:stCondLst>
                            <p:childTnLst>
                              <p:par>
                                <p:cTn id="155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57" dur="500"/>
                                        <p:tgtEl>
                                          <p:spTgt spid="8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8" fill="hold">
                      <p:stCondLst>
                        <p:cond delay="indefinite"/>
                      </p:stCondLst>
                      <p:childTnLst>
                        <p:par>
                          <p:cTn id="1559" fill="hold">
                            <p:stCondLst>
                              <p:cond delay="0"/>
                            </p:stCondLst>
                            <p:childTnLst>
                              <p:par>
                                <p:cTn id="156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62" dur="500"/>
                                        <p:tgtEl>
                                          <p:spTgt spid="8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3" fill="hold">
                      <p:stCondLst>
                        <p:cond delay="indefinite"/>
                      </p:stCondLst>
                      <p:childTnLst>
                        <p:par>
                          <p:cTn id="1564" fill="hold">
                            <p:stCondLst>
                              <p:cond delay="0"/>
                            </p:stCondLst>
                            <p:childTnLst>
                              <p:par>
                                <p:cTn id="15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7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8" fill="hold">
                      <p:stCondLst>
                        <p:cond delay="indefinite"/>
                      </p:stCondLst>
                      <p:childTnLst>
                        <p:par>
                          <p:cTn id="1569" fill="hold">
                            <p:stCondLst>
                              <p:cond delay="0"/>
                            </p:stCondLst>
                            <p:childTnLst>
                              <p:par>
                                <p:cTn id="15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72" dur="500"/>
                                        <p:tgtEl>
                                          <p:spTgt spid="8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3" fill="hold">
                      <p:stCondLst>
                        <p:cond delay="indefinite"/>
                      </p:stCondLst>
                      <p:childTnLst>
                        <p:par>
                          <p:cTn id="1574" fill="hold">
                            <p:stCondLst>
                              <p:cond delay="0"/>
                            </p:stCondLst>
                            <p:childTnLst>
                              <p:par>
                                <p:cTn id="15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77" dur="500"/>
                                        <p:tgtEl>
                                          <p:spTgt spid="8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8" fill="hold">
                      <p:stCondLst>
                        <p:cond delay="indefinite"/>
                      </p:stCondLst>
                      <p:childTnLst>
                        <p:par>
                          <p:cTn id="1579" fill="hold">
                            <p:stCondLst>
                              <p:cond delay="0"/>
                            </p:stCondLst>
                            <p:childTnLst>
                              <p:par>
                                <p:cTn id="158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2" dur="800"/>
                                        <p:tgtEl>
                                          <p:spTgt spid="8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3" dur="800" fill="hold"/>
                                        <p:tgtEl>
                                          <p:spTgt spid="8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4" dur="800" fill="hold"/>
                                        <p:tgtEl>
                                          <p:spTgt spid="8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5" dur="800" fill="hold"/>
                                        <p:tgtEl>
                                          <p:spTgt spid="8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8" fill="hold">
                      <p:stCondLst>
                        <p:cond delay="indefinite"/>
                      </p:stCondLst>
                      <p:childTnLst>
                        <p:par>
                          <p:cTn id="1589" fill="hold">
                            <p:stCondLst>
                              <p:cond delay="0"/>
                            </p:stCondLst>
                            <p:childTnLst>
                              <p:par>
                                <p:cTn id="159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2" dur="1000"/>
                                        <p:tgtEl>
                                          <p:spTgt spid="8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3" dur="1000" fill="hold"/>
                                        <p:tgtEl>
                                          <p:spTgt spid="8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4" dur="1000" fill="hold"/>
                                        <p:tgtEl>
                                          <p:spTgt spid="8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5" fill="hold">
                      <p:stCondLst>
                        <p:cond delay="indefinite"/>
                      </p:stCondLst>
                      <p:childTnLst>
                        <p:par>
                          <p:cTn id="1596" fill="hold">
                            <p:stCondLst>
                              <p:cond delay="0"/>
                            </p:stCondLst>
                            <p:childTnLst>
                              <p:par>
                                <p:cTn id="159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99" dur="500"/>
                                        <p:tgtEl>
                                          <p:spTgt spid="8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0" fill="hold">
                      <p:stCondLst>
                        <p:cond delay="indefinite"/>
                      </p:stCondLst>
                      <p:childTnLst>
                        <p:par>
                          <p:cTn id="1601" fill="hold">
                            <p:stCondLst>
                              <p:cond delay="0"/>
                            </p:stCondLst>
                            <p:childTnLst>
                              <p:par>
                                <p:cTn id="160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04" dur="500"/>
                                        <p:tgtEl>
                                          <p:spTgt spid="8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41360" y="280800"/>
            <a:ext cx="83296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0000"/>
                </a:solidFill>
                <a:latin typeface="Comic Sans MS"/>
                <a:ea typeface="宋体"/>
              </a:rPr>
              <a:t>多种查询视图</a:t>
            </a:r>
            <a:endParaRPr b="1" i="1" lang="en-US" sz="3600" spc="-1" strike="noStrike">
              <a:solidFill>
                <a:srgbClr val="ff0000"/>
              </a:solidFill>
              <a:latin typeface="Comic Sans MS"/>
            </a:endParaRPr>
          </a:p>
        </p:txBody>
      </p:sp>
      <p:pic>
        <p:nvPicPr>
          <p:cNvPr id="830" name="" descr=""/>
          <p:cNvPicPr/>
          <p:nvPr/>
        </p:nvPicPr>
        <p:blipFill>
          <a:blip r:embed="rId1"/>
          <a:stretch/>
        </p:blipFill>
        <p:spPr>
          <a:xfrm>
            <a:off x="198360" y="2151000"/>
            <a:ext cx="2738520" cy="2000160"/>
          </a:xfrm>
          <a:prstGeom prst="rect">
            <a:avLst/>
          </a:prstGeom>
          <a:ln w="0">
            <a:noFill/>
          </a:ln>
        </p:spPr>
      </p:pic>
      <p:pic>
        <p:nvPicPr>
          <p:cNvPr id="831" name="" descr=""/>
          <p:cNvPicPr/>
          <p:nvPr/>
        </p:nvPicPr>
        <p:blipFill>
          <a:blip r:embed="rId2"/>
          <a:stretch/>
        </p:blipFill>
        <p:spPr>
          <a:xfrm>
            <a:off x="3133800" y="857160"/>
            <a:ext cx="3865320" cy="2908440"/>
          </a:xfrm>
          <a:prstGeom prst="rect">
            <a:avLst/>
          </a:prstGeom>
          <a:ln w="0">
            <a:noFill/>
          </a:ln>
        </p:spPr>
      </p:pic>
      <p:sp>
        <p:nvSpPr>
          <p:cNvPr id="832" name=""/>
          <p:cNvSpPr/>
          <p:nvPr/>
        </p:nvSpPr>
        <p:spPr>
          <a:xfrm>
            <a:off x="1944720" y="2627280"/>
            <a:ext cx="1189080" cy="0"/>
          </a:xfrm>
          <a:prstGeom prst="line">
            <a:avLst/>
          </a:prstGeom>
          <a:ln w="38160">
            <a:solidFill>
              <a:srgbClr val="cc3300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" descr=""/>
          <p:cNvPicPr/>
          <p:nvPr/>
        </p:nvPicPr>
        <p:blipFill>
          <a:blip r:embed="rId3"/>
          <a:stretch/>
        </p:blipFill>
        <p:spPr>
          <a:xfrm>
            <a:off x="3770280" y="2627280"/>
            <a:ext cx="5695920" cy="2005200"/>
          </a:xfrm>
          <a:prstGeom prst="rect">
            <a:avLst/>
          </a:prstGeom>
          <a:ln w="0">
            <a:noFill/>
          </a:ln>
        </p:spPr>
      </p:pic>
      <p:sp>
        <p:nvSpPr>
          <p:cNvPr id="834" name=""/>
          <p:cNvSpPr/>
          <p:nvPr/>
        </p:nvSpPr>
        <p:spPr>
          <a:xfrm flipV="1">
            <a:off x="2182680" y="2968560"/>
            <a:ext cx="1667160" cy="14400"/>
          </a:xfrm>
          <a:prstGeom prst="line">
            <a:avLst/>
          </a:prstGeom>
          <a:ln w="38160">
            <a:solidFill>
              <a:srgbClr val="cc3300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1149480" y="3376440"/>
            <a:ext cx="0" cy="176868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6" name="" descr=""/>
          <p:cNvPicPr/>
          <p:nvPr/>
        </p:nvPicPr>
        <p:blipFill>
          <a:blip r:embed="rId4"/>
          <a:stretch/>
        </p:blipFill>
        <p:spPr>
          <a:xfrm>
            <a:off x="2712960" y="4124160"/>
            <a:ext cx="6772320" cy="2251080"/>
          </a:xfrm>
          <a:prstGeom prst="rect">
            <a:avLst/>
          </a:prstGeom>
          <a:ln w="0">
            <a:noFill/>
          </a:ln>
        </p:spPr>
      </p:pic>
      <p:sp>
        <p:nvSpPr>
          <p:cNvPr id="837" name=""/>
          <p:cNvSpPr/>
          <p:nvPr/>
        </p:nvSpPr>
        <p:spPr>
          <a:xfrm flipV="1">
            <a:off x="1149480" y="5145120"/>
            <a:ext cx="1668240" cy="14400"/>
          </a:xfrm>
          <a:prstGeom prst="line">
            <a:avLst/>
          </a:prstGeom>
          <a:ln w="38160">
            <a:solidFill>
              <a:srgbClr val="cc3300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5" dur="indefinite" restart="never" nodeType="tmRoot">
          <p:childTnLst>
            <p:seq>
              <p:cTn id="1606" dur="indefinite" nodeType="mainSeq">
                <p:childTnLst>
                  <p:par>
                    <p:cTn id="1607" fill="hold">
                      <p:stCondLst>
                        <p:cond delay="indefinite"/>
                      </p:stCondLst>
                      <p:childTnLst>
                        <p:par>
                          <p:cTn id="1608" fill="hold">
                            <p:stCondLst>
                              <p:cond delay="0"/>
                            </p:stCondLst>
                            <p:childTnLst>
                              <p:par>
                                <p:cTn id="160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1" dur="5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2" dur="5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3" fill="hold">
                      <p:stCondLst>
                        <p:cond delay="indefinite"/>
                      </p:stCondLst>
                      <p:childTnLst>
                        <p:par>
                          <p:cTn id="1614" fill="hold">
                            <p:stCondLst>
                              <p:cond delay="0"/>
                            </p:stCondLst>
                            <p:childTnLst>
                              <p:par>
                                <p:cTn id="161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17" dur="5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8" fill="hold">
                      <p:stCondLst>
                        <p:cond delay="indefinite"/>
                      </p:stCondLst>
                      <p:childTnLst>
                        <p:par>
                          <p:cTn id="1619" fill="hold">
                            <p:stCondLst>
                              <p:cond delay="0"/>
                            </p:stCondLst>
                            <p:childTnLst>
                              <p:par>
                                <p:cTn id="16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22" dur="500"/>
                                        <p:tgtEl>
                                          <p:spTgt spid="8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3" fill="hold">
                      <p:stCondLst>
                        <p:cond delay="indefinite"/>
                      </p:stCondLst>
                      <p:childTnLst>
                        <p:par>
                          <p:cTn id="1624" fill="hold">
                            <p:stCondLst>
                              <p:cond delay="0"/>
                            </p:stCondLst>
                            <p:childTnLst>
                              <p:par>
                                <p:cTn id="162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27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8" fill="hold">
                      <p:stCondLst>
                        <p:cond delay="indefinite"/>
                      </p:stCondLst>
                      <p:childTnLst>
                        <p:par>
                          <p:cTn id="1629" fill="hold">
                            <p:stCondLst>
                              <p:cond delay="0"/>
                            </p:stCondLst>
                            <p:childTnLst>
                              <p:par>
                                <p:cTn id="1630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632" dur="20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3" fill="hold">
                      <p:stCondLst>
                        <p:cond delay="indefinite"/>
                      </p:stCondLst>
                      <p:childTnLst>
                        <p:par>
                          <p:cTn id="1634" fill="hold">
                            <p:stCondLst>
                              <p:cond delay="0"/>
                            </p:stCondLst>
                            <p:childTnLst>
                              <p:par>
                                <p:cTn id="163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37" dur="5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8" fill="hold">
                      <p:stCondLst>
                        <p:cond delay="indefinite"/>
                      </p:stCondLst>
                      <p:childTnLst>
                        <p:par>
                          <p:cTn id="1639" fill="hold">
                            <p:stCondLst>
                              <p:cond delay="0"/>
                            </p:stCondLst>
                            <p:childTnLst>
                              <p:par>
                                <p:cTn id="164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42" dur="500"/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3" fill="hold">
                      <p:stCondLst>
                        <p:cond delay="indefinite"/>
                      </p:stCondLst>
                      <p:childTnLst>
                        <p:par>
                          <p:cTn id="1644" fill="hold">
                            <p:stCondLst>
                              <p:cond delay="0"/>
                            </p:stCondLst>
                            <p:childTnLst>
                              <p:par>
                                <p:cTn id="164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7" dur="10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8" dur="1000" fill="hold"/>
                                        <p:tgtEl>
                                          <p:spTgt spid="8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9" dur="1000" fill="hold"/>
                                        <p:tgtEl>
                                          <p:spTgt spid="8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8" name="" descr=""/>
          <p:cNvPicPr/>
          <p:nvPr/>
        </p:nvPicPr>
        <p:blipFill>
          <a:blip r:embed="rId1"/>
          <a:stretch/>
        </p:blipFill>
        <p:spPr>
          <a:xfrm>
            <a:off x="119160" y="722160"/>
            <a:ext cx="4270320" cy="4519800"/>
          </a:xfrm>
          <a:prstGeom prst="rect">
            <a:avLst/>
          </a:prstGeom>
          <a:ln w="0">
            <a:noFill/>
          </a:ln>
        </p:spPr>
      </p:pic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41360" y="280800"/>
            <a:ext cx="83296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0000"/>
                </a:solidFill>
                <a:latin typeface="Comic Sans MS"/>
                <a:ea typeface="宋体"/>
              </a:rPr>
              <a:t>多种查询类型</a:t>
            </a:r>
            <a:endParaRPr b="1" i="1" lang="en-US" sz="36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40" name=""/>
          <p:cNvSpPr/>
          <p:nvPr/>
        </p:nvSpPr>
        <p:spPr>
          <a:xfrm>
            <a:off x="2817720" y="2424240"/>
            <a:ext cx="1190880" cy="0"/>
          </a:xfrm>
          <a:prstGeom prst="line">
            <a:avLst/>
          </a:prstGeom>
          <a:ln w="38160">
            <a:solidFill>
              <a:srgbClr val="cc3300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4083120" y="2235240"/>
            <a:ext cx="5640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从表中检索数据，并对结果排序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还可以对记录分组进行总计、计数、平均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值以及其他类型的计算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 flipV="1">
            <a:off x="2498760" y="2763720"/>
            <a:ext cx="795240" cy="1440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3284640" y="2763720"/>
            <a:ext cx="9360" cy="68112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 flipV="1">
            <a:off x="3284640" y="3406680"/>
            <a:ext cx="723960" cy="14400"/>
          </a:xfrm>
          <a:prstGeom prst="line">
            <a:avLst/>
          </a:prstGeom>
          <a:ln w="38160">
            <a:solidFill>
              <a:srgbClr val="cc3300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4087800" y="3241800"/>
            <a:ext cx="5640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对查询结果按不同的字段逐级分组显示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统计结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结果显示方式为交叉表方式，即分行标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题、列标题以及统计数据区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2579760" y="3390840"/>
            <a:ext cx="158760" cy="1020960"/>
          </a:xfrm>
          <a:custGeom>
            <a:avLst/>
            <a:gdLst>
              <a:gd name="textAreaLeft" fmla="*/ 0 w 158760"/>
              <a:gd name="textAreaRight" fmla="*/ 111600 w 158760"/>
              <a:gd name="textAreaTop" fmla="*/ 42480 h 1020960"/>
              <a:gd name="textAreaBottom" fmla="*/ 978480 h 1020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255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 flipV="1">
            <a:off x="2755800" y="3919320"/>
            <a:ext cx="795600" cy="1404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 flipH="1">
            <a:off x="3532320" y="3919680"/>
            <a:ext cx="9360" cy="102204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 flipV="1">
            <a:off x="3541680" y="4925880"/>
            <a:ext cx="723960" cy="15840"/>
          </a:xfrm>
          <a:prstGeom prst="line">
            <a:avLst/>
          </a:prstGeom>
          <a:ln w="38160">
            <a:solidFill>
              <a:srgbClr val="cc3300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4375080" y="4757760"/>
            <a:ext cx="137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操作查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 flipH="1">
            <a:off x="1149120" y="5159520"/>
            <a:ext cx="11160" cy="40932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 flipV="1">
            <a:off x="1160640" y="5554440"/>
            <a:ext cx="722160" cy="14040"/>
          </a:xfrm>
          <a:prstGeom prst="line">
            <a:avLst/>
          </a:prstGeom>
          <a:ln w="38160">
            <a:solidFill>
              <a:srgbClr val="cc3300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2182680" y="5418000"/>
            <a:ext cx="738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指可以重复使用，每次改变查询条件的查询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0" dur="indefinite" restart="never" nodeType="tmRoot">
          <p:childTnLst>
            <p:seq>
              <p:cTn id="1651" dur="indefinite" nodeType="mainSeq">
                <p:childTnLst>
                  <p:par>
                    <p:cTn id="1652" fill="hold">
                      <p:stCondLst>
                        <p:cond delay="indefinite"/>
                      </p:stCondLst>
                      <p:childTnLst>
                        <p:par>
                          <p:cTn id="1653" fill="hold">
                            <p:stCondLst>
                              <p:cond delay="0"/>
                            </p:stCondLst>
                            <p:childTnLst>
                              <p:par>
                                <p:cTn id="16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56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7" fill="hold">
                      <p:stCondLst>
                        <p:cond delay="indefinite"/>
                      </p:stCondLst>
                      <p:childTnLst>
                        <p:par>
                          <p:cTn id="1658" fill="hold">
                            <p:stCondLst>
                              <p:cond delay="0"/>
                            </p:stCondLst>
                            <p:childTnLst>
                              <p:par>
                                <p:cTn id="165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61" dur="500"/>
                                        <p:tgtEl>
                                          <p:spTgt spid="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2" fill="hold">
                      <p:stCondLst>
                        <p:cond delay="indefinite"/>
                      </p:stCondLst>
                      <p:childTnLst>
                        <p:par>
                          <p:cTn id="1663" fill="hold">
                            <p:stCondLst>
                              <p:cond delay="0"/>
                            </p:stCondLst>
                            <p:childTnLst>
                              <p:par>
                                <p:cTn id="166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66" dur="80"/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8,-64,105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2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67" dur="80"/>
                                        <p:tgtEl>
                                          <p:spTgt spid="8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8,-64,105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2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68" dur="80"/>
                                        <p:tgtEl>
                                          <p:spTgt spid="8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9" fill="hold">
                      <p:stCondLst>
                        <p:cond delay="indefinite"/>
                      </p:stCondLst>
                      <p:childTnLst>
                        <p:par>
                          <p:cTn id="1670" fill="hold">
                            <p:stCondLst>
                              <p:cond delay="0"/>
                            </p:stCondLst>
                            <p:childTnLst>
                              <p:par>
                                <p:cTn id="167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73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4" fill="hold">
                      <p:stCondLst>
                        <p:cond delay="indefinite"/>
                      </p:stCondLst>
                      <p:childTnLst>
                        <p:par>
                          <p:cTn id="1675" fill="hold">
                            <p:stCondLst>
                              <p:cond delay="0"/>
                            </p:stCondLst>
                            <p:childTnLst>
                              <p:par>
                                <p:cTn id="167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8" dur="5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9" fill="hold">
                      <p:stCondLst>
                        <p:cond delay="indefinite"/>
                      </p:stCondLst>
                      <p:childTnLst>
                        <p:par>
                          <p:cTn id="1680" fill="hold">
                            <p:stCondLst>
                              <p:cond delay="0"/>
                            </p:stCondLst>
                            <p:childTnLst>
                              <p:par>
                                <p:cTn id="168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83" dur="5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4" fill="hold">
                      <p:stCondLst>
                        <p:cond delay="indefinite"/>
                      </p:stCondLst>
                      <p:childTnLst>
                        <p:par>
                          <p:cTn id="1685" fill="hold">
                            <p:stCondLst>
                              <p:cond delay="0"/>
                            </p:stCondLst>
                            <p:childTnLst>
                              <p:par>
                                <p:cTn id="168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88" dur="80"/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8,-64,105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2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89" dur="80"/>
                                        <p:tgtEl>
                                          <p:spTgt spid="8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8,-64,105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2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90" dur="80"/>
                                        <p:tgtEl>
                                          <p:spTgt spid="8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1" fill="hold">
                      <p:stCondLst>
                        <p:cond delay="indefinite"/>
                      </p:stCondLst>
                      <p:childTnLst>
                        <p:par>
                          <p:cTn id="1692" fill="hold">
                            <p:stCondLst>
                              <p:cond delay="0"/>
                            </p:stCondLst>
                            <p:childTnLst>
                              <p:par>
                                <p:cTn id="169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5" dur="500" fill="hold"/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6" dur="500" fill="hold"/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7" dur="500" fill="hold"/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8" dur="500" fill="hold"/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9" fill="hold">
                      <p:stCondLst>
                        <p:cond delay="indefinite"/>
                      </p:stCondLst>
                      <p:childTnLst>
                        <p:par>
                          <p:cTn id="1700" fill="hold">
                            <p:stCondLst>
                              <p:cond delay="0"/>
                            </p:stCondLst>
                            <p:childTnLst>
                              <p:par>
                                <p:cTn id="170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03" dur="5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4" fill="hold">
                      <p:stCondLst>
                        <p:cond delay="indefinite"/>
                      </p:stCondLst>
                      <p:childTnLst>
                        <p:par>
                          <p:cTn id="1705" fill="hold">
                            <p:stCondLst>
                              <p:cond delay="0"/>
                            </p:stCondLst>
                            <p:childTnLst>
                              <p:par>
                                <p:cTn id="170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08" dur="5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9" fill="hold">
                      <p:stCondLst>
                        <p:cond delay="indefinite"/>
                      </p:stCondLst>
                      <p:childTnLst>
                        <p:par>
                          <p:cTn id="1710" fill="hold">
                            <p:stCondLst>
                              <p:cond delay="0"/>
                            </p:stCondLst>
                            <p:childTnLst>
                              <p:par>
                                <p:cTn id="171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13" dur="500"/>
                                        <p:tgtEl>
                                          <p:spTgt spid="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4" fill="hold">
                      <p:stCondLst>
                        <p:cond delay="indefinite"/>
                      </p:stCondLst>
                      <p:childTnLst>
                        <p:par>
                          <p:cTn id="1715" fill="hold">
                            <p:stCondLst>
                              <p:cond delay="0"/>
                            </p:stCondLst>
                            <p:childTnLst>
                              <p:par>
                                <p:cTn id="171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18" dur="80"/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8,-64,105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2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19" dur="80"/>
                                        <p:tgtEl>
                                          <p:spTgt spid="8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8,-64,105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2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20" dur="80"/>
                                        <p:tgtEl>
                                          <p:spTgt spid="8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1" fill="hold">
                      <p:stCondLst>
                        <p:cond delay="indefinite"/>
                      </p:stCondLst>
                      <p:childTnLst>
                        <p:par>
                          <p:cTn id="1722" fill="hold">
                            <p:stCondLst>
                              <p:cond delay="0"/>
                            </p:stCondLst>
                            <p:childTnLst>
                              <p:par>
                                <p:cTn id="172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5" dur="500"/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6" fill="hold">
                      <p:stCondLst>
                        <p:cond delay="indefinite"/>
                      </p:stCondLst>
                      <p:childTnLst>
                        <p:par>
                          <p:cTn id="1727" fill="hold">
                            <p:stCondLst>
                              <p:cond delay="0"/>
                            </p:stCondLst>
                            <p:childTnLst>
                              <p:par>
                                <p:cTn id="172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30" dur="5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1" fill="hold">
                      <p:stCondLst>
                        <p:cond delay="indefinite"/>
                      </p:stCondLst>
                      <p:childTnLst>
                        <p:par>
                          <p:cTn id="1732" fill="hold">
                            <p:stCondLst>
                              <p:cond delay="0"/>
                            </p:stCondLst>
                            <p:childTnLst>
                              <p:par>
                                <p:cTn id="17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35" dur="80"/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8,-64,105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2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36" dur="80"/>
                                        <p:tgtEl>
                                          <p:spTgt spid="8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8,-64,105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2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37" dur="80"/>
                                        <p:tgtEl>
                                          <p:spTgt spid="8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41360" y="280800"/>
            <a:ext cx="83296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ff0000"/>
                </a:solidFill>
                <a:latin typeface="Comic Sans MS"/>
                <a:ea typeface="宋体"/>
              </a:rPr>
              <a:t>举例： 图书馆</a:t>
            </a:r>
            <a:r>
              <a:rPr b="1" i="1" lang="zh-CN" sz="4400" spc="-1" strike="noStrike">
                <a:solidFill>
                  <a:srgbClr val="ff0000"/>
                </a:solidFill>
                <a:latin typeface="Comic Sans MS"/>
                <a:ea typeface="宋体"/>
              </a:rPr>
              <a:t>===</a:t>
            </a:r>
            <a:r>
              <a:rPr b="1" i="1" lang="zh-CN" sz="4400" spc="-1" strike="noStrike">
                <a:solidFill>
                  <a:srgbClr val="ff0000"/>
                </a:solidFill>
                <a:latin typeface="Comic Sans MS"/>
                <a:ea typeface="宋体"/>
              </a:rPr>
              <a:t>数据库</a:t>
            </a:r>
            <a:endParaRPr b="1" i="1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07" name=""/>
          <p:cNvSpPr/>
          <p:nvPr/>
        </p:nvSpPr>
        <p:spPr>
          <a:xfrm rot="17973000">
            <a:off x="5162400" y="2037960"/>
            <a:ext cx="749160" cy="311040"/>
          </a:xfrm>
          <a:prstGeom prst="rightArrow">
            <a:avLst>
              <a:gd name="adj1" fmla="val 35167"/>
              <a:gd name="adj2" fmla="val 97536"/>
            </a:avLst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rot="3465600">
            <a:off x="5217480" y="4031280"/>
            <a:ext cx="747720" cy="311040"/>
          </a:xfrm>
          <a:prstGeom prst="rightArrow">
            <a:avLst>
              <a:gd name="adj1" fmla="val 35167"/>
              <a:gd name="adj2" fmla="val 97348"/>
            </a:avLst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rot="14368800">
            <a:off x="3900240" y="2058120"/>
            <a:ext cx="749160" cy="311400"/>
          </a:xfrm>
          <a:prstGeom prst="rightArrow">
            <a:avLst>
              <a:gd name="adj1" fmla="val 35167"/>
              <a:gd name="adj2" fmla="val 97423"/>
            </a:avLst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rot="7534800">
            <a:off x="3858840" y="4000320"/>
            <a:ext cx="749160" cy="311040"/>
          </a:xfrm>
          <a:prstGeom prst="rightArrow">
            <a:avLst>
              <a:gd name="adj1" fmla="val 35167"/>
              <a:gd name="adj2" fmla="val 97536"/>
            </a:avLst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789520" y="3071880"/>
            <a:ext cx="855720" cy="272880"/>
          </a:xfrm>
          <a:prstGeom prst="rightArrow">
            <a:avLst>
              <a:gd name="adj1" fmla="val 35167"/>
              <a:gd name="adj2" fmla="val 126989"/>
            </a:avLst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 rot="10800000">
            <a:off x="3184200" y="3065040"/>
            <a:ext cx="934920" cy="273240"/>
          </a:xfrm>
          <a:prstGeom prst="rightArrow">
            <a:avLst>
              <a:gd name="adj1" fmla="val 35167"/>
              <a:gd name="adj2" fmla="val 138559"/>
            </a:avLst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884320" y="1411200"/>
            <a:ext cx="4044960" cy="3538800"/>
          </a:xfrm>
          <a:prstGeom prst="ellipse">
            <a:avLst/>
          </a:prstGeom>
          <a:noFill/>
          <a:ln w="38160">
            <a:solidFill>
              <a:srgbClr val="ffb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548400" y="1633680"/>
            <a:ext cx="254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保障图书安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754200" y="1335240"/>
            <a:ext cx="30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整理、组织、存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315120" y="4051440"/>
            <a:ext cx="277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最大限度地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实现图书的共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15880" y="3075120"/>
            <a:ext cx="2381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高效地查找和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管理图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738520" y="3171960"/>
            <a:ext cx="330120" cy="287280"/>
          </a:xfrm>
          <a:prstGeom prst="ellipse">
            <a:avLst/>
          </a:prstGeom>
          <a:gradFill rotWithShape="0">
            <a:gsLst>
              <a:gs pos="0">
                <a:srgbClr val="828282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759120" y="1469880"/>
            <a:ext cx="328680" cy="287640"/>
          </a:xfrm>
          <a:prstGeom prst="ellipse">
            <a:avLst/>
          </a:prstGeom>
          <a:gradFill rotWithShape="0">
            <a:gsLst>
              <a:gs pos="0">
                <a:srgbClr val="828282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151680" y="1811160"/>
            <a:ext cx="328320" cy="287640"/>
          </a:xfrm>
          <a:prstGeom prst="ellipse">
            <a:avLst/>
          </a:prstGeom>
          <a:gradFill rotWithShape="0">
            <a:gsLst>
              <a:gs pos="0">
                <a:srgbClr val="828282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30880" y="4176720"/>
            <a:ext cx="328680" cy="287280"/>
          </a:xfrm>
          <a:prstGeom prst="ellipse">
            <a:avLst/>
          </a:prstGeom>
          <a:gradFill rotWithShape="0">
            <a:gsLst>
              <a:gs pos="0">
                <a:srgbClr val="828282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008600" y="2384280"/>
            <a:ext cx="1838160" cy="15955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00b200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017960" y="2384280"/>
            <a:ext cx="1839960" cy="1595520"/>
          </a:xfrm>
          <a:prstGeom prst="ellipse">
            <a:avLst/>
          </a:prstGeom>
          <a:gradFill rotWithShape="0">
            <a:gsLst>
              <a:gs pos="0">
                <a:srgbClr val="000000">
                  <a:alpha val="90196"/>
                </a:srgbClr>
              </a:gs>
              <a:gs pos="100000">
                <a:srgbClr val="00b200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127400" y="2489040"/>
            <a:ext cx="1600200" cy="1386000"/>
          </a:xfrm>
          <a:prstGeom prst="ellipse">
            <a:avLst/>
          </a:prstGeom>
          <a:gradFill rotWithShape="0">
            <a:gsLst>
              <a:gs pos="0">
                <a:srgbClr val="005f00"/>
              </a:gs>
              <a:gs pos="50000">
                <a:srgbClr val="00b200"/>
              </a:gs>
              <a:gs pos="100000">
                <a:srgbClr val="005f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175280" y="2521080"/>
            <a:ext cx="1600200" cy="1385640"/>
          </a:xfrm>
          <a:prstGeom prst="ellipse">
            <a:avLst/>
          </a:prstGeom>
          <a:gradFill rotWithShape="0">
            <a:gsLst>
              <a:gs pos="0">
                <a:srgbClr val="00b200">
                  <a:alpha val="0"/>
                </a:srgbClr>
              </a:gs>
              <a:gs pos="100000">
                <a:srgbClr val="0070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206960" y="2558880"/>
            <a:ext cx="1442880" cy="124812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4230720" y="2576520"/>
            <a:ext cx="1393920" cy="1208160"/>
            <a:chOff x="4230720" y="2576520"/>
            <a:chExt cx="1393920" cy="1208160"/>
          </a:xfrm>
        </p:grpSpPr>
        <p:sp>
          <p:nvSpPr>
            <p:cNvPr id="228" name=""/>
            <p:cNvSpPr/>
            <p:nvPr/>
          </p:nvSpPr>
          <p:spPr>
            <a:xfrm>
              <a:off x="4230720" y="2576520"/>
              <a:ext cx="1393920" cy="120816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248360" y="2583000"/>
              <a:ext cx="1360440" cy="11782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262760" y="2594880"/>
              <a:ext cx="1293480" cy="110088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338720" y="2625480"/>
              <a:ext cx="1149840" cy="8935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4245120" y="2955960"/>
            <a:ext cx="15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图书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57120" y="1811160"/>
            <a:ext cx="2857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根据书的特征将它们按学科分类整理，通过建立索引表确定书籍的存放方法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8160" y="3875040"/>
            <a:ext cx="5081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根据索引表按照名称、作者、关键字、出版社等查找存放位置；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需要不断地对图书进行购进、丢失处理、借阅、归还等管理工作；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对图书使用状况进行科学地分析和统计，作为修改购书计划的依据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593040" y="2122560"/>
            <a:ext cx="329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图书不能借了不还、阅览室的书不能外借（或只能短期借阅）、重要文献借阅有严格的规章制度、只允许合法用户借阅、限定借阅册数和期限…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992920" y="4871880"/>
            <a:ext cx="3968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不允许长期滞留在个人手中、不能被某些院系独占、避免重复购进造成浪费……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50720" y="5103720"/>
            <a:ext cx="9272880" cy="927360"/>
          </a:xfrm>
          <a:prstGeom prst="roundRect">
            <a:avLst>
              <a:gd name="adj" fmla="val 50000"/>
            </a:avLst>
          </a:prstGeom>
          <a:solidFill>
            <a:srgbClr val="ffef66"/>
          </a:soli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数据库与图书馆的不同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数据更具普遍性，数据的多样性和复杂性使得数据的组织和管理更具挑战性，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需要一套科学的技术和方法。简而言之，数据库技术就是数据管理的技术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" dur="80"/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8,-64,105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2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" dur="80"/>
                                        <p:tgtEl>
                                          <p:spTgt spid="2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8,-64,105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2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" dur="80"/>
                                        <p:tgtEl>
                                          <p:spTgt spid="2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" dur="80"/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8,-64,105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2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" dur="80"/>
                                        <p:tgtEl>
                                          <p:spTgt spid="2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8,-64,105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2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" dur="80"/>
                                        <p:tgtEl>
                                          <p:spTgt spid="2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8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8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8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8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9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41360" y="86760"/>
            <a:ext cx="83296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zh-CN" sz="4000" spc="-1" strike="noStrike">
              <a:solidFill>
                <a:srgbClr val="ff0000"/>
              </a:solidFill>
              <a:latin typeface="Comic Sans MS"/>
              <a:ea typeface="宋体"/>
            </a:endParaRPr>
          </a:p>
        </p:txBody>
      </p:sp>
      <p:sp>
        <p:nvSpPr>
          <p:cNvPr id="855" name=""/>
          <p:cNvSpPr/>
          <p:nvPr/>
        </p:nvSpPr>
        <p:spPr>
          <a:xfrm>
            <a:off x="673200" y="1522440"/>
            <a:ext cx="9131040" cy="4643280"/>
          </a:xfrm>
          <a:prstGeom prst="roundRect">
            <a:avLst>
              <a:gd name="adj" fmla="val 13745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754200" y="1747800"/>
            <a:ext cx="905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【例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6.1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】查询不及格学生姓名、课程名、成绩，结果按学号升序排序。查询命名为“查询不及格学生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2”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 rot="20700600">
            <a:off x="-272520" y="1129680"/>
            <a:ext cx="3249720" cy="7034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ff3300"/>
                </a:solidFill>
                <a:latin typeface="华文行楷"/>
                <a:ea typeface="华文行楷"/>
              </a:rPr>
              <a:t> </a:t>
            </a:r>
            <a:r>
              <a:rPr b="1" i="1" lang="zh-CN" sz="4000" spc="-1" strike="noStrike">
                <a:solidFill>
                  <a:srgbClr val="ff3300"/>
                </a:solidFill>
                <a:latin typeface="华文行楷"/>
                <a:ea typeface="华文行楷"/>
              </a:rPr>
              <a:t>选择查询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8" name="" descr=""/>
          <p:cNvPicPr/>
          <p:nvPr/>
        </p:nvPicPr>
        <p:blipFill>
          <a:blip r:embed="rId1"/>
          <a:stretch/>
        </p:blipFill>
        <p:spPr>
          <a:xfrm>
            <a:off x="8771040" y="5757840"/>
            <a:ext cx="1033200" cy="504720"/>
          </a:xfrm>
          <a:prstGeom prst="rect">
            <a:avLst/>
          </a:prstGeom>
          <a:ln w="0">
            <a:noFill/>
          </a:ln>
        </p:spPr>
      </p:pic>
      <p:pic>
        <p:nvPicPr>
          <p:cNvPr id="859" name="" descr=""/>
          <p:cNvPicPr/>
          <p:nvPr/>
        </p:nvPicPr>
        <p:blipFill>
          <a:blip r:embed="rId2"/>
          <a:stretch/>
        </p:blipFill>
        <p:spPr>
          <a:xfrm>
            <a:off x="38160" y="2643120"/>
            <a:ext cx="7939080" cy="3824280"/>
          </a:xfrm>
          <a:prstGeom prst="rect">
            <a:avLst/>
          </a:prstGeom>
          <a:ln w="0">
            <a:noFill/>
          </a:ln>
        </p:spPr>
      </p:pic>
      <p:sp>
        <p:nvSpPr>
          <p:cNvPr id="860" name=""/>
          <p:cNvSpPr/>
          <p:nvPr/>
        </p:nvSpPr>
        <p:spPr>
          <a:xfrm>
            <a:off x="2658960" y="2082960"/>
            <a:ext cx="5399280" cy="898200"/>
          </a:xfrm>
          <a:prstGeom prst="cloudCallout">
            <a:avLst>
              <a:gd name="adj1" fmla="val -56837"/>
              <a:gd name="adj2" fmla="val 119282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依据关联关系建立连接，然后选择需要的字段、记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1" name="" descr=""/>
          <p:cNvPicPr/>
          <p:nvPr/>
        </p:nvPicPr>
        <p:blipFill>
          <a:blip r:embed="rId3"/>
          <a:stretch/>
        </p:blipFill>
        <p:spPr>
          <a:xfrm>
            <a:off x="3968640" y="0"/>
            <a:ext cx="611208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8" dur="indefinite" restart="never" nodeType="tmRoot">
          <p:childTnLst>
            <p:seq>
              <p:cTn id="1739" dur="indefinite" nodeType="mainSeq">
                <p:childTnLst>
                  <p:par>
                    <p:cTn id="1740" fill="hold">
                      <p:stCondLst>
                        <p:cond delay="indefinite"/>
                      </p:stCondLst>
                      <p:childTnLst>
                        <p:par>
                          <p:cTn id="1741" fill="hold">
                            <p:stCondLst>
                              <p:cond delay="0"/>
                            </p:stCondLst>
                            <p:childTnLst>
                              <p:par>
                                <p:cTn id="174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4" dur="800"/>
                                        <p:tgtEl>
                                          <p:spTgt spid="8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5" dur="800" fill="hold"/>
                                        <p:tgtEl>
                                          <p:spTgt spid="8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6" dur="800" fill="hold"/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7" dur="800" fill="hold"/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0" fill="hold">
                            <p:stCondLst>
                              <p:cond delay="1000"/>
                            </p:stCondLst>
                            <p:childTnLst>
                              <p:par>
                                <p:cTn id="175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53" dur="5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4" fill="hold">
                      <p:stCondLst>
                        <p:cond delay="indefinite"/>
                      </p:stCondLst>
                      <p:childTnLst>
                        <p:par>
                          <p:cTn id="1755" fill="hold">
                            <p:stCondLst>
                              <p:cond delay="0"/>
                            </p:stCondLst>
                            <p:childTnLst>
                              <p:par>
                                <p:cTn id="175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58" dur="80"/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8,-64,105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2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59" dur="80"/>
                                        <p:tgtEl>
                                          <p:spTgt spid="8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8,-64,105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2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60" dur="80"/>
                                        <p:tgtEl>
                                          <p:spTgt spid="8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1" fill="hold">
                      <p:stCondLst>
                        <p:cond delay="indefinite"/>
                      </p:stCondLst>
                      <p:childTnLst>
                        <p:par>
                          <p:cTn id="1762" fill="hold">
                            <p:stCondLst>
                              <p:cond delay="0"/>
                            </p:stCondLst>
                            <p:childTnLst>
                              <p:par>
                                <p:cTn id="17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5" dur="20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6" fill="hold">
                      <p:stCondLst>
                        <p:cond delay="indefinite"/>
                      </p:stCondLst>
                      <p:childTnLst>
                        <p:par>
                          <p:cTn id="1767" fill="hold">
                            <p:stCondLst>
                              <p:cond delay="0"/>
                            </p:stCondLst>
                            <p:childTnLst>
                              <p:par>
                                <p:cTn id="176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0" dur="5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1" dur="5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2" fill="hold">
                      <p:stCondLst>
                        <p:cond delay="indefinite"/>
                      </p:stCondLst>
                      <p:childTnLst>
                        <p:par>
                          <p:cTn id="1773" fill="hold">
                            <p:stCondLst>
                              <p:cond delay="0"/>
                            </p:stCondLst>
                            <p:childTnLst>
                              <p:par>
                                <p:cTn id="177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6" dur="500" fill="hold"/>
                                        <p:tgtEl>
                                          <p:spTgt spid="8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7" dur="500" fill="hold"/>
                                        <p:tgtEl>
                                          <p:spTgt spid="8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8" fill="hold">
                      <p:stCondLst>
                        <p:cond delay="indefinite"/>
                      </p:stCondLst>
                      <p:childTnLst>
                        <p:par>
                          <p:cTn id="1779" fill="hold">
                            <p:stCondLst>
                              <p:cond delay="0"/>
                            </p:stCondLst>
                            <p:childTnLst>
                              <p:par>
                                <p:cTn id="178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2" dur="100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3" dur="100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4" dur="100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5" dur="10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441360" y="86760"/>
            <a:ext cx="83296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zh-CN" sz="4000" spc="-1" strike="noStrike">
              <a:solidFill>
                <a:srgbClr val="ff0000"/>
              </a:solidFill>
              <a:latin typeface="Comic Sans MS"/>
              <a:ea typeface="宋体"/>
            </a:endParaRPr>
          </a:p>
        </p:txBody>
      </p:sp>
      <p:sp>
        <p:nvSpPr>
          <p:cNvPr id="863" name=""/>
          <p:cNvSpPr/>
          <p:nvPr/>
        </p:nvSpPr>
        <p:spPr>
          <a:xfrm>
            <a:off x="4086360" y="2082960"/>
            <a:ext cx="5794200" cy="4149720"/>
          </a:xfrm>
          <a:prstGeom prst="roundRect">
            <a:avLst>
              <a:gd name="adj" fmla="val 13745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4167360" y="2395440"/>
            <a:ext cx="587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【例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6.1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】查询选修课程中最高分是多少，查询命名为“查询最高分”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5" name="" descr=""/>
          <p:cNvPicPr/>
          <p:nvPr/>
        </p:nvPicPr>
        <p:blipFill>
          <a:blip r:embed="rId1"/>
          <a:stretch/>
        </p:blipFill>
        <p:spPr>
          <a:xfrm>
            <a:off x="8771040" y="5757840"/>
            <a:ext cx="1033200" cy="504720"/>
          </a:xfrm>
          <a:prstGeom prst="rect">
            <a:avLst/>
          </a:prstGeom>
          <a:ln w="0">
            <a:noFill/>
          </a:ln>
        </p:spPr>
      </p:pic>
      <p:pic>
        <p:nvPicPr>
          <p:cNvPr id="866" name="" descr=""/>
          <p:cNvPicPr/>
          <p:nvPr/>
        </p:nvPicPr>
        <p:blipFill>
          <a:blip r:embed="rId2"/>
          <a:stretch/>
        </p:blipFill>
        <p:spPr>
          <a:xfrm>
            <a:off x="706320" y="1266840"/>
            <a:ext cx="2905200" cy="4287960"/>
          </a:xfrm>
          <a:prstGeom prst="rect">
            <a:avLst/>
          </a:prstGeom>
          <a:ln w="0">
            <a:noFill/>
          </a:ln>
        </p:spPr>
      </p:pic>
      <p:grpSp>
        <p:nvGrpSpPr>
          <p:cNvPr id="867" name=""/>
          <p:cNvGrpSpPr/>
          <p:nvPr/>
        </p:nvGrpSpPr>
        <p:grpSpPr>
          <a:xfrm>
            <a:off x="515880" y="5789520"/>
            <a:ext cx="2571480" cy="398880"/>
            <a:chOff x="515880" y="5789520"/>
            <a:chExt cx="2571480" cy="398880"/>
          </a:xfrm>
        </p:grpSpPr>
        <p:sp>
          <p:nvSpPr>
            <p:cNvPr id="868" name=""/>
            <p:cNvSpPr/>
            <p:nvPr/>
          </p:nvSpPr>
          <p:spPr>
            <a:xfrm>
              <a:off x="515880" y="5789520"/>
              <a:ext cx="2381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</a:rPr>
                <a:t>单击工具栏上的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69" name="" descr=""/>
            <p:cNvPicPr/>
            <p:nvPr/>
          </p:nvPicPr>
          <p:blipFill>
            <a:blip r:embed="rId3"/>
            <a:stretch/>
          </p:blipFill>
          <p:spPr>
            <a:xfrm>
              <a:off x="2658600" y="5825160"/>
              <a:ext cx="428760" cy="335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0" name=""/>
          <p:cNvSpPr/>
          <p:nvPr/>
        </p:nvSpPr>
        <p:spPr>
          <a:xfrm flipH="1">
            <a:off x="436680" y="3989520"/>
            <a:ext cx="474480" cy="0"/>
          </a:xfrm>
          <a:prstGeom prst="line">
            <a:avLst/>
          </a:prstGeom>
          <a:ln w="28440">
            <a:solidFill>
              <a:srgbClr val="cc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436680" y="3989520"/>
            <a:ext cx="0" cy="197172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436680" y="5961240"/>
            <a:ext cx="158760" cy="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3" name="" descr=""/>
          <p:cNvPicPr/>
          <p:nvPr/>
        </p:nvPicPr>
        <p:blipFill>
          <a:blip r:embed="rId4"/>
          <a:stretch/>
        </p:blipFill>
        <p:spPr>
          <a:xfrm>
            <a:off x="5278320" y="3784680"/>
            <a:ext cx="3735360" cy="1395360"/>
          </a:xfrm>
          <a:prstGeom prst="rect">
            <a:avLst/>
          </a:prstGeom>
          <a:ln w="0">
            <a:noFill/>
          </a:ln>
        </p:spPr>
      </p:pic>
      <p:sp>
        <p:nvSpPr>
          <p:cNvPr id="874" name=""/>
          <p:cNvSpPr/>
          <p:nvPr/>
        </p:nvSpPr>
        <p:spPr>
          <a:xfrm rot="436200">
            <a:off x="7379280" y="1402920"/>
            <a:ext cx="2724120" cy="7034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ff3300"/>
                </a:solidFill>
                <a:latin typeface="华文行楷"/>
                <a:ea typeface="华文行楷"/>
              </a:rPr>
              <a:t> </a:t>
            </a:r>
            <a:r>
              <a:rPr b="1" i="1" lang="zh-CN" sz="4000" spc="-1" strike="noStrike">
                <a:solidFill>
                  <a:srgbClr val="ff3300"/>
                </a:solidFill>
                <a:latin typeface="华文行楷"/>
                <a:ea typeface="华文行楷"/>
              </a:rPr>
              <a:t>选择查询</a:t>
            </a:r>
            <a:r>
              <a:rPr b="1" i="1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（汇总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6" dur="indefinite" restart="never" nodeType="tmRoot">
          <p:childTnLst>
            <p:seq>
              <p:cTn id="1787" dur="indefinite" nodeType="mainSeq">
                <p:childTnLst>
                  <p:par>
                    <p:cTn id="1788" fill="hold">
                      <p:stCondLst>
                        <p:cond delay="indefinite"/>
                      </p:stCondLst>
                      <p:childTnLst>
                        <p:par>
                          <p:cTn id="1789" fill="hold">
                            <p:stCondLst>
                              <p:cond delay="0"/>
                            </p:stCondLst>
                            <p:childTnLst>
                              <p:par>
                                <p:cTn id="179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2" dur="800"/>
                                        <p:tgtEl>
                                          <p:spTgt spid="8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3" dur="800" fill="hold"/>
                                        <p:tgtEl>
                                          <p:spTgt spid="8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4" dur="800" fill="hold"/>
                                        <p:tgtEl>
                                          <p:spTgt spid="8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5" dur="800" fill="hold"/>
                                        <p:tgtEl>
                                          <p:spTgt spid="8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01" dur="5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2" fill="hold">
                      <p:stCondLst>
                        <p:cond delay="indefinite"/>
                      </p:stCondLst>
                      <p:childTnLst>
                        <p:par>
                          <p:cTn id="1803" fill="hold">
                            <p:stCondLst>
                              <p:cond delay="0"/>
                            </p:stCondLst>
                            <p:childTnLst>
                              <p:par>
                                <p:cTn id="180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06" dur="80"/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8,-64,105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2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07" dur="80"/>
                                        <p:tgtEl>
                                          <p:spTgt spid="8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8,-64,105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2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08" dur="80"/>
                                        <p:tgtEl>
                                          <p:spTgt spid="8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9" fill="hold">
                      <p:stCondLst>
                        <p:cond delay="indefinite"/>
                      </p:stCondLst>
                      <p:childTnLst>
                        <p:par>
                          <p:cTn id="1810" fill="hold">
                            <p:stCondLst>
                              <p:cond delay="0"/>
                            </p:stCondLst>
                            <p:childTnLst>
                              <p:par>
                                <p:cTn id="18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13" dur="5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4" fill="hold">
                      <p:stCondLst>
                        <p:cond delay="indefinite"/>
                      </p:stCondLst>
                      <p:childTnLst>
                        <p:par>
                          <p:cTn id="1815" fill="hold">
                            <p:stCondLst>
                              <p:cond delay="0"/>
                            </p:stCondLst>
                            <p:childTnLst>
                              <p:par>
                                <p:cTn id="1816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8" dur="5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9" dur="5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0" dur="5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1" dur="5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2" fill="hold">
                      <p:stCondLst>
                        <p:cond delay="indefinite"/>
                      </p:stCondLst>
                      <p:childTnLst>
                        <p:par>
                          <p:cTn id="1823" fill="hold">
                            <p:stCondLst>
                              <p:cond delay="0"/>
                            </p:stCondLst>
                            <p:childTnLst>
                              <p:par>
                                <p:cTn id="182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6" dur="500" fill="hold"/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7" dur="500" fill="hold"/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8" dur="500" fill="hold"/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9" dur="500" fill="hold"/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0" fill="hold">
                      <p:stCondLst>
                        <p:cond delay="indefinite"/>
                      </p:stCondLst>
                      <p:childTnLst>
                        <p:par>
                          <p:cTn id="1831" fill="hold">
                            <p:stCondLst>
                              <p:cond delay="0"/>
                            </p:stCondLst>
                            <p:childTnLst>
                              <p:par>
                                <p:cTn id="183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4" dur="5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5" dur="5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6" dur="5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7" dur="5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8" fill="hold">
                      <p:stCondLst>
                        <p:cond delay="indefinite"/>
                      </p:stCondLst>
                      <p:childTnLst>
                        <p:par>
                          <p:cTn id="1839" fill="hold">
                            <p:stCondLst>
                              <p:cond delay="0"/>
                            </p:stCondLst>
                            <p:childTnLst>
                              <p:par>
                                <p:cTn id="184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42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3" fill="hold">
                      <p:stCondLst>
                        <p:cond delay="indefinite"/>
                      </p:stCondLst>
                      <p:childTnLst>
                        <p:par>
                          <p:cTn id="1844" fill="hold">
                            <p:stCondLst>
                              <p:cond delay="0"/>
                            </p:stCondLst>
                            <p:childTnLst>
                              <p:par>
                                <p:cTn id="184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847" dur="500"/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8" fill="hold">
                      <p:stCondLst>
                        <p:cond delay="indefinite"/>
                      </p:stCondLst>
                      <p:childTnLst>
                        <p:par>
                          <p:cTn id="1849" fill="hold">
                            <p:stCondLst>
                              <p:cond delay="0"/>
                            </p:stCondLst>
                            <p:childTnLst>
                              <p:par>
                                <p:cTn id="185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2" dur="10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3" dur="10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4" dur="10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5" dur="10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41360" y="86760"/>
            <a:ext cx="83296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zh-CN" sz="4000" spc="-1" strike="noStrike">
              <a:solidFill>
                <a:srgbClr val="ff0000"/>
              </a:solidFill>
              <a:latin typeface="Comic Sans MS"/>
              <a:ea typeface="宋体"/>
            </a:endParaRPr>
          </a:p>
        </p:txBody>
      </p:sp>
      <p:pic>
        <p:nvPicPr>
          <p:cNvPr id="876" name="" descr=""/>
          <p:cNvPicPr/>
          <p:nvPr/>
        </p:nvPicPr>
        <p:blipFill>
          <a:blip r:embed="rId1"/>
          <a:stretch/>
        </p:blipFill>
        <p:spPr>
          <a:xfrm>
            <a:off x="3294000" y="0"/>
            <a:ext cx="6786720" cy="3648240"/>
          </a:xfrm>
          <a:prstGeom prst="rect">
            <a:avLst/>
          </a:prstGeom>
          <a:ln w="0">
            <a:noFill/>
          </a:ln>
        </p:spPr>
      </p:pic>
      <p:sp>
        <p:nvSpPr>
          <p:cNvPr id="877" name=""/>
          <p:cNvSpPr/>
          <p:nvPr/>
        </p:nvSpPr>
        <p:spPr>
          <a:xfrm>
            <a:off x="291960" y="3511440"/>
            <a:ext cx="5794560" cy="2624400"/>
          </a:xfrm>
          <a:prstGeom prst="roundRect">
            <a:avLst>
              <a:gd name="adj" fmla="val 13745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372960" y="3687840"/>
            <a:ext cx="587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【例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6.14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】查询选修课程中每位学生各自的最高分、最低分、平均分，查询结果包含学生姓名和最高分数、最低分、平均分。查询命名为“查询每位学生最高分”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9" name="" descr=""/>
          <p:cNvPicPr/>
          <p:nvPr/>
        </p:nvPicPr>
        <p:blipFill>
          <a:blip r:embed="rId2"/>
          <a:stretch/>
        </p:blipFill>
        <p:spPr>
          <a:xfrm>
            <a:off x="9048600" y="5975280"/>
            <a:ext cx="1032120" cy="504720"/>
          </a:xfrm>
          <a:prstGeom prst="rect">
            <a:avLst/>
          </a:prstGeom>
          <a:ln w="0">
            <a:noFill/>
          </a:ln>
        </p:spPr>
      </p:pic>
      <p:sp>
        <p:nvSpPr>
          <p:cNvPr id="880" name=""/>
          <p:cNvSpPr/>
          <p:nvPr/>
        </p:nvSpPr>
        <p:spPr>
          <a:xfrm rot="20700600">
            <a:off x="-269280" y="2649600"/>
            <a:ext cx="2724120" cy="11300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ff3300"/>
                </a:solidFill>
                <a:latin typeface="华文行楷"/>
                <a:ea typeface="华文行楷"/>
              </a:rPr>
              <a:t> </a:t>
            </a:r>
            <a:r>
              <a:rPr b="1" i="1" lang="zh-CN" sz="4000" spc="-1" strike="noStrike">
                <a:solidFill>
                  <a:srgbClr val="ff3300"/>
                </a:solidFill>
                <a:latin typeface="华文行楷"/>
                <a:ea typeface="华文行楷"/>
              </a:rPr>
              <a:t>选择查询</a:t>
            </a:r>
            <a:r>
              <a:rPr b="1" i="1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（分组汇总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3929040" y="1879560"/>
            <a:ext cx="793800" cy="1089000"/>
          </a:xfrm>
          <a:prstGeom prst="ellipse">
            <a:avLst/>
          </a:prstGeom>
          <a:noFill/>
          <a:ln w="28440">
            <a:solidFill>
              <a:srgbClr val="cc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6548400" cy="23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6" dur="indefinite" restart="never" nodeType="tmRoot">
          <p:childTnLst>
            <p:seq>
              <p:cTn id="1857" dur="indefinite" nodeType="mainSeq">
                <p:childTnLst>
                  <p:par>
                    <p:cTn id="1858" fill="hold">
                      <p:stCondLst>
                        <p:cond delay="indefinite"/>
                      </p:stCondLst>
                      <p:childTnLst>
                        <p:par>
                          <p:cTn id="1859" fill="hold">
                            <p:stCondLst>
                              <p:cond delay="0"/>
                            </p:stCondLst>
                            <p:childTnLst>
                              <p:par>
                                <p:cTn id="186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2" dur="800"/>
                                        <p:tgtEl>
                                          <p:spTgt spid="8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3" dur="800" fill="hold"/>
                                        <p:tgtEl>
                                          <p:spTgt spid="8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4" dur="800" fill="hold"/>
                                        <p:tgtEl>
                                          <p:spTgt spid="8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5" dur="800" fill="hold"/>
                                        <p:tgtEl>
                                          <p:spTgt spid="8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8" fill="hold">
                            <p:stCondLst>
                              <p:cond delay="1000"/>
                            </p:stCondLst>
                            <p:childTnLst>
                              <p:par>
                                <p:cTn id="186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71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2" fill="hold">
                      <p:stCondLst>
                        <p:cond delay="indefinite"/>
                      </p:stCondLst>
                      <p:childTnLst>
                        <p:par>
                          <p:cTn id="1873" fill="hold">
                            <p:stCondLst>
                              <p:cond delay="0"/>
                            </p:stCondLst>
                            <p:childTnLst>
                              <p:par>
                                <p:cTn id="187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76" dur="80"/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8,-64,105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2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77" dur="80"/>
                                        <p:tgtEl>
                                          <p:spTgt spid="8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8,-64,105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2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78" dur="80"/>
                                        <p:tgtEl>
                                          <p:spTgt spid="8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9" fill="hold">
                      <p:stCondLst>
                        <p:cond delay="indefinite"/>
                      </p:stCondLst>
                      <p:childTnLst>
                        <p:par>
                          <p:cTn id="1880" fill="hold">
                            <p:stCondLst>
                              <p:cond delay="0"/>
                            </p:stCondLst>
                            <p:childTnLst>
                              <p:par>
                                <p:cTn id="1881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83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4" fill="hold">
                      <p:stCondLst>
                        <p:cond delay="indefinite"/>
                      </p:stCondLst>
                      <p:childTnLst>
                        <p:par>
                          <p:cTn id="1885" fill="hold">
                            <p:stCondLst>
                              <p:cond delay="0"/>
                            </p:stCondLst>
                            <p:childTnLst>
                              <p:par>
                                <p:cTn id="188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8" dur="5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9" dur="5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0" fill="hold">
                      <p:stCondLst>
                        <p:cond delay="indefinite"/>
                      </p:stCondLst>
                      <p:childTnLst>
                        <p:par>
                          <p:cTn id="1891" fill="hold">
                            <p:stCondLst>
                              <p:cond delay="0"/>
                            </p:stCondLst>
                            <p:childTnLst>
                              <p:par>
                                <p:cTn id="189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894" dur="20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5" fill="hold">
                      <p:stCondLst>
                        <p:cond delay="indefinite"/>
                      </p:stCondLst>
                      <p:childTnLst>
                        <p:par>
                          <p:cTn id="1896" fill="hold">
                            <p:stCondLst>
                              <p:cond delay="0"/>
                            </p:stCondLst>
                            <p:childTnLst>
                              <p:par>
                                <p:cTn id="189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9" dur="10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0" dur="10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1" dur="10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2" dur="10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41360" y="86760"/>
            <a:ext cx="83296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zh-CN" sz="4000" spc="-1" strike="noStrike">
              <a:solidFill>
                <a:srgbClr val="ff0000"/>
              </a:solidFill>
              <a:latin typeface="Comic Sans MS"/>
              <a:ea typeface="宋体"/>
            </a:endParaRPr>
          </a:p>
        </p:txBody>
      </p:sp>
      <p:sp>
        <p:nvSpPr>
          <p:cNvPr id="884" name=""/>
          <p:cNvSpPr/>
          <p:nvPr/>
        </p:nvSpPr>
        <p:spPr>
          <a:xfrm>
            <a:off x="673200" y="1522440"/>
            <a:ext cx="9131040" cy="4643280"/>
          </a:xfrm>
          <a:prstGeom prst="roundRect">
            <a:avLst>
              <a:gd name="adj" fmla="val 13745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754200" y="1747800"/>
            <a:ext cx="9050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【例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6.15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】统计查询各班不同性别的学生选择各门课程的人数情况。查询命名为“查询选课人数”。显示统计结果时，班级名、性别均作为行标题，课程名称作为列标题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 rot="20700600">
            <a:off x="-272520" y="1129680"/>
            <a:ext cx="3249720" cy="7034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ff3300"/>
                </a:solidFill>
                <a:latin typeface="华文行楷"/>
                <a:ea typeface="华文行楷"/>
              </a:rPr>
              <a:t> </a:t>
            </a:r>
            <a:r>
              <a:rPr b="1" i="1" lang="zh-CN" sz="4000" spc="-1" strike="noStrike">
                <a:solidFill>
                  <a:srgbClr val="ff3300"/>
                </a:solidFill>
                <a:latin typeface="华文行楷"/>
                <a:ea typeface="华文行楷"/>
              </a:rPr>
              <a:t>交叉表查询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7" name="" descr=""/>
          <p:cNvPicPr/>
          <p:nvPr/>
        </p:nvPicPr>
        <p:blipFill>
          <a:blip r:embed="rId1"/>
          <a:stretch/>
        </p:blipFill>
        <p:spPr>
          <a:xfrm>
            <a:off x="9048600" y="5975280"/>
            <a:ext cx="1032120" cy="504720"/>
          </a:xfrm>
          <a:prstGeom prst="rect">
            <a:avLst/>
          </a:prstGeom>
          <a:ln w="0">
            <a:noFill/>
          </a:ln>
        </p:spPr>
      </p:pic>
      <p:pic>
        <p:nvPicPr>
          <p:cNvPr id="888" name="" descr=""/>
          <p:cNvPicPr/>
          <p:nvPr/>
        </p:nvPicPr>
        <p:blipFill>
          <a:blip r:embed="rId2"/>
          <a:stretch/>
        </p:blipFill>
        <p:spPr>
          <a:xfrm>
            <a:off x="1093680" y="41400"/>
            <a:ext cx="8948880" cy="1720800"/>
          </a:xfrm>
          <a:prstGeom prst="rect">
            <a:avLst/>
          </a:prstGeom>
          <a:ln w="0">
            <a:noFill/>
          </a:ln>
        </p:spPr>
      </p:pic>
      <p:pic>
        <p:nvPicPr>
          <p:cNvPr id="889" name="" descr=""/>
          <p:cNvPicPr/>
          <p:nvPr/>
        </p:nvPicPr>
        <p:blipFill>
          <a:blip r:embed="rId3"/>
          <a:stretch/>
        </p:blipFill>
        <p:spPr>
          <a:xfrm>
            <a:off x="1944720" y="2832120"/>
            <a:ext cx="7237440" cy="3349440"/>
          </a:xfrm>
          <a:prstGeom prst="rect">
            <a:avLst/>
          </a:prstGeom>
          <a:ln w="0">
            <a:noFill/>
          </a:ln>
        </p:spPr>
      </p:pic>
      <p:sp>
        <p:nvSpPr>
          <p:cNvPr id="890" name=""/>
          <p:cNvSpPr/>
          <p:nvPr/>
        </p:nvSpPr>
        <p:spPr>
          <a:xfrm>
            <a:off x="436680" y="3171960"/>
            <a:ext cx="5398920" cy="898560"/>
          </a:xfrm>
          <a:prstGeom prst="cloudCallout">
            <a:avLst>
              <a:gd name="adj1" fmla="val -21347"/>
              <a:gd name="adj2" fmla="val 207763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需要选择查询类型为“交叉表查询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3" dur="indefinite" restart="never" nodeType="tmRoot">
          <p:childTnLst>
            <p:seq>
              <p:cTn id="1904" dur="indefinite" nodeType="mainSeq">
                <p:childTnLst>
                  <p:par>
                    <p:cTn id="1905" fill="hold">
                      <p:stCondLst>
                        <p:cond delay="indefinite"/>
                      </p:stCondLst>
                      <p:childTnLst>
                        <p:par>
                          <p:cTn id="1906" fill="hold">
                            <p:stCondLst>
                              <p:cond delay="0"/>
                            </p:stCondLst>
                            <p:childTnLst>
                              <p:par>
                                <p:cTn id="190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9" dur="80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0" dur="800" fill="hold"/>
                                        <p:tgtEl>
                                          <p:spTgt spid="8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1" dur="800" fill="hold"/>
                                        <p:tgtEl>
                                          <p:spTgt spid="8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2" dur="800" fill="hold"/>
                                        <p:tgtEl>
                                          <p:spTgt spid="8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91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18" dur="5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9" fill="hold">
                      <p:stCondLst>
                        <p:cond delay="indefinite"/>
                      </p:stCondLst>
                      <p:childTnLst>
                        <p:par>
                          <p:cTn id="1920" fill="hold">
                            <p:stCondLst>
                              <p:cond delay="0"/>
                            </p:stCondLst>
                            <p:childTnLst>
                              <p:par>
                                <p:cTn id="192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23" dur="80"/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8,-64,105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2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24" dur="80"/>
                                        <p:tgtEl>
                                          <p:spTgt spid="8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8,-64,105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2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25" dur="80"/>
                                        <p:tgtEl>
                                          <p:spTgt spid="8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6" fill="hold">
                      <p:stCondLst>
                        <p:cond delay="indefinite"/>
                      </p:stCondLst>
                      <p:childTnLst>
                        <p:par>
                          <p:cTn id="1927" fill="hold">
                            <p:stCondLst>
                              <p:cond delay="0"/>
                            </p:stCondLst>
                            <p:childTnLst>
                              <p:par>
                                <p:cTn id="192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0" dur="1000"/>
                                        <p:tgtEl>
                                          <p:spTgt spid="8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1" dur="10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2" dur="10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3" fill="hold">
                      <p:stCondLst>
                        <p:cond delay="indefinite"/>
                      </p:stCondLst>
                      <p:childTnLst>
                        <p:par>
                          <p:cTn id="1934" fill="hold">
                            <p:stCondLst>
                              <p:cond delay="0"/>
                            </p:stCondLst>
                            <p:childTnLst>
                              <p:par>
                                <p:cTn id="1935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937" dur="500"/>
                                        <p:tgtEl>
                                          <p:spTgt spid="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8" fill="hold">
                      <p:stCondLst>
                        <p:cond delay="indefinite"/>
                      </p:stCondLst>
                      <p:childTnLst>
                        <p:par>
                          <p:cTn id="1939" fill="hold">
                            <p:stCondLst>
                              <p:cond delay="0"/>
                            </p:stCondLst>
                            <p:childTnLst>
                              <p:par>
                                <p:cTn id="19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2" dur="500" fill="hold"/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3" dur="500" fill="hold"/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4" fill="hold">
                      <p:stCondLst>
                        <p:cond delay="indefinite"/>
                      </p:stCondLst>
                      <p:childTnLst>
                        <p:par>
                          <p:cTn id="1945" fill="hold">
                            <p:stCondLst>
                              <p:cond delay="0"/>
                            </p:stCondLst>
                            <p:childTnLst>
                              <p:par>
                                <p:cTn id="194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8" dur="1000" fill="hold"/>
                                        <p:tgtEl>
                                          <p:spTgt spid="8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9" dur="1000" fill="hold"/>
                                        <p:tgtEl>
                                          <p:spTgt spid="8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0" dur="1000" fill="hold"/>
                                        <p:tgtEl>
                                          <p:spTgt spid="8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1" dur="10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41360" y="86760"/>
            <a:ext cx="83296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zh-CN" sz="4000" spc="-1" strike="noStrike">
              <a:solidFill>
                <a:srgbClr val="ff0000"/>
              </a:solidFill>
              <a:latin typeface="Comic Sans MS"/>
              <a:ea typeface="宋体"/>
            </a:endParaRPr>
          </a:p>
        </p:txBody>
      </p:sp>
      <p:sp>
        <p:nvSpPr>
          <p:cNvPr id="892" name=""/>
          <p:cNvSpPr/>
          <p:nvPr/>
        </p:nvSpPr>
        <p:spPr>
          <a:xfrm>
            <a:off x="4086360" y="3511440"/>
            <a:ext cx="5794200" cy="2721240"/>
          </a:xfrm>
          <a:prstGeom prst="roundRect">
            <a:avLst>
              <a:gd name="adj" fmla="val 13745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4167360" y="3683160"/>
            <a:ext cx="587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【例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6.16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】查询各班学生在某一范围内的成绩，查询命名为“参数查询学生成绩”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4" name="" descr=""/>
          <p:cNvPicPr/>
          <p:nvPr/>
        </p:nvPicPr>
        <p:blipFill>
          <a:blip r:embed="rId1"/>
          <a:stretch/>
        </p:blipFill>
        <p:spPr>
          <a:xfrm>
            <a:off x="9009000" y="6000840"/>
            <a:ext cx="1033560" cy="504720"/>
          </a:xfrm>
          <a:prstGeom prst="rect">
            <a:avLst/>
          </a:prstGeom>
          <a:ln w="0">
            <a:noFill/>
          </a:ln>
        </p:spPr>
      </p:pic>
      <p:sp>
        <p:nvSpPr>
          <p:cNvPr id="895" name=""/>
          <p:cNvSpPr/>
          <p:nvPr/>
        </p:nvSpPr>
        <p:spPr>
          <a:xfrm>
            <a:off x="515880" y="5789520"/>
            <a:ext cx="2855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单击“查询”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| “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参数…”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设置查询参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 flipH="1">
            <a:off x="436680" y="3989520"/>
            <a:ext cx="474480" cy="0"/>
          </a:xfrm>
          <a:prstGeom prst="line">
            <a:avLst/>
          </a:prstGeom>
          <a:ln w="28440">
            <a:solidFill>
              <a:srgbClr val="cc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436680" y="3989520"/>
            <a:ext cx="0" cy="197172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436680" y="5961240"/>
            <a:ext cx="158760" cy="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 rot="436200">
            <a:off x="7101360" y="3053880"/>
            <a:ext cx="2724120" cy="7034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ff3300"/>
                </a:solidFill>
                <a:latin typeface="华文行楷"/>
                <a:ea typeface="华文行楷"/>
              </a:rPr>
              <a:t> </a:t>
            </a:r>
            <a:r>
              <a:rPr b="1" i="1" lang="zh-CN" sz="4000" spc="-1" strike="noStrike">
                <a:solidFill>
                  <a:srgbClr val="ff3300"/>
                </a:solidFill>
                <a:latin typeface="华文行楷"/>
                <a:ea typeface="华文行楷"/>
              </a:rPr>
              <a:t>参数查询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0" name="" descr=""/>
          <p:cNvPicPr/>
          <p:nvPr/>
        </p:nvPicPr>
        <p:blipFill>
          <a:blip r:embed="rId2"/>
          <a:stretch/>
        </p:blipFill>
        <p:spPr>
          <a:xfrm>
            <a:off x="936720" y="2287440"/>
            <a:ext cx="3071880" cy="3129120"/>
          </a:xfrm>
          <a:prstGeom prst="rect">
            <a:avLst/>
          </a:prstGeom>
          <a:ln w="0">
            <a:noFill/>
          </a:ln>
        </p:spPr>
      </p:pic>
      <p:pic>
        <p:nvPicPr>
          <p:cNvPr id="901" name="" descr=""/>
          <p:cNvPicPr/>
          <p:nvPr/>
        </p:nvPicPr>
        <p:blipFill>
          <a:blip r:embed="rId3"/>
          <a:stretch/>
        </p:blipFill>
        <p:spPr>
          <a:xfrm>
            <a:off x="2496960" y="41400"/>
            <a:ext cx="7545600" cy="3267000"/>
          </a:xfrm>
          <a:prstGeom prst="rect">
            <a:avLst/>
          </a:prstGeom>
          <a:ln w="0">
            <a:noFill/>
          </a:ln>
        </p:spPr>
      </p:pic>
      <p:sp>
        <p:nvSpPr>
          <p:cNvPr id="902" name=""/>
          <p:cNvSpPr/>
          <p:nvPr/>
        </p:nvSpPr>
        <p:spPr>
          <a:xfrm>
            <a:off x="5437080" y="2763720"/>
            <a:ext cx="3095640" cy="544680"/>
          </a:xfrm>
          <a:prstGeom prst="ellipse">
            <a:avLst/>
          </a:prstGeom>
          <a:noFill/>
          <a:ln w="28440">
            <a:solidFill>
              <a:srgbClr val="cc33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3" name="" descr=""/>
          <p:cNvPicPr/>
          <p:nvPr/>
        </p:nvPicPr>
        <p:blipFill>
          <a:blip r:embed="rId4"/>
          <a:stretch/>
        </p:blipFill>
        <p:spPr>
          <a:xfrm>
            <a:off x="4405320" y="3648240"/>
            <a:ext cx="5135400" cy="241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2" dur="indefinite" restart="never" nodeType="tmRoot">
          <p:childTnLst>
            <p:seq>
              <p:cTn id="1953" dur="indefinite" nodeType="mainSeq">
                <p:childTnLst>
                  <p:par>
                    <p:cTn id="1954" fill="hold">
                      <p:stCondLst>
                        <p:cond delay="indefinite"/>
                      </p:stCondLst>
                      <p:childTnLst>
                        <p:par>
                          <p:cTn id="1955" fill="hold">
                            <p:stCondLst>
                              <p:cond delay="0"/>
                            </p:stCondLst>
                            <p:childTnLst>
                              <p:par>
                                <p:cTn id="195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8" dur="8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9" dur="800" fill="hold"/>
                                        <p:tgtEl>
                                          <p:spTgt spid="8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0" dur="800" fill="hold"/>
                                        <p:tgtEl>
                                          <p:spTgt spid="8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1" dur="800" fill="hold"/>
                                        <p:tgtEl>
                                          <p:spTgt spid="8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96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67" dur="5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8" fill="hold">
                      <p:stCondLst>
                        <p:cond delay="indefinite"/>
                      </p:stCondLst>
                      <p:childTnLst>
                        <p:par>
                          <p:cTn id="1969" fill="hold">
                            <p:stCondLst>
                              <p:cond delay="0"/>
                            </p:stCondLst>
                            <p:childTnLst>
                              <p:par>
                                <p:cTn id="197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72" dur="80"/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8,-64,105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2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73" dur="80"/>
                                        <p:tgtEl>
                                          <p:spTgt spid="8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8,-64,105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2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74" dur="80"/>
                                        <p:tgtEl>
                                          <p:spTgt spid="8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5" fill="hold">
                      <p:stCondLst>
                        <p:cond delay="indefinite"/>
                      </p:stCondLst>
                      <p:childTnLst>
                        <p:par>
                          <p:cTn id="1976" fill="hold">
                            <p:stCondLst>
                              <p:cond delay="0"/>
                            </p:stCondLst>
                            <p:childTnLst>
                              <p:par>
                                <p:cTn id="197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9" dur="10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0" dur="1000" fill="hold"/>
                                        <p:tgtEl>
                                          <p:spTgt spid="9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1" dur="1000" fill="hold"/>
                                        <p:tgtEl>
                                          <p:spTgt spid="9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2" fill="hold">
                      <p:stCondLst>
                        <p:cond delay="indefinite"/>
                      </p:stCondLst>
                      <p:childTnLst>
                        <p:par>
                          <p:cTn id="1983" fill="hold">
                            <p:stCondLst>
                              <p:cond delay="0"/>
                            </p:stCondLst>
                            <p:childTnLst>
                              <p:par>
                                <p:cTn id="1984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6" dur="500" fill="hold"/>
                                        <p:tgtEl>
                                          <p:spTgt spid="8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7" dur="500" fill="hold"/>
                                        <p:tgtEl>
                                          <p:spTgt spid="8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8" dur="500" fill="hold"/>
                                        <p:tgtEl>
                                          <p:spTgt spid="8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9" dur="500" fill="hold"/>
                                        <p:tgtEl>
                                          <p:spTgt spid="8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0" fill="hold">
                      <p:stCondLst>
                        <p:cond delay="indefinite"/>
                      </p:stCondLst>
                      <p:childTnLst>
                        <p:par>
                          <p:cTn id="1991" fill="hold">
                            <p:stCondLst>
                              <p:cond delay="0"/>
                            </p:stCondLst>
                            <p:childTnLst>
                              <p:par>
                                <p:cTn id="199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4" dur="500" fill="hold"/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5" dur="500" fill="hold"/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6" dur="500" fill="hold"/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7" dur="500" fill="hold"/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8" fill="hold">
                      <p:stCondLst>
                        <p:cond delay="indefinite"/>
                      </p:stCondLst>
                      <p:childTnLst>
                        <p:par>
                          <p:cTn id="1999" fill="hold">
                            <p:stCondLst>
                              <p:cond delay="0"/>
                            </p:stCondLst>
                            <p:childTnLst>
                              <p:par>
                                <p:cTn id="200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2" dur="5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3" dur="5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4" dur="5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5" dur="5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6" fill="hold">
                      <p:stCondLst>
                        <p:cond delay="indefinite"/>
                      </p:stCondLst>
                      <p:childTnLst>
                        <p:par>
                          <p:cTn id="2007" fill="hold">
                            <p:stCondLst>
                              <p:cond delay="0"/>
                            </p:stCondLst>
                            <p:childTnLst>
                              <p:par>
                                <p:cTn id="200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010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1" fill="hold">
                      <p:stCondLst>
                        <p:cond delay="indefinite"/>
                      </p:stCondLst>
                      <p:childTnLst>
                        <p:par>
                          <p:cTn id="2012" fill="hold">
                            <p:stCondLst>
                              <p:cond delay="0"/>
                            </p:stCondLst>
                            <p:childTnLst>
                              <p:par>
                                <p:cTn id="201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15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6" fill="hold">
                      <p:stCondLst>
                        <p:cond delay="indefinite"/>
                      </p:stCondLst>
                      <p:childTnLst>
                        <p:par>
                          <p:cTn id="2017" fill="hold">
                            <p:stCondLst>
                              <p:cond delay="0"/>
                            </p:stCondLst>
                            <p:childTnLst>
                              <p:par>
                                <p:cTn id="20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0" dur="500" fill="hold"/>
                                        <p:tgtEl>
                                          <p:spTgt spid="9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1" dur="500" fill="hold"/>
                                        <p:tgtEl>
                                          <p:spTgt spid="9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2" fill="hold">
                      <p:stCondLst>
                        <p:cond delay="indefinite"/>
                      </p:stCondLst>
                      <p:childTnLst>
                        <p:par>
                          <p:cTn id="2023" fill="hold">
                            <p:stCondLst>
                              <p:cond delay="0"/>
                            </p:stCondLst>
                            <p:childTnLst>
                              <p:par>
                                <p:cTn id="20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6" dur="500" fill="hold"/>
                                        <p:tgtEl>
                                          <p:spTgt spid="9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7" dur="500" fill="hold"/>
                                        <p:tgtEl>
                                          <p:spTgt spid="9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8" fill="hold">
                      <p:stCondLst>
                        <p:cond delay="indefinite"/>
                      </p:stCondLst>
                      <p:childTnLst>
                        <p:par>
                          <p:cTn id="2029" fill="hold">
                            <p:stCondLst>
                              <p:cond delay="0"/>
                            </p:stCondLst>
                            <p:childTnLst>
                              <p:par>
                                <p:cTn id="203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2" dur="1000" fill="hold"/>
                                        <p:tgtEl>
                                          <p:spTgt spid="8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3" dur="1000" fill="hold"/>
                                        <p:tgtEl>
                                          <p:spTgt spid="8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4" dur="1000" fill="hold"/>
                                        <p:tgtEl>
                                          <p:spTgt spid="8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5" dur="1000"/>
                                        <p:tgtEl>
                                          <p:spTgt spid="8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"/>
          <p:cNvSpPr/>
          <p:nvPr/>
        </p:nvSpPr>
        <p:spPr>
          <a:xfrm rot="573600">
            <a:off x="6468840" y="3989160"/>
            <a:ext cx="3012840" cy="1665000"/>
          </a:xfrm>
          <a:prstGeom prst="irregularSeal1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600" spc="-1" strike="noStrike">
                <a:solidFill>
                  <a:srgbClr val="000000"/>
                </a:solidFill>
                <a:latin typeface="Arial"/>
                <a:ea typeface="华文行楷"/>
              </a:rPr>
              <a:t>说明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41360" y="280800"/>
            <a:ext cx="83296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ff0000"/>
                </a:solidFill>
                <a:latin typeface="Comic Sans MS"/>
                <a:ea typeface="宋体"/>
              </a:rPr>
              <a:t>数据表与查询</a:t>
            </a:r>
            <a:endParaRPr b="1" i="1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906" name=""/>
          <p:cNvSpPr/>
          <p:nvPr/>
        </p:nvSpPr>
        <p:spPr>
          <a:xfrm>
            <a:off x="673200" y="2308320"/>
            <a:ext cx="940752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查询结果也为二维表形式，但它与数据表对象不同；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数据表中存储数据信息，而查询存储查询的规则，即</a:t>
            </a:r>
            <a:br>
              <a:rPr sz="2600"/>
            </a:b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    相应的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命令；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执行查询即执行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命令；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可以基于数据表建立查询，也可以基于查询创建其他</a:t>
            </a:r>
            <a:br>
              <a:rPr sz="2600"/>
            </a:b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    查询。。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41360" y="280800"/>
            <a:ext cx="83296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ff0000"/>
                </a:solidFill>
                <a:latin typeface="Comic Sans MS"/>
              </a:rPr>
              <a:t>数据库组成</a:t>
            </a:r>
            <a:endParaRPr b="1" i="1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647640" y="1655640"/>
            <a:ext cx="8483760" cy="31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Comic Sans MS"/>
              </a:rPr>
              <a:t>Access</a:t>
            </a:r>
            <a:r>
              <a:rPr b="1" lang="zh-CN" sz="3200" spc="-1" strike="noStrike">
                <a:solidFill>
                  <a:srgbClr val="000099"/>
                </a:solidFill>
                <a:latin typeface="Comic Sans MS"/>
              </a:rPr>
              <a:t>数据库：</a:t>
            </a:r>
            <a:endParaRPr b="1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1</a:t>
            </a: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）</a:t>
            </a: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Access</a:t>
            </a: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的文档文件，扩展名为</a:t>
            </a: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MDB</a:t>
            </a:r>
            <a:endParaRPr b="1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2</a:t>
            </a: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）由数据表、查询、窗体、报表、宏和模块等对象组成。</a:t>
            </a:r>
            <a:endParaRPr b="1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3</a:t>
            </a: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）所有对象都保存在的同一个数据库文件中。</a:t>
            </a:r>
            <a:endParaRPr b="1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41360" y="280800"/>
            <a:ext cx="83296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1301"/>
              </a:spcBef>
              <a:spcAft>
                <a:spcPts val="13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ff0000"/>
                </a:solidFill>
                <a:latin typeface="Comic Sans MS"/>
              </a:rPr>
              <a:t>数据库组成</a:t>
            </a:r>
            <a:endParaRPr b="1" i="1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673200" y="856800"/>
            <a:ext cx="84852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楷体_GB2312"/>
              </a:rPr>
              <a:t>1</a:t>
            </a:r>
            <a:r>
              <a:rPr b="1" lang="zh-CN" sz="3200" spc="-1" strike="noStrike">
                <a:solidFill>
                  <a:srgbClr val="000099"/>
                </a:solidFill>
                <a:latin typeface="楷体_GB2312"/>
              </a:rPr>
              <a:t>．表</a:t>
            </a:r>
            <a:endParaRPr b="1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lvl="1" marL="74304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1)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以二维表格保存基本信息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数据库的核心</a:t>
            </a:r>
            <a:endParaRPr b="1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lvl="1" marL="74304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2)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为其它对象提供数据</a:t>
            </a:r>
            <a:endParaRPr b="1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lvl="1" marL="74304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3)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对具有复杂结构的数据，分别使用多张数据表，这些表之间可以通过相关字段建立关联。</a:t>
            </a:r>
            <a:endParaRPr b="1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graphicFrame>
        <p:nvGraphicFramePr>
          <p:cNvPr id="911" name=""/>
          <p:cNvGraphicFramePr/>
          <p:nvPr/>
        </p:nvGraphicFramePr>
        <p:xfrm>
          <a:off x="2600280" y="3527280"/>
          <a:ext cx="5241960" cy="2316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00280" y="3527280"/>
                    <a:ext cx="5241960" cy="231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3" name=""/>
          <p:cNvSpPr/>
          <p:nvPr/>
        </p:nvSpPr>
        <p:spPr>
          <a:xfrm>
            <a:off x="7896240" y="6048360"/>
            <a:ext cx="2184480" cy="43164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数据库组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41360" y="280800"/>
            <a:ext cx="83296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ff0000"/>
                </a:solidFill>
                <a:latin typeface="Comic Sans MS"/>
              </a:rPr>
              <a:t>数据库组成</a:t>
            </a:r>
            <a:endParaRPr b="1" i="1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673200" y="856800"/>
            <a:ext cx="84852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楷体_GB2312"/>
              </a:rPr>
              <a:t>2</a:t>
            </a:r>
            <a:r>
              <a:rPr b="1" lang="zh-CN" sz="3200" spc="-1" strike="noStrike">
                <a:solidFill>
                  <a:srgbClr val="000099"/>
                </a:solidFill>
                <a:latin typeface="楷体_GB2312"/>
              </a:rPr>
              <a:t>．查询  </a:t>
            </a:r>
            <a:endParaRPr b="1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lvl="1" marL="74304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）从一个或多个表中查找某些特定的记录</a:t>
            </a:r>
            <a:endParaRPr b="1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lvl="1" marL="74304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）查询的运行结果以二维表的形式显示</a:t>
            </a:r>
            <a:endParaRPr b="1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lvl="1" marL="74304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）在数据库中只记录了查询的方式即规则</a:t>
            </a:r>
            <a:endParaRPr b="1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lvl="1" marL="74304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）可作为窗体、报表等其它组件的数据源</a:t>
            </a:r>
            <a:endParaRPr b="1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graphicFrame>
        <p:nvGraphicFramePr>
          <p:cNvPr id="916" name=""/>
          <p:cNvGraphicFramePr/>
          <p:nvPr/>
        </p:nvGraphicFramePr>
        <p:xfrm>
          <a:off x="2654280" y="3527280"/>
          <a:ext cx="5927760" cy="218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54280" y="3527280"/>
                    <a:ext cx="5927760" cy="218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8" name=""/>
          <p:cNvSpPr/>
          <p:nvPr/>
        </p:nvSpPr>
        <p:spPr>
          <a:xfrm>
            <a:off x="6888240" y="5977080"/>
            <a:ext cx="2184480" cy="43164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数据库组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441360" y="280800"/>
            <a:ext cx="83296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ff0000"/>
                </a:solidFill>
                <a:latin typeface="Comic Sans MS"/>
              </a:rPr>
              <a:t>数据库组成</a:t>
            </a:r>
            <a:endParaRPr b="1" i="1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673200" y="856800"/>
            <a:ext cx="84852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楷体_GB2312"/>
              </a:rPr>
              <a:t>3</a:t>
            </a:r>
            <a:r>
              <a:rPr b="1" lang="zh-CN" sz="3200" spc="-1" strike="noStrike">
                <a:solidFill>
                  <a:srgbClr val="000099"/>
                </a:solidFill>
                <a:latin typeface="楷体_GB2312"/>
              </a:rPr>
              <a:t>．窗体 </a:t>
            </a:r>
            <a:endParaRPr b="1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1) 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向用户提供交互界面，更方便地进行数据的输入、输出</a:t>
            </a:r>
            <a:endParaRPr b="1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2) 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窗体的数据源，可以是一个或多个数据表，也可以是查询。</a:t>
            </a:r>
            <a:endParaRPr b="1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graphicFrame>
        <p:nvGraphicFramePr>
          <p:cNvPr id="921" name=""/>
          <p:cNvGraphicFramePr/>
          <p:nvPr/>
        </p:nvGraphicFramePr>
        <p:xfrm>
          <a:off x="2022480" y="3527280"/>
          <a:ext cx="6113520" cy="2157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22480" y="3527280"/>
                    <a:ext cx="6113520" cy="215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3" name=""/>
          <p:cNvSpPr/>
          <p:nvPr/>
        </p:nvSpPr>
        <p:spPr>
          <a:xfrm>
            <a:off x="7896240" y="6048360"/>
            <a:ext cx="2184480" cy="43164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数据库组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0" y="576000"/>
            <a:ext cx="83296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0000"/>
                </a:solidFill>
                <a:latin typeface="Comic Sans MS"/>
              </a:rPr>
              <a:t>数据库概述</a:t>
            </a:r>
            <a:br>
              <a:rPr sz="3600"/>
            </a:br>
            <a:endParaRPr b="1" i="1" lang="en-US" sz="36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47640" y="1294920"/>
            <a:ext cx="84852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隶书"/>
              </a:rPr>
              <a:t>数据库（</a:t>
            </a:r>
            <a:r>
              <a:rPr b="1" lang="zh-CN" sz="3200" spc="-1" strike="noStrike">
                <a:solidFill>
                  <a:srgbClr val="000099"/>
                </a:solidFill>
                <a:latin typeface="隶书"/>
              </a:rPr>
              <a:t>DB</a:t>
            </a:r>
            <a:r>
              <a:rPr b="1" lang="zh-CN" sz="3200" spc="-1" strike="noStrike">
                <a:solidFill>
                  <a:srgbClr val="000099"/>
                </a:solidFill>
                <a:latin typeface="隶书"/>
              </a:rPr>
              <a:t>）</a:t>
            </a:r>
            <a:endParaRPr b="1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指按特定的组织形式将数据保存在存储介质上</a:t>
            </a:r>
            <a:endParaRPr b="1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特点：</a:t>
            </a:r>
            <a:endParaRPr b="1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lvl="1" marL="743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（</a:t>
            </a: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1</a:t>
            </a: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）在数据库中，不仅包含数据本身，也包含数据之间的联系；</a:t>
            </a:r>
            <a:endParaRPr b="1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lvl="1" marL="743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（</a:t>
            </a: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2</a:t>
            </a: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）数据通过一定的数据模型进行组织，保证有最小的冗余度</a:t>
            </a: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,</a:t>
            </a: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有层次、网状和关系模型；</a:t>
            </a:r>
            <a:endParaRPr b="1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lvl="1" marL="743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（</a:t>
            </a: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3</a:t>
            </a: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）各个应用程序共享数据；</a:t>
            </a:r>
            <a:endParaRPr b="1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lvl="1" marL="743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（</a:t>
            </a: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4</a:t>
            </a: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）对数据的各种操作，如定义、操纵等都由</a:t>
            </a:r>
            <a:endParaRPr b="1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lvl="1" marL="743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      </a:t>
            </a: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DBMS</a:t>
            </a: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统一进行。</a:t>
            </a:r>
            <a:endParaRPr b="1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40" name=""/>
          <p:cNvSpPr/>
          <p:nvPr/>
        </p:nvSpPr>
        <p:spPr>
          <a:xfrm>
            <a:off x="287280" y="503280"/>
            <a:ext cx="52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Comic Sans MS"/>
                <a:ea typeface="隶书"/>
              </a:rPr>
              <a:t>二</a:t>
            </a:r>
            <a:r>
              <a:rPr b="1" lang="zh-CN" sz="3600" spc="-1" strike="noStrike">
                <a:solidFill>
                  <a:srgbClr val="000099"/>
                </a:solidFill>
                <a:latin typeface="Comic Sans MS"/>
                <a:ea typeface="隶书"/>
              </a:rPr>
              <a:t>.</a:t>
            </a:r>
            <a:r>
              <a:rPr b="1" lang="zh-CN" sz="3600" spc="-1" strike="noStrike">
                <a:solidFill>
                  <a:srgbClr val="000099"/>
                </a:solidFill>
                <a:latin typeface="Comic Sans MS"/>
                <a:ea typeface="隶书"/>
              </a:rPr>
              <a:t>数据库中的常见概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41360" y="280800"/>
            <a:ext cx="83296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ff0000"/>
                </a:solidFill>
                <a:latin typeface="Comic Sans MS"/>
              </a:rPr>
              <a:t>数据库组成</a:t>
            </a:r>
            <a:endParaRPr b="1" i="1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673200" y="856800"/>
            <a:ext cx="84852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Comic Sans MS"/>
              </a:rPr>
              <a:t>4</a:t>
            </a:r>
            <a:r>
              <a:rPr b="1" lang="zh-CN" sz="3200" spc="-1" strike="noStrike">
                <a:solidFill>
                  <a:srgbClr val="000099"/>
                </a:solidFill>
                <a:latin typeface="Comic Sans MS"/>
              </a:rPr>
              <a:t>．报表 </a:t>
            </a:r>
            <a:endParaRPr b="1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Comic Sans MS"/>
              </a:rPr>
              <a:t>1)</a:t>
            </a:r>
            <a:r>
              <a:rPr b="1" lang="zh-CN" sz="3200" spc="-1" strike="noStrike">
                <a:solidFill>
                  <a:srgbClr val="000099"/>
                </a:solidFill>
                <a:latin typeface="Comic Sans MS"/>
              </a:rPr>
              <a:t>将数据按指定的格式进行显示或打印</a:t>
            </a:r>
            <a:endParaRPr b="1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Comic Sans MS"/>
              </a:rPr>
              <a:t>2)</a:t>
            </a:r>
            <a:r>
              <a:rPr b="1" lang="zh-CN" sz="3200" spc="-1" strike="noStrike">
                <a:solidFill>
                  <a:srgbClr val="000099"/>
                </a:solidFill>
                <a:latin typeface="Comic Sans MS"/>
              </a:rPr>
              <a:t>数据源可以是一张或多张数据表、查询</a:t>
            </a:r>
            <a:endParaRPr b="1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Comic Sans MS"/>
              </a:rPr>
              <a:t>3)</a:t>
            </a:r>
            <a:r>
              <a:rPr b="1" lang="zh-CN" sz="3200" spc="-1" strike="noStrike">
                <a:solidFill>
                  <a:srgbClr val="000099"/>
                </a:solidFill>
                <a:latin typeface="Comic Sans MS"/>
              </a:rPr>
              <a:t>建立报表时还可以进行计算</a:t>
            </a:r>
            <a:r>
              <a:rPr b="1" lang="zh-CN" sz="3200" spc="-1" strike="noStrike">
                <a:solidFill>
                  <a:srgbClr val="000099"/>
                </a:solidFill>
                <a:latin typeface="Comic Sans MS"/>
              </a:rPr>
              <a:t>,</a:t>
            </a:r>
            <a:r>
              <a:rPr b="1" lang="zh-CN" sz="3200" spc="-1" strike="noStrike">
                <a:solidFill>
                  <a:srgbClr val="000099"/>
                </a:solidFill>
                <a:latin typeface="Comic Sans MS"/>
              </a:rPr>
              <a:t>如求和、平均等</a:t>
            </a:r>
            <a:endParaRPr b="1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Comic Sans MS"/>
              </a:rPr>
              <a:t>5</a:t>
            </a:r>
            <a:r>
              <a:rPr b="1" lang="zh-CN" sz="3200" spc="-1" strike="noStrike">
                <a:solidFill>
                  <a:srgbClr val="000099"/>
                </a:solidFill>
                <a:latin typeface="Comic Sans MS"/>
              </a:rPr>
              <a:t>．页</a:t>
            </a:r>
            <a:endParaRPr b="1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Comic Sans MS"/>
              </a:rPr>
              <a:t>通过</a:t>
            </a:r>
            <a:r>
              <a:rPr b="1" lang="zh-CN" sz="3200" spc="-1" strike="noStrike">
                <a:solidFill>
                  <a:srgbClr val="000099"/>
                </a:solidFill>
                <a:latin typeface="Comic Sans MS"/>
              </a:rPr>
              <a:t>Web</a:t>
            </a:r>
            <a:r>
              <a:rPr b="1" lang="zh-CN" sz="3200" spc="-1" strike="noStrike">
                <a:solidFill>
                  <a:srgbClr val="000099"/>
                </a:solidFill>
                <a:latin typeface="Comic Sans MS"/>
              </a:rPr>
              <a:t>页将数据存储到指定的文件夹</a:t>
            </a:r>
            <a:r>
              <a:rPr b="1" lang="zh-CN" sz="3200" spc="-1" strike="noStrike">
                <a:solidFill>
                  <a:srgbClr val="000099"/>
                </a:solidFill>
                <a:latin typeface="Comic Sans MS"/>
              </a:rPr>
              <a:t>,</a:t>
            </a:r>
            <a:r>
              <a:rPr b="1" lang="zh-CN" sz="3200" spc="-1" strike="noStrike">
                <a:solidFill>
                  <a:srgbClr val="000099"/>
                </a:solidFill>
                <a:latin typeface="Comic Sans MS"/>
              </a:rPr>
              <a:t>或将其复制到</a:t>
            </a:r>
            <a:r>
              <a:rPr b="1" lang="zh-CN" sz="3200" spc="-1" strike="noStrike">
                <a:solidFill>
                  <a:srgbClr val="000099"/>
                </a:solidFill>
                <a:latin typeface="Comic Sans MS"/>
              </a:rPr>
              <a:t>Web</a:t>
            </a:r>
            <a:r>
              <a:rPr b="1" lang="zh-CN" sz="3200" spc="-1" strike="noStrike">
                <a:solidFill>
                  <a:srgbClr val="000099"/>
                </a:solidFill>
                <a:latin typeface="Comic Sans MS"/>
              </a:rPr>
              <a:t>服务器上</a:t>
            </a:r>
            <a:r>
              <a:rPr b="1" lang="zh-CN" sz="3200" spc="-1" strike="noStrike">
                <a:solidFill>
                  <a:srgbClr val="000099"/>
                </a:solidFill>
                <a:latin typeface="Comic Sans MS"/>
              </a:rPr>
              <a:t>,</a:t>
            </a:r>
            <a:r>
              <a:rPr b="1" lang="zh-CN" sz="3200" spc="-1" strike="noStrike">
                <a:solidFill>
                  <a:srgbClr val="000099"/>
                </a:solidFill>
                <a:latin typeface="Comic Sans MS"/>
              </a:rPr>
              <a:t>以便在网上发布信息。</a:t>
            </a:r>
            <a:endParaRPr b="1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926" name=""/>
          <p:cNvSpPr/>
          <p:nvPr/>
        </p:nvSpPr>
        <p:spPr>
          <a:xfrm>
            <a:off x="6888240" y="5977080"/>
            <a:ext cx="2184480" cy="43164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数据库组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41360" y="280800"/>
            <a:ext cx="83296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ff0000"/>
                </a:solidFill>
                <a:latin typeface="Comic Sans MS"/>
              </a:rPr>
              <a:t>数据库组成</a:t>
            </a:r>
            <a:endParaRPr b="1" i="1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673200" y="856800"/>
            <a:ext cx="84852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楷体_GB2312"/>
              </a:rPr>
              <a:t>6. </a:t>
            </a:r>
            <a:r>
              <a:rPr b="1" lang="zh-CN" sz="3200" spc="-1" strike="noStrike">
                <a:solidFill>
                  <a:srgbClr val="000099"/>
                </a:solidFill>
                <a:latin typeface="楷体_GB2312"/>
              </a:rPr>
              <a:t>宏</a:t>
            </a:r>
            <a:endParaRPr b="1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宋体"/>
              </a:rPr>
              <a:t>宏是由具有宏名的一系列命令组成，用来简化一些需要重复的操作。</a:t>
            </a:r>
            <a:endParaRPr b="1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宋体"/>
              </a:rPr>
              <a:t>建好的宏，可以单独使用，或与窗体配合使用。</a:t>
            </a:r>
            <a:endParaRPr b="1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楷体_GB2312"/>
              </a:rPr>
              <a:t>7</a:t>
            </a:r>
            <a:r>
              <a:rPr b="1" lang="zh-CN" sz="3200" spc="-1" strike="noStrike">
                <a:solidFill>
                  <a:srgbClr val="000099"/>
                </a:solidFill>
                <a:latin typeface="楷体_GB2312"/>
              </a:rPr>
              <a:t>．模块  </a:t>
            </a:r>
            <a:endParaRPr b="1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宋体"/>
              </a:rPr>
              <a:t>用</a:t>
            </a:r>
            <a:r>
              <a:rPr b="1" lang="zh-CN" sz="3200" spc="-1" strike="noStrike">
                <a:solidFill>
                  <a:srgbClr val="000099"/>
                </a:solidFill>
                <a:latin typeface="宋体"/>
              </a:rPr>
              <a:t>Access</a:t>
            </a:r>
            <a:r>
              <a:rPr b="1" lang="zh-CN" sz="3200" spc="-1" strike="noStrike">
                <a:solidFill>
                  <a:srgbClr val="000099"/>
                </a:solidFill>
                <a:latin typeface="宋体"/>
              </a:rPr>
              <a:t>提供的</a:t>
            </a:r>
            <a:r>
              <a:rPr b="1" lang="zh-CN" sz="3200" spc="-1" strike="noStrike">
                <a:solidFill>
                  <a:srgbClr val="000099"/>
                </a:solidFill>
                <a:latin typeface="宋体"/>
              </a:rPr>
              <a:t>VBA</a:t>
            </a:r>
            <a:r>
              <a:rPr b="1" lang="zh-CN" sz="3200" spc="-1" strike="noStrike">
                <a:solidFill>
                  <a:srgbClr val="000099"/>
                </a:solidFill>
                <a:latin typeface="宋体"/>
              </a:rPr>
              <a:t>语言编写的程序，模块通常与窗体、报表结合起来完成完整的应用功能。</a:t>
            </a:r>
            <a:endParaRPr b="1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929" name=""/>
          <p:cNvSpPr/>
          <p:nvPr/>
        </p:nvSpPr>
        <p:spPr>
          <a:xfrm>
            <a:off x="6888240" y="5977080"/>
            <a:ext cx="2184480" cy="43164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数据表结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441360" y="280800"/>
            <a:ext cx="83296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ff0000"/>
                </a:solidFill>
                <a:latin typeface="Comic Sans MS"/>
              </a:rPr>
              <a:t>数据表的建立和使用</a:t>
            </a:r>
            <a:endParaRPr b="1" i="1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673200" y="856800"/>
            <a:ext cx="84852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Comic Sans MS"/>
              </a:rPr>
              <a:t>数据表由表结构和记录两部分组成。</a:t>
            </a:r>
            <a:endParaRPr b="1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cc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Comic Sans MS"/>
              </a:rPr>
              <a:t>数据表结构</a:t>
            </a:r>
            <a:endParaRPr b="1" lang="en-US" sz="36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Comic Sans MS"/>
              </a:rPr>
              <a:t>1</a:t>
            </a:r>
            <a:r>
              <a:rPr b="1" lang="zh-CN" sz="3200" spc="-1" strike="noStrike">
                <a:solidFill>
                  <a:srgbClr val="000099"/>
                </a:solidFill>
                <a:latin typeface="Comic Sans MS"/>
              </a:rPr>
              <a:t>．字段名</a:t>
            </a:r>
            <a:endParaRPr b="1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Comic Sans MS"/>
              </a:rPr>
              <a:t>2</a:t>
            </a:r>
            <a:r>
              <a:rPr b="1" lang="zh-CN" sz="3200" spc="-1" strike="noStrike">
                <a:solidFill>
                  <a:srgbClr val="000099"/>
                </a:solidFill>
                <a:latin typeface="Comic Sans MS"/>
              </a:rPr>
              <a:t>．数据类型   如文本型、数字型等</a:t>
            </a:r>
            <a:endParaRPr b="1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Comic Sans MS"/>
              </a:rPr>
              <a:t>3</a:t>
            </a:r>
            <a:r>
              <a:rPr b="1" lang="zh-CN" sz="3200" spc="-1" strike="noStrike">
                <a:solidFill>
                  <a:srgbClr val="000099"/>
                </a:solidFill>
                <a:latin typeface="Comic Sans MS"/>
              </a:rPr>
              <a:t>．字段属性</a:t>
            </a:r>
            <a:endParaRPr b="1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Comic Sans MS"/>
              </a:rPr>
              <a:t>（</a:t>
            </a:r>
            <a:r>
              <a:rPr b="1" lang="zh-CN" sz="3200" spc="-1" strike="noStrike">
                <a:solidFill>
                  <a:srgbClr val="000099"/>
                </a:solidFill>
                <a:latin typeface="Comic Sans MS"/>
              </a:rPr>
              <a:t>1</a:t>
            </a:r>
            <a:r>
              <a:rPr b="1" lang="zh-CN" sz="3200" spc="-1" strike="noStrike">
                <a:solidFill>
                  <a:srgbClr val="000099"/>
                </a:solidFill>
                <a:latin typeface="Comic Sans MS"/>
              </a:rPr>
              <a:t>）字段大小 （</a:t>
            </a:r>
            <a:r>
              <a:rPr b="1" lang="zh-CN" sz="3200" spc="-1" strike="noStrike">
                <a:solidFill>
                  <a:srgbClr val="000099"/>
                </a:solidFill>
                <a:latin typeface="Comic Sans MS"/>
              </a:rPr>
              <a:t>2</a:t>
            </a:r>
            <a:r>
              <a:rPr b="1" lang="zh-CN" sz="3200" spc="-1" strike="noStrike">
                <a:solidFill>
                  <a:srgbClr val="000099"/>
                </a:solidFill>
                <a:latin typeface="Comic Sans MS"/>
              </a:rPr>
              <a:t>）格式  （</a:t>
            </a:r>
            <a:r>
              <a:rPr b="1" lang="zh-CN" sz="3200" spc="-1" strike="noStrike">
                <a:solidFill>
                  <a:srgbClr val="000099"/>
                </a:solidFill>
                <a:latin typeface="Comic Sans MS"/>
              </a:rPr>
              <a:t>3</a:t>
            </a:r>
            <a:r>
              <a:rPr b="1" lang="zh-CN" sz="3200" spc="-1" strike="noStrike">
                <a:solidFill>
                  <a:srgbClr val="000099"/>
                </a:solidFill>
                <a:latin typeface="Comic Sans MS"/>
              </a:rPr>
              <a:t>）小数位数 </a:t>
            </a:r>
            <a:endParaRPr b="1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Comic Sans MS"/>
              </a:rPr>
              <a:t>（</a:t>
            </a:r>
            <a:r>
              <a:rPr b="1" lang="zh-CN" sz="3200" spc="-1" strike="noStrike">
                <a:solidFill>
                  <a:srgbClr val="000099"/>
                </a:solidFill>
                <a:latin typeface="Comic Sans MS"/>
              </a:rPr>
              <a:t>4</a:t>
            </a:r>
            <a:r>
              <a:rPr b="1" lang="zh-CN" sz="3200" spc="-1" strike="noStrike">
                <a:solidFill>
                  <a:srgbClr val="000099"/>
                </a:solidFill>
                <a:latin typeface="Comic Sans MS"/>
              </a:rPr>
              <a:t>）标题     （</a:t>
            </a:r>
            <a:r>
              <a:rPr b="1" lang="zh-CN" sz="3200" spc="-1" strike="noStrike">
                <a:solidFill>
                  <a:srgbClr val="000099"/>
                </a:solidFill>
                <a:latin typeface="Comic Sans MS"/>
              </a:rPr>
              <a:t>5</a:t>
            </a:r>
            <a:r>
              <a:rPr b="1" lang="zh-CN" sz="3200" spc="-1" strike="noStrike">
                <a:solidFill>
                  <a:srgbClr val="000099"/>
                </a:solidFill>
                <a:latin typeface="Comic Sans MS"/>
              </a:rPr>
              <a:t>）有效性规则</a:t>
            </a:r>
            <a:endParaRPr b="1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Comic Sans MS"/>
              </a:rPr>
              <a:t>4</a:t>
            </a:r>
            <a:r>
              <a:rPr b="1" lang="zh-CN" sz="3200" spc="-1" strike="noStrike">
                <a:solidFill>
                  <a:srgbClr val="000099"/>
                </a:solidFill>
                <a:latin typeface="Comic Sans MS"/>
              </a:rPr>
              <a:t>．主关键字</a:t>
            </a:r>
            <a:endParaRPr b="1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932" name=""/>
          <p:cNvSpPr/>
          <p:nvPr/>
        </p:nvSpPr>
        <p:spPr>
          <a:xfrm>
            <a:off x="6888240" y="5977080"/>
            <a:ext cx="2184480" cy="43164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建立数据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41360" y="280800"/>
            <a:ext cx="83296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ff0000"/>
                </a:solidFill>
                <a:latin typeface="Comic Sans MS"/>
              </a:rPr>
              <a:t>建立数据表</a:t>
            </a:r>
            <a:endParaRPr b="1" i="1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673200" y="856800"/>
            <a:ext cx="84852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Comic Sans MS"/>
              </a:rPr>
              <a:t>1</a:t>
            </a:r>
            <a:r>
              <a:rPr b="1" lang="zh-CN" sz="3200" spc="-1" strike="noStrike">
                <a:solidFill>
                  <a:srgbClr val="000099"/>
                </a:solidFill>
                <a:latin typeface="Comic Sans MS"/>
              </a:rPr>
              <a:t>．在</a:t>
            </a:r>
            <a:r>
              <a:rPr b="1" lang="zh-CN" sz="3200" spc="-1" strike="noStrike">
                <a:solidFill>
                  <a:srgbClr val="cc0066"/>
                </a:solidFill>
                <a:latin typeface="Comic Sans MS"/>
              </a:rPr>
              <a:t>数据表视图</a:t>
            </a:r>
            <a:r>
              <a:rPr b="1" lang="zh-CN" sz="3200" spc="-1" strike="noStrike">
                <a:solidFill>
                  <a:srgbClr val="000099"/>
                </a:solidFill>
                <a:latin typeface="Comic Sans MS"/>
              </a:rPr>
              <a:t>下建立数据表  </a:t>
            </a:r>
            <a:endParaRPr b="1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66"/>
                </a:solidFill>
                <a:latin typeface="Comic Sans MS"/>
              </a:rPr>
              <a:t>例题</a:t>
            </a:r>
            <a:r>
              <a:rPr b="1" lang="zh-CN" sz="3200" spc="-1" strike="noStrike">
                <a:solidFill>
                  <a:srgbClr val="cc0066"/>
                </a:solidFill>
                <a:latin typeface="Comic Sans MS"/>
              </a:rPr>
              <a:t>:</a:t>
            </a:r>
            <a:r>
              <a:rPr b="1" lang="zh-CN" sz="3200" spc="-1" strike="noStrike">
                <a:solidFill>
                  <a:srgbClr val="000099"/>
                </a:solidFill>
                <a:latin typeface="Comic Sans MS"/>
              </a:rPr>
              <a:t>在数据表视图下建立“成绩”表</a:t>
            </a:r>
            <a:r>
              <a:rPr b="1" lang="zh-CN" sz="3200" spc="-1" strike="noStrike">
                <a:solidFill>
                  <a:srgbClr val="000099"/>
                </a:solidFill>
                <a:latin typeface="Comic Sans MS"/>
              </a:rPr>
              <a:t>(p248)</a:t>
            </a:r>
            <a:endParaRPr b="1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Comic Sans MS"/>
              </a:rPr>
              <a:t>2</a:t>
            </a:r>
            <a:r>
              <a:rPr b="1" lang="zh-CN" sz="3200" spc="-1" strike="noStrike">
                <a:solidFill>
                  <a:srgbClr val="000099"/>
                </a:solidFill>
                <a:latin typeface="Comic Sans MS"/>
              </a:rPr>
              <a:t>．用</a:t>
            </a:r>
            <a:r>
              <a:rPr b="1" lang="zh-CN" sz="3200" spc="-1" strike="noStrike">
                <a:solidFill>
                  <a:srgbClr val="cc0066"/>
                </a:solidFill>
                <a:latin typeface="Comic Sans MS"/>
              </a:rPr>
              <a:t>设计视图</a:t>
            </a:r>
            <a:r>
              <a:rPr b="1" lang="zh-CN" sz="3200" spc="-1" strike="noStrike">
                <a:solidFill>
                  <a:srgbClr val="000099"/>
                </a:solidFill>
                <a:latin typeface="Comic Sans MS"/>
              </a:rPr>
              <a:t>建立数据表</a:t>
            </a:r>
            <a:r>
              <a:rPr b="1" lang="zh-CN" sz="3200" spc="-1" strike="noStrike">
                <a:solidFill>
                  <a:srgbClr val="000099"/>
                </a:solidFill>
                <a:latin typeface="Comic Sans MS"/>
              </a:rPr>
              <a:t>(p249)</a:t>
            </a:r>
            <a:endParaRPr b="1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Comic Sans MS"/>
              </a:rPr>
              <a:t>  </a:t>
            </a:r>
            <a:r>
              <a:rPr b="1" lang="zh-CN" sz="3200" spc="-1" strike="noStrike">
                <a:solidFill>
                  <a:srgbClr val="000099"/>
                </a:solidFill>
                <a:latin typeface="Comic Sans MS"/>
              </a:rPr>
              <a:t>例题</a:t>
            </a:r>
            <a:r>
              <a:rPr b="1" lang="zh-CN" sz="3200" spc="-1" strike="noStrike">
                <a:solidFill>
                  <a:srgbClr val="000099"/>
                </a:solidFill>
                <a:latin typeface="Comic Sans MS"/>
              </a:rPr>
              <a:t>:</a:t>
            </a:r>
            <a:r>
              <a:rPr b="1" lang="zh-CN" sz="3200" spc="-1" strike="noStrike">
                <a:solidFill>
                  <a:srgbClr val="000099"/>
                </a:solidFill>
                <a:latin typeface="Comic Sans MS"/>
              </a:rPr>
              <a:t>在设计视图视图下建立“学生”表</a:t>
            </a:r>
            <a:endParaRPr b="1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   </a:t>
            </a: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1) </a:t>
            </a: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设计表结构</a:t>
            </a:r>
            <a:endParaRPr b="1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   </a:t>
            </a: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2</a:t>
            </a: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）定义主关键字段</a:t>
            </a:r>
            <a:endParaRPr b="1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   </a:t>
            </a: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3</a:t>
            </a: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）命名表及保存</a:t>
            </a:r>
            <a:endParaRPr b="1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   </a:t>
            </a: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4) </a:t>
            </a: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输入记录</a:t>
            </a:r>
            <a:endParaRPr b="1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graphicFrame>
        <p:nvGraphicFramePr>
          <p:cNvPr id="935" name=""/>
          <p:cNvGraphicFramePr/>
          <p:nvPr/>
        </p:nvGraphicFramePr>
        <p:xfrm>
          <a:off x="6388200" y="4319640"/>
          <a:ext cx="2303280" cy="1201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88200" y="4319640"/>
                    <a:ext cx="2303280" cy="120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7" name=""/>
          <p:cNvSpPr/>
          <p:nvPr/>
        </p:nvSpPr>
        <p:spPr>
          <a:xfrm>
            <a:off x="6888240" y="5977080"/>
            <a:ext cx="2184480" cy="43164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建立数据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441360" y="280800"/>
            <a:ext cx="83296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1301"/>
              </a:spcBef>
              <a:spcAft>
                <a:spcPts val="13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ff0000"/>
                </a:solidFill>
                <a:latin typeface="Comic Sans MS"/>
              </a:rPr>
              <a:t>编辑数据表</a:t>
            </a:r>
            <a:endParaRPr b="1" i="1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673200" y="856800"/>
            <a:ext cx="84852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 algn="just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楷体_GB2312"/>
              </a:rPr>
              <a:t>1</a:t>
            </a:r>
            <a:r>
              <a:rPr b="1" lang="zh-CN" sz="3200" spc="-1" strike="noStrike">
                <a:solidFill>
                  <a:srgbClr val="000099"/>
                </a:solidFill>
                <a:latin typeface="楷体_GB2312"/>
              </a:rPr>
              <a:t>．修改表结构</a:t>
            </a:r>
            <a:endParaRPr b="1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lvl="1" marL="683280" indent="-262800" algn="just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宋体"/>
              </a:rPr>
              <a:t>在</a:t>
            </a:r>
            <a:r>
              <a:rPr b="1" lang="zh-CN" sz="3200" spc="-1" strike="noStrike">
                <a:solidFill>
                  <a:srgbClr val="cc0066"/>
                </a:solidFill>
                <a:latin typeface="宋体"/>
              </a:rPr>
              <a:t>设计视图或数据表视图</a:t>
            </a:r>
            <a:r>
              <a:rPr b="1" lang="zh-CN" sz="3200" spc="-1" strike="noStrike">
                <a:solidFill>
                  <a:srgbClr val="000099"/>
                </a:solidFill>
                <a:latin typeface="宋体"/>
              </a:rPr>
              <a:t>下进行</a:t>
            </a:r>
            <a:endParaRPr b="1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lvl="1" marL="683280" indent="-262800" algn="just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宋体"/>
              </a:rPr>
              <a:t>（</a:t>
            </a:r>
            <a:r>
              <a:rPr b="1" lang="zh-CN" sz="3200" spc="-1" strike="noStrike">
                <a:solidFill>
                  <a:srgbClr val="000099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99"/>
                </a:solidFill>
                <a:latin typeface="宋体"/>
              </a:rPr>
              <a:t>）改字段名、类型、属性</a:t>
            </a:r>
            <a:endParaRPr b="1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lvl="1" marL="683280" indent="-262800" algn="just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宋体"/>
              </a:rPr>
              <a:t>（</a:t>
            </a:r>
            <a:r>
              <a:rPr b="1" lang="zh-CN" sz="3200" spc="-1" strike="noStrike">
                <a:solidFill>
                  <a:srgbClr val="000099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99"/>
                </a:solidFill>
                <a:latin typeface="宋体"/>
              </a:rPr>
              <a:t>）插入字段</a:t>
            </a:r>
            <a:endParaRPr b="1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lvl="1" marL="683280" indent="-262800" algn="just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宋体"/>
              </a:rPr>
              <a:t>（</a:t>
            </a:r>
            <a:r>
              <a:rPr b="1" lang="zh-CN" sz="3200" spc="-1" strike="noStrike">
                <a:solidFill>
                  <a:srgbClr val="000099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000099"/>
                </a:solidFill>
                <a:latin typeface="宋体"/>
              </a:rPr>
              <a:t>）删除字段</a:t>
            </a:r>
            <a:endParaRPr b="1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15360" indent="-315360" algn="just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楷体_GB2312"/>
              </a:rPr>
              <a:t>2</a:t>
            </a:r>
            <a:r>
              <a:rPr b="1" lang="zh-CN" sz="3200" spc="-1" strike="noStrike">
                <a:solidFill>
                  <a:srgbClr val="000099"/>
                </a:solidFill>
                <a:latin typeface="楷体_GB2312"/>
              </a:rPr>
              <a:t>．编辑记录</a:t>
            </a:r>
            <a:endParaRPr b="1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lvl="1" marL="683280" indent="-262800" algn="just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宋体"/>
              </a:rPr>
              <a:t>在数据表视图下进行</a:t>
            </a:r>
            <a:endParaRPr b="1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lvl="1" marL="683280" indent="-262800" algn="just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宋体"/>
              </a:rPr>
              <a:t>(1) </a:t>
            </a:r>
            <a:r>
              <a:rPr b="1" lang="zh-CN" sz="3200" spc="-1" strike="noStrike">
                <a:solidFill>
                  <a:srgbClr val="000099"/>
                </a:solidFill>
                <a:latin typeface="宋体"/>
              </a:rPr>
              <a:t>输入新记录</a:t>
            </a:r>
            <a:endParaRPr b="1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lvl="1" marL="683280" indent="-262800" algn="just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宋体"/>
              </a:rPr>
              <a:t>(2) </a:t>
            </a:r>
            <a:r>
              <a:rPr b="1" lang="zh-CN" sz="3200" spc="-1" strike="noStrike">
                <a:solidFill>
                  <a:srgbClr val="000099"/>
                </a:solidFill>
                <a:latin typeface="宋体"/>
              </a:rPr>
              <a:t>修改原有记录</a:t>
            </a:r>
            <a:endParaRPr b="1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lvl="1" marL="683280" indent="-262800" algn="just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宋体"/>
              </a:rPr>
              <a:t>(3) </a:t>
            </a:r>
            <a:r>
              <a:rPr b="1" lang="zh-CN" sz="3200" spc="-1" strike="noStrike">
                <a:solidFill>
                  <a:srgbClr val="000099"/>
                </a:solidFill>
                <a:latin typeface="宋体"/>
              </a:rPr>
              <a:t>删除记录。</a:t>
            </a:r>
            <a:endParaRPr b="1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940" name=""/>
          <p:cNvSpPr/>
          <p:nvPr/>
        </p:nvSpPr>
        <p:spPr>
          <a:xfrm>
            <a:off x="6888240" y="5977080"/>
            <a:ext cx="2184480" cy="43164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编辑数据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41360" y="280800"/>
            <a:ext cx="83296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1301"/>
              </a:spcBef>
              <a:spcAft>
                <a:spcPts val="13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ff0000"/>
                </a:solidFill>
                <a:latin typeface="Comic Sans MS"/>
              </a:rPr>
              <a:t>建立表间关系</a:t>
            </a:r>
            <a:endParaRPr b="1" i="1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673200" y="856800"/>
            <a:ext cx="84852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宋体"/>
                <a:ea typeface="宋体"/>
              </a:rPr>
              <a:t>目的</a:t>
            </a:r>
            <a:r>
              <a:rPr b="1" lang="zh-CN" sz="3200" spc="-1" strike="noStrike">
                <a:solidFill>
                  <a:srgbClr val="000099"/>
                </a:solidFill>
                <a:latin typeface="宋体"/>
                <a:ea typeface="宋体"/>
              </a:rPr>
              <a:t>:</a:t>
            </a:r>
            <a:r>
              <a:rPr b="1" lang="zh-CN" sz="3200" spc="-1" strike="noStrike">
                <a:solidFill>
                  <a:srgbClr val="000099"/>
                </a:solidFill>
                <a:latin typeface="宋体"/>
                <a:ea typeface="宋体"/>
              </a:rPr>
              <a:t>实现数据库的</a:t>
            </a:r>
            <a:r>
              <a:rPr b="1" lang="zh-CN" sz="3200" spc="-1" strike="noStrike">
                <a:solidFill>
                  <a:srgbClr val="cc0066"/>
                </a:solidFill>
                <a:latin typeface="宋体"/>
                <a:ea typeface="宋体"/>
              </a:rPr>
              <a:t>参照完整性</a:t>
            </a:r>
            <a:r>
              <a:rPr b="1" lang="zh-CN" sz="3200" spc="-1" strike="noStrike">
                <a:solidFill>
                  <a:srgbClr val="000099"/>
                </a:solidFill>
                <a:latin typeface="宋体"/>
                <a:ea typeface="宋体"/>
              </a:rPr>
              <a:t>。</a:t>
            </a:r>
            <a:endParaRPr b="1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</a:rPr>
              <a:t>例题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</a:rPr>
              <a:t>: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</a:rPr>
              <a:t>在“学生”和“成绩”表间建立关系，“学生”表为主表，“成绩”表为从表：</a:t>
            </a:r>
            <a:endParaRPr b="1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．“工具”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----&gt;“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关系”</a:t>
            </a:r>
            <a:endParaRPr b="1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．选择表或查询</a:t>
            </a:r>
            <a:endParaRPr b="1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．设置完整性</a:t>
            </a:r>
            <a:endParaRPr b="1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4. 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建立联系后，再打开“学生”表，观察显示的结果</a:t>
            </a:r>
            <a:endParaRPr b="1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lvl="1" marL="743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943" name=""/>
          <p:cNvSpPr/>
          <p:nvPr/>
        </p:nvSpPr>
        <p:spPr>
          <a:xfrm>
            <a:off x="6888240" y="5977080"/>
            <a:ext cx="2436840" cy="5029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编辑关系对话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41360" y="280800"/>
            <a:ext cx="83296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ff0000"/>
                </a:solidFill>
                <a:latin typeface="Comic Sans MS"/>
              </a:rPr>
              <a:t>建立表间关系</a:t>
            </a:r>
            <a:endParaRPr b="1" i="1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673200" y="856800"/>
            <a:ext cx="84852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graphicFrame>
        <p:nvGraphicFramePr>
          <p:cNvPr id="946" name=""/>
          <p:cNvGraphicFramePr/>
          <p:nvPr/>
        </p:nvGraphicFramePr>
        <p:xfrm>
          <a:off x="1344600" y="1944720"/>
          <a:ext cx="7896240" cy="360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44600" y="1944720"/>
                    <a:ext cx="7896240" cy="36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8" name=""/>
          <p:cNvSpPr/>
          <p:nvPr/>
        </p:nvSpPr>
        <p:spPr>
          <a:xfrm>
            <a:off x="6888240" y="5977080"/>
            <a:ext cx="2184480" cy="43164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使用数据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41360" y="280800"/>
            <a:ext cx="83296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ff0000"/>
                </a:solidFill>
                <a:latin typeface="Comic Sans MS"/>
              </a:rPr>
              <a:t>数据表的使用 </a:t>
            </a:r>
            <a:endParaRPr b="1" i="1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673200" y="856800"/>
            <a:ext cx="84852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0000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Comic Sans MS"/>
              </a:rPr>
              <a:t>在</a:t>
            </a:r>
            <a:r>
              <a:rPr b="1" lang="zh-CN" sz="3200" spc="-1" strike="noStrike">
                <a:solidFill>
                  <a:srgbClr val="cc0066"/>
                </a:solidFill>
                <a:latin typeface="Comic Sans MS"/>
              </a:rPr>
              <a:t>数据表视图</a:t>
            </a:r>
            <a:r>
              <a:rPr b="1" lang="zh-CN" sz="3200" spc="-1" strike="noStrike">
                <a:solidFill>
                  <a:srgbClr val="000099"/>
                </a:solidFill>
                <a:latin typeface="Comic Sans MS"/>
              </a:rPr>
              <a:t>下进行</a:t>
            </a:r>
            <a:endParaRPr b="1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Comic Sans MS"/>
              </a:rPr>
              <a:t>1</a:t>
            </a:r>
            <a:r>
              <a:rPr b="1" lang="zh-CN" sz="3200" spc="-1" strike="noStrike">
                <a:solidFill>
                  <a:srgbClr val="000099"/>
                </a:solidFill>
                <a:latin typeface="Comic Sans MS"/>
              </a:rPr>
              <a:t>．记录排序</a:t>
            </a:r>
            <a:endParaRPr b="1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Comic Sans MS"/>
              </a:rPr>
              <a:t>按某个字段值的升序或降序重新排列记录</a:t>
            </a:r>
            <a:endParaRPr b="1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Comic Sans MS"/>
              </a:rPr>
              <a:t>（</a:t>
            </a:r>
            <a:r>
              <a:rPr b="1" lang="zh-CN" sz="3200" spc="-1" strike="noStrike">
                <a:solidFill>
                  <a:srgbClr val="000099"/>
                </a:solidFill>
                <a:latin typeface="Comic Sans MS"/>
              </a:rPr>
              <a:t>1</a:t>
            </a:r>
            <a:r>
              <a:rPr b="1" lang="zh-CN" sz="3200" spc="-1" strike="noStrike">
                <a:solidFill>
                  <a:srgbClr val="000099"/>
                </a:solidFill>
                <a:latin typeface="Comic Sans MS"/>
              </a:rPr>
              <a:t>）排序 </a:t>
            </a:r>
            <a:endParaRPr b="1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Comic Sans MS"/>
              </a:rPr>
              <a:t>选择排序关键字。</a:t>
            </a:r>
            <a:endParaRPr b="1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Comic Sans MS"/>
              </a:rPr>
              <a:t>单击工具栏上的“升序”或“降序”按钮</a:t>
            </a:r>
            <a:endParaRPr b="1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Comic Sans MS"/>
              </a:rPr>
              <a:t>（</a:t>
            </a:r>
            <a:r>
              <a:rPr b="1" lang="zh-CN" sz="3200" spc="-1" strike="noStrike">
                <a:solidFill>
                  <a:srgbClr val="000099"/>
                </a:solidFill>
                <a:latin typeface="Comic Sans MS"/>
              </a:rPr>
              <a:t>2</a:t>
            </a:r>
            <a:r>
              <a:rPr b="1" lang="zh-CN" sz="3200" spc="-1" strike="noStrike">
                <a:solidFill>
                  <a:srgbClr val="000099"/>
                </a:solidFill>
                <a:latin typeface="Comic Sans MS"/>
              </a:rPr>
              <a:t>）恢复排序前的记录顺序</a:t>
            </a:r>
            <a:endParaRPr b="1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Comic Sans MS"/>
              </a:rPr>
              <a:t>“</a:t>
            </a:r>
            <a:r>
              <a:rPr b="1" lang="zh-CN" sz="3200" spc="-1" strike="noStrike">
                <a:solidFill>
                  <a:srgbClr val="000099"/>
                </a:solidFill>
                <a:latin typeface="Comic Sans MS"/>
              </a:rPr>
              <a:t>记录”</a:t>
            </a:r>
            <a:r>
              <a:rPr b="1" lang="zh-CN" sz="3200" spc="-1" strike="noStrike">
                <a:solidFill>
                  <a:srgbClr val="000099"/>
                </a:solidFill>
                <a:latin typeface="Comic Sans MS"/>
              </a:rPr>
              <a:t>----&gt;“</a:t>
            </a:r>
            <a:r>
              <a:rPr b="1" lang="zh-CN" sz="3200" spc="-1" strike="noStrike">
                <a:solidFill>
                  <a:srgbClr val="000099"/>
                </a:solidFill>
                <a:latin typeface="Comic Sans MS"/>
              </a:rPr>
              <a:t>取消筛选／排序”</a:t>
            </a:r>
            <a:endParaRPr b="1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951" name=""/>
          <p:cNvSpPr/>
          <p:nvPr/>
        </p:nvSpPr>
        <p:spPr>
          <a:xfrm>
            <a:off x="6888240" y="5977080"/>
            <a:ext cx="2184480" cy="43164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筛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41360" y="280800"/>
            <a:ext cx="83296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ff0000"/>
                </a:solidFill>
                <a:latin typeface="Comic Sans MS"/>
              </a:rPr>
              <a:t>数据表的使用</a:t>
            </a:r>
            <a:endParaRPr b="1" i="1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673200" y="856800"/>
            <a:ext cx="8485200" cy="259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Comic Sans MS"/>
              </a:rPr>
              <a:t>2. </a:t>
            </a:r>
            <a:r>
              <a:rPr b="1" lang="zh-CN" sz="3200" spc="-1" strike="noStrike">
                <a:solidFill>
                  <a:srgbClr val="000099"/>
                </a:solidFill>
                <a:latin typeface="Comic Sans MS"/>
              </a:rPr>
              <a:t>筛选记录</a:t>
            </a:r>
            <a:endParaRPr b="1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筛选记录是指在屏幕上仅仅显示满足条件的记录</a:t>
            </a:r>
            <a:endParaRPr b="1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常用的有按选定内容筛选或内容排除筛选。</a:t>
            </a:r>
            <a:endParaRPr b="1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954" name=""/>
          <p:cNvSpPr/>
          <p:nvPr/>
        </p:nvSpPr>
        <p:spPr>
          <a:xfrm>
            <a:off x="6888240" y="5977080"/>
            <a:ext cx="2184480" cy="43164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查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41360" y="280800"/>
            <a:ext cx="83296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ff0000"/>
                </a:solidFill>
                <a:latin typeface="Comic Sans MS"/>
              </a:rPr>
              <a:t>查询</a:t>
            </a:r>
            <a:endParaRPr b="1" i="1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673200" y="856800"/>
            <a:ext cx="84852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cc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66"/>
                </a:solidFill>
                <a:latin typeface="Comic Sans MS"/>
              </a:rPr>
              <a:t>查询的类型</a:t>
            </a:r>
            <a:endParaRPr b="1" lang="en-US" sz="36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Comic Sans MS"/>
              </a:rPr>
              <a:t>1</a:t>
            </a:r>
            <a:r>
              <a:rPr b="1" lang="zh-CN" sz="3200" spc="-1" strike="noStrike">
                <a:solidFill>
                  <a:srgbClr val="000099"/>
                </a:solidFill>
                <a:latin typeface="Comic Sans MS"/>
              </a:rPr>
              <a:t>．设计视图查询</a:t>
            </a:r>
            <a:endParaRPr b="1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在一个或多个基本表中，按照指定的条件进行查找，并指定显示的字段。</a:t>
            </a:r>
            <a:endParaRPr b="1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Comic Sans MS"/>
              </a:rPr>
              <a:t>2</a:t>
            </a:r>
            <a:r>
              <a:rPr b="1" lang="zh-CN" sz="3200" spc="-1" strike="noStrike">
                <a:solidFill>
                  <a:srgbClr val="000099"/>
                </a:solidFill>
                <a:latin typeface="Comic Sans MS"/>
              </a:rPr>
              <a:t>．简单查询向导</a:t>
            </a:r>
            <a:endParaRPr b="1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按系统的提示设计查询的结果。</a:t>
            </a:r>
            <a:endParaRPr b="1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Comic Sans MS"/>
              </a:rPr>
              <a:t>3</a:t>
            </a:r>
            <a:r>
              <a:rPr b="1" lang="zh-CN" sz="3200" spc="-1" strike="noStrike">
                <a:solidFill>
                  <a:srgbClr val="000099"/>
                </a:solidFill>
                <a:latin typeface="Comic Sans MS"/>
              </a:rPr>
              <a:t>．交叉表查询</a:t>
            </a:r>
            <a:endParaRPr b="1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用交叉方式的数据表格显示信息。</a:t>
            </a:r>
            <a:endParaRPr b="1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957" name=""/>
          <p:cNvSpPr/>
          <p:nvPr/>
        </p:nvSpPr>
        <p:spPr>
          <a:xfrm>
            <a:off x="6888240" y="5977080"/>
            <a:ext cx="2184480" cy="43164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查询类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503280" y="576360"/>
            <a:ext cx="8485200" cy="519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99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隶书"/>
              </a:rPr>
              <a:t>数据库管理系统（</a:t>
            </a:r>
            <a:r>
              <a:rPr b="1" lang="zh-CN" sz="3200" spc="-1" strike="noStrike">
                <a:solidFill>
                  <a:srgbClr val="000099"/>
                </a:solidFill>
                <a:latin typeface="隶书"/>
              </a:rPr>
              <a:t>DBMS</a:t>
            </a:r>
            <a:r>
              <a:rPr b="1" lang="zh-CN" sz="3200" spc="-1" strike="noStrike">
                <a:solidFill>
                  <a:srgbClr val="000099"/>
                </a:solidFill>
                <a:latin typeface="隶书"/>
              </a:rPr>
              <a:t>）</a:t>
            </a:r>
            <a:endParaRPr b="1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对数据库进行管理的软件</a:t>
            </a: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.</a:t>
            </a:r>
            <a:endParaRPr b="1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功能：</a:t>
            </a:r>
            <a:endParaRPr b="1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lvl="1" marL="743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（</a:t>
            </a: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1</a:t>
            </a: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）定义</a:t>
            </a: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: </a:t>
            </a: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定义数据库的结构、数据完整性和其它的约束条件；</a:t>
            </a:r>
            <a:endParaRPr b="1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lvl="1" marL="743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（</a:t>
            </a: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2</a:t>
            </a: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）操纵</a:t>
            </a: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: </a:t>
            </a: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实现数据插入、修改、删除和查询；</a:t>
            </a:r>
            <a:endParaRPr b="1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lvl="1" marL="743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（</a:t>
            </a: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3</a:t>
            </a: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）控制</a:t>
            </a: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: </a:t>
            </a: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实现数安全控制、完整性控制以及多用户环境下的并发控制；</a:t>
            </a:r>
            <a:endParaRPr b="1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lvl="1" marL="743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（</a:t>
            </a: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4</a:t>
            </a: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）维护</a:t>
            </a: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: </a:t>
            </a: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提供对数据的装载、转储和恢复，数据库的性能分析和监测；</a:t>
            </a:r>
            <a:endParaRPr b="1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lvl="1" marL="743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（</a:t>
            </a: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5</a:t>
            </a: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）数据字典，存放数据库各级结构的描述。</a:t>
            </a:r>
            <a:endParaRPr b="1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832968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ff0000"/>
                </a:solidFill>
                <a:latin typeface="Comic Sans MS"/>
              </a:rPr>
              <a:t>数据库概述</a:t>
            </a:r>
            <a:endParaRPr b="1" i="1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441360" y="280800"/>
            <a:ext cx="83296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ff0000"/>
                </a:solidFill>
                <a:latin typeface="Comic Sans MS"/>
              </a:rPr>
              <a:t>查询的类型</a:t>
            </a:r>
            <a:endParaRPr b="1" i="1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673200" y="856800"/>
            <a:ext cx="84852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4</a:t>
            </a: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．重复项查询</a:t>
            </a:r>
            <a:endParaRPr b="1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Comic Sans MS"/>
              </a:rPr>
              <a:t>在数据表中查找具有相同字段值的重复记录。</a:t>
            </a:r>
            <a:endParaRPr b="1" lang="en-US" sz="24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5</a:t>
            </a: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．不匹配查询</a:t>
            </a:r>
            <a:endParaRPr b="1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Comic Sans MS"/>
              </a:rPr>
              <a:t>在数据表中查找与指定条件不匹配的记录。</a:t>
            </a:r>
            <a:endParaRPr b="1" lang="en-US" sz="24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cc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66"/>
                </a:solidFill>
                <a:latin typeface="Comic Sans MS"/>
              </a:rPr>
              <a:t>建立查询</a:t>
            </a:r>
            <a:r>
              <a:rPr b="1" lang="zh-CN" sz="3600" spc="-1" strike="noStrike">
                <a:solidFill>
                  <a:srgbClr val="cc0066"/>
                </a:solidFill>
                <a:latin typeface="Comic Sans MS"/>
              </a:rPr>
              <a:t>:</a:t>
            </a:r>
            <a:endParaRPr b="1" lang="en-US" sz="3600" spc="-1" strike="noStrike">
              <a:solidFill>
                <a:srgbClr val="000099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Comic Sans MS"/>
              </a:rPr>
              <a:t>在设计视图或</a:t>
            </a:r>
            <a:r>
              <a:rPr b="1" lang="zh-CN" sz="2400" spc="-1" strike="noStrike">
                <a:solidFill>
                  <a:srgbClr val="000099"/>
                </a:solidFill>
                <a:latin typeface="Comic Sans MS"/>
              </a:rPr>
              <a:t>SQL</a:t>
            </a:r>
            <a:r>
              <a:rPr b="1" lang="zh-CN" sz="2400" spc="-1" strike="noStrike">
                <a:solidFill>
                  <a:srgbClr val="000099"/>
                </a:solidFill>
                <a:latin typeface="Comic Sans MS"/>
              </a:rPr>
              <a:t>窗口下</a:t>
            </a:r>
            <a:endParaRPr b="1" lang="en-US" sz="24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显示查询结果</a:t>
            </a: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:</a:t>
            </a:r>
            <a:endParaRPr b="1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Comic Sans MS"/>
              </a:rPr>
              <a:t>单击工具栏上的“执行”按钮！</a:t>
            </a:r>
            <a:endParaRPr b="1" lang="en-US" sz="2400" spc="-1" strike="noStrike">
              <a:solidFill>
                <a:srgbClr val="000099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Comic Sans MS"/>
            </a:endParaRPr>
          </a:p>
        </p:txBody>
      </p:sp>
      <p:graphicFrame>
        <p:nvGraphicFramePr>
          <p:cNvPr id="960" name=""/>
          <p:cNvGraphicFramePr/>
          <p:nvPr/>
        </p:nvGraphicFramePr>
        <p:xfrm>
          <a:off x="6888240" y="3672000"/>
          <a:ext cx="2689200" cy="219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88240" y="3672000"/>
                    <a:ext cx="2689200" cy="21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2" name=""/>
          <p:cNvSpPr/>
          <p:nvPr/>
        </p:nvSpPr>
        <p:spPr>
          <a:xfrm>
            <a:off x="6888240" y="5977080"/>
            <a:ext cx="2184480" cy="43164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设计视图窗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441360" y="280800"/>
            <a:ext cx="83296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ff0000"/>
                </a:solidFill>
                <a:latin typeface="Comic Sans MS"/>
              </a:rPr>
              <a:t>设计视图窗口的组成</a:t>
            </a:r>
            <a:endParaRPr b="1" i="1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576000" y="1008000"/>
            <a:ext cx="806436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lvl="1" marL="201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1</a:t>
            </a: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）字段：查询结果中使用的字段。</a:t>
            </a:r>
            <a:endParaRPr b="1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lvl="1" marL="201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2</a:t>
            </a: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）表：该字段所在的表或查询。</a:t>
            </a:r>
            <a:endParaRPr b="1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lvl="1" marL="201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3</a:t>
            </a: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）排序：指定是否按此字</a:t>
            </a:r>
            <a:endParaRPr b="1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lvl="1" marL="201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         </a:t>
            </a: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段排序</a:t>
            </a:r>
            <a:endParaRPr b="1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lvl="1" marL="201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4</a:t>
            </a: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）显示：确定该字段是否</a:t>
            </a:r>
            <a:endParaRPr b="1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lvl="1" marL="201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         </a:t>
            </a: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在结果中显示。</a:t>
            </a:r>
            <a:endParaRPr b="1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lvl="1" marL="201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5</a:t>
            </a: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）准则：指定对该字段的</a:t>
            </a:r>
            <a:endParaRPr b="1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lvl="1" marL="201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         </a:t>
            </a: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查询条件</a:t>
            </a:r>
            <a:endParaRPr b="1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lvl="1" marL="201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6</a:t>
            </a: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）或：指定其它查询条件</a:t>
            </a:r>
            <a:endParaRPr b="1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graphicFrame>
        <p:nvGraphicFramePr>
          <p:cNvPr id="965" name=""/>
          <p:cNvGraphicFramePr/>
          <p:nvPr/>
        </p:nvGraphicFramePr>
        <p:xfrm>
          <a:off x="5545080" y="2303640"/>
          <a:ext cx="4118040" cy="338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45080" y="2303640"/>
                    <a:ext cx="4118040" cy="33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7" name=""/>
          <p:cNvSpPr/>
          <p:nvPr/>
        </p:nvSpPr>
        <p:spPr>
          <a:xfrm>
            <a:off x="6888240" y="5977080"/>
            <a:ext cx="2184480" cy="43164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QL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窗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504720" y="863280"/>
            <a:ext cx="832824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spcBef>
                <a:spcPts val="1301"/>
              </a:spcBef>
              <a:spcAft>
                <a:spcPts val="13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课堂训练     </a:t>
            </a:r>
            <a:br>
              <a:rPr sz="4000"/>
            </a:br>
            <a:r>
              <a:rPr b="0" i="1" lang="zh-CN" sz="4000" spc="-1" strike="noStrike">
                <a:solidFill>
                  <a:srgbClr val="ff0000"/>
                </a:solidFill>
                <a:latin typeface="Comic Sans MS"/>
              </a:rPr>
              <a:t>实体完整性</a:t>
            </a:r>
            <a:endParaRPr b="1" i="1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861480" y="1871640"/>
            <a:ext cx="8487000" cy="37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</a:rPr>
              <a:t>例题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</a:rPr>
              <a:t>:“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</a:rPr>
              <a:t>学生”表已将“学号”定义为主键</a:t>
            </a:r>
            <a:endParaRPr b="1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观察以下操作是否允许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:</a:t>
            </a:r>
            <a:endParaRPr b="1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1)  </a:t>
            </a: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输入学号为空的记录；</a:t>
            </a:r>
            <a:endParaRPr b="1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2)  </a:t>
            </a: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输入新记录</a:t>
            </a: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,</a:t>
            </a: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学号与表中已有记录学号相同</a:t>
            </a:r>
            <a:endParaRPr b="1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</a:rPr>
              <a:t>结论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</a:rPr>
              <a:t>: 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</a:rPr>
              <a:t>实体完整性对表中主键的要求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宋体"/>
              </a:rPr>
              <a:t>:</a:t>
            </a:r>
            <a:endParaRPr b="1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1</a:t>
            </a: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）不允许有空值</a:t>
            </a:r>
            <a:endParaRPr b="1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2</a:t>
            </a: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）不允许出现两条记录的主键值相同</a:t>
            </a:r>
            <a:endParaRPr b="1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970" name=""/>
          <p:cNvSpPr/>
          <p:nvPr/>
        </p:nvSpPr>
        <p:spPr>
          <a:xfrm>
            <a:off x="6888240" y="5977080"/>
            <a:ext cx="2855880" cy="43164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用户定义的完整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360360" y="1368360"/>
            <a:ext cx="832968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ff0000"/>
                </a:solidFill>
                <a:latin typeface="Comic Sans MS"/>
              </a:rPr>
              <a:t>课堂训练  </a:t>
            </a:r>
            <a:br>
              <a:rPr sz="4000"/>
            </a:br>
            <a:r>
              <a:rPr b="1" i="1" lang="zh-CN" sz="4000" spc="-1" strike="noStrike">
                <a:solidFill>
                  <a:srgbClr val="ff0000"/>
                </a:solidFill>
                <a:latin typeface="Comic Sans MS"/>
              </a:rPr>
              <a:t>用户定义的完整性</a:t>
            </a:r>
            <a:endParaRPr b="1" i="1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719280" y="2303640"/>
            <a:ext cx="8485200" cy="35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Comic Sans MS"/>
              </a:rPr>
              <a:t>用户定义的完整性是针对具体数据设置约束条件</a:t>
            </a:r>
            <a:endParaRPr b="1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Comic Sans MS"/>
              </a:rPr>
              <a:t>例题</a:t>
            </a:r>
            <a:r>
              <a:rPr b="1" lang="zh-CN" sz="3200" spc="-1" strike="noStrike">
                <a:solidFill>
                  <a:srgbClr val="000099"/>
                </a:solidFill>
                <a:latin typeface="Comic Sans MS"/>
              </a:rPr>
              <a:t>: </a:t>
            </a:r>
            <a:r>
              <a:rPr b="1" lang="zh-CN" sz="3200" spc="-1" strike="noStrike">
                <a:solidFill>
                  <a:srgbClr val="000099"/>
                </a:solidFill>
                <a:latin typeface="Comic Sans MS"/>
              </a:rPr>
              <a:t>对“学生”表设置约束条件</a:t>
            </a:r>
            <a:endParaRPr b="1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1) “</a:t>
            </a: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年龄”字段的值设置在</a:t>
            </a: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16</a:t>
            </a: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至</a:t>
            </a: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23</a:t>
            </a: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之间</a:t>
            </a:r>
            <a:endParaRPr b="1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2)“</a:t>
            </a: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性别”字段的有效性规则设置为：</a:t>
            </a:r>
            <a:endParaRPr b="1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         </a:t>
            </a: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'</a:t>
            </a: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男</a:t>
            </a: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' or '</a:t>
            </a: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女</a:t>
            </a: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'</a:t>
            </a: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。</a:t>
            </a:r>
            <a:endParaRPr b="1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973" name=""/>
          <p:cNvSpPr/>
          <p:nvPr/>
        </p:nvSpPr>
        <p:spPr>
          <a:xfrm>
            <a:off x="6888240" y="5977080"/>
            <a:ext cx="2184480" cy="43164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参照完整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504720" y="1152360"/>
            <a:ext cx="832824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ff0000"/>
                </a:solidFill>
                <a:latin typeface="Comic Sans MS"/>
              </a:rPr>
              <a:t>课堂训练   </a:t>
            </a:r>
            <a:br>
              <a:rPr sz="4000"/>
            </a:br>
            <a:r>
              <a:rPr b="1" i="1" lang="zh-CN" sz="4000" spc="-1" strike="noStrike">
                <a:solidFill>
                  <a:srgbClr val="ff0000"/>
                </a:solidFill>
                <a:latin typeface="Comic Sans MS"/>
              </a:rPr>
              <a:t>参照完整性</a:t>
            </a:r>
            <a:endParaRPr b="1" i="1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647640" y="2160360"/>
            <a:ext cx="8483760" cy="36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Comic Sans MS"/>
              </a:rPr>
              <a:t>参照完整性是两个相关联表之间的操作约束</a:t>
            </a:r>
            <a:endParaRPr b="1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Comic Sans MS"/>
              </a:rPr>
              <a:t>例题</a:t>
            </a:r>
            <a:r>
              <a:rPr b="1" lang="zh-CN" sz="3200" spc="-1" strike="noStrike">
                <a:solidFill>
                  <a:srgbClr val="000099"/>
                </a:solidFill>
                <a:latin typeface="Comic Sans MS"/>
              </a:rPr>
              <a:t>:</a:t>
            </a:r>
            <a:r>
              <a:rPr b="1" lang="zh-CN" sz="3200" spc="-1" strike="noStrike">
                <a:solidFill>
                  <a:srgbClr val="000099"/>
                </a:solidFill>
                <a:latin typeface="Comic Sans MS"/>
              </a:rPr>
              <a:t>对已建立关联的“学生”表和“成绩”表进行完整性操作</a:t>
            </a:r>
            <a:r>
              <a:rPr b="1" lang="zh-CN" sz="3200" spc="-1" strike="noStrike">
                <a:solidFill>
                  <a:srgbClr val="000099"/>
                </a:solidFill>
                <a:latin typeface="Comic Sans MS"/>
              </a:rPr>
              <a:t>,</a:t>
            </a:r>
            <a:r>
              <a:rPr b="1" lang="zh-CN" sz="3200" spc="-1" strike="noStrike">
                <a:solidFill>
                  <a:srgbClr val="000099"/>
                </a:solidFill>
                <a:latin typeface="Comic Sans MS"/>
              </a:rPr>
              <a:t>已知</a:t>
            </a:r>
            <a:r>
              <a:rPr b="1" lang="zh-CN" sz="3200" spc="-1" strike="noStrike">
                <a:solidFill>
                  <a:srgbClr val="000099"/>
                </a:solidFill>
                <a:latin typeface="Comic Sans MS"/>
              </a:rPr>
              <a:t>:</a:t>
            </a:r>
            <a:endParaRPr b="1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1) </a:t>
            </a: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主表</a:t>
            </a: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: </a:t>
            </a: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学生    主键</a:t>
            </a: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:</a:t>
            </a: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学号</a:t>
            </a:r>
            <a:endParaRPr b="1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2) </a:t>
            </a: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从表</a:t>
            </a: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: </a:t>
            </a: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成绩    外键</a:t>
            </a: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:</a:t>
            </a: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学号</a:t>
            </a:r>
            <a:endParaRPr b="1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3) </a:t>
            </a: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已进行的设置</a:t>
            </a: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: </a:t>
            </a: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级联更新相关字段</a:t>
            </a:r>
            <a:endParaRPr b="1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                 </a:t>
            </a: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级联删除相关记录</a:t>
            </a:r>
            <a:endParaRPr b="1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976" name=""/>
          <p:cNvSpPr/>
          <p:nvPr/>
        </p:nvSpPr>
        <p:spPr>
          <a:xfrm>
            <a:off x="6888240" y="5977080"/>
            <a:ext cx="2184480" cy="43164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参照完整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360360" y="1223640"/>
            <a:ext cx="83296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ff0000"/>
                </a:solidFill>
                <a:latin typeface="Comic Sans MS"/>
              </a:rPr>
              <a:t>课堂训练   </a:t>
            </a:r>
            <a:br>
              <a:rPr sz="4000"/>
            </a:br>
            <a:r>
              <a:rPr b="1" i="1" lang="zh-CN" sz="4000" spc="-1" strike="noStrike">
                <a:solidFill>
                  <a:srgbClr val="ff0000"/>
                </a:solidFill>
                <a:latin typeface="Comic Sans MS"/>
              </a:rPr>
              <a:t>参照完整性</a:t>
            </a:r>
            <a:endParaRPr b="1" i="1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431640" y="2519280"/>
            <a:ext cx="8485200" cy="31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观察以下操作的结果：</a:t>
            </a:r>
            <a:endParaRPr b="1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Comic Sans MS"/>
              </a:rPr>
              <a:t>（</a:t>
            </a:r>
            <a:r>
              <a:rPr b="1" lang="zh-CN" sz="2400" spc="-1" strike="noStrike">
                <a:solidFill>
                  <a:srgbClr val="000099"/>
                </a:solidFill>
                <a:latin typeface="Comic Sans MS"/>
              </a:rPr>
              <a:t>1</a:t>
            </a:r>
            <a:r>
              <a:rPr b="1" lang="zh-CN" sz="2400" spc="-1" strike="noStrike">
                <a:solidFill>
                  <a:srgbClr val="000099"/>
                </a:solidFill>
                <a:latin typeface="Comic Sans MS"/>
              </a:rPr>
              <a:t>）向“成绩”表输入一条新的记录，其中学号在“学生”表中是不存在的，该操作能否进行？</a:t>
            </a:r>
            <a:endParaRPr b="1" lang="en-US" sz="2400" spc="-1" strike="noStrike">
              <a:solidFill>
                <a:srgbClr val="000099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Comic Sans MS"/>
              </a:rPr>
              <a:t>（</a:t>
            </a:r>
            <a:r>
              <a:rPr b="1" lang="zh-CN" sz="2400" spc="-1" strike="noStrike">
                <a:solidFill>
                  <a:srgbClr val="000099"/>
                </a:solidFill>
                <a:latin typeface="Comic Sans MS"/>
              </a:rPr>
              <a:t>2</a:t>
            </a:r>
            <a:r>
              <a:rPr b="1" lang="zh-CN" sz="2400" spc="-1" strike="noStrike">
                <a:solidFill>
                  <a:srgbClr val="000099"/>
                </a:solidFill>
                <a:latin typeface="Comic Sans MS"/>
              </a:rPr>
              <a:t>）将“学生”表的第三条记录的“学号”字段值改为“</a:t>
            </a:r>
            <a:r>
              <a:rPr b="1" lang="zh-CN" sz="2400" spc="-1" strike="noStrike">
                <a:solidFill>
                  <a:srgbClr val="000099"/>
                </a:solidFill>
                <a:latin typeface="Comic Sans MS"/>
              </a:rPr>
              <a:t>990007”</a:t>
            </a:r>
            <a:r>
              <a:rPr b="1" lang="zh-CN" sz="2400" spc="-1" strike="noStrike">
                <a:solidFill>
                  <a:srgbClr val="000099"/>
                </a:solidFill>
                <a:latin typeface="Comic Sans MS"/>
              </a:rPr>
              <a:t>，观察“成绩”表的变化</a:t>
            </a:r>
            <a:r>
              <a:rPr b="1" lang="zh-CN" sz="2400" spc="-1" strike="noStrike">
                <a:solidFill>
                  <a:srgbClr val="000099"/>
                </a:solidFill>
                <a:latin typeface="Comic Sans MS"/>
              </a:rPr>
              <a:t>;</a:t>
            </a:r>
            <a:endParaRPr b="1" lang="en-US" sz="2400" spc="-1" strike="noStrike">
              <a:solidFill>
                <a:srgbClr val="000099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Comic Sans MS"/>
              </a:rPr>
              <a:t>（</a:t>
            </a:r>
            <a:r>
              <a:rPr b="1" lang="zh-CN" sz="2400" spc="-1" strike="noStrike">
                <a:solidFill>
                  <a:srgbClr val="000099"/>
                </a:solidFill>
                <a:latin typeface="Comic Sans MS"/>
              </a:rPr>
              <a:t>3</a:t>
            </a:r>
            <a:r>
              <a:rPr b="1" lang="zh-CN" sz="2400" spc="-1" strike="noStrike">
                <a:solidFill>
                  <a:srgbClr val="000099"/>
                </a:solidFill>
                <a:latin typeface="Comic Sans MS"/>
              </a:rPr>
              <a:t>）将“学生”表中“学号”字段值为“</a:t>
            </a:r>
            <a:r>
              <a:rPr b="1" lang="zh-CN" sz="2400" spc="-1" strike="noStrike">
                <a:solidFill>
                  <a:srgbClr val="000099"/>
                </a:solidFill>
                <a:latin typeface="Comic Sans MS"/>
              </a:rPr>
              <a:t>990004”</a:t>
            </a:r>
            <a:r>
              <a:rPr b="1" lang="zh-CN" sz="2400" spc="-1" strike="noStrike">
                <a:solidFill>
                  <a:srgbClr val="000099"/>
                </a:solidFill>
                <a:latin typeface="Comic Sans MS"/>
              </a:rPr>
              <a:t>的记录删除，观察“成绩”表的变化</a:t>
            </a:r>
            <a:endParaRPr b="1" lang="en-US" sz="24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979" name=""/>
          <p:cNvSpPr/>
          <p:nvPr/>
        </p:nvSpPr>
        <p:spPr>
          <a:xfrm>
            <a:off x="6553080" y="5977080"/>
            <a:ext cx="3024360" cy="5029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由两个表建立查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504720" y="1079280"/>
            <a:ext cx="832824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ff0000"/>
                </a:solidFill>
                <a:latin typeface="Comic Sans MS"/>
              </a:rPr>
              <a:t>课堂训练   </a:t>
            </a:r>
            <a:br>
              <a:rPr sz="4000"/>
            </a:br>
            <a:r>
              <a:rPr b="1" i="1" lang="zh-CN" sz="4000" spc="-1" strike="noStrike">
                <a:solidFill>
                  <a:srgbClr val="ff0000"/>
                </a:solidFill>
                <a:latin typeface="Comic Sans MS"/>
              </a:rPr>
              <a:t>参照完整性</a:t>
            </a:r>
            <a:endParaRPr b="1" i="1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719280" y="2303280"/>
            <a:ext cx="8485200" cy="32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Comic Sans MS"/>
              </a:rPr>
              <a:t>结论</a:t>
            </a:r>
            <a:r>
              <a:rPr b="1" lang="zh-CN" sz="3200" spc="-1" strike="noStrike">
                <a:solidFill>
                  <a:srgbClr val="000099"/>
                </a:solidFill>
                <a:latin typeface="Comic Sans MS"/>
              </a:rPr>
              <a:t>:</a:t>
            </a:r>
            <a:endParaRPr b="1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1) </a:t>
            </a: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从表中不能引用主表中不存在的实体</a:t>
            </a:r>
            <a:endParaRPr b="1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2)  </a:t>
            </a: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主表学号改变时</a:t>
            </a: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,</a:t>
            </a: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从表中的学号自动改变</a:t>
            </a: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------“</a:t>
            </a: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级联更新相关字段”。</a:t>
            </a:r>
            <a:endParaRPr b="1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3) </a:t>
            </a: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主表中删除记录时</a:t>
            </a: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,</a:t>
            </a: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从表中与主表学号相同的记录同步删除 </a:t>
            </a: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-------“</a:t>
            </a: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级联删除相关字段”</a:t>
            </a:r>
            <a:endParaRPr b="1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31640" y="1079280"/>
            <a:ext cx="83296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ff0000"/>
                </a:solidFill>
                <a:latin typeface="Comic Sans MS"/>
              </a:rPr>
              <a:t>课堂训练  </a:t>
            </a:r>
            <a:br>
              <a:rPr sz="4000"/>
            </a:br>
            <a:r>
              <a:rPr b="1" i="1" lang="zh-CN" sz="4000" spc="-1" strike="noStrike">
                <a:solidFill>
                  <a:srgbClr val="ff0000"/>
                </a:solidFill>
                <a:latin typeface="Comic Sans MS"/>
              </a:rPr>
              <a:t>用两个表的数据建立查询</a:t>
            </a:r>
            <a:endParaRPr b="1" i="1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719280" y="2447640"/>
            <a:ext cx="8485200" cy="28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Comic Sans MS"/>
              </a:rPr>
              <a:t>例题</a:t>
            </a:r>
            <a:r>
              <a:rPr b="1" lang="zh-CN" sz="3200" spc="-1" strike="noStrike">
                <a:solidFill>
                  <a:srgbClr val="000099"/>
                </a:solidFill>
                <a:latin typeface="Comic Sans MS"/>
              </a:rPr>
              <a:t>: </a:t>
            </a:r>
            <a:r>
              <a:rPr b="1" lang="zh-CN" sz="3200" spc="-1" strike="noStrike">
                <a:solidFill>
                  <a:srgbClr val="000099"/>
                </a:solidFill>
                <a:latin typeface="Comic Sans MS"/>
              </a:rPr>
              <a:t>建立查询，要求</a:t>
            </a:r>
            <a:r>
              <a:rPr b="1" lang="zh-CN" sz="3200" spc="-1" strike="noStrike">
                <a:solidFill>
                  <a:srgbClr val="000099"/>
                </a:solidFill>
                <a:latin typeface="Comic Sans MS"/>
              </a:rPr>
              <a:t>:</a:t>
            </a:r>
            <a:endParaRPr b="1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1)  </a:t>
            </a: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数据源来自“学生”表和“成绩”表</a:t>
            </a:r>
            <a:endParaRPr b="1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2) </a:t>
            </a: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结果中包含四个字段，分别是“学号”，“姓名”，“课程”和“成绩”</a:t>
            </a:r>
            <a:endParaRPr b="1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3)  </a:t>
            </a: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只显示成绩不低于</a:t>
            </a: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90</a:t>
            </a: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的记录。</a:t>
            </a:r>
            <a:endParaRPr b="1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984" name=""/>
          <p:cNvSpPr/>
          <p:nvPr/>
        </p:nvSpPr>
        <p:spPr>
          <a:xfrm>
            <a:off x="6888240" y="5977080"/>
            <a:ext cx="2184480" cy="43164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分类汇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31640" y="936360"/>
            <a:ext cx="83296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ff0000"/>
                </a:solidFill>
                <a:latin typeface="Comic Sans MS"/>
              </a:rPr>
              <a:t>课堂训练    </a:t>
            </a:r>
            <a:br>
              <a:rPr sz="4000"/>
            </a:br>
            <a:r>
              <a:rPr b="1" i="1" lang="zh-CN" sz="4000" spc="-1" strike="noStrike">
                <a:solidFill>
                  <a:srgbClr val="ff0000"/>
                </a:solidFill>
                <a:latin typeface="Comic Sans MS"/>
              </a:rPr>
              <a:t>用查询对数据进行分类汇总 </a:t>
            </a:r>
            <a:endParaRPr b="1" i="1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792000" y="1727280"/>
            <a:ext cx="84852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Comic Sans MS"/>
              </a:rPr>
              <a:t>例题</a:t>
            </a:r>
            <a:r>
              <a:rPr b="1" lang="zh-CN" sz="3200" spc="-1" strike="noStrike">
                <a:solidFill>
                  <a:srgbClr val="000099"/>
                </a:solidFill>
                <a:latin typeface="Comic Sans MS"/>
              </a:rPr>
              <a:t>:</a:t>
            </a:r>
            <a:r>
              <a:rPr b="1" lang="zh-CN" sz="3200" spc="-1" strike="noStrike">
                <a:solidFill>
                  <a:srgbClr val="000099"/>
                </a:solidFill>
                <a:latin typeface="Comic Sans MS"/>
              </a:rPr>
              <a:t>用学生表创建查询，分别计算男生和女生的平均年龄</a:t>
            </a:r>
            <a:endParaRPr b="1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在设计视图窗口设置如下的准则：</a:t>
            </a:r>
            <a:endParaRPr b="1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1</a:t>
            </a: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）单击工具栏上的“汇总”按钮；</a:t>
            </a:r>
            <a:endParaRPr b="1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2</a:t>
            </a: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）在“性别”对应的总计行中，选择 “</a:t>
            </a: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Group By” </a:t>
            </a: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，表示按“性别”分组；</a:t>
            </a:r>
            <a:endParaRPr b="1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3</a:t>
            </a: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）在“年龄”对应的总计行中选择“</a:t>
            </a: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Avg” </a:t>
            </a: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表示计算平均值</a:t>
            </a:r>
            <a:endParaRPr b="1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987" name=""/>
          <p:cNvSpPr/>
          <p:nvPr/>
        </p:nvSpPr>
        <p:spPr>
          <a:xfrm>
            <a:off x="6888240" y="5977080"/>
            <a:ext cx="2184480" cy="43164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准则和结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/>
          </p:nvPr>
        </p:nvSpPr>
        <p:spPr>
          <a:xfrm>
            <a:off x="502920" y="360360"/>
            <a:ext cx="89298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Comic Sans MS"/>
              </a:rPr>
              <a:t>动手练习：建立一个学生数据库，并向该数据库中添加</a:t>
            </a:r>
            <a:r>
              <a:rPr b="1" lang="zh-CN" sz="3200" spc="-1" strike="noStrike">
                <a:solidFill>
                  <a:srgbClr val="000099"/>
                </a:solidFill>
                <a:latin typeface="Comic Sans MS"/>
              </a:rPr>
              <a:t>6</a:t>
            </a:r>
            <a:r>
              <a:rPr b="1" lang="zh-CN" sz="3200" spc="-1" strike="noStrike">
                <a:solidFill>
                  <a:srgbClr val="000099"/>
                </a:solidFill>
                <a:latin typeface="Comic Sans MS"/>
              </a:rPr>
              <a:t>个数据表，分别为：课程表、开课计划表、选课成绩表、学生表、教师表、系部表等。这几个表的字段分别如下所示：</a:t>
            </a:r>
            <a:endParaRPr b="1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课程表（课程编号、课程名称、课程类别）</a:t>
            </a:r>
            <a:endParaRPr b="1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说明：</a:t>
            </a:r>
            <a:endParaRPr b="1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主键字段是课程编号，数字类型，整型，必添字段，课程名称，文本性，长度为</a:t>
            </a: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50</a:t>
            </a: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，必添字段，不允许空白字符串</a:t>
            </a:r>
            <a:endParaRPr b="1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课程类别：文本性，长度为</a:t>
            </a: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10</a:t>
            </a:r>
            <a:endParaRPr b="1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5T14:33:32Z</dcterms:created>
  <dc:creator>BW</dc:creator>
  <dc:description/>
  <dc:language>en-US</dc:language>
  <cp:lastModifiedBy>MC SYSTEM</cp:lastModifiedBy>
  <dcterms:modified xsi:type="dcterms:W3CDTF">2010-04-16T09:17:34Z</dcterms:modified>
  <cp:revision>48</cp:revision>
  <dc:subject/>
  <dc:title>数据库基础</dc:title>
</cp:coreProperties>
</file>