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1.jpeg" ContentType="image/jpeg"/>
  <Override PartName="/ppt/media/chimes.wav" ContentType="audio/x-wav"/>
  <Override PartName="/ppt/media/image28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6.jpeg" ContentType="image/jpeg"/>
  <Override PartName="/ppt/media/image1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gif" ContentType="image/gif"/>
  <Override PartName="/ppt/media/image13.png" ContentType="image/png"/>
  <Override PartName="/ppt/media/image14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D03-D25B-4511-A8AD-F928AFA1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FE3-B9F9-48C9-AC9B-8D22BCEE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744-C926-4EA8-9388-0D7CF4B7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27F-8C46-4D1D-9554-DCD6ED11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0DA9-84FF-4C48-A623-E0C6EB64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072E-9104-48DA-9B5F-A1A978E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D26-66F3-4F28-83A7-C084C8C3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CC8-E0C1-49A0-BCE3-1520A2D2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B615-0173-4410-9FDF-376B145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B0E1-A64B-4521-8052-69655A32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DDC4-7E47-4ADF-8A25-A464040D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E44-7297-406B-9E83-A577EA95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BB06-1FE7-45CD-9E5F-2E71FA4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8EEB-D5DC-4BE7-8D79-3B40215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C03D-3D05-4FDE-92F6-8700122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533-DC5A-49D6-A9B5-758BAA2F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20D4-898F-47FD-A369-F60AEB42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E3B-B4AF-420D-84DC-61BC79B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0E5-D26D-4502-AB18-BBB624E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77E-BFD4-4EC2-B792-7616BF82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E90-DBD7-4C85-A9A7-D58A27BB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FC5-10F6-4D5B-BD9B-4A26ED6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A7A-E93A-4FB2-A4A3-FCD48C6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E8F-47FC-46E7-B18E-066A285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181-92C9-41AD-8FBA-721EDB585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2B71-D0A4-414D-9688-918BCD97A4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484360" y="836640"/>
            <a:ext cx="4098960" cy="1219320"/>
            <a:chOff x="2484360" y="836640"/>
            <a:chExt cx="4098960" cy="1219320"/>
          </a:xfrm>
        </p:grpSpPr>
        <p:sp>
          <p:nvSpPr>
            <p:cNvPr id="83" name=""/>
            <p:cNvSpPr/>
            <p:nvPr/>
          </p:nvSpPr>
          <p:spPr>
            <a:xfrm>
              <a:off x="3558960" y="836640"/>
              <a:ext cx="29512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484360" y="83664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774960" y="83664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入新课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826920" y="242100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大家在动画片上是不是都见机器人呢？机器人真是无所不能啊！大家彼此讨论一下你在动画片中见到过的机器人有什么特征，他们能干什么呢？现实中有没有像动画片中那样无所不能的机器人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285732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30200" y="2852640"/>
            <a:ext cx="73818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适合果农，所以叫（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（           ）、（          ）、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时不用（        ），也不用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要“吃”（                              ），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充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懂主人的指挥，摘（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2376360" cy="63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99880" y="198900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园机器人是什么样子的？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466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园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2997360"/>
            <a:ext cx="287640" cy="2376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781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果园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213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摘果子            装箱              运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65200" y="358632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电线                       电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005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树上掉下的果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75760" y="494172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树上的果子“吃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40464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说说果园机器人是怎样子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268280"/>
            <a:ext cx="871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种机器人适合果农，因为它们是果园机器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种机器人会摘果子，装箱，运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种机器人不用电，自己会充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地上的水果不够“吃”时，他会听懂果农的指挥，摘树上的果子“吃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说说果园机器人是如何工作的？机器人可以帮人们做哪些事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28036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2376360" cy="63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57000" y="1807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果园机器人能帮果农做些什么呢？你能读读第二自然段告诉大家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005360"/>
            <a:ext cx="88930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它们能把成熟的果子从树上摘下来，整齐地装进纸箱，然后运到指定的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2205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7080" y="299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受机器人的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3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32000" y="33336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168720" cy="3809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3078000" cy="3810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3240360" cy="316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9495200">
            <a:off x="1008000" y="4257360"/>
            <a:ext cx="1081080" cy="17287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4424600">
            <a:off x="6695640" y="4184280"/>
            <a:ext cx="1081080" cy="17287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67080" y="1844640"/>
            <a:ext cx="1521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摘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77680" y="5013360"/>
            <a:ext cx="1521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装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37800" y="1268280"/>
            <a:ext cx="8506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运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643040" y="71424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想一想，能不能用一句话来概括果园机器人对果农们的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1857240" y="3000240"/>
            <a:ext cx="564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只要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就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571760" y="214308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但是，果园机器人一开始就能适应果园生产的需要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7000" y="189000"/>
            <a:ext cx="856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机器人真能干，有了这些好帮手，果农们就省心多了，可派这些机器人去摘果子后，发愁的事又来了。到底是什么事呢？让我们好好读读第三自然段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到发愁的事情把他划下来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979720"/>
            <a:ext cx="873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果没有电，他们是要“罢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工”的，果园那么大，到处是果树，不可能让机器人拖着长长的电线走来走去。那就得经常给机器人充电或者换新电池。因为电池的电很快就会用完的，没电了，机器人就会“饿倒”。让果农在大片密密的果树林里一个个地去找“饿倒”了的机器人，那可太麻烦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31640" y="279360"/>
            <a:ext cx="78487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样看来，如果没有电的话，机器人就会“罢工”，会“饿倒”就不能帮助果农了。怎么办呢？请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. 5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自然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找找他们是怎么解决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用线划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6320" y="3240000"/>
            <a:ext cx="51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们只要“吃”树上掉下的水果就可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干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6640" y="2573280"/>
            <a:ext cx="65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让机器人自己充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6640" y="4554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上的水果不够“吃”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主人就会立刻告诉它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树上摘些果子“吃’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419640" y="620640"/>
            <a:ext cx="244764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能源来源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04000" y="981000"/>
            <a:ext cx="2120760" cy="331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3780000" cy="34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124000" y="4724280"/>
            <a:ext cx="5400720" cy="2133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268360" y="2060640"/>
            <a:ext cx="5113440" cy="316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411280" y="1341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吃水果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糖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332000" y="4724280"/>
            <a:ext cx="6398640" cy="1916280"/>
            <a:chOff x="1332000" y="4724280"/>
            <a:chExt cx="6398640" cy="1916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913360" y="4724280"/>
              <a:ext cx="12870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443280" y="4795920"/>
              <a:ext cx="128736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1332000" y="4795920"/>
              <a:ext cx="12870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3419280" y="4795920"/>
              <a:ext cx="1287000" cy="16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2124000" y="4724280"/>
              <a:ext cx="12870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148000" y="4940280"/>
              <a:ext cx="128700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4282920" y="4940280"/>
              <a:ext cx="128700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1258920" y="1341360"/>
            <a:ext cx="6697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动画片中那种无所不能的机器人在现实中是不存在的，那只是人们脑中想象出来的，把他们功能化了。但是现实中的确是有机器人的，而且它们还能帮人们干活呢！咱们今天来学习</a:t>
            </a:r>
            <a:r>
              <a:rPr b="1" lang="en-US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果园机器人</a:t>
            </a:r>
            <a:r>
              <a:rPr b="1" lang="en-US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9900ff"/>
                </a:solidFill>
                <a:latin typeface="华文中宋"/>
                <a:ea typeface="华文中宋"/>
              </a:rPr>
              <a:t>看看这些机器人能帮人们做些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28520" y="533520"/>
            <a:ext cx="3225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没有电，他们是要“罢工”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7680" y="1752480"/>
            <a:ext cx="49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●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池的电很快就会用完的，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了，机器人就会“饿倒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06640" y="373392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果农在大片密密的果林里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个地去找“饿倒”了的机器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可太麻烦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198900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说说果园机器人最新奇有趣的地方是什么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683240" cy="5111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403280" y="69228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小组讨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200" y="4508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趣一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没有电，他们是要“罢工”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趣二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为电池的电很快就会用完的，没电了，机器人就会“饿倒”。让果农们在大片密密的果树林里一个个地去找“饿倒”了的机器人，那可太麻烦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读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2200" y="450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93372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趣四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收获的季节里，这些机器人只要捡掉在地上的水果“吃”，就能不停地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349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84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趣三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们只要“吃”掉在地上的水果就可以干活。这种机器人的肚子里，如果装了特殊的电池，就可以把吃进去的水果变成糖，再把糖变成电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143000" y="1071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器人是自动执行工作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机器装置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既可以接受人类指挥，又可以运行预选编排的程序自主行动。它的任务是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协助或取代人类进行工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例如生产业、建筑业，或是危险的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052640"/>
            <a:ext cx="8497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拓展延伸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放飞想象的翅膀，把自己心目中的果园机器人画出来？并说说为什么这么设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走进机器人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79640" y="1728720"/>
            <a:ext cx="4753080" cy="4049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59280" y="580536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会做饭的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>
    <p:comb dir="vert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89440" cy="4233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5805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  福娃机器人能够感应到一米范围内的游客，与人对话、摄影留念、唱歌舞蹈，还能回答与奥运会相关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 spd="med"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632040" y="5786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擦玻璃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47640" y="1630440"/>
            <a:ext cx="5977080" cy="4092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5400000">
            <a:off x="-792000" y="324972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 spd="med"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47640" y="1677960"/>
            <a:ext cx="5545440" cy="4326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459600" y="6002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会装小汽车的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 rot="5400000">
            <a:off x="-792000" y="368316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 spd="med"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549360"/>
            <a:ext cx="5959440" cy="583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5400000">
            <a:off x="-719640" y="2959560"/>
            <a:ext cx="4824360" cy="187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果园机器人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260280"/>
            <a:ext cx="1727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24</a:t>
            </a:r>
            <a:endParaRPr b="1" lang="en-US" sz="24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p:transition spd="med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26920" y="5516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种双臂机器人可以应用在汽车生产线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47640" y="1800360"/>
            <a:ext cx="5472360" cy="4206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49680" y="607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导盲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5400000">
            <a:off x="-792000" y="3538440"/>
            <a:ext cx="352764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 spd="med"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9742" b="0"/>
          <a:stretch/>
        </p:blipFill>
        <p:spPr>
          <a:xfrm>
            <a:off x="1476360" y="1700280"/>
            <a:ext cx="6191280" cy="4022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21320" y="585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灭火机器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5400000">
            <a:off x="-792000" y="3322800"/>
            <a:ext cx="352728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微软雅黑"/>
              </a:rPr>
              <a:t>走进机器人世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微软雅黑"/>
              <a:ea typeface="微软雅黑"/>
            </a:endParaRPr>
          </a:p>
        </p:txBody>
      </p:sp>
    </p:spTree>
  </p:cSld>
  <p:transition spd="med">
    <p:blinds dir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在日本东京举办的2005年国际机器人展上，一位小姐展示能与孩子交谈玩耍的机器人"/>
          <p:cNvPicPr/>
          <p:nvPr/>
        </p:nvPicPr>
        <p:blipFill>
          <a:blip r:embed="rId2"/>
          <a:stretch/>
        </p:blipFill>
        <p:spPr>
          <a:xfrm>
            <a:off x="1547640" y="620640"/>
            <a:ext cx="6193080" cy="4826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908000" y="5589720"/>
            <a:ext cx="5372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与孩子交谈玩耍的机器人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4248360" cy="417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486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机器人在回应电视节目主持人向它表示的新年祝福 ，它可以像人类一样思考和学习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303640" cy="557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84360" y="1700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聪明能干的机器人越来越受到大家的欢迎了，他们不但能够进入厨房制作佳肴，还能够投身火海奋勇救火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想像，说一说自己想发明什么样的机器人，它有哪些本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9311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写一篇关于未来机器人的作文。以现实生活为出发点，内容要新颖、独特、有创意，大胆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练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27280" y="3500280"/>
            <a:ext cx="37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楷体_GB2312"/>
              </a:rPr>
              <a:t>相信你是最棒的</a:t>
            </a:r>
            <a:r>
              <a:rPr b="0" lang="en-US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楷体_GB2312"/>
              </a:rPr>
              <a:t>~!</a:t>
            </a:r>
            <a:endParaRPr b="0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03280" y="620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206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后展开想象，说说自己想发明什么样的机器人，它有哪些本领，下节口语交际课上进行交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650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16000" y="836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23623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聪明能干的机器人越来越受到大家的欢迎了，潜入深海寻找宝藏，给人类送牛奶，帮助人们抚养孩子，进入身体查病治病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192480" y="380880"/>
            <a:ext cx="212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明确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送牛奶的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割草地的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看孩子的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排除危险情况的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查病治病的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15920" y="182520"/>
            <a:ext cx="7272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阅读要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果园机器人是什么样子的？用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—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画出来。它会干哪些活？用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﹏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画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查字典或联系上下文理解词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想一想课文写的机器人是怎样的，有什么特点？自己认为哪些特点最有趣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44600" y="838080"/>
            <a:ext cx="6581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翻译机器人        钻探机器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保姆机器人         探月机器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救灾机器人          医疗机器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导游机器人         海底探秘机器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侦察机器人          </a:t>
            </a:r>
            <a:r>
              <a:rPr b="1" lang="en-US" sz="40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2058840"/>
            <a:ext cx="8424720" cy="42498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484360" y="1052640"/>
            <a:ext cx="4098960" cy="1218960"/>
            <a:chOff x="2484360" y="1052640"/>
            <a:chExt cx="4098960" cy="1218960"/>
          </a:xfrm>
        </p:grpSpPr>
        <p:sp>
          <p:nvSpPr>
            <p:cNvPr id="244" name=""/>
            <p:cNvSpPr/>
            <p:nvPr/>
          </p:nvSpPr>
          <p:spPr>
            <a:xfrm>
              <a:off x="3558960" y="1052640"/>
              <a:ext cx="295128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2484360" y="105264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74960" y="105264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课堂小结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116000" y="2492280"/>
            <a:ext cx="712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篇课文的叙述方式很有特色。文中果园机器人各种特性的介绍，是随果园生产需要的变化一步步体现出来的。这样的叙述一方面使得果园机器人特点的介绍有层次，另一方面也体现了生产需求是科技的发展佛农光里，读后会得到有益的启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835280" y="2276640"/>
            <a:ext cx="5761080" cy="188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14400" y="1066680"/>
            <a:ext cx="91440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兴   发愁   麻烦   指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罢工   饿倒   充电   特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聪明能干      好帮手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1844640"/>
            <a:ext cx="1871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罢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765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词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1844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工作，停止工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3789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371628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的，与众不同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581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特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边框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685800"/>
            <a:ext cx="819468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了解果园机器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果园机器人能把果子从树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下来，并整齐地     纸箱，然后    指定的地方。“饿了”就     水果，然后接着工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果园机器人不偷懒，听指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是       的好帮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760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装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840" y="27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运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06240" y="274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吃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21280" y="457200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果农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88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640" y="266400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46640" y="2708280"/>
            <a:ext cx="121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21640" y="338472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0920" y="338472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1280" y="518472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571760" y="107172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果农遇到了什么问题，才想了机器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792000" y="271476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秋天到了，果农们又高兴又发愁。高兴的是水果又丰收啦，发愁的是需要做的事太多了。要把果子从树上摘下来，要把它们运到很远的地方去卖，实在忙不过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260280"/>
            <a:ext cx="75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天到了，果农们又高兴又发愁。高兴的是水果又丰收啦，发愁的是需要做的事太多了。要把果子从树上摘下来，要把它们运到很远的地方去卖，实在忙不过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619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周末要到了，我既开心又难过。开心的是                                                   ，难过的是                 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640" y="4734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——————————————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85920" y="3699000"/>
            <a:ext cx="5626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46280" y="4284720"/>
            <a:ext cx="517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7:34:57Z</dcterms:created>
  <dc:creator>cjzx</dc:creator>
  <dc:description/>
  <cp:keywords/>
  <dc:language>en-US</dc:language>
  <cp:lastModifiedBy>Administrator</cp:lastModifiedBy>
  <cp:lastPrinted>1899-12-30T00:00:00Z</cp:lastPrinted>
  <dcterms:modified xsi:type="dcterms:W3CDTF">2013-05-07T13:05:00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