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8D4-5A73-4396-A1DD-82D90EBD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ECC-E431-45E3-878E-3C8BBF85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D68-4058-49E9-9738-15FD2D7C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39D-9527-445E-A611-A1089AE2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025-E02D-41D2-A14E-F9C4BA2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EDD-2A42-4436-B765-CF000C89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389-3465-471E-BFD9-A8220EE0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CCE-77BD-4125-A111-EEF41247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A8D-16D7-4636-AA38-0E01F4B8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D4D-47E3-4FFF-924D-70D04499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649-AC4E-49B8-B3D1-540A49AD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80B-E2EA-4F0C-A908-F2552405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AF44-4A49-49AA-8067-814DB5438B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2G901钢筋锚固长度.bmp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87720" y="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G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09G901钢筋锚固长度.bmp"/>
          <p:cNvPicPr/>
          <p:nvPr/>
        </p:nvPicPr>
        <p:blipFill>
          <a:blip r:embed="rId1"/>
          <a:stretch/>
        </p:blipFill>
        <p:spPr>
          <a:xfrm>
            <a:off x="533520" y="0"/>
            <a:ext cx="8216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87720" y="-414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G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igb10</cp:lastModifiedBy>
  <dcterms:modified xsi:type="dcterms:W3CDTF">2013-06-07T09:44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