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AE01-52BD-4EC0-8583-DED468ECA6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全年零售业绩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303.6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全年业绩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2453.7858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BA:4,254,9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AIT:1,542,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:3,293,0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234-8D8D-46B8-B18B-E6B233A2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B64-292E-4070-8969-13322CF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839-4504-47B9-AA31-BFA99172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476-C7C8-4CAB-AE24-35529D05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935-F2CA-47E9-9EE2-220B7F93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8CE6-7CD4-4098-B652-8D282E9D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0A0F-DC6F-4354-A3BD-B15BF03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51C-9351-42A4-B555-3848323D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5C3-F97D-48D1-A794-6CB038A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FED2-8F83-49E0-8205-B59F971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3A56-1F8B-48E3-B32C-2C9CB24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A06-81E8-44D2-BE46-103154EA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F31-F49C-48A8-96E7-2497D00F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2A84-F381-4594-8209-00787C44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05C1-823A-4C17-BB97-8F2774F6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1289-B7D0-4270-84EA-A913BD26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53BD-685E-4B6B-BB9F-F38D54C8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163-A8FB-4AC8-BA08-AF36C3F1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061-E4DA-41CD-B31E-0C72040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97A-49FF-4FED-AB87-96758450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89B-2CE6-4EC2-9283-FC6C858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E56-7F80-482B-B931-716C5253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BFE-17B8-4ACA-87DD-756E7363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2D8-71B9-4882-A304-6317840B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DCF-792D-4F63-90B4-1AD6A61B7E5D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92DD-3707-4B01-B1F2-DE31691EF0D3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研发部第一季度总结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4141440"/>
            <a:ext cx="666288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报告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X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报告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172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归档类型：工作总结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考核目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考核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进度</a:t>
            </a: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天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二季度业绩目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完成部门手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990720" y="5019840"/>
            <a:ext cx="12952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队伍建设情况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目前队伍情况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一季度队伍建设情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19720" y="304812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1752840" cy="110016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1204920" y="2895480"/>
            <a:ext cx="1614600" cy="1631520"/>
            <a:chOff x="1204920" y="2895480"/>
            <a:chExt cx="1614600" cy="1631520"/>
          </a:xfrm>
        </p:grpSpPr>
        <p:sp>
          <p:nvSpPr>
            <p:cNvPr id="435" name=""/>
            <p:cNvSpPr/>
            <p:nvPr/>
          </p:nvSpPr>
          <p:spPr>
            <a:xfrm>
              <a:off x="1219320" y="289548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3e2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产品构架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336708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04920" y="4067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1 </a:t>
              </a: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166760" y="2781360"/>
            <a:ext cx="1771560" cy="1942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581280" y="2819520"/>
            <a:ext cx="5900760" cy="2898000"/>
            <a:chOff x="3581280" y="2819520"/>
            <a:chExt cx="5900760" cy="2898000"/>
          </a:xfrm>
        </p:grpSpPr>
        <p:grpSp>
          <p:nvGrpSpPr>
            <p:cNvPr id="440" name=""/>
            <p:cNvGrpSpPr/>
            <p:nvPr/>
          </p:nvGrpSpPr>
          <p:grpSpPr>
            <a:xfrm>
              <a:off x="3581280" y="2819520"/>
              <a:ext cx="5900760" cy="2898000"/>
              <a:chOff x="3581280" y="2819520"/>
              <a:chExt cx="5900760" cy="2898000"/>
            </a:xfrm>
          </p:grpSpPr>
          <p:sp>
            <p:nvSpPr>
              <p:cNvPr id="441" name=""/>
              <p:cNvSpPr/>
              <p:nvPr/>
            </p:nvSpPr>
            <p:spPr>
              <a:xfrm>
                <a:off x="3581280" y="28195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cc"/>
                    </a:solidFill>
                    <a:latin typeface="Times New Roman"/>
                    <a:ea typeface="隶书"/>
                  </a:rPr>
                  <a:t>产品策划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81480" y="28195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81280" y="33289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A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181480" y="33289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3 </a:t>
                </a: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81280" y="384804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B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81480" y="38480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4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81280" y="434340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C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43680" y="43434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1 </a:t>
                </a:r>
                <a:r>
                  <a:rPr b="0" lang="zh-CN" sz="2400" spc="-1" strike="noStrike" u="sng">
                    <a:solidFill>
                      <a:srgbClr val="ff99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581280" y="482904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D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95680" y="53197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UI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设计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81480" y="5257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181480" y="288144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1480" y="336708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81480" y="388620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181480" y="440532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81480" y="487692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195880" y="5367240"/>
                <a:ext cx="366840" cy="276480"/>
              </a:xfrm>
              <a:prstGeom prst="rightArrow">
                <a:avLst>
                  <a:gd name="adj1" fmla="val 50000"/>
                  <a:gd name="adj2" fmla="val 33171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310440" y="2819520"/>
                <a:ext cx="3162240" cy="459720"/>
                <a:chOff x="6310440" y="2819520"/>
                <a:chExt cx="3162240" cy="4597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310440" y="284796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文档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87248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4 </a:t>
                  </a: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910640" y="290988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319800" y="3352680"/>
                <a:ext cx="3162240" cy="459720"/>
                <a:chOff x="6319800" y="3352680"/>
                <a:chExt cx="3162240" cy="45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319800" y="338112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测试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881840" y="33526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ff9966"/>
                      </a:solidFill>
                      <a:uFillTx/>
                      <a:latin typeface="Times New Roman"/>
                      <a:ea typeface="隶书"/>
                    </a:rPr>
                    <a:t>1 </a:t>
                  </a:r>
                  <a:r>
                    <a:rPr b="0" lang="zh-CN" sz="2400" spc="-1" strike="noStrike" u="sng">
                      <a:solidFill>
                        <a:srgbClr val="ff9966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920000" y="344304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>
              <a:off x="5181480" y="48290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3 </a:t>
              </a: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352680" y="2771640"/>
            <a:ext cx="5639040" cy="30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562720" y="4124160"/>
            <a:ext cx="3200400" cy="1524240"/>
            <a:chOff x="5562720" y="4124160"/>
            <a:chExt cx="3200400" cy="1524240"/>
          </a:xfrm>
        </p:grpSpPr>
        <p:sp>
          <p:nvSpPr>
            <p:cNvPr id="469" name=""/>
            <p:cNvSpPr/>
            <p:nvPr/>
          </p:nvSpPr>
          <p:spPr>
            <a:xfrm>
              <a:off x="5562720" y="4124160"/>
              <a:ext cx="3200400" cy="1524240"/>
            </a:xfrm>
            <a:prstGeom prst="cloudCallout">
              <a:avLst>
                <a:gd name="adj1" fmla="val 34624"/>
                <a:gd name="adj2" fmla="val -63648"/>
              </a:avLst>
            </a:prstGeom>
            <a:solidFill>
              <a:srgbClr val="b3b3b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24840" y="4657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总人数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2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队伍建设情况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二季度目标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1523880" y="5105520"/>
            <a:ext cx="1752840" cy="1100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166760" y="2781360"/>
            <a:ext cx="1771560" cy="1942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2680" y="2771640"/>
            <a:ext cx="5639040" cy="30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486240" y="2862360"/>
            <a:ext cx="5900760" cy="2898000"/>
            <a:chOff x="3486240" y="2862360"/>
            <a:chExt cx="5900760" cy="2898000"/>
          </a:xfrm>
        </p:grpSpPr>
        <p:grpSp>
          <p:nvGrpSpPr>
            <p:cNvPr id="476" name=""/>
            <p:cNvGrpSpPr/>
            <p:nvPr/>
          </p:nvGrpSpPr>
          <p:grpSpPr>
            <a:xfrm>
              <a:off x="3486240" y="2862360"/>
              <a:ext cx="5900760" cy="2898000"/>
              <a:chOff x="3486240" y="2862360"/>
              <a:chExt cx="5900760" cy="2898000"/>
            </a:xfrm>
          </p:grpSpPr>
          <p:sp>
            <p:nvSpPr>
              <p:cNvPr id="477" name=""/>
              <p:cNvSpPr/>
              <p:nvPr/>
            </p:nvSpPr>
            <p:spPr>
              <a:xfrm>
                <a:off x="3486240" y="286236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cc"/>
                    </a:solidFill>
                    <a:latin typeface="Times New Roman"/>
                    <a:ea typeface="隶书"/>
                  </a:rPr>
                  <a:t>产品策划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86440" y="28623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3 </a:t>
                </a: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486240" y="337176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A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86440" y="33717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4 </a:t>
                </a: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486240" y="389088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B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86440" y="38908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4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86240" y="438624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C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8640" y="43862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cc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86240" y="487188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D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产品研发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00640" y="536256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3e2c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UI</a:t>
                </a:r>
                <a:r>
                  <a:rPr b="0" lang="zh-CN" sz="1800" spc="-1" strike="noStrike">
                    <a:solidFill>
                      <a:srgbClr val="003366"/>
                    </a:solidFill>
                    <a:latin typeface="Times New Roman"/>
                    <a:ea typeface="隶书"/>
                  </a:rPr>
                  <a:t>设计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86440" y="530064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2 </a:t>
                </a:r>
                <a:r>
                  <a:rPr b="0" lang="zh-CN" sz="2400" spc="-1" strike="noStrike" u="sng">
                    <a:solidFill>
                      <a:srgbClr val="003366"/>
                    </a:solidFill>
                    <a:uFillTx/>
                    <a:latin typeface="Times New Roman"/>
                    <a:ea typeface="隶书"/>
                  </a:rPr>
                  <a:t>人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86440" y="292428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86440" y="340992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86440" y="392904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86440" y="444816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86440" y="4919760"/>
                <a:ext cx="366840" cy="276120"/>
              </a:xfrm>
              <a:prstGeom prst="rightArrow">
                <a:avLst>
                  <a:gd name="adj1" fmla="val 50000"/>
                  <a:gd name="adj2" fmla="val 33214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100840" y="5410080"/>
                <a:ext cx="366840" cy="276480"/>
              </a:xfrm>
              <a:prstGeom prst="rightArrow">
                <a:avLst>
                  <a:gd name="adj1" fmla="val 50000"/>
                  <a:gd name="adj2" fmla="val 33171"/>
                </a:avLst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15400" y="2862360"/>
                <a:ext cx="3162240" cy="459720"/>
                <a:chOff x="6215400" y="2862360"/>
                <a:chExt cx="3162240" cy="4597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15400" y="289080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文档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777440" y="286236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4 </a:t>
                  </a:r>
                  <a:r>
                    <a:rPr b="0" lang="zh-CN" sz="2400" spc="-1" strike="noStrike" u="sng">
                      <a:solidFill>
                        <a:srgbClr val="003366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815600" y="295272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6224760" y="3395520"/>
                <a:ext cx="3162240" cy="459720"/>
                <a:chOff x="6224760" y="3395520"/>
                <a:chExt cx="3162240" cy="45972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224760" y="342396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e3e2c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3366"/>
                      </a:solidFill>
                      <a:latin typeface="Times New Roman"/>
                      <a:ea typeface="隶书"/>
                    </a:rPr>
                    <a:t>测试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786800" y="3395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 u="sng">
                      <a:solidFill>
                        <a:srgbClr val="0033cc"/>
                      </a:solidFill>
                      <a:uFillTx/>
                      <a:latin typeface="Times New Roman"/>
                      <a:ea typeface="隶书"/>
                    </a:rPr>
                    <a:t>2</a:t>
                  </a:r>
                  <a:r>
                    <a:rPr b="0" lang="zh-CN" sz="2400" spc="-1" strike="noStrike" u="sng">
                      <a:solidFill>
                        <a:srgbClr val="0033cc"/>
                      </a:solidFill>
                      <a:uFillTx/>
                      <a:latin typeface="Times New Roman"/>
                      <a:ea typeface="隶书"/>
                    </a:rPr>
                    <a:t>人</a:t>
                  </a:r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824960" y="3485880"/>
                  <a:ext cx="366480" cy="276480"/>
                </a:xfrm>
                <a:prstGeom prst="rightArrow">
                  <a:avLst>
                    <a:gd name="adj1" fmla="val 50000"/>
                    <a:gd name="adj2" fmla="val 33138"/>
                  </a:avLst>
                </a:prstGeom>
                <a:solidFill>
                  <a:srgbClr val="ffffff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5086440" y="4871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3 </a:t>
              </a:r>
              <a:r>
                <a:rPr b="0" lang="zh-CN" sz="2400" spc="-1" strike="noStrike" u="sng">
                  <a:solidFill>
                    <a:srgbClr val="0033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204920" y="2895480"/>
            <a:ext cx="1614600" cy="1631520"/>
            <a:chOff x="1204920" y="2895480"/>
            <a:chExt cx="1614600" cy="1631520"/>
          </a:xfrm>
        </p:grpSpPr>
        <p:sp>
          <p:nvSpPr>
            <p:cNvPr id="504" name=""/>
            <p:cNvSpPr/>
            <p:nvPr/>
          </p:nvSpPr>
          <p:spPr>
            <a:xfrm>
              <a:off x="1219320" y="2895480"/>
              <a:ext cx="16002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3e2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产品构架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28800" y="336708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04920" y="4067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1 </a:t>
              </a:r>
              <a:r>
                <a:rPr b="0" lang="zh-CN" sz="2400" spc="-1" strike="noStrike" u="sng">
                  <a:solidFill>
                    <a:srgbClr val="ff9966"/>
                  </a:solidFill>
                  <a:uFillTx/>
                  <a:latin typeface="Times New Roman"/>
                  <a:ea typeface="隶书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562720" y="4124160"/>
            <a:ext cx="3200400" cy="1524240"/>
            <a:chOff x="5562720" y="4124160"/>
            <a:chExt cx="3200400" cy="1524240"/>
          </a:xfrm>
        </p:grpSpPr>
        <p:sp>
          <p:nvSpPr>
            <p:cNvPr id="508" name=""/>
            <p:cNvSpPr/>
            <p:nvPr/>
          </p:nvSpPr>
          <p:spPr>
            <a:xfrm>
              <a:off x="5562720" y="4124160"/>
              <a:ext cx="3200400" cy="1524240"/>
            </a:xfrm>
            <a:prstGeom prst="cloudCallout">
              <a:avLst>
                <a:gd name="adj1" fmla="val 34624"/>
                <a:gd name="adj2" fmla="val -63648"/>
              </a:avLst>
            </a:prstGeom>
            <a:solidFill>
              <a:srgbClr val="b3b3b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4840" y="4657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总人数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6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人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总 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447920" y="5257800"/>
            <a:ext cx="1676160" cy="9716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144792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2286000"/>
            <a:ext cx="6248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关心员工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有条不紊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认真负责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大家风范－承诺永恒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647720" y="2361960"/>
            <a:ext cx="64008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84360" y="3429000"/>
            <a:ext cx="5543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</a:rPr>
              <a:t>谢谢大家！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工作总结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819160"/>
            <a:ext cx="795816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一季度工作回顾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二季度工作计划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队伍建设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目标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414520" y="1981080"/>
          <a:ext cx="6653160" cy="44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981080"/>
                    <a:ext cx="6653160" cy="44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018440" y="3048120"/>
            <a:ext cx="9118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零售业绩完成情况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86200" y="2819520"/>
            <a:ext cx="2362320" cy="1218960"/>
            <a:chOff x="3886200" y="2819520"/>
            <a:chExt cx="2362320" cy="1218960"/>
          </a:xfrm>
        </p:grpSpPr>
        <p:sp>
          <p:nvSpPr>
            <p:cNvPr id="307" name=""/>
            <p:cNvSpPr/>
            <p:nvPr/>
          </p:nvSpPr>
          <p:spPr>
            <a:xfrm>
              <a:off x="3886200" y="2819520"/>
              <a:ext cx="2362320" cy="1218960"/>
            </a:xfrm>
            <a:prstGeom prst="wedgeRoundRectCallout">
              <a:avLst>
                <a:gd name="adj1" fmla="val -45763"/>
                <a:gd name="adj2" fmla="val 69921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00680" y="3014640"/>
              <a:ext cx="2133360" cy="862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预算完成</a:t>
              </a: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160%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全年业绩的</a:t>
              </a:r>
              <a:r>
                <a:rPr b="0" lang="zh-CN" sz="2000" spc="-1" strike="noStrike">
                  <a:solidFill>
                    <a:srgbClr val="003366"/>
                  </a:solidFill>
                  <a:latin typeface="Times New Roman"/>
                </a:rPr>
                <a:t>19.6%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产品回顾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32004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7524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2286000" y="2443320"/>
            <a:ext cx="6458040" cy="2445480"/>
            <a:chOff x="2286000" y="2443320"/>
            <a:chExt cx="6458040" cy="2445480"/>
          </a:xfrm>
        </p:grpSpPr>
        <p:sp>
          <p:nvSpPr>
            <p:cNvPr id="313" name=""/>
            <p:cNvSpPr/>
            <p:nvPr/>
          </p:nvSpPr>
          <p:spPr>
            <a:xfrm>
              <a:off x="6172200" y="35053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第二代新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44197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共享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15000" y="44290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第三代新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57520" y="24433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海外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3505320"/>
              <a:ext cx="2361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香港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81720" y="2443320"/>
              <a:ext cx="23623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2001</a:t>
              </a:r>
              <a:r>
                <a:rPr b="0" lang="zh-CN" sz="24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韩国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29200" y="259092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365760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05520" y="45720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2120" y="3657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86000" y="45720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352680" y="3352680"/>
            <a:ext cx="2209680" cy="838440"/>
            <a:chOff x="3352680" y="3352680"/>
            <a:chExt cx="2209680" cy="838440"/>
          </a:xfrm>
        </p:grpSpPr>
        <p:sp>
          <p:nvSpPr>
            <p:cNvPr id="325" name=""/>
            <p:cNvSpPr/>
            <p:nvPr/>
          </p:nvSpPr>
          <p:spPr>
            <a:xfrm>
              <a:off x="3352680" y="3352680"/>
              <a:ext cx="2209680" cy="838440"/>
            </a:xfrm>
            <a:prstGeom prst="wedgeRoundRectCallout">
              <a:avLst>
                <a:gd name="adj1" fmla="val -50648"/>
                <a:gd name="adj2" fmla="val 79166"/>
                <a:gd name="adj3" fmla="val 16667"/>
              </a:avLst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280" y="3505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001.3.18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84720" y="3500280"/>
            <a:ext cx="2209680" cy="838440"/>
            <a:chOff x="6084720" y="3500280"/>
            <a:chExt cx="2209680" cy="838440"/>
          </a:xfrm>
        </p:grpSpPr>
        <p:sp>
          <p:nvSpPr>
            <p:cNvPr id="328" name=""/>
            <p:cNvSpPr/>
            <p:nvPr/>
          </p:nvSpPr>
          <p:spPr>
            <a:xfrm>
              <a:off x="6084720" y="3500280"/>
              <a:ext cx="2209680" cy="838440"/>
            </a:xfrm>
            <a:prstGeom prst="wedgeRoundRectCallout">
              <a:avLst>
                <a:gd name="adj1" fmla="val -50648"/>
                <a:gd name="adj2" fmla="val 79166"/>
                <a:gd name="adj3" fmla="val 16667"/>
              </a:avLst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13320" y="3652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001.4.1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00720" y="2276640"/>
            <a:ext cx="2209680" cy="838080"/>
            <a:chOff x="6300720" y="2276640"/>
            <a:chExt cx="2209680" cy="838080"/>
          </a:xfrm>
        </p:grpSpPr>
        <p:sp>
          <p:nvSpPr>
            <p:cNvPr id="331" name=""/>
            <p:cNvSpPr/>
            <p:nvPr/>
          </p:nvSpPr>
          <p:spPr>
            <a:xfrm>
              <a:off x="6300720" y="2276640"/>
              <a:ext cx="2209680" cy="838080"/>
            </a:xfrm>
            <a:prstGeom prst="wedgeRoundRectCallout">
              <a:avLst>
                <a:gd name="adj1" fmla="val -50648"/>
                <a:gd name="adj2" fmla="val 79166"/>
                <a:gd name="adj3" fmla="val 16667"/>
              </a:avLst>
            </a:prstGeom>
            <a:solidFill>
              <a:srgbClr val="e3e2c7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29320" y="2428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2001.2.19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业绩分析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总结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19840" y="2514600"/>
            <a:ext cx="131292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05120" y="2666880"/>
            <a:ext cx="4876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一）一季度完成零售业绩目标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二）产品研发进度基本得到保障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三）一季度为全年开了一个好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一季度工作回顾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工作回顾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2590920"/>
            <a:ext cx="25146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213372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工作周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95480" y="274320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组织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335268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合作伙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99096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员工关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462456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规范流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22860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2895480"/>
            <a:ext cx="1295280" cy="152640"/>
          </a:xfrm>
          <a:prstGeom prst="rightArrow">
            <a:avLst>
              <a:gd name="adj1" fmla="val 50000"/>
              <a:gd name="adj2" fmla="val 212146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35053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41148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8006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86600" y="214776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86600" y="275760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335268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396252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460548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525780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绩效考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5410080"/>
            <a:ext cx="1295280" cy="152640"/>
          </a:xfrm>
          <a:prstGeom prst="rightArrow">
            <a:avLst>
              <a:gd name="adj1" fmla="val 50000"/>
              <a:gd name="adj2" fmla="val 212146"/>
            </a:avLst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00640" y="5257800"/>
            <a:ext cx="1981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72200" y="2162160"/>
            <a:ext cx="9907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3352680"/>
            <a:ext cx="9907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2193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4614840"/>
            <a:ext cx="6858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目标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29528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"/>
          <p:cNvGraphicFramePr/>
          <p:nvPr/>
        </p:nvGraphicFramePr>
        <p:xfrm>
          <a:off x="2038320" y="2254320"/>
          <a:ext cx="68770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38320" y="2254320"/>
                    <a:ext cx="68770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4" name=""/>
          <p:cNvGrpSpPr/>
          <p:nvPr/>
        </p:nvGrpSpPr>
        <p:grpSpPr>
          <a:xfrm>
            <a:off x="3886200" y="2057400"/>
            <a:ext cx="3657600" cy="1676520"/>
            <a:chOff x="3886200" y="2057400"/>
            <a:chExt cx="3657600" cy="1676520"/>
          </a:xfrm>
        </p:grpSpPr>
        <p:sp>
          <p:nvSpPr>
            <p:cNvPr id="365" name=""/>
            <p:cNvSpPr/>
            <p:nvPr/>
          </p:nvSpPr>
          <p:spPr>
            <a:xfrm>
              <a:off x="3886200" y="2057400"/>
              <a:ext cx="3657600" cy="1676520"/>
            </a:xfrm>
            <a:prstGeom prst="cloudCallout">
              <a:avLst>
                <a:gd name="adj1" fmla="val -45310"/>
                <a:gd name="adj2" fmla="val 69981"/>
              </a:avLst>
            </a:prstGeom>
            <a:solidFill>
              <a:srgbClr val="b3b3b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3400" y="2438280"/>
              <a:ext cx="2666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OEM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：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238.37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零售：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</a:rPr>
                <a:t>2438.4K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业绩目标）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第二季度产品计划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28195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3124080"/>
            <a:ext cx="1371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产品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31240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词霸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31240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隶书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31240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隶书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312408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76520" y="3581280"/>
            <a:ext cx="2328840" cy="2438640"/>
            <a:chOff x="1676520" y="3581280"/>
            <a:chExt cx="2328840" cy="2438640"/>
          </a:xfrm>
        </p:grpSpPr>
        <p:sp>
          <p:nvSpPr>
            <p:cNvPr id="376" name=""/>
            <p:cNvSpPr/>
            <p:nvPr/>
          </p:nvSpPr>
          <p:spPr>
            <a:xfrm>
              <a:off x="1676520" y="3581280"/>
              <a:ext cx="152280" cy="2438640"/>
            </a:xfrm>
            <a:prstGeom prst="downArrow">
              <a:avLst>
                <a:gd name="adj1" fmla="val 50000"/>
                <a:gd name="adj2" fmla="val 400355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2888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A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规划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4796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B</a:t>
              </a: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产品规划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47960" y="49672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C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规划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52480" y="4114800"/>
              <a:ext cx="152640" cy="152280"/>
            </a:xfrm>
            <a:prstGeom prst="rightArrow">
              <a:avLst>
                <a:gd name="adj1" fmla="val 50000"/>
                <a:gd name="adj2" fmla="val 25059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66880" y="45720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6880" y="513396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3581280"/>
            <a:ext cx="2328840" cy="2438640"/>
            <a:chOff x="3581280" y="3581280"/>
            <a:chExt cx="2328840" cy="2438640"/>
          </a:xfrm>
        </p:grpSpPr>
        <p:sp>
          <p:nvSpPr>
            <p:cNvPr id="384" name=""/>
            <p:cNvSpPr/>
            <p:nvPr/>
          </p:nvSpPr>
          <p:spPr>
            <a:xfrm>
              <a:off x="3581280" y="3581280"/>
              <a:ext cx="152640" cy="2438640"/>
            </a:xfrm>
            <a:prstGeom prst="downArrow">
              <a:avLst>
                <a:gd name="adj1" fmla="val 50000"/>
                <a:gd name="adj2" fmla="val 39941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364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香港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5272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日本版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52720" y="49672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虚拟光驱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7600" y="41148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2000" y="45720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2000" y="513396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352680" y="3124080"/>
            <a:ext cx="1219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  <a:ea typeface="隶书"/>
              </a:rPr>
              <a:t>XX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  <a:ea typeface="隶书"/>
              </a:rPr>
              <a:t>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095880" y="3581280"/>
            <a:ext cx="2328840" cy="2438640"/>
            <a:chOff x="6095880" y="3581280"/>
            <a:chExt cx="2328840" cy="2438640"/>
          </a:xfrm>
        </p:grpSpPr>
        <p:sp>
          <p:nvSpPr>
            <p:cNvPr id="393" name=""/>
            <p:cNvSpPr/>
            <p:nvPr/>
          </p:nvSpPr>
          <p:spPr>
            <a:xfrm>
              <a:off x="6095880" y="3581280"/>
              <a:ext cx="152640" cy="2438640"/>
            </a:xfrm>
            <a:prstGeom prst="downArrow">
              <a:avLst>
                <a:gd name="adj1" fmla="val 50000"/>
                <a:gd name="adj2" fmla="val 39941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4824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D</a:t>
              </a: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6732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E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67320" y="496728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F</a:t>
              </a: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2200" y="41148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6600" y="457200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86600" y="5133960"/>
              <a:ext cx="152280" cy="152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105520" y="3581280"/>
            <a:ext cx="2361960" cy="2438640"/>
            <a:chOff x="5105520" y="3581280"/>
            <a:chExt cx="2361960" cy="2438640"/>
          </a:xfrm>
        </p:grpSpPr>
        <p:sp>
          <p:nvSpPr>
            <p:cNvPr id="401" name=""/>
            <p:cNvSpPr/>
            <p:nvPr/>
          </p:nvSpPr>
          <p:spPr>
            <a:xfrm>
              <a:off x="7315200" y="3581280"/>
              <a:ext cx="152280" cy="2438640"/>
            </a:xfrm>
            <a:prstGeom prst="downArrow">
              <a:avLst>
                <a:gd name="adj1" fmla="val 50000"/>
                <a:gd name="adj2" fmla="val 400355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05520" y="388620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66"/>
                  </a:solidFill>
                  <a:latin typeface="Times New Roman"/>
                  <a:ea typeface="隶书"/>
                </a:rPr>
                <a:t>两个项目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05520" y="4419720"/>
              <a:ext cx="2057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66"/>
                  </a:solidFill>
                  <a:latin typeface="Times New Roman"/>
                  <a:ea typeface="隶书"/>
                </a:rPr>
                <a:t>两个平台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62920" y="3962520"/>
              <a:ext cx="19512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62920" y="449568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62920" y="5029200"/>
              <a:ext cx="228600" cy="2286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800600" y="3581280"/>
            <a:ext cx="2057400" cy="2438640"/>
            <a:chOff x="4800600" y="3581280"/>
            <a:chExt cx="2057400" cy="2438640"/>
          </a:xfrm>
        </p:grpSpPr>
        <p:sp>
          <p:nvSpPr>
            <p:cNvPr id="408" name=""/>
            <p:cNvSpPr/>
            <p:nvPr/>
          </p:nvSpPr>
          <p:spPr>
            <a:xfrm>
              <a:off x="4800600" y="3581280"/>
              <a:ext cx="152280" cy="2438640"/>
            </a:xfrm>
            <a:prstGeom prst="downArrow">
              <a:avLst>
                <a:gd name="adj1" fmla="val 50000"/>
                <a:gd name="adj2" fmla="val 400355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2040" y="4419720"/>
              <a:ext cx="1785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第三代产品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4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月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10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日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90960" y="4572000"/>
              <a:ext cx="152640" cy="152280"/>
            </a:xfrm>
            <a:prstGeom prst="rightArrow">
              <a:avLst>
                <a:gd name="adj1" fmla="val 50000"/>
                <a:gd name="adj2" fmla="val 25059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第二季度工作规划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管理工作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990720" y="5019840"/>
            <a:ext cx="1295280" cy="923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905120" y="237636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规范流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12912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组织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386244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员工关怀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05120" y="4614840"/>
            <a:ext cx="1981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绩效考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29040" y="242424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43440" y="320040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29040" y="3914640"/>
            <a:ext cx="762120" cy="381240"/>
          </a:xfrm>
          <a:custGeom>
            <a:avLst/>
            <a:gdLst>
              <a:gd name="textAreaLeft" fmla="*/ 9504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29040" y="464832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0600" y="24382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00600" y="2209680"/>
            <a:ext cx="3733920" cy="358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62520" y="2438280"/>
            <a:ext cx="1905120" cy="1572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手册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编程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部门手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67560" y="2819520"/>
            <a:ext cx="1904760" cy="1015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技术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管理培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10400" y="3757680"/>
            <a:ext cx="2266920" cy="15721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员工数据库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部门集体活动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部门员工谈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91320" y="4572000"/>
            <a:ext cx="2266920" cy="45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66"/>
                </a:solidFill>
                <a:uFillTx/>
                <a:latin typeface="Times New Roman"/>
                <a:ea typeface="隶书"/>
              </a:rPr>
              <a:t>完成考核模版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" dur="1" fill="hold"/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14:42:39Z</dcterms:created>
  <dc:creator>cony</dc:creator>
  <dc:description/>
  <dc:language>en-US</dc:language>
  <cp:lastModifiedBy>l</cp:lastModifiedBy>
  <dcterms:modified xsi:type="dcterms:W3CDTF">2002-06-12T08:20:44Z</dcterms:modified>
  <cp:revision>68</cp:revision>
  <dc:subject/>
  <dc:title>词霸研发部2000年总结</dc:title>
</cp:coreProperties>
</file>